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29C9-AFF3-4686-B983-ED60A9DA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A66-BC6E-46C6-B2DB-D59AA98A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C30B-D75D-47E1-965C-19DAEE69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19A4-E0D4-4245-8CBA-C36E8D42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EFB-C80B-4646-B1E0-C74DCB5C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10CE-13CD-4D63-AD38-7014E2F2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4E2F-9066-4647-BB11-57BE5EF0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59C6-254F-4856-B10A-92CEBB68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55AA-CABA-4F75-90B1-31C65C5D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3882-B6D3-42DF-ADDA-CA8DED91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35F-7612-49BD-9C74-F3B11A46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E8FD-384A-4B3A-9A52-4235C155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F942-E6CA-4C21-9C61-9688942A161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4723-F552-4C83-8F6E-D760EB9BB2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538200" y="-25560"/>
            <a:ext cx="9717120" cy="7023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393840" y="6632640"/>
            <a:ext cx="39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陈乔恩版东方不败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xiang</cp:lastModifiedBy>
  <dcterms:modified xsi:type="dcterms:W3CDTF">2013-07-25T14:47:08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