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A34-158A-4566-BF41-DA9E560E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353-67C3-44BB-B56C-D5D7A655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E60-C6C0-4123-A0DA-F79BCA91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AB3-9429-4395-95BF-20D0C91F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1BB-3B47-45EF-BAEA-B46F6E10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3318-A291-4472-A957-B6CCA1FA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59F-21E6-4545-9F4B-6BDF24BB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E49-30D9-4F78-83CD-D2097F38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5B84-3B4B-4A66-AF93-775AB805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1F44-8F64-45D4-A609-CAB0B72D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CB4-A82B-495F-A9A2-25FA8171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98C1-4D33-4702-8785-A5B43417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35AB-2D3F-4570-B825-64DDF5900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33440"/>
            <a:ext cx="914400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n</dc:creator>
  <dc:description/>
  <dc:language>en-US</dc:language>
  <cp:lastModifiedBy/>
  <dcterms:modified xsi:type="dcterms:W3CDTF">2013-07-25T15:00:0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