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31C-DE27-4EDF-9B9F-81F570BF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034-5A91-49F2-B935-2C806B58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6BA-9F56-4466-9018-2BB21B7B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057-04E6-46C7-AAEB-4D9815FB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F49-5241-40C2-97AC-52C2911D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4138-396B-48B0-9BFE-243A94F1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589-1AF5-4662-84DD-B6B41181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50B-FFBB-45FB-9902-32FFD6F1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3B07-CB71-4134-B6A3-97F363CA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64E-AF41-4150-AE18-74AE066C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277-CDB9-4C98-B88E-BFF07645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CBE-6C27-4A69-AA03-8A5F3316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83CF-BBF9-4D60-8218-6F6F70AE5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0" y="6519960"/>
            <a:ext cx="20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来自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n</dc:creator>
  <dc:description/>
  <dc:language>en-US</dc:language>
  <cp:lastModifiedBy/>
  <dcterms:modified xsi:type="dcterms:W3CDTF">2013-07-25T15:04:0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