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E2D-22F1-4C2B-8E63-1096ECE2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238-AA73-4A45-9521-49F46F09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260-A1B9-4159-AC0F-90F92A47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932-05F1-4A43-8B9A-D591BB52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7C0-7752-47C3-A00F-452BA98F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960-5926-4980-A92A-3803A92E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254-DBAC-4227-8AFF-092865BE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E1C-C5F4-47EC-B320-C9F515E9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607-8EC9-4EF1-9DF8-44350903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F46-8803-4262-8E49-F60CB45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8CD-F963-4B4F-99B8-C99E7AD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526-4974-4337-A240-B71F5A40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C3AF-E516-4F73-98F3-40B620149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91280" y="6118200"/>
            <a:ext cx="20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n</dc:creator>
  <dc:description/>
  <dc:language>en-US</dc:language>
  <cp:lastModifiedBy/>
  <dcterms:modified xsi:type="dcterms:W3CDTF">2013-07-25T15:07:5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