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65C-F05B-489C-86B2-0B43032E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B5BD-59C5-48DF-B38E-202998F0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801-3B70-4547-8944-089333BC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F0D-2EE6-41B3-AB87-347E3BFF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B3CD-45E5-4252-A04A-D714DA44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BB09-A48E-49B1-9F2A-8B74EC3F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B36F-6059-42B2-8CD6-DC11F1FE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E3C4-5173-4A92-A7A5-9BDF78BE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0432-D187-4D86-B98B-839B0A86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6AA8-C445-4FC3-A96B-D40BDC6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0930-3830-4EEC-AABB-76CA6DB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ABF-89B6-459F-980A-41819F42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BA5A-9D8E-478C-A12F-B18933B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0F6D-B8CB-44F0-9286-CFCAF84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ACA3-DD8B-4076-B451-9A57CB47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8904-8C74-4A33-8A20-962313C6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5297-7418-4380-A86F-CDFDE138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86E-9BB5-45AF-8E27-A9534B99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BD2-0DBB-4DF7-9CD3-EFCB88FD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1264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92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331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1264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92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690-C61E-4F1E-A5BF-9EDD7EF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F20-2229-42E8-84BB-A11B45C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580-9251-42AD-9171-1E9CB31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353-C89D-4D69-94E7-48099E2D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64320"/>
            <a:ext cx="7924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1C8C-F1EF-401F-A347-99F588DF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26D8-D635-4EF3-9E35-C72B33D35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8C25-3104-4830-8FF7-B4E79D72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23520"/>
            <a:ext cx="7924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962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TW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TW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单击此处添加标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icrosoft JhengHe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Microsoft JhengHei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中文宋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130400" y="4221000"/>
            <a:ext cx="7276680" cy="556920"/>
            <a:chOff x="1130400" y="4221000"/>
            <a:chExt cx="7276680" cy="556920"/>
          </a:xfrm>
        </p:grpSpPr>
        <p:sp>
          <p:nvSpPr>
            <p:cNvPr id="163" name="Text Box 6"/>
            <p:cNvSpPr/>
            <p:nvPr/>
          </p:nvSpPr>
          <p:spPr>
            <a:xfrm>
              <a:off x="1240920" y="4282200"/>
              <a:ext cx="7010280" cy="4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eeppt.com- 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为您免费提供大量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下载包括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背景图片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素材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图表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动态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,PowerPoin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等各类幻灯片模板。让您轻松制作出精美好看的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PPT</a:t>
              </a:r>
              <a:r>
                <a:rPr b="0" lang="zh-TW" sz="1100" spc="-1" strike="noStrike">
                  <a:solidFill>
                    <a:srgbClr val="1c1c1c"/>
                  </a:solidFill>
                  <a:latin typeface="微软雅黑"/>
                  <a:ea typeface="微软雅黑"/>
                </a:rPr>
                <a:t>模板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1130400" y="422100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3822840"/>
            <a:ext cx="90676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300640" y="2641680"/>
            <a:ext cx="414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4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5:44:32Z</dcterms:created>
  <dc:creator>Rhea</dc:creator>
  <dc:description>www.nordridesign.cn
</dc:description>
  <cp:keywords>教育 英语 Powerbar Rhea</cp:keywords>
  <dc:language>en-US</dc:language>
  <cp:lastModifiedBy>king</cp:lastModifiedBy>
  <dcterms:modified xsi:type="dcterms:W3CDTF">2014-10-23T16:39:10Z</dcterms:modified>
  <cp:revision>6</cp:revision>
  <dc:subject>教育 英语 </dc:subject>
  <dc:title>儿童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  <property fmtid="{D5CDD505-2E9C-101B-9397-08002B2CF9AE}" pid="3" name="Version">
    <vt:r8>1</vt:r8>
  </property>
</Properties>
</file>