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684-9A5A-4A50-990E-96147638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763-EDB3-4533-B8AB-F50C7520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9EA-D08D-4A0E-B8A8-FCC6C8D6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354-6181-4BE5-A06F-F4C7BF09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C55C-9159-4D13-B932-C3BFDA65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56FA-2335-4C30-A198-DF6D7D4E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E93F-111D-405D-B880-7726117D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908E-3765-4946-990E-7C223F84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4A70-DC26-432D-B665-1E10D49C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AAA6-A9F7-4B3A-87C8-F3E113C9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88B4-BDB2-43E4-994F-65BC9EE9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BE3-A865-42FF-8410-8FEAEB66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168C-DD47-4C84-A4C3-6D3DF80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DB93-0379-4EBA-AF96-8CC066CF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D7B2-3448-4F21-8AF5-9E447193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508E-BA23-4802-9036-3EACB1A4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C45A-63EB-41DE-9625-72E6E6B7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ADF-D1BA-40A9-B186-31D12E1D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9F5-C3ED-43B7-839B-5C449740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92B-94D2-4C3F-8D3F-C84A0E33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341-DD0A-45C4-9733-F18679F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F43-FC26-411B-B0E1-6780A63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535-9516-45D1-8B5B-C80B62F1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2BD-765B-4FF8-A3AE-48F27BAA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76" b="0"/>
          <a:stretch/>
        </p:blipFill>
        <p:spPr>
          <a:xfrm>
            <a:off x="0" y="386856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689B-B37F-4226-A2F7-114A69722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9974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548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ECE1-051D-45F3-B9AE-D94B4D609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55548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1707840"/>
            <a:ext cx="5689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68360" y="2211480"/>
            <a:ext cx="3962160" cy="1235160"/>
            <a:chOff x="468360" y="2211480"/>
            <a:chExt cx="3962160" cy="1235160"/>
          </a:xfrm>
        </p:grpSpPr>
        <p:sp>
          <p:nvSpPr>
            <p:cNvPr id="87" name=""/>
            <p:cNvSpPr/>
            <p:nvPr/>
          </p:nvSpPr>
          <p:spPr>
            <a:xfrm>
              <a:off x="468360" y="2211480"/>
              <a:ext cx="158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3080" y="2211480"/>
              <a:ext cx="2377440" cy="123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2320" y="48038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55548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4000" y="1707840"/>
            <a:ext cx="5689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4920" y="4803840"/>
            <a:ext cx="381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9:38:22Z</dcterms:created>
  <dc:creator/>
  <dc:description/>
  <dc:language>en-US</dc:language>
  <cp:lastModifiedBy/>
  <cp:lastPrinted>1899-12-30T00:00:00Z</cp:lastPrinted>
  <dcterms:modified xsi:type="dcterms:W3CDTF">2014-05-27T05:57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