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44BE-CEB8-4F74-BD00-CE3E54E6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14E2-55AD-4FD6-BCD8-3C9EC55E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683F-BAD2-4299-A737-FEDD0A15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6305-01E6-476D-88F3-014C0DD2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2793-076A-4D1F-A004-18B77990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3AA3-6E74-40B5-BA3D-0A809CB3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CAA0-D242-4E45-8ED8-FE9832EC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FD87-8BDD-4328-AF8F-100C50C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3893-67A3-4509-9E5E-D8EF358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E483-9FB1-41F6-8C20-5585316B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669E-F14B-4209-9B37-38FB6913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6CDF-FA44-4726-9F93-183C1341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4BCB795-FBE4-42A5-B1A1-D689ED414F1B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F6B7-AD08-4712-BD7F-FB54CD48F6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FC80-7DBB-4D14-844D-2D73E6A91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2924280"/>
            <a:ext cx="8207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7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8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479600" y="371628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59600" y="630864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DFD5-EAF6-4325-BC5E-C2D519B640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2DD0-A6AF-4DEE-A7F5-4EF70CAC9A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ERICLAU</cp:lastModifiedBy>
  <cp:lastPrinted>1899-12-30T00:00:00Z</cp:lastPrinted>
  <dcterms:modified xsi:type="dcterms:W3CDTF">2014-05-26T06:19:22Z</dcterms:modified>
  <cp:revision>27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