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8C-1E1D-4300-ADA3-12FF13F1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55D-1C3B-4ADE-9E0C-2BC1E3C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27D-EDD9-41DD-AC9B-4C65BACF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11B-5D57-4C37-8098-3305C482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74C-6858-4C6C-9C65-8F1808D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9C9-C0F7-4F85-B32C-0FE386F6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350-2161-4005-AB2B-F4881B6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9C4-2383-4FF1-BD79-893A493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C05-A107-4D7F-A24C-68C88F8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ED0-A921-4BDF-936A-78D6D3B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FA5-C85C-4850-9EA1-AF710C1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36F-124B-4A8B-A0EF-857C127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56600" y="6594480"/>
            <a:ext cx="903240" cy="263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62800" y="6251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D9E-DE83-4569-AF91-BF27F64F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8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2493720"/>
            <a:ext cx="453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800000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24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16T06:49:18Z</dcterms:modified>
  <cp:revision>5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