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8DC-D3F3-4FF6-A783-FD2FB955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3E5-D448-4F63-84B1-2322B4E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87D-9715-46B6-B6BB-049DA651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BB8-803C-4D10-A701-D7BC64EF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B92-6FA2-4F1F-84F8-DB8FED87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05E-6F16-4550-BA4E-B0A7EE0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909-896E-4D4E-BAB8-A04697B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095-C85C-45C6-BCC1-19DD100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BA7-6DE3-4F8D-9DD6-33F0EF5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888-03E4-48A7-BAEA-F7E70A8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BA7-F3C2-4A79-8E04-91B06A9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3B4-2393-4A94-B609-118CD63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808-C7DD-4437-9333-A14EE6FB1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4:14:14Z</dcterms:created>
  <dc:creator/>
  <dc:description/>
  <dc:language>en-US</dc:language>
  <cp:lastModifiedBy>微软用户</cp:lastModifiedBy>
  <dcterms:modified xsi:type="dcterms:W3CDTF">2014-10-23T16:04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