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2FA-1811-4E11-9341-17D6DA7C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182-2D07-4244-87F9-0280F2CB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557-B48B-4876-B161-7F8BBC67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F33-2A7E-451F-8B73-19335D08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A130-2EB7-4174-B167-D7BA34DA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945F-C35E-4A1F-8177-8B80080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FD01-F71B-4B72-A201-9053A14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0FE0-4969-4073-B470-54EC9339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3526-115B-4763-B61B-C14DE1F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28560" y="15480"/>
            <a:ext cx="78868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43F-0525-4835-9358-74E12A7C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D27D-3F85-4D2D-B757-7393D8C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D51-89B9-4867-B82B-74AF29D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3AEF-82BF-40F8-A4BA-D6ACADEB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B271-BDC9-4A97-AFB4-CCDD7BD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4B9-3584-45EF-B32F-D9118705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5AD6-C527-46A5-9FCB-9913B26D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544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232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856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544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232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BF00-A382-4C62-9F5F-746E2D5C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6C3-E70A-4258-B558-4F095F2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167-DD89-473D-A984-4541B84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65D-D23E-4B06-A717-F98D1BC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15480"/>
            <a:ext cx="78868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535-5DE5-4F88-A910-8A758E1A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F3E-9BF1-4BC7-860D-22B7314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9B3-24AD-4393-9ADC-965E229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5F6-DD27-4240-AF87-A04EE18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AD1F-A420-477B-A1FE-87471C9F92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2"/>
          <a:srcRect l="0" t="20795" r="0" b="67007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657360"/>
            <a:ext cx="9144000" cy="85680"/>
          </a:xfrm>
          <a:prstGeom prst="rect">
            <a:avLst/>
          </a:prstGeom>
          <a:solidFill>
            <a:srgbClr val="59aaf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7" name="图片 9" descr=""/>
          <p:cNvPicPr/>
          <p:nvPr/>
        </p:nvPicPr>
        <p:blipFill>
          <a:blip r:embed="rId3"/>
          <a:srcRect l="1517" t="0" r="1586" b="0"/>
          <a:stretch/>
        </p:blipFill>
        <p:spPr>
          <a:xfrm>
            <a:off x="0" y="601560"/>
            <a:ext cx="9150480" cy="3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76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0" y="4724280"/>
            <a:ext cx="9144000" cy="2133720"/>
            <a:chOff x="0" y="4724280"/>
            <a:chExt cx="9144000" cy="2133720"/>
          </a:xfrm>
        </p:grpSpPr>
        <p:pic>
          <p:nvPicPr>
            <p:cNvPr id="46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4724280"/>
              <a:ext cx="9144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4724280"/>
              <a:ext cx="91440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矩形 12"/>
          <p:cNvSpPr/>
          <p:nvPr/>
        </p:nvSpPr>
        <p:spPr>
          <a:xfrm>
            <a:off x="0" y="4462560"/>
            <a:ext cx="9144000" cy="261720"/>
          </a:xfrm>
          <a:prstGeom prst="rect">
            <a:avLst/>
          </a:prstGeom>
          <a:solidFill>
            <a:srgbClr val="59aa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13" descr=""/>
          <p:cNvPicPr/>
          <p:nvPr/>
        </p:nvPicPr>
        <p:blipFill>
          <a:blip r:embed="rId4"/>
          <a:srcRect l="1580" t="0" r="1649" b="0"/>
          <a:stretch/>
        </p:blipFill>
        <p:spPr>
          <a:xfrm>
            <a:off x="-3240" y="4595760"/>
            <a:ext cx="9147240" cy="335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9AB4-1B33-4593-AB8F-AD052DEB81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626880" y="623736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此处添加标题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72296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491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491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491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491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04:37Z</dcterms:created>
  <dc:creator>邹恩栋</dc:creator>
  <dc:description/>
  <cp:keywords>XS-普屏 4：3;SC-淡蓝色;BG-浅色;DH-静态</cp:keywords>
  <dc:language>en-US</dc:language>
  <cp:lastModifiedBy>D13001</cp:lastModifiedBy>
  <dcterms:modified xsi:type="dcterms:W3CDTF">2014-10-23T16:59:30Z</dcterms:modified>
  <cp:revision>3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