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D5B-2DA0-4ACC-BEF5-D464D4B0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581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BBD-2D11-4C2D-94A0-7BE2285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15B-1E98-4D98-A547-6AA490E7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A3A-A5CD-47B2-9421-4BAF9746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46240"/>
            <a:ext cx="8229600" cy="40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CCB-E2D1-4EBE-ACB6-DC6EAA89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4581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2F3-5E25-402F-8EF2-76DC5AEA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6C3-9A56-492C-A911-72A0E6E9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E2F-7560-47FE-A0A3-63216021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6240"/>
            <a:ext cx="8229600" cy="40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500-626A-4E0A-B294-F77D2B5D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111-94FA-48E6-BD81-631B4233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4A4-E8F4-419C-A0F6-18F72A69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A86-B84C-42CD-BEA4-91374EDC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52AE-3260-4A69-92F7-9ACC2308A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400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400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05056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5880" y="5653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7520" y="54673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119280"/>
            <a:chOff x="0" y="0"/>
            <a:chExt cx="8466120" cy="611928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9640"/>
              <a:ext cx="846612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32120" y="31863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4:37:27Z</dcterms:created>
  <dc:creator>Administrator</dc:creator>
  <dc:description/>
  <dc:language>en-US</dc:language>
  <cp:lastModifiedBy/>
  <cp:lastPrinted>1899-12-30T00:00:00Z</cp:lastPrinted>
  <dcterms:modified xsi:type="dcterms:W3CDTF">2014-05-30T07:28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