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117-8FA0-43DD-BF1B-669F98A2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BE1-9608-4F7A-97D8-54EC9609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A89-7EE6-4A18-872F-F9F7714F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FF8-A248-4F23-839D-777B2061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B0C0-F37D-4F90-B403-6409FCC5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8766-EC87-40D5-8EBF-E312E3A6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FAB2-CA5A-40CA-8E1D-807D4342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AA30-F930-4B7D-880A-0A052D8E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8AD0-25FE-447D-8904-6AF1A6EB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0667-8C80-40B4-880E-A306E1E2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E7E0-2355-4084-9627-75EB7849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785-A2C1-4C13-B7A6-52C7A151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8229-C7BC-4523-B527-440E394B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3A5E-59B0-41A7-92AB-EE24BC4B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7D24-119A-44F3-A51E-9E7C37FA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9A4F-D5B6-44C6-9566-8D1ECCFE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CFF6-CF01-4DD7-AB74-B06E01CB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F4C-C632-4830-A0E5-9DD299EE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C07-2D1D-499A-82A7-FA09D851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749-CF1E-40BB-A634-20B8F30C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20D-7EAE-4B4E-B74D-F33CEE28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082-35E1-480F-8427-3DD10198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8A7-3FBE-43E1-A0C8-3B9A539A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2AD-D3A6-4465-A09E-D784CA2D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9BD7-6C74-448B-B014-8ED03F549D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D01E-4EAE-4ADE-95BE-8FB1AB5B56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4360" y="29973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1960" y="2997360"/>
            <a:ext cx="698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Microsoft JhengHei"/>
              </a:rPr>
              <a:t>单击此处添加标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4640" y="274320"/>
            <a:ext cx="7921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1566720"/>
            <a:ext cx="8497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的添加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字体格式的设置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微软正黑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加阴影；副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微软正黑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微软正黑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加阴影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微软正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093680" y="4187880"/>
            <a:ext cx="7276680" cy="739080"/>
            <a:chOff x="1093680" y="4187880"/>
            <a:chExt cx="7276680" cy="739080"/>
          </a:xfrm>
        </p:grpSpPr>
        <p:sp>
          <p:nvSpPr>
            <p:cNvPr id="87" name=""/>
            <p:cNvSpPr/>
            <p:nvPr/>
          </p:nvSpPr>
          <p:spPr>
            <a:xfrm>
              <a:off x="1204200" y="4249080"/>
              <a:ext cx="701028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eeppt.com- 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为您免费提供大量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下载包括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背景图片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图表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动态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owerPoint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等各类幻灯片模板。让您轻松制作出精美好看的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93680" y="4187880"/>
              <a:ext cx="727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8:47:46Z</dcterms:created>
  <dc:creator/>
  <dc:description/>
  <dc:language>en-US</dc:language>
  <cp:lastModifiedBy>MC SYSTEM</cp:lastModifiedBy>
  <dcterms:modified xsi:type="dcterms:W3CDTF">2014-10-23T16:42:25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