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CCA-3E88-4E6E-9E84-463F2F89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460-267B-496E-AF3F-9C4CD441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788-16B6-4A7D-AA2D-E229747D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D59-5407-4F4A-977D-BC88F2E9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E916-B518-46FA-8120-7F596108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B491-E9D5-402F-BA6D-C19C5B45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AA2C-4FCA-4BAB-8A8D-5C7F1331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99CD-19B8-4282-AEBA-1634148F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2801-446D-4CC8-AF16-02AFAA82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6726-3EF2-4799-9DBE-F067B99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249B-2D6C-41AE-BAA4-3A01AC9C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CC5-605E-435F-8440-3A3FA58F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2415-EE2D-4B88-8AED-0C02E3E7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BF2A-551D-4160-93AF-EA88AAC4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9224-39B3-4893-81C8-5C940C21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BB55-34AE-43AF-AF2C-3B2AF016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9479-AC24-48DF-B10C-51BF7BA4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D07A3-87A8-4FD4-A235-A9412100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141BD-27A0-49A7-90A4-CF1C9688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D761-1651-4092-A70E-503E2C11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11F3-B079-4A54-9571-916F1206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0346-3D09-4BB2-B3DD-0EB1AE59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C02-23EA-401A-8399-242B85F8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8169-3F64-41C6-B2F2-B6E4789F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A0792-AF98-4787-B7B4-9EBF2CE7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CE63-A7B6-476C-9AD2-A66A9511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61D1B-A532-43B8-920B-37D04135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7434-D735-4791-8F11-175C0583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B879-3600-4F28-A676-90E81817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87151-72FF-4FE4-8BBC-E54A7E67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E5538-0FBB-418A-8E2D-CBE85ACD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792B-F0D4-4541-ADBC-4653CD10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4F785-A296-4BB8-8ECE-D650654E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3DD-67FB-40C2-9110-12F48043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0C60-F0AB-4A2B-8B74-722B6A67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198AA-39A4-4FF8-ADE0-9E2DBC15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3F2B8-6FB7-4017-903E-0A514718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09C1E-669C-46EE-9D45-A6D144EA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A5E3A-7A43-4446-BB49-BFBAA9C3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93568-1BB1-4562-A92D-4C8A8918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4B746-03D1-41E8-BF71-74A06198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3CF1-0849-46D2-B67D-4A792E85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56745-8B00-4867-8EF4-920DAAD6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4FF-DC11-43B5-8977-6D000058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388-5ABE-41B3-83DF-2E5EBB83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D5B-939C-4AAC-A1FB-94FEAAE9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D3F-DA53-4DEA-9B6C-4CCA7322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4CF-02FD-4700-B6EE-D47BB077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901A-8595-486F-A8E1-C460D866B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5244-0E25-4258-8707-082C106EF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02195_032_8GWlWcEe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3FE6-7A31-4CC3-9D2E-03431DBFF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02208_019_C8leBoRz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9E26-8BD5-4A41-9FD8-2E24AB185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02208_020_sZmgysws" descr=""/>
          <p:cNvPicPr/>
          <p:nvPr/>
        </p:nvPicPr>
        <p:blipFill>
          <a:blip r:embed="rId2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296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6T09:35:07Z</dcterms:created>
  <dc:creator>Administrator</dc:creator>
  <dc:description/>
  <dc:language>en-US</dc:language>
  <cp:lastModifiedBy/>
  <cp:lastPrinted>1899-12-30T00:00:00Z</cp:lastPrinted>
  <dcterms:modified xsi:type="dcterms:W3CDTF">2014-05-15T07:27:2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