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746-DF27-42F9-9326-A580908A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1A28-90F4-48D6-B8E9-D127D26D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7FE-BD31-438A-A6AB-8AB1AE99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C12-3151-4BE9-B36C-6DFD0EDF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87C-9A8A-45B2-93DF-1368F7D0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9D4-7C46-449A-9E37-8B3A8919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228-945B-40B1-9917-4D1038C4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0CE-A29A-4F8D-BBC0-5CB1FE63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3C4-D817-49A5-9524-BA2C4B8B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E83-CD37-417C-B304-3AFBAC0E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463-B5AF-4AFC-B647-A35A5487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2B5C-7F03-4C56-887F-333D6E54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5560" y="115920"/>
            <a:ext cx="8812440" cy="436680"/>
            <a:chOff x="115560" y="115920"/>
            <a:chExt cx="8812440" cy="436680"/>
          </a:xfrm>
        </p:grpSpPr>
        <p:sp>
          <p:nvSpPr>
            <p:cNvPr id="1" name="Rectangle 111"/>
            <p:cNvSpPr/>
            <p:nvPr/>
          </p:nvSpPr>
          <p:spPr>
            <a:xfrm>
              <a:off x="1834920" y="189000"/>
              <a:ext cx="5616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" name="Rectangle 112"/>
            <p:cNvSpPr/>
            <p:nvPr/>
          </p:nvSpPr>
          <p:spPr>
            <a:xfrm>
              <a:off x="115560" y="13500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Dotum"/>
                  <a:ea typeface="Dotum"/>
                </a:rPr>
                <a:t>Powerdiagram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179280" y="549360"/>
              <a:ext cx="8748720" cy="1440"/>
              <a:chOff x="179280" y="549360"/>
              <a:chExt cx="8748720" cy="1440"/>
            </a:xfrm>
          </p:grpSpPr>
          <p:sp>
            <p:nvSpPr>
              <p:cNvPr id="4" name="Line 113"/>
              <p:cNvSpPr/>
              <p:nvPr/>
            </p:nvSpPr>
            <p:spPr>
              <a:xfrm>
                <a:off x="179280" y="549360"/>
                <a:ext cx="874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" name=""/>
              <p:cNvSpPr txBox="1"/>
              <p:nvPr/>
            </p:nvSpPr>
            <p:spPr>
              <a:xfrm>
                <a:off x="179280" y="549360"/>
                <a:ext cx="874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179280" y="115920"/>
              <a:ext cx="8748720" cy="1440"/>
              <a:chOff x="179280" y="115920"/>
              <a:chExt cx="8748720" cy="1440"/>
            </a:xfrm>
          </p:grpSpPr>
          <p:sp>
            <p:nvSpPr>
              <p:cNvPr id="7" name="Line 114"/>
              <p:cNvSpPr/>
              <p:nvPr/>
            </p:nvSpPr>
            <p:spPr>
              <a:xfrm>
                <a:off x="179280" y="115920"/>
                <a:ext cx="874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" name=""/>
              <p:cNvSpPr txBox="1"/>
              <p:nvPr/>
            </p:nvSpPr>
            <p:spPr>
              <a:xfrm>
                <a:off x="179280" y="115920"/>
                <a:ext cx="874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763640" y="189000"/>
              <a:ext cx="1440" cy="287280"/>
              <a:chOff x="1763640" y="189000"/>
              <a:chExt cx="1440" cy="287280"/>
            </a:xfrm>
          </p:grpSpPr>
          <p:sp>
            <p:nvSpPr>
              <p:cNvPr id="10" name="Line 115"/>
              <p:cNvSpPr/>
              <p:nvPr/>
            </p:nvSpPr>
            <p:spPr>
              <a:xfrm>
                <a:off x="1763640" y="189000"/>
                <a:ext cx="144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" name=""/>
              <p:cNvSpPr txBox="1"/>
              <p:nvPr/>
            </p:nvSpPr>
            <p:spPr>
              <a:xfrm>
                <a:off x="1763640" y="189000"/>
                <a:ext cx="144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2" name="矩形 2"/>
          <p:cNvSpPr/>
          <p:nvPr/>
        </p:nvSpPr>
        <p:spPr>
          <a:xfrm>
            <a:off x="1685520" y="8388360"/>
            <a:ext cx="58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更多精彩，请移步：让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飞起来丨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http://pptshare.qzone.qq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Gulim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Gulim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Gulim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D8B3-5BF4-4760-9781-58681DA618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276"/>
          <p:cNvSpPr/>
          <p:nvPr/>
        </p:nvSpPr>
        <p:spPr>
          <a:xfrm>
            <a:off x="4643280" y="1989000"/>
            <a:ext cx="4392720" cy="2813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3" name="Object 22" descr=""/>
          <p:cNvPicPr/>
          <p:nvPr/>
        </p:nvPicPr>
        <p:blipFill>
          <a:blip r:embed="rId1"/>
          <a:stretch/>
        </p:blipFill>
        <p:spPr>
          <a:xfrm>
            <a:off x="4600440" y="1773360"/>
            <a:ext cx="4534200" cy="3022560"/>
          </a:xfrm>
          <a:prstGeom prst="rect">
            <a:avLst/>
          </a:prstGeom>
          <a:ln w="0">
            <a:noFill/>
          </a:ln>
        </p:spPr>
      </p:pic>
      <p:sp>
        <p:nvSpPr>
          <p:cNvPr id="94" name="Oval 10"/>
          <p:cNvSpPr/>
          <p:nvPr/>
        </p:nvSpPr>
        <p:spPr>
          <a:xfrm>
            <a:off x="395280" y="1989000"/>
            <a:ext cx="4392720" cy="2813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5" name="Object 11" descr=""/>
          <p:cNvPicPr/>
          <p:nvPr/>
        </p:nvPicPr>
        <p:blipFill>
          <a:blip r:embed="rId2"/>
          <a:stretch/>
        </p:blipFill>
        <p:spPr>
          <a:xfrm>
            <a:off x="325440" y="1773360"/>
            <a:ext cx="4533840" cy="3022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71640" y="5122800"/>
            <a:ext cx="3671640" cy="111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666800" y="2700360"/>
            <a:ext cx="1726920" cy="872640"/>
            <a:chOff x="1666800" y="2700360"/>
            <a:chExt cx="1726920" cy="872640"/>
          </a:xfrm>
        </p:grpSpPr>
        <p:sp>
          <p:nvSpPr>
            <p:cNvPr id="98" name="AutoShape 13"/>
            <p:cNvSpPr/>
            <p:nvPr/>
          </p:nvSpPr>
          <p:spPr>
            <a:xfrm>
              <a:off x="1666800" y="2700360"/>
              <a:ext cx="1726920" cy="87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1675800" y="2709360"/>
              <a:ext cx="1708920" cy="854640"/>
            </a:xfrm>
            <a:prstGeom prst="pie">
              <a:avLst/>
            </a:prstGeom>
            <a:solidFill>
              <a:srgbClr val="d9d9d9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1675800" y="2709360"/>
              <a:ext cx="1708920" cy="854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2103120" y="2922840"/>
              <a:ext cx="854280" cy="42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2103120" y="2922840"/>
              <a:ext cx="854280" cy="427320"/>
            </a:xfrm>
            <a:prstGeom prst="pie">
              <a:avLst/>
            </a:prstGeom>
            <a:solidFill>
              <a:srgbClr val="b9b9b9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2103120" y="2922840"/>
              <a:ext cx="854280" cy="42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975280" y="2700360"/>
            <a:ext cx="1726920" cy="872640"/>
            <a:chOff x="5975280" y="2700360"/>
            <a:chExt cx="1726920" cy="872640"/>
          </a:xfrm>
        </p:grpSpPr>
        <p:sp>
          <p:nvSpPr>
            <p:cNvPr id="105" name="AutoShape 24"/>
            <p:cNvSpPr/>
            <p:nvPr/>
          </p:nvSpPr>
          <p:spPr>
            <a:xfrm>
              <a:off x="5975280" y="2700360"/>
              <a:ext cx="1726920" cy="87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" name="Freeform 25"/>
            <p:cNvSpPr/>
            <p:nvPr/>
          </p:nvSpPr>
          <p:spPr>
            <a:xfrm>
              <a:off x="5984280" y="2709360"/>
              <a:ext cx="1708920" cy="854640"/>
            </a:xfrm>
            <a:prstGeom prst="pie">
              <a:avLst/>
            </a:prstGeom>
            <a:solidFill>
              <a:srgbClr val="d9d9d9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" name="Freeform 26"/>
            <p:cNvSpPr/>
            <p:nvPr/>
          </p:nvSpPr>
          <p:spPr>
            <a:xfrm>
              <a:off x="5984280" y="2709360"/>
              <a:ext cx="1708920" cy="854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" name="Freeform 27"/>
            <p:cNvSpPr/>
            <p:nvPr/>
          </p:nvSpPr>
          <p:spPr>
            <a:xfrm>
              <a:off x="6411600" y="2922840"/>
              <a:ext cx="854280" cy="42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" name="Freeform 28"/>
            <p:cNvSpPr/>
            <p:nvPr/>
          </p:nvSpPr>
          <p:spPr>
            <a:xfrm>
              <a:off x="6411600" y="2922840"/>
              <a:ext cx="854280" cy="427320"/>
            </a:xfrm>
            <a:prstGeom prst="pie">
              <a:avLst/>
            </a:prstGeom>
            <a:solidFill>
              <a:srgbClr val="b9b9b9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" name="Freeform 29"/>
            <p:cNvSpPr/>
            <p:nvPr/>
          </p:nvSpPr>
          <p:spPr>
            <a:xfrm>
              <a:off x="6411600" y="2922840"/>
              <a:ext cx="854280" cy="42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1" name="Rectangle 30"/>
          <p:cNvSpPr/>
          <p:nvPr/>
        </p:nvSpPr>
        <p:spPr>
          <a:xfrm>
            <a:off x="879840" y="162864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otum"/>
                <a:ea typeface="Dotum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87480" y="1844640"/>
            <a:ext cx="1295280" cy="647640"/>
            <a:chOff x="987480" y="1844640"/>
            <a:chExt cx="1295280" cy="647640"/>
          </a:xfrm>
        </p:grpSpPr>
        <p:grpSp>
          <p:nvGrpSpPr>
            <p:cNvPr id="113" name=""/>
            <p:cNvGrpSpPr/>
            <p:nvPr/>
          </p:nvGrpSpPr>
          <p:grpSpPr>
            <a:xfrm>
              <a:off x="987480" y="1844640"/>
              <a:ext cx="863640" cy="1440"/>
              <a:chOff x="987480" y="1844640"/>
              <a:chExt cx="863640" cy="1440"/>
            </a:xfrm>
          </p:grpSpPr>
          <p:sp>
            <p:nvSpPr>
              <p:cNvPr id="114" name="Line 32"/>
              <p:cNvSpPr/>
              <p:nvPr/>
            </p:nvSpPr>
            <p:spPr>
              <a:xfrm>
                <a:off x="987480" y="1844640"/>
                <a:ext cx="8636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4280" bIns="-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987480" y="1844640"/>
                <a:ext cx="863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-44640" bIns="-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1851120" y="1844640"/>
              <a:ext cx="431640" cy="647640"/>
              <a:chOff x="1851120" y="1844640"/>
              <a:chExt cx="431640" cy="647640"/>
            </a:xfrm>
          </p:grpSpPr>
          <p:sp>
            <p:nvSpPr>
              <p:cNvPr id="117" name="Line 33"/>
              <p:cNvSpPr/>
              <p:nvPr/>
            </p:nvSpPr>
            <p:spPr>
              <a:xfrm>
                <a:off x="1851120" y="1844640"/>
                <a:ext cx="43164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1851120" y="1844640"/>
                <a:ext cx="43164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19" name="Rectangle 34"/>
          <p:cNvSpPr/>
          <p:nvPr/>
        </p:nvSpPr>
        <p:spPr>
          <a:xfrm>
            <a:off x="2297520" y="2579760"/>
            <a:ext cx="95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Dotum"/>
                <a:ea typeface="Dotum"/>
              </a:rPr>
              <a:t>SEASON_001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1859040" y="427356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Dotum"/>
              </a:rPr>
              <a:t>TYPE_01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6300720" y="427356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Dotum"/>
              </a:rPr>
              <a:t>TYPE_02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10560" y="4869000"/>
            <a:ext cx="719640" cy="758160"/>
            <a:chOff x="610560" y="4869000"/>
            <a:chExt cx="719640" cy="758160"/>
          </a:xfrm>
        </p:grpSpPr>
        <p:sp>
          <p:nvSpPr>
            <p:cNvPr id="123" name="AutoShape 38"/>
            <p:cNvSpPr/>
            <p:nvPr/>
          </p:nvSpPr>
          <p:spPr>
            <a:xfrm>
              <a:off x="611280" y="4869000"/>
              <a:ext cx="718920" cy="7189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10560" y="5013000"/>
              <a:ext cx="712440" cy="614160"/>
              <a:chOff x="610560" y="5013000"/>
              <a:chExt cx="712440" cy="614160"/>
            </a:xfrm>
          </p:grpSpPr>
          <p:sp>
            <p:nvSpPr>
              <p:cNvPr id="125" name="Text Box 40"/>
              <p:cNvSpPr/>
              <p:nvPr/>
            </p:nvSpPr>
            <p:spPr>
              <a:xfrm>
                <a:off x="678960" y="5108040"/>
                <a:ext cx="5814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Dotum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" name="Text Box 41"/>
              <p:cNvSpPr/>
              <p:nvPr/>
            </p:nvSpPr>
            <p:spPr>
              <a:xfrm>
                <a:off x="610560" y="5013000"/>
                <a:ext cx="7124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  <a:ea typeface="Dotum"/>
                  </a:rPr>
                  <a:t>MENU_01</a:t>
                </a:r>
                <a:endParaRPr b="0" lang="en-US" sz="9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27" name="Text Box 42"/>
          <p:cNvSpPr/>
          <p:nvPr/>
        </p:nvSpPr>
        <p:spPr>
          <a:xfrm>
            <a:off x="971640" y="5661000"/>
            <a:ext cx="3457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宋体"/>
              </a:rPr>
              <a:t>请输入文字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Rectangle 43"/>
          <p:cNvSpPr/>
          <p:nvPr/>
        </p:nvSpPr>
        <p:spPr>
          <a:xfrm>
            <a:off x="5221440" y="5122800"/>
            <a:ext cx="3671640" cy="111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858920" y="4881600"/>
            <a:ext cx="721080" cy="731880"/>
            <a:chOff x="4858920" y="4881600"/>
            <a:chExt cx="721080" cy="731880"/>
          </a:xfrm>
        </p:grpSpPr>
        <p:sp>
          <p:nvSpPr>
            <p:cNvPr id="130" name="AutoShape 46"/>
            <p:cNvSpPr/>
            <p:nvPr/>
          </p:nvSpPr>
          <p:spPr>
            <a:xfrm>
              <a:off x="4860720" y="4881600"/>
              <a:ext cx="719280" cy="7192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858920" y="4998960"/>
              <a:ext cx="712440" cy="614520"/>
              <a:chOff x="4858920" y="4998960"/>
              <a:chExt cx="712440" cy="614520"/>
            </a:xfrm>
          </p:grpSpPr>
          <p:sp>
            <p:nvSpPr>
              <p:cNvPr id="132" name="Text Box 48"/>
              <p:cNvSpPr/>
              <p:nvPr/>
            </p:nvSpPr>
            <p:spPr>
              <a:xfrm>
                <a:off x="4927680" y="5094360"/>
                <a:ext cx="5814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Dotum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" name="Text Box 49"/>
              <p:cNvSpPr/>
              <p:nvPr/>
            </p:nvSpPr>
            <p:spPr>
              <a:xfrm>
                <a:off x="4858920" y="4998960"/>
                <a:ext cx="7124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  <a:ea typeface="Dotum"/>
                  </a:rPr>
                  <a:t>MENU_01</a:t>
                </a:r>
                <a:endParaRPr b="0" lang="en-US" sz="9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34" name="Rectangle 50"/>
          <p:cNvSpPr/>
          <p:nvPr/>
        </p:nvSpPr>
        <p:spPr>
          <a:xfrm>
            <a:off x="4407480" y="206064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otum"/>
                <a:ea typeface="Dotum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514760" y="2276640"/>
            <a:ext cx="1295280" cy="647640"/>
            <a:chOff x="4514760" y="2276640"/>
            <a:chExt cx="1295280" cy="647640"/>
          </a:xfrm>
        </p:grpSpPr>
        <p:grpSp>
          <p:nvGrpSpPr>
            <p:cNvPr id="136" name=""/>
            <p:cNvGrpSpPr/>
            <p:nvPr/>
          </p:nvGrpSpPr>
          <p:grpSpPr>
            <a:xfrm>
              <a:off x="4514760" y="2276640"/>
              <a:ext cx="863640" cy="1440"/>
              <a:chOff x="4514760" y="2276640"/>
              <a:chExt cx="863640" cy="1440"/>
            </a:xfrm>
          </p:grpSpPr>
          <p:sp>
            <p:nvSpPr>
              <p:cNvPr id="137" name="Line 52"/>
              <p:cNvSpPr/>
              <p:nvPr/>
            </p:nvSpPr>
            <p:spPr>
              <a:xfrm>
                <a:off x="4514760" y="2276640"/>
                <a:ext cx="8636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4280" bIns="-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4514760" y="2276640"/>
                <a:ext cx="863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-44640" bIns="-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378400" y="2276640"/>
              <a:ext cx="431640" cy="647640"/>
              <a:chOff x="5378400" y="2276640"/>
              <a:chExt cx="431640" cy="647640"/>
            </a:xfrm>
          </p:grpSpPr>
          <p:sp>
            <p:nvSpPr>
              <p:cNvPr id="140" name="Line 53"/>
              <p:cNvSpPr/>
              <p:nvPr/>
            </p:nvSpPr>
            <p:spPr>
              <a:xfrm>
                <a:off x="5378400" y="2276640"/>
                <a:ext cx="43164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5378400" y="2276640"/>
                <a:ext cx="43164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42" name="Text Box 54"/>
          <p:cNvSpPr/>
          <p:nvPr/>
        </p:nvSpPr>
        <p:spPr>
          <a:xfrm>
            <a:off x="1342440" y="5229360"/>
            <a:ext cx="272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Dotum"/>
              </a:rPr>
              <a:t>MORE MARKETING STORIES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Text Box 55"/>
          <p:cNvSpPr/>
          <p:nvPr/>
        </p:nvSpPr>
        <p:spPr>
          <a:xfrm>
            <a:off x="5722200" y="5229360"/>
            <a:ext cx="272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Dotum"/>
              </a:rPr>
              <a:t>MORE MARKETING STORIES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875520" y="182088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otum"/>
              </a:rPr>
              <a:t>65%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Text Box 57"/>
          <p:cNvSpPr/>
          <p:nvPr/>
        </p:nvSpPr>
        <p:spPr>
          <a:xfrm>
            <a:off x="4442400" y="226368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otum"/>
              </a:rPr>
              <a:t>23%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Rectangle 59"/>
          <p:cNvSpPr/>
          <p:nvPr/>
        </p:nvSpPr>
        <p:spPr>
          <a:xfrm>
            <a:off x="2642040" y="3357720"/>
            <a:ext cx="95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Dotum"/>
                <a:ea typeface="Dotum"/>
              </a:rPr>
              <a:t>SEASON_002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Rectangle 60"/>
          <p:cNvSpPr/>
          <p:nvPr/>
        </p:nvSpPr>
        <p:spPr>
          <a:xfrm>
            <a:off x="1130760" y="2924280"/>
            <a:ext cx="95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Dotum"/>
                <a:ea typeface="Dotum"/>
              </a:rPr>
              <a:t>SEASON_002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Rectangle 61"/>
          <p:cNvSpPr/>
          <p:nvPr/>
        </p:nvSpPr>
        <p:spPr>
          <a:xfrm>
            <a:off x="6458400" y="2492280"/>
            <a:ext cx="95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Dotum"/>
                <a:ea typeface="Dotum"/>
              </a:rPr>
              <a:t>SEASON_001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Rectangle 62"/>
          <p:cNvSpPr/>
          <p:nvPr/>
        </p:nvSpPr>
        <p:spPr>
          <a:xfrm>
            <a:off x="7395120" y="3068640"/>
            <a:ext cx="95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Dotum"/>
                <a:ea typeface="Dotum"/>
              </a:rPr>
              <a:t>SEASON_002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Rectangle 63"/>
          <p:cNvSpPr/>
          <p:nvPr/>
        </p:nvSpPr>
        <p:spPr>
          <a:xfrm>
            <a:off x="5666400" y="3284640"/>
            <a:ext cx="95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Dotum"/>
                <a:ea typeface="Dotum"/>
              </a:rPr>
              <a:t>SEASON_002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Text Box 65"/>
          <p:cNvSpPr/>
          <p:nvPr/>
        </p:nvSpPr>
        <p:spPr>
          <a:xfrm>
            <a:off x="5249880" y="5661000"/>
            <a:ext cx="3457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Gulim"/>
                <a:ea typeface="宋体"/>
              </a:rPr>
              <a:t>请输入文字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7:17:00Z</dcterms:created>
  <dc:creator>VitaminD</dc:creator>
  <dc:description>更多精彩_x005F_x000d_
让PPT飞起来_x005F_x000d_
http://pptshare.qzone.qq.com</dc:description>
  <dc:language>en-US</dc:language>
  <cp:lastModifiedBy>a</cp:lastModifiedBy>
  <dcterms:modified xsi:type="dcterms:W3CDTF">2014-10-23T15:33:28Z</dcterms:modified>
  <cp:revision>112</cp:revision>
  <dc:subject/>
  <dc:title>PowerDiagram数据分析类PPT图表50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