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48A-FCF4-4305-B673-DB8556E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A56-C76B-4460-93AA-B918107E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3F3-65B9-461E-ADAA-5C09DFE5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AB8-0124-4B9F-8C8A-B7A2B4CF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1F6-25A3-4837-A08E-53AC7692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FDA-31D3-48D4-BBA8-04655A7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9472-5112-40C6-820F-17AAC57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EE33-8C4E-4E2D-B475-9B92B3E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691A-8C26-42F8-BF37-97C97F3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8078-7112-4A07-88FB-F7EFDBFE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35C2-09A0-46C5-AA79-0F5C272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362-4F06-4A9A-96D8-BC85759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E040-9566-4AFB-B0BB-8F571B0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A1F-D1C7-4F4F-B15A-3F48163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5762-E54B-4CAA-BEAD-D45B3D73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E57E-8849-4392-B297-356659B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35B-CFF2-43D1-97C3-861F9237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974E-D48B-4370-AECE-19F2E42D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08DF-3F31-43E1-B9DD-9DC02CC3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557D-AF57-4F36-B3F8-5803E38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7407-0AC7-4577-83DE-B5F8C28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970F-6A8E-492E-B430-CEC4F59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E1C-AA49-4EBB-8CA5-20E0AC5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5EEC-8E8F-4492-B264-CDA4B93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8C8D-88E6-4E89-A880-16710B2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5B94-EED3-4ACA-8E32-BEFDAC5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5815-76FD-4DFC-9029-E256AEC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00E3-55BB-4879-AB1B-80A2879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84B7-D0D9-4A6D-9AB2-B21E1AD7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97A0-DCA5-4E12-8323-5CFB5BD8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593-4F0E-422E-9DAA-4CC57FC3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851-2AD6-4672-B7D4-72A3BE5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592-42A0-4852-91DB-7002D4C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74B-6081-4C20-9D94-A37ECCF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3D8-3FEC-4662-9A23-0C307DB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8A3-8B00-4DE6-A7A0-9F99B41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772400" cy="309600"/>
          </a:xfrm>
          <a:prstGeom prst="rect">
            <a:avLst/>
          </a:prstGeom>
          <a:gradFill rotWithShape="0">
            <a:gsLst>
              <a:gs pos="0">
                <a:srgbClr val="ee8614"/>
              </a:gs>
              <a:gs pos="100000">
                <a:srgbClr val="7e5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14400"/>
            <a:ext cx="9144000" cy="5943240"/>
            <a:chOff x="0" y="914400"/>
            <a:chExt cx="9144000" cy="5943240"/>
          </a:xfrm>
        </p:grpSpPr>
        <p:sp>
          <p:nvSpPr>
            <p:cNvPr id="2" name=""/>
            <p:cNvSpPr/>
            <p:nvPr/>
          </p:nvSpPr>
          <p:spPr>
            <a:xfrm>
              <a:off x="0" y="1244520"/>
              <a:ext cx="9144000" cy="5613120"/>
            </a:xfrm>
            <a:prstGeom prst="rect">
              <a:avLst/>
            </a:prstGeom>
            <a:solidFill>
              <a:srgbClr val="216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14400"/>
              <a:ext cx="9144000" cy="330120"/>
            </a:xfrm>
            <a:prstGeom prst="rect">
              <a:avLst/>
            </a:prstGeom>
            <a:gradFill rotWithShape="0">
              <a:gsLst>
                <a:gs pos="0">
                  <a:srgbClr val="0f2f4c"/>
                </a:gs>
                <a:gs pos="100000">
                  <a:srgbClr val="2167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65040" y="1142640"/>
            <a:ext cx="832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400800" y="64767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539-B8DD-4A56-8EA3-0E458D395F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04920"/>
            <a:ext cx="832176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0"/>
            <a:ext cx="1447920" cy="1400040"/>
          </a:xfrm>
          <a:prstGeom prst="rect">
            <a:avLst/>
          </a:pr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878600" y="0"/>
            <a:ext cx="1265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934320" y="304920"/>
            <a:ext cx="76176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202440" y="304920"/>
            <a:ext cx="7380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743200"/>
            <a:ext cx="9144000" cy="4114800"/>
            <a:chOff x="0" y="2743200"/>
            <a:chExt cx="9144000" cy="4114800"/>
          </a:xfrm>
        </p:grpSpPr>
        <p:sp>
          <p:nvSpPr>
            <p:cNvPr id="51" name=""/>
            <p:cNvSpPr/>
            <p:nvPr/>
          </p:nvSpPr>
          <p:spPr>
            <a:xfrm>
              <a:off x="0" y="2971800"/>
              <a:ext cx="9144000" cy="3886200"/>
            </a:xfrm>
            <a:prstGeom prst="rect">
              <a:avLst/>
            </a:prstGeom>
            <a:solidFill>
              <a:srgbClr val="7e5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743200"/>
              <a:ext cx="9144000" cy="228600"/>
            </a:xfrm>
            <a:prstGeom prst="rect">
              <a:avLst/>
            </a:prstGeom>
            <a:solidFill>
              <a:srgbClr val="7e5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743200"/>
            <a:ext cx="9144000" cy="228600"/>
          </a:xfrm>
          <a:prstGeom prst="rect">
            <a:avLst/>
          </a:prstGeom>
          <a:gradFill rotWithShape="0">
            <a:gsLst>
              <a:gs pos="0">
                <a:srgbClr val="3a284d"/>
              </a:gs>
              <a:gs pos="100000">
                <a:srgbClr val="7e57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68580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0" y="2057400"/>
            <a:ext cx="6159600" cy="533520"/>
          </a:xfrm>
          <a:prstGeom prst="rect">
            <a:avLst/>
          </a:pr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580920" y="6324120"/>
            <a:ext cx="266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924320" y="632412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7EF-2E03-4D0D-8FD6-76304F2F9B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9960" y="2133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28600" cy="2590920"/>
          </a:xfrm>
          <a:prstGeom prst="rect">
            <a:avLst/>
          </a:pr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0040" y="569880"/>
            <a:ext cx="1663560" cy="148608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10000" y="569880"/>
            <a:ext cx="1670040" cy="14860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9960" y="569880"/>
            <a:ext cx="1670040" cy="148608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0"/>
            <a:ext cx="2971800" cy="20574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647-89AD-4100-8274-4E139CCCC2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br>
              <a:rPr sz="25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55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370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b2b2b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905120" y="2438280"/>
            <a:ext cx="5333400" cy="2819520"/>
            <a:chOff x="1905120" y="2438280"/>
            <a:chExt cx="5333400" cy="2819520"/>
          </a:xfrm>
        </p:grpSpPr>
        <p:sp>
          <p:nvSpPr>
            <p:cNvPr id="374" name="未知"/>
            <p:cNvSpPr/>
            <p:nvPr/>
          </p:nvSpPr>
          <p:spPr>
            <a:xfrm>
              <a:off x="2709000" y="388908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ee8614"/>
                </a:gs>
                <a:gs pos="100000">
                  <a:srgbClr val="6d3d0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3556440" y="243828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e57a9"/>
                </a:gs>
                <a:gs pos="100000">
                  <a:srgbClr val="3a28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1905120" y="282420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8b064"/>
                </a:gs>
                <a:gs pos="100000">
                  <a:srgbClr val="9cc4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未知"/>
          <p:cNvSpPr/>
          <p:nvPr/>
        </p:nvSpPr>
        <p:spPr>
          <a:xfrm rot="20241600">
            <a:off x="1236240" y="26902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e57a9"/>
              </a:gs>
              <a:gs pos="100000">
                <a:srgbClr val="f1eef5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solidFill>
            <a:srgbClr val="080808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1828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167a7"/>
              </a:gs>
              <a:gs pos="100000">
                <a:srgbClr val="0b23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54040" y="3352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e8614"/>
              </a:gs>
              <a:gs pos="100000">
                <a:srgbClr val="4a290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36760" y="50497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7e57a9"/>
              </a:gs>
              <a:gs pos="100000">
                <a:srgbClr val="2c1e3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11640" y="4419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8b064"/>
              </a:gs>
              <a:gs pos="100000">
                <a:srgbClr val="324a2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044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9c111"/>
              </a:gs>
              <a:gs pos="100000">
                <a:srgbClr val="4a420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16840" y="3886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07760" y="22860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41400" y="25639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50760" y="48769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29800" y="550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8776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31960" y="21160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 flipH="1">
            <a:off x="615600" y="21157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741600" y="167652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403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172548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409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92400" y="314496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415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92400" y="4605480"/>
              <a:ext cx="40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422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423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96540c"/>
                  </a:gs>
                  <a:gs pos="100000">
                    <a:srgbClr val="ee861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3b1d7"/>
                  </a:gs>
                  <a:gs pos="100000">
                    <a:srgbClr val="7e57a9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b8d5ae"/>
                  </a:gs>
                  <a:gs pos="100000">
                    <a:srgbClr val="78b064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45807"/>
                  </a:gs>
                  <a:gs pos="100000">
                    <a:srgbClr val="d9c111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3a284d"/>
              </a:gs>
              <a:gs pos="50000">
                <a:srgbClr val="7e57a9"/>
              </a:gs>
              <a:gs pos="100000">
                <a:srgbClr val="3a28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ee8614"/>
              </a:gs>
              <a:gs pos="100000">
                <a:srgbClr val="f4b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af0"/>
              </a:gs>
              <a:gs pos="100000">
                <a:srgbClr val="d9c111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af0"/>
              </a:gs>
              <a:gs pos="100000">
                <a:srgbClr val="d9c111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4"/>
              </a:gs>
              <a:gs pos="100000">
                <a:srgbClr val="78b064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442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443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447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453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458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d9c111"/>
              </a:gs>
              <a:gs pos="100000">
                <a:srgbClr val="96860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e59f"/>
              </a:gs>
              <a:gs pos="100000">
                <a:srgbClr val="d9c1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466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467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645807"/>
                </a:gs>
                <a:gs pos="100000">
                  <a:srgbClr val="d9c1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474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e57a9"/>
              </a:gs>
              <a:gs pos="100000">
                <a:srgbClr val="573c75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abbdb"/>
              </a:gs>
              <a:gs pos="100000">
                <a:srgbClr val="7e57a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487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488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3a284d"/>
                </a:gs>
                <a:gs pos="100000">
                  <a:srgbClr val="7e57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495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ee8614"/>
              </a:gs>
              <a:gs pos="100000">
                <a:srgbClr val="a55d0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7cda0"/>
              </a:gs>
              <a:gs pos="100000">
                <a:srgbClr val="ee8614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508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509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6d3d09"/>
                </a:gs>
                <a:gs pos="100000">
                  <a:srgbClr val="ee86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516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e57a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e8614"/>
              </a:gs>
              <a:gs pos="100000">
                <a:srgbClr val="b5660f"/>
              </a:gs>
            </a:gsLst>
            <a:lin ang="5400000"/>
          </a:gradFill>
          <a:ln w="57240">
            <a:solidFill>
              <a:srgbClr val="ee861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c111"/>
              </a:gs>
              <a:gs pos="100000">
                <a:srgbClr val="6458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8b064"/>
              </a:gs>
              <a:gs pos="100000">
                <a:srgbClr val="37512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57a9"/>
              </a:gs>
              <a:gs pos="100000">
                <a:srgbClr val="3a2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553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2167a7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5f4180"/>
              </a:gs>
              <a:gs pos="100000">
                <a:srgbClr val="7e57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aa50e"/>
              </a:gs>
              <a:gs pos="100000">
                <a:srgbClr val="d9c1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cc7311"/>
              </a:gs>
              <a:gs pos="100000">
                <a:srgbClr val="ee8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59160" y="367344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0239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7a9"/>
              </a:gs>
              <a:gs pos="100000">
                <a:srgbClr val="e2daeb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685800" cy="685800"/>
          </a:xfrm>
          <a:prstGeom prst="diamond">
            <a:avLst/>
          </a:prstGeom>
          <a:solidFill>
            <a:srgbClr val="7e57a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07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9600" y="200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8623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064"/>
              </a:gs>
              <a:gs pos="100000">
                <a:srgbClr val="d9e8d3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743200"/>
            <a:ext cx="685800" cy="685800"/>
          </a:xfrm>
          <a:prstGeom prst="diamond">
            <a:avLst/>
          </a:prstGeom>
          <a:solidFill>
            <a:srgbClr val="78b06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1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0" y="284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7004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7a9"/>
              </a:gs>
              <a:gs pos="100000">
                <a:srgbClr val="e2daeb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581280"/>
            <a:ext cx="685800" cy="685800"/>
          </a:xfrm>
          <a:prstGeom prst="diamond">
            <a:avLst/>
          </a:prstGeom>
          <a:solidFill>
            <a:srgbClr val="7e57a9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755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9600" y="367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4614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064"/>
              </a:gs>
              <a:gs pos="100000">
                <a:srgbClr val="e1e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4495680"/>
            <a:ext cx="685800" cy="685800"/>
          </a:xfrm>
          <a:prstGeom prst="diamond">
            <a:avLst/>
          </a:prstGeom>
          <a:solidFill>
            <a:srgbClr val="78b06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670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9600" y="459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2590920" y="5334120"/>
            <a:ext cx="39448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676520" y="34290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8b064"/>
                    </a:gs>
                    <a:gs pos="100000">
                      <a:srgbClr val="2167a7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80808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8b064"/>
                  </a:gs>
                  <a:gs pos="100000">
                    <a:srgbClr val="2167a7"/>
                  </a:gs>
                </a:gsLst>
                <a:lin ang="10800000"/>
              </a:gradFill>
              <a:effectLst>
                <a:outerShdw dist="91658" dir="338234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1200" y="1517400"/>
            <a:ext cx="800748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View]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Master],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Slide Master]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100" spc="-1" strike="noStrike">
                <a:solidFill>
                  <a:srgbClr val="d9c111"/>
                </a:solidFill>
                <a:latin typeface="Arial"/>
                <a:ea typeface="宋体"/>
              </a:rPr>
              <a:t>[Notes Master]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mage –www.photosclub.co.k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28600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cf4a"/>
              </a:gs>
              <a:gs pos="50000">
                <a:srgbClr val="d9c111"/>
              </a:gs>
              <a:gs pos="100000">
                <a:srgbClr val="e1cf4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7fbd"/>
              </a:gs>
              <a:gs pos="50000">
                <a:srgbClr val="7e57a9"/>
              </a:gs>
              <a:gs pos="100000">
                <a:srgbClr val="9c7fb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080" y="2643120"/>
            <a:ext cx="4878360" cy="44388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f2ebb6"/>
              </a:gs>
              <a:gs pos="50000">
                <a:srgbClr val="d9c111"/>
              </a:gs>
              <a:gs pos="100000">
                <a:srgbClr val="f2ebb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23760" y="3281400"/>
            <a:ext cx="3603960" cy="32796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a4c997"/>
              </a:gs>
              <a:gs pos="50000">
                <a:srgbClr val="78b064"/>
              </a:gs>
              <a:gs pos="100000">
                <a:srgbClr val="a4c99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63680" y="3762360"/>
            <a:ext cx="2662200" cy="242244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b7a2cf"/>
              </a:gs>
              <a:gs pos="50000">
                <a:srgbClr val="7e57a9"/>
              </a:gs>
              <a:gs pos="100000">
                <a:srgbClr val="b7a2c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30520" y="4148280"/>
            <a:ext cx="1920600" cy="17460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gradFill rotWithShape="0">
            <a:gsLst>
              <a:gs pos="0">
                <a:srgbClr val="f3b46f"/>
              </a:gs>
              <a:gs pos="50000">
                <a:srgbClr val="ee8614"/>
              </a:gs>
              <a:gs pos="100000">
                <a:srgbClr val="f3b4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5760" y="4241880"/>
            <a:ext cx="314964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81640" y="3324240"/>
            <a:ext cx="34005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6040" y="2490840"/>
            <a:ext cx="33879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52960" y="1673280"/>
            <a:ext cx="337032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54760" y="57070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d9c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3040" y="570060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0960" y="56944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7e5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040" y="5694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056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2520" y="58039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976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44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d9c111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8b064"/>
          </a:solidFill>
          <a:ln w="9360">
            <a:solidFill>
              <a:srgbClr val="080808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7e57a9"/>
          </a:solidFill>
          <a:ln w="9360">
            <a:solidFill>
              <a:srgbClr val="7e57a9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167a7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7e57a9">
              <a:alpha val="50000"/>
            </a:srgbClr>
          </a:solidFill>
          <a:ln w="9360">
            <a:solidFill>
              <a:srgbClr val="7e57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14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216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c111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b064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e57a9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9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30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35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255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263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273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28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282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ee8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8b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8b0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8b0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05e35"/>
              </a:gs>
              <a:gs pos="50000">
                <a:srgbClr val="78b064"/>
              </a:gs>
              <a:gs pos="100000">
                <a:srgbClr val="405e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78b064">
                  <a:alpha val="0"/>
                </a:srgbClr>
              </a:gs>
              <a:gs pos="100000">
                <a:srgbClr val="4b6f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9c11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9c11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746809"/>
              </a:gs>
              <a:gs pos="50000">
                <a:srgbClr val="d9c111"/>
              </a:gs>
              <a:gs pos="100000">
                <a:srgbClr val="7468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d9c111">
                  <a:alpha val="0"/>
                </a:srgbClr>
              </a:gs>
              <a:gs pos="100000">
                <a:srgbClr val="897a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304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ee861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6d3d09"/>
              </a:gs>
              <a:gs pos="100000">
                <a:srgbClr val="ee861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0480a"/>
              </a:gs>
              <a:gs pos="50000">
                <a:srgbClr val="ee8614"/>
              </a:gs>
              <a:gs pos="100000">
                <a:srgbClr val="8048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ee8614">
                  <a:alpha val="0"/>
                </a:srgbClr>
              </a:gs>
              <a:gs pos="100000">
                <a:srgbClr val="96540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314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319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2167a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6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330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333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334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095200" y="3297240"/>
              <a:ext cx="2653920" cy="1820880"/>
              <a:chOff x="2095200" y="3297240"/>
              <a:chExt cx="2653920" cy="1820880"/>
            </a:xfrm>
          </p:grpSpPr>
          <p:sp>
            <p:nvSpPr>
              <p:cNvPr id="339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ee8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78b0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d9c1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352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5720" y="219852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8:26:53Z</dcterms:created>
  <dc:creator>Sung Ha, Park</dc:creator>
  <dc:description/>
  <cp:keywords/>
  <dc:language>en-US</dc:language>
  <cp:lastModifiedBy>a</cp:lastModifiedBy>
  <dcterms:modified xsi:type="dcterms:W3CDTF">2014-05-10T03:31:32Z</dcterms:modified>
  <cp:revision>1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</Properties>
</file>