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803-673B-4C98-8CF0-5A56B2A2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0E5-6714-4F76-84BA-1912EA44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50F-2CCC-4B15-8A76-A2326858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657-0DB4-4209-AA0E-8EC77D6C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D6E1-B3B9-46BA-BE16-45EB6DB8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79BE-8094-44AB-9A64-241A6BDD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6E87-513E-47DA-84EC-E7E9952B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9D39-B19C-4630-81B3-BF6A808B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3423-ED5E-481D-A6D0-BEE82F98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AE18-2A9F-4F3B-AFB4-0E2C43BC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5EB9-3EC3-414D-B0E2-63DE048A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967-7F27-4E9C-A04E-026017B0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7209-115E-4709-A9C6-9839CCB7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F932-96ED-4196-8557-7C43B4F3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A2B1-6FCC-4FF3-A2E8-FE8C145C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A947-8C5D-46E1-B16D-5E37C501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55E0-55B2-41DC-8470-3D8A5DA8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5ED-CE20-461A-8035-8EFB547F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59D-2DB3-46F8-81E3-C4B742C1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BAD-2882-4D35-8A66-987525E9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E59-7A39-4115-9B59-028CE372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A19-EB06-467E-9553-12C68BF4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9A6-5273-4F6E-AA53-7DEE3563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213-1033-4D85-BC1C-00DF4BD8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B576-2DD9-4613-94F9-5EF502DA0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A904-85D6-4588-B1C8-DC6FC1048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63600"/>
            <a:ext cx="822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86120" y="50277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58400" y="482292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5398920"/>
            <a:chOff x="0" y="0"/>
            <a:chExt cx="8466120" cy="539892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349640"/>
              <a:ext cx="846612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42920" y="280980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/>
  <dcterms:modified xsi:type="dcterms:W3CDTF">2014-05-25T05:54:0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