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7C5-A16D-4634-B441-FA81ADFE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2C4-9F30-4CDD-9B0C-1CA23090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3A1-25EF-4317-960C-7A65D773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DAB-B0FC-4D6C-96AA-AF61B75D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544-1C3C-4823-8C58-12AD93BE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A56-1834-42AA-8DEC-DAE37FBE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BD6-BEAA-40D3-BD6E-36F41425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172-3A72-407A-97CB-4A6FECE7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160-BAD4-4C74-B2EF-09A07131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2FE-36EC-4056-96FF-365EC212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706-1B23-4773-89AE-ADEDAC4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B8A-815A-407C-A110-14AF6228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08CE-FD31-4A1C-9C4A-676BFC973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TextBox 10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4" descr="未标题-1.png"/>
          <p:cNvPicPr/>
          <p:nvPr/>
        </p:nvPicPr>
        <p:blipFill>
          <a:blip r:embed="rId2"/>
          <a:stretch/>
        </p:blipFill>
        <p:spPr>
          <a:xfrm>
            <a:off x="3500280" y="2857680"/>
            <a:ext cx="1262160" cy="126180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146160" y="3286080"/>
            <a:ext cx="37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  <a:ea typeface="汉鼎简长美黑"/>
              </a:rPr>
              <a:t>Splashing so carefree as a child come po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142920" y="5281560"/>
            <a:ext cx="6715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not yet forgiven the crow for depriving him of the young magpies, so he carried the crow to the edge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recipice and threw him over, intending to go round by a path he knew and pick him up at the bott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 no sooner had the fox let the crow go than he soared up into the air, and hovering just out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9" descr="gucci-brand-10.png"/>
          <p:cNvPicPr/>
          <p:nvPr/>
        </p:nvPicPr>
        <p:blipFill>
          <a:blip r:embed="rId3"/>
          <a:stretch/>
        </p:blipFill>
        <p:spPr>
          <a:xfrm>
            <a:off x="428760" y="785880"/>
            <a:ext cx="750600" cy="750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79800" y="62485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1" descr="未标题-1.png"/>
          <p:cNvPicPr/>
          <p:nvPr/>
        </p:nvPicPr>
        <p:blipFill>
          <a:blip r:embed="rId2"/>
          <a:stretch/>
        </p:blipFill>
        <p:spPr>
          <a:xfrm>
            <a:off x="5786280" y="27860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52" name="矩形 12"/>
          <p:cNvSpPr/>
          <p:nvPr/>
        </p:nvSpPr>
        <p:spPr>
          <a:xfrm>
            <a:off x="357120" y="357120"/>
            <a:ext cx="8286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ugh deeply grieved for the loss of his little one, found some comfort in the thought that only a bird of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ordinary wisdom would have dreamed of saving the rest by the sacrifice of the one. But what do you t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k happened? Why, a few days later, Michael the fox might have been seen sitting under the very same 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e, and a dreadful pang shot through the heart of the magpie as he peeped at him from a hole in the n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 sat on the edge of his nest, his head drooping and his feathers all ruffled, looking the picture of mis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eed he was so different from the gay, jaunty magpie whom every creature in the forest knew, that a c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 who was flying past, stopped to inquire what was the matter. 'Where are the two young ones who are 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next morning the fox came to his usual place in front of the tree, for he was hungry, and a nice yo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pie would have suited him very well for dinner. But this time there was no cowering, timid magpi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his bidding, but a bird with his head erect and a determined vo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858960" y="3214800"/>
            <a:ext cx="50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  <a:ea typeface="汉鼎简长美黑"/>
              </a:rPr>
              <a:t>The Lion commanded  Him immediately    Tell him the c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428760" y="4643280"/>
            <a:ext cx="25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But no sooner had the fox let the crow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nd hovering just out of teach of his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h, fox! you know well how to catch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tween his legs, the fox slunk into f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7" descr="gucci-brand-10.png"/>
          <p:cNvPicPr/>
          <p:nvPr/>
        </p:nvPicPr>
        <p:blipFill>
          <a:blip r:embed="rId3"/>
          <a:stretch/>
        </p:blipFill>
        <p:spPr>
          <a:xfrm>
            <a:off x="4000680" y="5643720"/>
            <a:ext cx="75060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5218200" y="3192480"/>
            <a:ext cx="37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  <a:ea typeface="汉鼎简长美黑"/>
              </a:rPr>
              <a:t>Splashing so carefree as a child come po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9" descr="gucci-brand-10.png"/>
          <p:cNvPicPr/>
          <p:nvPr/>
        </p:nvPicPr>
        <p:blipFill>
          <a:blip r:embed="rId2"/>
          <a:stretch/>
        </p:blipFill>
        <p:spPr>
          <a:xfrm>
            <a:off x="4000680" y="3000240"/>
            <a:ext cx="750600" cy="750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63920" y="61531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/>
  <dc:description/>
  <dc:language>en-US</dc:language>
  <cp:lastModifiedBy>alex</cp:lastModifiedBy>
  <cp:lastPrinted>1899-12-30T00:00:00Z</cp:lastPrinted>
  <dcterms:modified xsi:type="dcterms:W3CDTF">2014-06-08T05:21:42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