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087B-8D13-4A73-9987-F2E28BFE2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AE07-CF10-46F0-AA88-56E53260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55F5-45DB-4BA6-94E2-7D0745FFA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ED48-9775-4DFF-82DD-4DB81949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D797-3774-4ADE-8A76-C9EABE7D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BCF1-8A23-4341-AE2A-F9F295B3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AFEC-0D31-43C9-8D77-695ADCDB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8017-A2E6-4114-AD3D-0CEECEF1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C1F3-A975-4FD1-8869-F21DF4A9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7911-9A81-4B80-A364-2F4CE445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08F6-2E4F-4476-B75C-B24F4AE0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0D08-B79B-43E4-AC97-0ECD312B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52BA-7077-4E4E-86CF-3B506ECCDF4F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71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7a8e"/>
                </a:solidFill>
                <a:latin typeface="Calibri"/>
              </a:rPr>
              <a:t>PRESENTATION  NA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7080"/>
            <a:ext cx="6400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ef7a8e"/>
                </a:solidFill>
                <a:latin typeface="Calibri"/>
              </a:rPr>
              <a:t>Company Na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7439040" y="473220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11280" y="206280"/>
            <a:ext cx="62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7a8e"/>
                </a:solidFill>
                <a:latin typeface="Calibri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11280" y="1200240"/>
            <a:ext cx="62755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f7a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ef7a8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f7a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ef7a8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7151040" y="480384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7a8e"/>
                </a:solidFill>
                <a:latin typeface="Calibri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f7a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f7a8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f7a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f7a8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11280" y="206280"/>
            <a:ext cx="62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7a8e"/>
                </a:solidFill>
                <a:latin typeface="Calibri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411280" y="1200240"/>
            <a:ext cx="62755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f7a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ef7a8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f7a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ef7a8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3184200" y="4371840"/>
            <a:ext cx="442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0"/>
            <a:ext cx="8466120" cy="5143680"/>
            <a:chOff x="0" y="0"/>
            <a:chExt cx="8466120" cy="5143680"/>
          </a:xfrm>
        </p:grpSpPr>
        <p:sp>
          <p:nvSpPr>
            <p:cNvPr id="5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285920"/>
              <a:ext cx="846612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Box 7"/>
            <p:cNvSpPr/>
            <p:nvPr/>
          </p:nvSpPr>
          <p:spPr>
            <a:xfrm rot="20926800">
              <a:off x="1946880" y="26762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9:15:13Z</dcterms:created>
  <dc:creator/>
  <dc:description/>
  <dc:language>en-US</dc:language>
  <cp:lastModifiedBy>Ric6000</cp:lastModifiedBy>
  <cp:lastPrinted>1899-12-30T00:00:00Z</cp:lastPrinted>
  <dcterms:modified xsi:type="dcterms:W3CDTF">2014-05-14T14:44:4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