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12720" y="25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12720" y="25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2720" y="2565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33720"/>
            <a:ext cx="9144000" cy="2737080"/>
          </a:xfrm>
          <a:prstGeom prst="rect">
            <a:avLst/>
          </a:prstGeom>
          <a:gradFill rotWithShape="0">
            <a:gsLst>
              <a:gs pos="0">
                <a:srgbClr val="1d1d1d"/>
              </a:gs>
              <a:gs pos="100000">
                <a:srgbClr val="3333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70800"/>
            <a:ext cx="9144000" cy="18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940360" y="5962680"/>
            <a:ext cx="24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华文细黑"/>
              </a:rPr>
              <a:t>公司名称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Arial"/>
                <a:ea typeface="华文细黑"/>
              </a:rPr>
              <a:t>其他单位名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3807" t="0" r="14153" b="0"/>
          <a:stretch/>
        </p:blipFill>
        <p:spPr>
          <a:xfrm>
            <a:off x="396720" y="2781360"/>
            <a:ext cx="2297160" cy="2016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2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805360"/>
            <a:ext cx="9144000" cy="909720"/>
          </a:xfrm>
          <a:prstGeom prst="rect">
            <a:avLst/>
          </a:prstGeom>
          <a:gradFill rotWithShape="0">
            <a:gsLst>
              <a:gs pos="0">
                <a:srgbClr val="3b3b3b"/>
              </a:gs>
              <a:gs pos="100000">
                <a:srgbClr val="3333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715080"/>
            <a:ext cx="9144000" cy="142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>
            <a:grayscl/>
            <a:lum bright="12000"/>
          </a:blip>
          <a:stretch/>
        </p:blipFill>
        <p:spPr>
          <a:xfrm>
            <a:off x="324000" y="5950080"/>
            <a:ext cx="608040" cy="61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321680" y="5229360"/>
            <a:ext cx="1822320" cy="1152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044360" y="5890680"/>
            <a:ext cx="53370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ddddd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933720"/>
            <a:ext cx="9144000" cy="2737080"/>
          </a:xfrm>
          <a:prstGeom prst="rect">
            <a:avLst/>
          </a:prstGeom>
          <a:gradFill rotWithShape="0">
            <a:gsLst>
              <a:gs pos="0">
                <a:srgbClr val="1d1d1d"/>
              </a:gs>
              <a:gs pos="100000">
                <a:srgbClr val="3333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670800"/>
            <a:ext cx="9144000" cy="18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2360" y="836640"/>
            <a:ext cx="460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600" spc="-1" strike="noStrike">
                <a:solidFill>
                  <a:srgbClr val="eaeaea"/>
                </a:solidFill>
                <a:latin typeface="Arial Narrow"/>
              </a:rPr>
              <a:t>2014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49372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9cc00"/>
                </a:solidFill>
                <a:latin typeface="Arial"/>
                <a:ea typeface="华文行楷"/>
              </a:rPr>
              <a:t>键入主题</a:t>
            </a:r>
            <a:endParaRPr b="0" lang="en-US" sz="8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53080" y="3933720"/>
            <a:ext cx="35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1ebe1"/>
                </a:solidFill>
                <a:latin typeface="Arial"/>
                <a:ea typeface="华文细黑"/>
              </a:rPr>
              <a:t>副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13807" t="0" r="14153" b="0"/>
          <a:stretch/>
        </p:blipFill>
        <p:spPr>
          <a:xfrm>
            <a:off x="396720" y="2781360"/>
            <a:ext cx="2297160" cy="201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6360" y="6270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1511280"/>
            <a:ext cx="0" cy="134316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7520" y="6081840"/>
            <a:ext cx="58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Arial"/>
                <a:ea typeface="华文细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57440" y="1557360"/>
            <a:ext cx="1440" cy="12970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1593720"/>
            <a:ext cx="0" cy="1258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5080" y="1595520"/>
            <a:ext cx="0" cy="125892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94840" y="1604880"/>
            <a:ext cx="0" cy="15368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8920" y="1222200"/>
            <a:ext cx="7920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36600" y="1222200"/>
            <a:ext cx="8416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95640" y="1252440"/>
            <a:ext cx="98280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18120" y="1252440"/>
            <a:ext cx="85248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61400" y="1252440"/>
            <a:ext cx="863640" cy="3070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55640" y="2852640"/>
            <a:ext cx="7637040" cy="576360"/>
            <a:chOff x="755640" y="2852640"/>
            <a:chExt cx="7637040" cy="576360"/>
          </a:xfrm>
        </p:grpSpPr>
        <p:sp>
          <p:nvSpPr>
            <p:cNvPr id="140" name=""/>
            <p:cNvSpPr/>
            <p:nvPr/>
          </p:nvSpPr>
          <p:spPr>
            <a:xfrm>
              <a:off x="755640" y="2853000"/>
              <a:ext cx="1801080" cy="576000"/>
            </a:xfrm>
            <a:custGeom>
              <a:avLst/>
              <a:gdLst>
                <a:gd name="textAreaLeft" fmla="*/ 0 w 1801080"/>
                <a:gd name="textAreaRight" fmla="*/ 1801440 w 180108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90" y="0"/>
                  </a:lnTo>
                  <a:lnTo>
                    <a:pt x="21600" y="10800"/>
                  </a:lnTo>
                  <a:lnTo>
                    <a:pt x="1889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67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06960" y="2853000"/>
              <a:ext cx="2091960" cy="576000"/>
            </a:xfrm>
            <a:custGeom>
              <a:avLst/>
              <a:gdLst>
                <a:gd name="textAreaLeft" fmla="*/ 0 w 2091960"/>
                <a:gd name="textAreaRight" fmla="*/ 2092320 w 209196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6" y="0"/>
                  </a:lnTo>
                  <a:lnTo>
                    <a:pt x="21600" y="10800"/>
                  </a:lnTo>
                  <a:lnTo>
                    <a:pt x="18906" y="21600"/>
                  </a:lnTo>
                  <a:lnTo>
                    <a:pt x="0" y="21600"/>
                  </a:lnTo>
                  <a:lnTo>
                    <a:pt x="2694" y="10800"/>
                  </a:lnTo>
                  <a:close/>
                </a:path>
              </a:pathLst>
            </a:custGeom>
            <a:solidFill>
              <a:srgbClr val="009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51320" y="2852640"/>
              <a:ext cx="2091960" cy="576000"/>
            </a:xfrm>
            <a:custGeom>
              <a:avLst/>
              <a:gdLst>
                <a:gd name="textAreaLeft" fmla="*/ 0 w 2091960"/>
                <a:gd name="textAreaRight" fmla="*/ 2092320 w 209196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6" y="0"/>
                  </a:lnTo>
                  <a:lnTo>
                    <a:pt x="21600" y="10800"/>
                  </a:lnTo>
                  <a:lnTo>
                    <a:pt x="18906" y="21600"/>
                  </a:lnTo>
                  <a:lnTo>
                    <a:pt x="0" y="21600"/>
                  </a:lnTo>
                  <a:lnTo>
                    <a:pt x="2694" y="10800"/>
                  </a:lnTo>
                  <a:close/>
                </a:path>
              </a:pathLst>
            </a:custGeom>
            <a:solidFill>
              <a:srgbClr val="00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00720" y="2852640"/>
              <a:ext cx="2091960" cy="576000"/>
            </a:xfrm>
            <a:custGeom>
              <a:avLst/>
              <a:gdLst>
                <a:gd name="textAreaLeft" fmla="*/ 0 w 2091960"/>
                <a:gd name="textAreaRight" fmla="*/ 2092320 w 2091960"/>
                <a:gd name="textAreaTop" fmla="*/ 0 h 576000"/>
                <a:gd name="textAreaBottom" fmla="*/ 5760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906" y="0"/>
                  </a:lnTo>
                  <a:lnTo>
                    <a:pt x="21600" y="10800"/>
                  </a:lnTo>
                  <a:lnTo>
                    <a:pt x="18906" y="21600"/>
                  </a:lnTo>
                  <a:lnTo>
                    <a:pt x="0" y="21600"/>
                  </a:lnTo>
                  <a:lnTo>
                    <a:pt x="269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7f00"/>
                </a:gs>
                <a:gs pos="100000">
                  <a:srgbClr val="00b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箭头 113"/>
          <p:cNvSpPr/>
          <p:nvPr/>
        </p:nvSpPr>
        <p:spPr>
          <a:xfrm>
            <a:off x="-22320" y="3429000"/>
            <a:ext cx="9058320" cy="144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8000" y="9360"/>
            <a:ext cx="148284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eaeaea"/>
                </a:solidFill>
                <a:latin typeface="Arial Black"/>
              </a:rPr>
              <a:t>1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17520" y="6081840"/>
            <a:ext cx="58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Arial"/>
                <a:ea typeface="华文细黑"/>
              </a:rPr>
              <a:t>活 动 内 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0400" y="404640"/>
            <a:ext cx="2470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细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华文行楷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861080" y="1593720"/>
            <a:ext cx="6120" cy="3716640"/>
            <a:chOff x="4861080" y="1593720"/>
            <a:chExt cx="6120" cy="3716640"/>
          </a:xfrm>
        </p:grpSpPr>
        <p:sp>
          <p:nvSpPr>
            <p:cNvPr id="149" name="44 Conector recto"/>
            <p:cNvSpPr/>
            <p:nvPr/>
          </p:nvSpPr>
          <p:spPr>
            <a:xfrm>
              <a:off x="4867200" y="159372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47 Conector recto"/>
            <p:cNvSpPr/>
            <p:nvPr/>
          </p:nvSpPr>
          <p:spPr>
            <a:xfrm>
              <a:off x="4861080" y="159372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90400" y="1917720"/>
            <a:ext cx="39816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华文仿宋"/>
              </a:rPr>
              <a:t>文字内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800600_greencar" descr=""/>
          <p:cNvPicPr/>
          <p:nvPr/>
        </p:nvPicPr>
        <p:blipFill>
          <a:blip r:embed="rId1">
            <a:lum bright="-6000"/>
          </a:blip>
          <a:srcRect l="0" t="14625" r="0" b="6800"/>
          <a:stretch/>
        </p:blipFill>
        <p:spPr>
          <a:xfrm>
            <a:off x="5232240" y="1593720"/>
            <a:ext cx="1644840" cy="1052640"/>
          </a:xfrm>
          <a:prstGeom prst="rect">
            <a:avLst/>
          </a:prstGeom>
          <a:ln w="38160">
            <a:solidFill>
              <a:srgbClr val="808080"/>
            </a:solidFill>
            <a:miter/>
          </a:ln>
          <a:effectLst>
            <a:outerShdw dist="63360" dir="54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3" name="800600_khaki" descr=""/>
          <p:cNvPicPr/>
          <p:nvPr/>
        </p:nvPicPr>
        <p:blipFill>
          <a:blip r:embed="rId2">
            <a:lum bright="-6000"/>
          </a:blip>
          <a:srcRect l="0" t="0" r="0" b="10850"/>
          <a:stretch/>
        </p:blipFill>
        <p:spPr>
          <a:xfrm>
            <a:off x="7094520" y="1593720"/>
            <a:ext cx="1712880" cy="1051200"/>
          </a:xfrm>
          <a:prstGeom prst="rect">
            <a:avLst/>
          </a:prstGeom>
          <a:ln w="38160">
            <a:solidFill>
              <a:srgbClr val="808080"/>
            </a:solidFill>
            <a:miter/>
          </a:ln>
          <a:effectLst>
            <a:outerShdw dist="63360" dir="54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4" name="what-do-you-want-from-me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5232240" y="2927520"/>
            <a:ext cx="3573720" cy="1992240"/>
          </a:xfrm>
          <a:prstGeom prst="rect">
            <a:avLst/>
          </a:prstGeom>
          <a:ln w="38160">
            <a:solidFill>
              <a:srgbClr val="808080"/>
            </a:solidFill>
            <a:miter/>
          </a:ln>
          <a:effectLst>
            <a:outerShdw dist="63360" dir="54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55" name=""/>
          <p:cNvSpPr/>
          <p:nvPr/>
        </p:nvSpPr>
        <p:spPr>
          <a:xfrm>
            <a:off x="7164360" y="6270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465880" y="2421000"/>
            <a:ext cx="3254400" cy="3400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8000" y="9360"/>
            <a:ext cx="148284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eaeaea"/>
                </a:solidFill>
                <a:latin typeface="Arial Black"/>
              </a:rPr>
              <a:t>2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0400" y="404640"/>
            <a:ext cx="2470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细黑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华文行楷"/>
              </a:rPr>
              <a:t>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861080" y="1593720"/>
            <a:ext cx="6120" cy="3716640"/>
            <a:chOff x="4861080" y="1593720"/>
            <a:chExt cx="6120" cy="3716640"/>
          </a:xfrm>
        </p:grpSpPr>
        <p:sp>
          <p:nvSpPr>
            <p:cNvPr id="160" name="44 Conector recto"/>
            <p:cNvSpPr/>
            <p:nvPr/>
          </p:nvSpPr>
          <p:spPr>
            <a:xfrm>
              <a:off x="4867200" y="159372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47 Conector recto"/>
            <p:cNvSpPr/>
            <p:nvPr/>
          </p:nvSpPr>
          <p:spPr>
            <a:xfrm>
              <a:off x="4861080" y="159372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95280" y="1593720"/>
            <a:ext cx="4321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华文仿宋"/>
              </a:rPr>
              <a:t>详细内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17520" y="6081840"/>
            <a:ext cx="58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Arial"/>
                <a:ea typeface="华文细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000" y="9360"/>
            <a:ext cx="148284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800" spc="-1" strike="noStrike">
                <a:solidFill>
                  <a:srgbClr val="eaeaea"/>
                </a:solidFill>
                <a:latin typeface="Arial Black"/>
              </a:rPr>
              <a:t>4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" y="404640"/>
            <a:ext cx="2470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  <a:ea typeface="华文细黑"/>
              </a:rPr>
              <a:t>组织应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33"/>
                </a:solidFill>
                <a:latin typeface="Arial"/>
                <a:ea typeface="华文行楷"/>
              </a:rPr>
              <a:t>预案演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861080" y="1593720"/>
            <a:ext cx="6120" cy="3716640"/>
            <a:chOff x="4861080" y="1593720"/>
            <a:chExt cx="6120" cy="3716640"/>
          </a:xfrm>
        </p:grpSpPr>
        <p:sp>
          <p:nvSpPr>
            <p:cNvPr id="167" name="44 Conector recto"/>
            <p:cNvSpPr/>
            <p:nvPr/>
          </p:nvSpPr>
          <p:spPr>
            <a:xfrm>
              <a:off x="4867200" y="159372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47 Conector recto"/>
            <p:cNvSpPr/>
            <p:nvPr/>
          </p:nvSpPr>
          <p:spPr>
            <a:xfrm>
              <a:off x="4861080" y="159372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95280" y="1722600"/>
            <a:ext cx="43210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仿宋_GB2312"/>
                <a:ea typeface="华文仿宋"/>
              </a:rPr>
              <a:t>详细文字内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7520" y="6081840"/>
            <a:ext cx="58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2b2b2"/>
                </a:solidFill>
                <a:latin typeface="Arial"/>
                <a:ea typeface="华文细黑"/>
              </a:rPr>
              <a:t>活 动 内 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24360" y="1924200"/>
            <a:ext cx="2448000" cy="2511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164360" y="6270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bdbdb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92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Arial"/>
                <a:ea typeface="华文细黑"/>
              </a:rPr>
              <a:t>汇报完毕</a:t>
            </a:r>
            <a:endParaRPr b="0" lang="en-US" sz="60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1:57:07Z</dcterms:created>
  <dc:creator/>
  <dc:description/>
  <dc:language>en-US</dc:language>
  <cp:lastModifiedBy/>
  <dcterms:modified xsi:type="dcterms:W3CDTF">2014-10-23T17:02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