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0ED5-E3DE-440C-8014-5272003A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BFF-B728-4A41-AFF8-61CB567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1E84-FB2E-495F-B751-2B9844C5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845-38FF-4186-B060-D91503F3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0280-5271-49B0-A0A6-59796CF4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639A-3CD8-4868-9B60-9C72038F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8FED-49EE-4EA2-8240-FFE0C062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7D30-4B24-4524-A5BB-F3754EFC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169B-408A-4F54-93E5-43455C89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37EA-B45D-475D-8CB1-3AEE889F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543-0FDF-425C-9307-46868857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F13-4C6B-4FB7-AE6D-BDAAA524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7001-A699-4BE6-A5B8-9A59E8A9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6DC-0BE6-4FDF-9519-89E221C5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A810-CA90-4619-A46F-2690D7BE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FE9E-7A00-4B8E-83EC-B6CC9A92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68812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19400" y="160020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68812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919400" y="3964320"/>
            <a:ext cx="2124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0012-6005-4057-A0FD-6583713C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67D-C1EA-4563-8DA9-BDFE4A45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D0B8-C036-400E-8B00-E2F3F368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662-81C2-4309-9490-D1ADE0BF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59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9C6-F9B0-41E8-904D-0E704C17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4FB-CC1C-4A65-889D-3CDFF314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838320" y="396432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C1C9-0F3B-4AEB-87C2-8BD5E901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38320" y="1600200"/>
            <a:ext cx="322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6599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A3F-52E1-4C99-A5B0-897CFF6C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a50021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1DD-3A44-4534-BFFA-660CE9EDEADF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80200" y="639720"/>
            <a:ext cx="1860480" cy="1720800"/>
            <a:chOff x="7180200" y="639720"/>
            <a:chExt cx="1860480" cy="1720800"/>
          </a:xfrm>
        </p:grpSpPr>
        <p:sp>
          <p:nvSpPr>
            <p:cNvPr id="6" name="未知"/>
            <p:cNvSpPr/>
            <p:nvPr/>
          </p:nvSpPr>
          <p:spPr>
            <a:xfrm flipH="1" rot="48000">
              <a:off x="7191720" y="65232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453800" y="947520"/>
              <a:ext cx="1475640" cy="764280"/>
              <a:chOff x="7453800" y="947520"/>
              <a:chExt cx="1475640" cy="764280"/>
            </a:xfrm>
          </p:grpSpPr>
          <p:sp>
            <p:nvSpPr>
              <p:cNvPr id="8" name="未知"/>
              <p:cNvSpPr/>
              <p:nvPr/>
            </p:nvSpPr>
            <p:spPr>
              <a:xfrm flipH="1" rot="48000">
                <a:off x="7892280" y="113148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453800" y="94752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326440" y="94752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"/>
          <p:cNvGrpSpPr/>
          <p:nvPr/>
        </p:nvGrpSpPr>
        <p:grpSpPr>
          <a:xfrm>
            <a:off x="7180200" y="2657520"/>
            <a:ext cx="1860480" cy="1720800"/>
            <a:chOff x="7180200" y="2657520"/>
            <a:chExt cx="1860480" cy="1720800"/>
          </a:xfrm>
        </p:grpSpPr>
        <p:sp>
          <p:nvSpPr>
            <p:cNvPr id="12" name="未知"/>
            <p:cNvSpPr/>
            <p:nvPr/>
          </p:nvSpPr>
          <p:spPr>
            <a:xfrm flipH="1" rot="48000">
              <a:off x="7191720" y="267012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7453800" y="2965320"/>
              <a:ext cx="1475640" cy="764280"/>
              <a:chOff x="7453800" y="2965320"/>
              <a:chExt cx="1475640" cy="764280"/>
            </a:xfrm>
          </p:grpSpPr>
          <p:sp>
            <p:nvSpPr>
              <p:cNvPr id="14" name="未知"/>
              <p:cNvSpPr/>
              <p:nvPr/>
            </p:nvSpPr>
            <p:spPr>
              <a:xfrm flipH="1" rot="48000">
                <a:off x="7892280" y="314928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453800" y="296532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326440" y="296532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  <p:grpSp>
        <p:nvGrpSpPr>
          <p:cNvPr id="17" name=""/>
          <p:cNvGrpSpPr/>
          <p:nvPr/>
        </p:nvGrpSpPr>
        <p:grpSpPr>
          <a:xfrm>
            <a:off x="7180200" y="4537080"/>
            <a:ext cx="1860480" cy="1720800"/>
            <a:chOff x="7180200" y="4537080"/>
            <a:chExt cx="1860480" cy="1720800"/>
          </a:xfrm>
        </p:grpSpPr>
        <p:sp>
          <p:nvSpPr>
            <p:cNvPr id="18" name="未知"/>
            <p:cNvSpPr/>
            <p:nvPr/>
          </p:nvSpPr>
          <p:spPr>
            <a:xfrm flipH="1" rot="48000">
              <a:off x="7191720" y="4549680"/>
              <a:ext cx="1836720" cy="169524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7453800" y="4844880"/>
              <a:ext cx="1475640" cy="764280"/>
              <a:chOff x="7453800" y="4844880"/>
              <a:chExt cx="1475640" cy="764280"/>
            </a:xfrm>
          </p:grpSpPr>
          <p:sp>
            <p:nvSpPr>
              <p:cNvPr id="20" name="未知"/>
              <p:cNvSpPr/>
              <p:nvPr/>
            </p:nvSpPr>
            <p:spPr>
              <a:xfrm flipH="1" rot="48000">
                <a:off x="7892280" y="5028840"/>
                <a:ext cx="419040" cy="441000"/>
              </a:xfrm>
              <a:custGeom>
                <a:avLst/>
                <a:gdLst/>
                <a:ahLst/>
                <a:rect l="l" t="t" r="r" b="b"/>
                <a:pathLst>
                  <a:path w="1723" h="1738">
                    <a:moveTo>
                      <a:pt x="1696" y="392"/>
                    </a:moveTo>
                    <a:lnTo>
                      <a:pt x="1696" y="392"/>
                    </a:lnTo>
                    <a:lnTo>
                      <a:pt x="1682" y="340"/>
                    </a:lnTo>
                    <a:lnTo>
                      <a:pt x="1664" y="290"/>
                    </a:lnTo>
                    <a:lnTo>
                      <a:pt x="1643" y="244"/>
                    </a:lnTo>
                    <a:lnTo>
                      <a:pt x="1618" y="200"/>
                    </a:lnTo>
                    <a:lnTo>
                      <a:pt x="1592" y="160"/>
                    </a:lnTo>
                    <a:lnTo>
                      <a:pt x="1562" y="122"/>
                    </a:lnTo>
                    <a:lnTo>
                      <a:pt x="1546" y="104"/>
                    </a:lnTo>
                    <a:lnTo>
                      <a:pt x="1530" y="88"/>
                    </a:lnTo>
                    <a:lnTo>
                      <a:pt x="1512" y="74"/>
                    </a:lnTo>
                    <a:lnTo>
                      <a:pt x="1494" y="60"/>
                    </a:lnTo>
                    <a:lnTo>
                      <a:pt x="1476" y="48"/>
                    </a:lnTo>
                    <a:lnTo>
                      <a:pt x="1459" y="36"/>
                    </a:lnTo>
                    <a:lnTo>
                      <a:pt x="1439" y="26"/>
                    </a:lnTo>
                    <a:lnTo>
                      <a:pt x="1421" y="18"/>
                    </a:lnTo>
                    <a:lnTo>
                      <a:pt x="1402" y="12"/>
                    </a:lnTo>
                    <a:lnTo>
                      <a:pt x="1381" y="6"/>
                    </a:lnTo>
                    <a:lnTo>
                      <a:pt x="1361" y="2"/>
                    </a:lnTo>
                    <a:lnTo>
                      <a:pt x="1340" y="0"/>
                    </a:lnTo>
                    <a:lnTo>
                      <a:pt x="1320" y="0"/>
                    </a:lnTo>
                    <a:lnTo>
                      <a:pt x="1299" y="2"/>
                    </a:lnTo>
                    <a:lnTo>
                      <a:pt x="1278" y="6"/>
                    </a:lnTo>
                    <a:lnTo>
                      <a:pt x="1256" y="10"/>
                    </a:lnTo>
                    <a:lnTo>
                      <a:pt x="1233" y="18"/>
                    </a:lnTo>
                    <a:lnTo>
                      <a:pt x="1212" y="26"/>
                    </a:lnTo>
                    <a:lnTo>
                      <a:pt x="1191" y="38"/>
                    </a:lnTo>
                    <a:lnTo>
                      <a:pt x="1169" y="50"/>
                    </a:lnTo>
                    <a:lnTo>
                      <a:pt x="1169" y="50"/>
                    </a:lnTo>
                    <a:lnTo>
                      <a:pt x="1114" y="88"/>
                    </a:lnTo>
                    <a:lnTo>
                      <a:pt x="1066" y="126"/>
                    </a:lnTo>
                    <a:lnTo>
                      <a:pt x="1022" y="164"/>
                    </a:lnTo>
                    <a:lnTo>
                      <a:pt x="981" y="202"/>
                    </a:lnTo>
                    <a:lnTo>
                      <a:pt x="946" y="240"/>
                    </a:lnTo>
                    <a:lnTo>
                      <a:pt x="914" y="276"/>
                    </a:lnTo>
                    <a:lnTo>
                      <a:pt x="885" y="310"/>
                    </a:lnTo>
                    <a:lnTo>
                      <a:pt x="862" y="340"/>
                    </a:lnTo>
                    <a:lnTo>
                      <a:pt x="862" y="340"/>
                    </a:lnTo>
                    <a:lnTo>
                      <a:pt x="839" y="310"/>
                    </a:lnTo>
                    <a:lnTo>
                      <a:pt x="811" y="276"/>
                    </a:lnTo>
                    <a:lnTo>
                      <a:pt x="779" y="240"/>
                    </a:lnTo>
                    <a:lnTo>
                      <a:pt x="743" y="202"/>
                    </a:lnTo>
                    <a:lnTo>
                      <a:pt x="703" y="164"/>
                    </a:lnTo>
                    <a:lnTo>
                      <a:pt x="658" y="126"/>
                    </a:lnTo>
                    <a:lnTo>
                      <a:pt x="609" y="88"/>
                    </a:lnTo>
                    <a:lnTo>
                      <a:pt x="555" y="50"/>
                    </a:lnTo>
                    <a:lnTo>
                      <a:pt x="555" y="50"/>
                    </a:lnTo>
                    <a:lnTo>
                      <a:pt x="534" y="38"/>
                    </a:lnTo>
                    <a:lnTo>
                      <a:pt x="511" y="26"/>
                    </a:lnTo>
                    <a:lnTo>
                      <a:pt x="490" y="16"/>
                    </a:lnTo>
                    <a:lnTo>
                      <a:pt x="468" y="10"/>
                    </a:lnTo>
                    <a:lnTo>
                      <a:pt x="447" y="4"/>
                    </a:lnTo>
                    <a:lnTo>
                      <a:pt x="426" y="2"/>
                    </a:lnTo>
                    <a:lnTo>
                      <a:pt x="405" y="0"/>
                    </a:lnTo>
                    <a:lnTo>
                      <a:pt x="383" y="0"/>
                    </a:lnTo>
                    <a:lnTo>
                      <a:pt x="364" y="2"/>
                    </a:lnTo>
                    <a:lnTo>
                      <a:pt x="342" y="6"/>
                    </a:lnTo>
                    <a:lnTo>
                      <a:pt x="323" y="12"/>
                    </a:lnTo>
                    <a:lnTo>
                      <a:pt x="303" y="18"/>
                    </a:lnTo>
                    <a:lnTo>
                      <a:pt x="284" y="26"/>
                    </a:lnTo>
                    <a:lnTo>
                      <a:pt x="266" y="36"/>
                    </a:lnTo>
                    <a:lnTo>
                      <a:pt x="247" y="48"/>
                    </a:lnTo>
                    <a:lnTo>
                      <a:pt x="229" y="60"/>
                    </a:lnTo>
                    <a:lnTo>
                      <a:pt x="211" y="74"/>
                    </a:lnTo>
                    <a:lnTo>
                      <a:pt x="195" y="88"/>
                    </a:lnTo>
                    <a:lnTo>
                      <a:pt x="177" y="104"/>
                    </a:lnTo>
                    <a:lnTo>
                      <a:pt x="163" y="122"/>
                    </a:lnTo>
                    <a:lnTo>
                      <a:pt x="133" y="158"/>
                    </a:lnTo>
                    <a:lnTo>
                      <a:pt x="105" y="200"/>
                    </a:lnTo>
                    <a:lnTo>
                      <a:pt x="82" y="244"/>
                    </a:lnTo>
                    <a:lnTo>
                      <a:pt x="60" y="290"/>
                    </a:lnTo>
                    <a:lnTo>
                      <a:pt x="43" y="340"/>
                    </a:lnTo>
                    <a:lnTo>
                      <a:pt x="28" y="390"/>
                    </a:lnTo>
                    <a:lnTo>
                      <a:pt x="28" y="390"/>
                    </a:lnTo>
                    <a:lnTo>
                      <a:pt x="14" y="456"/>
                    </a:lnTo>
                    <a:lnTo>
                      <a:pt x="5" y="516"/>
                    </a:lnTo>
                    <a:lnTo>
                      <a:pt x="2" y="546"/>
                    </a:lnTo>
                    <a:lnTo>
                      <a:pt x="2" y="574"/>
                    </a:lnTo>
                    <a:lnTo>
                      <a:pt x="0" y="600"/>
                    </a:lnTo>
                    <a:lnTo>
                      <a:pt x="2" y="628"/>
                    </a:lnTo>
                    <a:lnTo>
                      <a:pt x="4" y="654"/>
                    </a:lnTo>
                    <a:lnTo>
                      <a:pt x="7" y="678"/>
                    </a:lnTo>
                    <a:lnTo>
                      <a:pt x="11" y="704"/>
                    </a:lnTo>
                    <a:lnTo>
                      <a:pt x="16" y="728"/>
                    </a:lnTo>
                    <a:lnTo>
                      <a:pt x="28" y="776"/>
                    </a:lnTo>
                    <a:lnTo>
                      <a:pt x="44" y="824"/>
                    </a:lnTo>
                    <a:lnTo>
                      <a:pt x="66" y="870"/>
                    </a:lnTo>
                    <a:lnTo>
                      <a:pt x="89" y="918"/>
                    </a:lnTo>
                    <a:lnTo>
                      <a:pt x="117" y="964"/>
                    </a:lnTo>
                    <a:lnTo>
                      <a:pt x="147" y="1014"/>
                    </a:lnTo>
                    <a:lnTo>
                      <a:pt x="181" y="1064"/>
                    </a:lnTo>
                    <a:lnTo>
                      <a:pt x="216" y="1116"/>
                    </a:lnTo>
                    <a:lnTo>
                      <a:pt x="296" y="1228"/>
                    </a:lnTo>
                    <a:lnTo>
                      <a:pt x="296" y="1228"/>
                    </a:lnTo>
                    <a:lnTo>
                      <a:pt x="328" y="1272"/>
                    </a:lnTo>
                    <a:lnTo>
                      <a:pt x="364" y="1316"/>
                    </a:lnTo>
                    <a:lnTo>
                      <a:pt x="399" y="1358"/>
                    </a:lnTo>
                    <a:lnTo>
                      <a:pt x="438" y="1396"/>
                    </a:lnTo>
                    <a:lnTo>
                      <a:pt x="476" y="1436"/>
                    </a:lnTo>
                    <a:lnTo>
                      <a:pt x="515" y="1472"/>
                    </a:lnTo>
                    <a:lnTo>
                      <a:pt x="554" y="1506"/>
                    </a:lnTo>
                    <a:lnTo>
                      <a:pt x="593" y="1540"/>
                    </a:lnTo>
                    <a:lnTo>
                      <a:pt x="669" y="1600"/>
                    </a:lnTo>
                    <a:lnTo>
                      <a:pt x="740" y="1652"/>
                    </a:lnTo>
                    <a:lnTo>
                      <a:pt x="804" y="1696"/>
                    </a:lnTo>
                    <a:lnTo>
                      <a:pt x="857" y="1732"/>
                    </a:lnTo>
                    <a:lnTo>
                      <a:pt x="857" y="1738"/>
                    </a:lnTo>
                    <a:lnTo>
                      <a:pt x="857" y="1738"/>
                    </a:lnTo>
                    <a:lnTo>
                      <a:pt x="862" y="1734"/>
                    </a:lnTo>
                    <a:lnTo>
                      <a:pt x="862" y="1734"/>
                    </a:lnTo>
                    <a:lnTo>
                      <a:pt x="868" y="1738"/>
                    </a:lnTo>
                    <a:lnTo>
                      <a:pt x="868" y="1732"/>
                    </a:lnTo>
                    <a:lnTo>
                      <a:pt x="868" y="1732"/>
                    </a:lnTo>
                    <a:lnTo>
                      <a:pt x="921" y="1696"/>
                    </a:lnTo>
                    <a:lnTo>
                      <a:pt x="985" y="1654"/>
                    </a:lnTo>
                    <a:lnTo>
                      <a:pt x="1056" y="1600"/>
                    </a:lnTo>
                    <a:lnTo>
                      <a:pt x="1132" y="1540"/>
                    </a:lnTo>
                    <a:lnTo>
                      <a:pt x="1169" y="1508"/>
                    </a:lnTo>
                    <a:lnTo>
                      <a:pt x="1208" y="1472"/>
                    </a:lnTo>
                    <a:lnTo>
                      <a:pt x="1247" y="1436"/>
                    </a:lnTo>
                    <a:lnTo>
                      <a:pt x="1286" y="1398"/>
                    </a:lnTo>
                    <a:lnTo>
                      <a:pt x="1324" y="1358"/>
                    </a:lnTo>
                    <a:lnTo>
                      <a:pt x="1361" y="1316"/>
                    </a:lnTo>
                    <a:lnTo>
                      <a:pt x="1395" y="1274"/>
                    </a:lnTo>
                    <a:lnTo>
                      <a:pt x="1428" y="1228"/>
                    </a:lnTo>
                    <a:lnTo>
                      <a:pt x="1428" y="1228"/>
                    </a:lnTo>
                    <a:lnTo>
                      <a:pt x="1508" y="1116"/>
                    </a:lnTo>
                    <a:lnTo>
                      <a:pt x="1544" y="1064"/>
                    </a:lnTo>
                    <a:lnTo>
                      <a:pt x="1577" y="1014"/>
                    </a:lnTo>
                    <a:lnTo>
                      <a:pt x="1608" y="966"/>
                    </a:lnTo>
                    <a:lnTo>
                      <a:pt x="1634" y="918"/>
                    </a:lnTo>
                    <a:lnTo>
                      <a:pt x="1659" y="870"/>
                    </a:lnTo>
                    <a:lnTo>
                      <a:pt x="1679" y="824"/>
                    </a:lnTo>
                    <a:lnTo>
                      <a:pt x="1696" y="778"/>
                    </a:lnTo>
                    <a:lnTo>
                      <a:pt x="1709" y="728"/>
                    </a:lnTo>
                    <a:lnTo>
                      <a:pt x="1714" y="704"/>
                    </a:lnTo>
                    <a:lnTo>
                      <a:pt x="1718" y="680"/>
                    </a:lnTo>
                    <a:lnTo>
                      <a:pt x="1721" y="654"/>
                    </a:lnTo>
                    <a:lnTo>
                      <a:pt x="1723" y="628"/>
                    </a:lnTo>
                    <a:lnTo>
                      <a:pt x="1723" y="602"/>
                    </a:lnTo>
                    <a:lnTo>
                      <a:pt x="1723" y="574"/>
                    </a:lnTo>
                    <a:lnTo>
                      <a:pt x="1721" y="546"/>
                    </a:lnTo>
                    <a:lnTo>
                      <a:pt x="1719" y="516"/>
                    </a:lnTo>
                    <a:lnTo>
                      <a:pt x="1711" y="456"/>
                    </a:lnTo>
                    <a:lnTo>
                      <a:pt x="1696" y="392"/>
                    </a:lnTo>
                    <a:lnTo>
                      <a:pt x="1696" y="39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453800" y="4844880"/>
                <a:ext cx="398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I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326440" y="4844880"/>
                <a:ext cx="6030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4400" spc="-1" strike="noStrike">
                    <a:solidFill>
                      <a:srgbClr val="ffffff"/>
                    </a:solidFill>
                    <a:latin typeface="Verdana"/>
                  </a:rPr>
                  <a:t>U</a:t>
                </a:r>
                <a:endParaRPr b="0" lang="en-US" sz="44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F4D-A32B-41DE-9DC7-3CCE89991027}" type="slidenum"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未知"/>
          <p:cNvSpPr/>
          <p:nvPr/>
        </p:nvSpPr>
        <p:spPr>
          <a:xfrm flipH="1" rot="48000">
            <a:off x="2880360" y="2599920"/>
            <a:ext cx="3454200" cy="3214800"/>
          </a:xfrm>
          <a:custGeom>
            <a:avLst/>
            <a:gdLst/>
            <a:ahLst/>
            <a:rect l="l" t="t" r="r" b="b"/>
            <a:pathLst>
              <a:path w="1723" h="1738">
                <a:moveTo>
                  <a:pt x="1696" y="392"/>
                </a:moveTo>
                <a:lnTo>
                  <a:pt x="1696" y="392"/>
                </a:lnTo>
                <a:lnTo>
                  <a:pt x="1682" y="340"/>
                </a:lnTo>
                <a:lnTo>
                  <a:pt x="1664" y="290"/>
                </a:lnTo>
                <a:lnTo>
                  <a:pt x="1643" y="244"/>
                </a:lnTo>
                <a:lnTo>
                  <a:pt x="1618" y="200"/>
                </a:lnTo>
                <a:lnTo>
                  <a:pt x="1592" y="160"/>
                </a:lnTo>
                <a:lnTo>
                  <a:pt x="1562" y="122"/>
                </a:lnTo>
                <a:lnTo>
                  <a:pt x="1546" y="104"/>
                </a:lnTo>
                <a:lnTo>
                  <a:pt x="1530" y="88"/>
                </a:lnTo>
                <a:lnTo>
                  <a:pt x="1512" y="74"/>
                </a:lnTo>
                <a:lnTo>
                  <a:pt x="1494" y="60"/>
                </a:lnTo>
                <a:lnTo>
                  <a:pt x="1476" y="48"/>
                </a:lnTo>
                <a:lnTo>
                  <a:pt x="1459" y="36"/>
                </a:lnTo>
                <a:lnTo>
                  <a:pt x="1439" y="26"/>
                </a:lnTo>
                <a:lnTo>
                  <a:pt x="1421" y="18"/>
                </a:lnTo>
                <a:lnTo>
                  <a:pt x="1402" y="12"/>
                </a:lnTo>
                <a:lnTo>
                  <a:pt x="1381" y="6"/>
                </a:lnTo>
                <a:lnTo>
                  <a:pt x="1361" y="2"/>
                </a:lnTo>
                <a:lnTo>
                  <a:pt x="1340" y="0"/>
                </a:lnTo>
                <a:lnTo>
                  <a:pt x="1320" y="0"/>
                </a:lnTo>
                <a:lnTo>
                  <a:pt x="1299" y="2"/>
                </a:lnTo>
                <a:lnTo>
                  <a:pt x="1278" y="6"/>
                </a:lnTo>
                <a:lnTo>
                  <a:pt x="1256" y="10"/>
                </a:lnTo>
                <a:lnTo>
                  <a:pt x="1233" y="18"/>
                </a:lnTo>
                <a:lnTo>
                  <a:pt x="1212" y="26"/>
                </a:lnTo>
                <a:lnTo>
                  <a:pt x="1191" y="38"/>
                </a:lnTo>
                <a:lnTo>
                  <a:pt x="1169" y="50"/>
                </a:lnTo>
                <a:lnTo>
                  <a:pt x="1169" y="50"/>
                </a:lnTo>
                <a:lnTo>
                  <a:pt x="1114" y="88"/>
                </a:lnTo>
                <a:lnTo>
                  <a:pt x="1066" y="126"/>
                </a:lnTo>
                <a:lnTo>
                  <a:pt x="1022" y="164"/>
                </a:lnTo>
                <a:lnTo>
                  <a:pt x="981" y="202"/>
                </a:lnTo>
                <a:lnTo>
                  <a:pt x="946" y="240"/>
                </a:lnTo>
                <a:lnTo>
                  <a:pt x="914" y="276"/>
                </a:lnTo>
                <a:lnTo>
                  <a:pt x="885" y="310"/>
                </a:lnTo>
                <a:lnTo>
                  <a:pt x="862" y="340"/>
                </a:lnTo>
                <a:lnTo>
                  <a:pt x="862" y="340"/>
                </a:lnTo>
                <a:lnTo>
                  <a:pt x="839" y="310"/>
                </a:lnTo>
                <a:lnTo>
                  <a:pt x="811" y="276"/>
                </a:lnTo>
                <a:lnTo>
                  <a:pt x="779" y="240"/>
                </a:lnTo>
                <a:lnTo>
                  <a:pt x="743" y="202"/>
                </a:lnTo>
                <a:lnTo>
                  <a:pt x="703" y="164"/>
                </a:lnTo>
                <a:lnTo>
                  <a:pt x="658" y="126"/>
                </a:lnTo>
                <a:lnTo>
                  <a:pt x="609" y="88"/>
                </a:lnTo>
                <a:lnTo>
                  <a:pt x="555" y="50"/>
                </a:lnTo>
                <a:lnTo>
                  <a:pt x="555" y="50"/>
                </a:lnTo>
                <a:lnTo>
                  <a:pt x="534" y="38"/>
                </a:lnTo>
                <a:lnTo>
                  <a:pt x="511" y="26"/>
                </a:lnTo>
                <a:lnTo>
                  <a:pt x="490" y="16"/>
                </a:lnTo>
                <a:lnTo>
                  <a:pt x="468" y="10"/>
                </a:lnTo>
                <a:lnTo>
                  <a:pt x="447" y="4"/>
                </a:lnTo>
                <a:lnTo>
                  <a:pt x="426" y="2"/>
                </a:lnTo>
                <a:lnTo>
                  <a:pt x="405" y="0"/>
                </a:lnTo>
                <a:lnTo>
                  <a:pt x="383" y="0"/>
                </a:lnTo>
                <a:lnTo>
                  <a:pt x="364" y="2"/>
                </a:lnTo>
                <a:lnTo>
                  <a:pt x="342" y="6"/>
                </a:lnTo>
                <a:lnTo>
                  <a:pt x="323" y="12"/>
                </a:lnTo>
                <a:lnTo>
                  <a:pt x="303" y="18"/>
                </a:lnTo>
                <a:lnTo>
                  <a:pt x="284" y="26"/>
                </a:lnTo>
                <a:lnTo>
                  <a:pt x="266" y="36"/>
                </a:lnTo>
                <a:lnTo>
                  <a:pt x="247" y="48"/>
                </a:lnTo>
                <a:lnTo>
                  <a:pt x="229" y="60"/>
                </a:lnTo>
                <a:lnTo>
                  <a:pt x="211" y="74"/>
                </a:lnTo>
                <a:lnTo>
                  <a:pt x="195" y="88"/>
                </a:lnTo>
                <a:lnTo>
                  <a:pt x="177" y="104"/>
                </a:lnTo>
                <a:lnTo>
                  <a:pt x="163" y="122"/>
                </a:lnTo>
                <a:lnTo>
                  <a:pt x="133" y="158"/>
                </a:lnTo>
                <a:lnTo>
                  <a:pt x="105" y="200"/>
                </a:lnTo>
                <a:lnTo>
                  <a:pt x="82" y="244"/>
                </a:lnTo>
                <a:lnTo>
                  <a:pt x="60" y="290"/>
                </a:lnTo>
                <a:lnTo>
                  <a:pt x="43" y="340"/>
                </a:lnTo>
                <a:lnTo>
                  <a:pt x="28" y="390"/>
                </a:lnTo>
                <a:lnTo>
                  <a:pt x="28" y="390"/>
                </a:lnTo>
                <a:lnTo>
                  <a:pt x="14" y="456"/>
                </a:lnTo>
                <a:lnTo>
                  <a:pt x="5" y="516"/>
                </a:lnTo>
                <a:lnTo>
                  <a:pt x="2" y="546"/>
                </a:lnTo>
                <a:lnTo>
                  <a:pt x="2" y="574"/>
                </a:lnTo>
                <a:lnTo>
                  <a:pt x="0" y="600"/>
                </a:lnTo>
                <a:lnTo>
                  <a:pt x="2" y="628"/>
                </a:lnTo>
                <a:lnTo>
                  <a:pt x="4" y="654"/>
                </a:lnTo>
                <a:lnTo>
                  <a:pt x="7" y="678"/>
                </a:lnTo>
                <a:lnTo>
                  <a:pt x="11" y="704"/>
                </a:lnTo>
                <a:lnTo>
                  <a:pt x="16" y="728"/>
                </a:lnTo>
                <a:lnTo>
                  <a:pt x="28" y="776"/>
                </a:lnTo>
                <a:lnTo>
                  <a:pt x="44" y="824"/>
                </a:lnTo>
                <a:lnTo>
                  <a:pt x="66" y="870"/>
                </a:lnTo>
                <a:lnTo>
                  <a:pt x="89" y="918"/>
                </a:lnTo>
                <a:lnTo>
                  <a:pt x="117" y="964"/>
                </a:lnTo>
                <a:lnTo>
                  <a:pt x="147" y="1014"/>
                </a:lnTo>
                <a:lnTo>
                  <a:pt x="181" y="1064"/>
                </a:lnTo>
                <a:lnTo>
                  <a:pt x="216" y="1116"/>
                </a:lnTo>
                <a:lnTo>
                  <a:pt x="296" y="1228"/>
                </a:lnTo>
                <a:lnTo>
                  <a:pt x="296" y="1228"/>
                </a:lnTo>
                <a:lnTo>
                  <a:pt x="328" y="1272"/>
                </a:lnTo>
                <a:lnTo>
                  <a:pt x="364" y="1316"/>
                </a:lnTo>
                <a:lnTo>
                  <a:pt x="399" y="1358"/>
                </a:lnTo>
                <a:lnTo>
                  <a:pt x="438" y="1396"/>
                </a:lnTo>
                <a:lnTo>
                  <a:pt x="476" y="1436"/>
                </a:lnTo>
                <a:lnTo>
                  <a:pt x="515" y="1472"/>
                </a:lnTo>
                <a:lnTo>
                  <a:pt x="554" y="1506"/>
                </a:lnTo>
                <a:lnTo>
                  <a:pt x="593" y="1540"/>
                </a:lnTo>
                <a:lnTo>
                  <a:pt x="669" y="1600"/>
                </a:lnTo>
                <a:lnTo>
                  <a:pt x="740" y="1652"/>
                </a:lnTo>
                <a:lnTo>
                  <a:pt x="804" y="1696"/>
                </a:lnTo>
                <a:lnTo>
                  <a:pt x="857" y="1732"/>
                </a:lnTo>
                <a:lnTo>
                  <a:pt x="857" y="1738"/>
                </a:lnTo>
                <a:lnTo>
                  <a:pt x="857" y="1738"/>
                </a:lnTo>
                <a:lnTo>
                  <a:pt x="862" y="1734"/>
                </a:lnTo>
                <a:lnTo>
                  <a:pt x="862" y="1734"/>
                </a:lnTo>
                <a:lnTo>
                  <a:pt x="868" y="1738"/>
                </a:lnTo>
                <a:lnTo>
                  <a:pt x="868" y="1732"/>
                </a:lnTo>
                <a:lnTo>
                  <a:pt x="868" y="1732"/>
                </a:lnTo>
                <a:lnTo>
                  <a:pt x="921" y="1696"/>
                </a:lnTo>
                <a:lnTo>
                  <a:pt x="985" y="1654"/>
                </a:lnTo>
                <a:lnTo>
                  <a:pt x="1056" y="1600"/>
                </a:lnTo>
                <a:lnTo>
                  <a:pt x="1132" y="1540"/>
                </a:lnTo>
                <a:lnTo>
                  <a:pt x="1169" y="1508"/>
                </a:lnTo>
                <a:lnTo>
                  <a:pt x="1208" y="1472"/>
                </a:lnTo>
                <a:lnTo>
                  <a:pt x="1247" y="1436"/>
                </a:lnTo>
                <a:lnTo>
                  <a:pt x="1286" y="1398"/>
                </a:lnTo>
                <a:lnTo>
                  <a:pt x="1324" y="1358"/>
                </a:lnTo>
                <a:lnTo>
                  <a:pt x="1361" y="1316"/>
                </a:lnTo>
                <a:lnTo>
                  <a:pt x="1395" y="1274"/>
                </a:lnTo>
                <a:lnTo>
                  <a:pt x="1428" y="1228"/>
                </a:lnTo>
                <a:lnTo>
                  <a:pt x="1428" y="1228"/>
                </a:lnTo>
                <a:lnTo>
                  <a:pt x="1508" y="1116"/>
                </a:lnTo>
                <a:lnTo>
                  <a:pt x="1544" y="1064"/>
                </a:lnTo>
                <a:lnTo>
                  <a:pt x="1577" y="1014"/>
                </a:lnTo>
                <a:lnTo>
                  <a:pt x="1608" y="966"/>
                </a:lnTo>
                <a:lnTo>
                  <a:pt x="1634" y="918"/>
                </a:lnTo>
                <a:lnTo>
                  <a:pt x="1659" y="870"/>
                </a:lnTo>
                <a:lnTo>
                  <a:pt x="1679" y="824"/>
                </a:lnTo>
                <a:lnTo>
                  <a:pt x="1696" y="778"/>
                </a:lnTo>
                <a:lnTo>
                  <a:pt x="1709" y="728"/>
                </a:lnTo>
                <a:lnTo>
                  <a:pt x="1714" y="704"/>
                </a:lnTo>
                <a:lnTo>
                  <a:pt x="1718" y="680"/>
                </a:lnTo>
                <a:lnTo>
                  <a:pt x="1721" y="654"/>
                </a:lnTo>
                <a:lnTo>
                  <a:pt x="1723" y="628"/>
                </a:lnTo>
                <a:lnTo>
                  <a:pt x="1723" y="602"/>
                </a:lnTo>
                <a:lnTo>
                  <a:pt x="1723" y="574"/>
                </a:lnTo>
                <a:lnTo>
                  <a:pt x="1721" y="546"/>
                </a:lnTo>
                <a:lnTo>
                  <a:pt x="1719" y="516"/>
                </a:lnTo>
                <a:lnTo>
                  <a:pt x="1711" y="456"/>
                </a:lnTo>
                <a:lnTo>
                  <a:pt x="1696" y="392"/>
                </a:lnTo>
                <a:lnTo>
                  <a:pt x="1696" y="392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462840" y="3392640"/>
            <a:ext cx="2336040" cy="1191240"/>
            <a:chOff x="3462840" y="3392640"/>
            <a:chExt cx="2336040" cy="1191240"/>
          </a:xfrm>
        </p:grpSpPr>
        <p:sp>
          <p:nvSpPr>
            <p:cNvPr id="65" name="未知"/>
            <p:cNvSpPr/>
            <p:nvPr/>
          </p:nvSpPr>
          <p:spPr>
            <a:xfrm flipH="1" rot="48000">
              <a:off x="4141800" y="3698280"/>
              <a:ext cx="685800" cy="637920"/>
            </a:xfrm>
            <a:custGeom>
              <a:avLst/>
              <a:gdLst/>
              <a:ahLst/>
              <a:rect l="l" t="t" r="r" b="b"/>
              <a:pathLst>
                <a:path w="1723" h="1738">
                  <a:moveTo>
                    <a:pt x="1696" y="392"/>
                  </a:moveTo>
                  <a:lnTo>
                    <a:pt x="1696" y="392"/>
                  </a:lnTo>
                  <a:lnTo>
                    <a:pt x="1682" y="340"/>
                  </a:lnTo>
                  <a:lnTo>
                    <a:pt x="1664" y="290"/>
                  </a:lnTo>
                  <a:lnTo>
                    <a:pt x="1643" y="244"/>
                  </a:lnTo>
                  <a:lnTo>
                    <a:pt x="1618" y="200"/>
                  </a:lnTo>
                  <a:lnTo>
                    <a:pt x="1592" y="160"/>
                  </a:lnTo>
                  <a:lnTo>
                    <a:pt x="1562" y="122"/>
                  </a:lnTo>
                  <a:lnTo>
                    <a:pt x="1546" y="104"/>
                  </a:lnTo>
                  <a:lnTo>
                    <a:pt x="1530" y="88"/>
                  </a:lnTo>
                  <a:lnTo>
                    <a:pt x="1512" y="74"/>
                  </a:lnTo>
                  <a:lnTo>
                    <a:pt x="1494" y="60"/>
                  </a:lnTo>
                  <a:lnTo>
                    <a:pt x="1476" y="48"/>
                  </a:lnTo>
                  <a:lnTo>
                    <a:pt x="1459" y="36"/>
                  </a:lnTo>
                  <a:lnTo>
                    <a:pt x="1439" y="26"/>
                  </a:lnTo>
                  <a:lnTo>
                    <a:pt x="1421" y="18"/>
                  </a:lnTo>
                  <a:lnTo>
                    <a:pt x="1402" y="12"/>
                  </a:lnTo>
                  <a:lnTo>
                    <a:pt x="1381" y="6"/>
                  </a:lnTo>
                  <a:lnTo>
                    <a:pt x="1361" y="2"/>
                  </a:lnTo>
                  <a:lnTo>
                    <a:pt x="1340" y="0"/>
                  </a:lnTo>
                  <a:lnTo>
                    <a:pt x="1320" y="0"/>
                  </a:lnTo>
                  <a:lnTo>
                    <a:pt x="1299" y="2"/>
                  </a:lnTo>
                  <a:lnTo>
                    <a:pt x="1278" y="6"/>
                  </a:lnTo>
                  <a:lnTo>
                    <a:pt x="1256" y="10"/>
                  </a:lnTo>
                  <a:lnTo>
                    <a:pt x="1233" y="18"/>
                  </a:lnTo>
                  <a:lnTo>
                    <a:pt x="1212" y="26"/>
                  </a:lnTo>
                  <a:lnTo>
                    <a:pt x="1191" y="38"/>
                  </a:lnTo>
                  <a:lnTo>
                    <a:pt x="1169" y="50"/>
                  </a:lnTo>
                  <a:lnTo>
                    <a:pt x="1169" y="50"/>
                  </a:lnTo>
                  <a:lnTo>
                    <a:pt x="1114" y="88"/>
                  </a:lnTo>
                  <a:lnTo>
                    <a:pt x="1066" y="126"/>
                  </a:lnTo>
                  <a:lnTo>
                    <a:pt x="1022" y="164"/>
                  </a:lnTo>
                  <a:lnTo>
                    <a:pt x="981" y="202"/>
                  </a:lnTo>
                  <a:lnTo>
                    <a:pt x="946" y="240"/>
                  </a:lnTo>
                  <a:lnTo>
                    <a:pt x="914" y="276"/>
                  </a:lnTo>
                  <a:lnTo>
                    <a:pt x="885" y="310"/>
                  </a:lnTo>
                  <a:lnTo>
                    <a:pt x="862" y="340"/>
                  </a:lnTo>
                  <a:lnTo>
                    <a:pt x="862" y="340"/>
                  </a:lnTo>
                  <a:lnTo>
                    <a:pt x="839" y="310"/>
                  </a:lnTo>
                  <a:lnTo>
                    <a:pt x="811" y="276"/>
                  </a:lnTo>
                  <a:lnTo>
                    <a:pt x="779" y="240"/>
                  </a:lnTo>
                  <a:lnTo>
                    <a:pt x="743" y="202"/>
                  </a:lnTo>
                  <a:lnTo>
                    <a:pt x="703" y="164"/>
                  </a:lnTo>
                  <a:lnTo>
                    <a:pt x="658" y="126"/>
                  </a:lnTo>
                  <a:lnTo>
                    <a:pt x="609" y="88"/>
                  </a:lnTo>
                  <a:lnTo>
                    <a:pt x="555" y="50"/>
                  </a:lnTo>
                  <a:lnTo>
                    <a:pt x="555" y="50"/>
                  </a:lnTo>
                  <a:lnTo>
                    <a:pt x="534" y="38"/>
                  </a:lnTo>
                  <a:lnTo>
                    <a:pt x="511" y="26"/>
                  </a:lnTo>
                  <a:lnTo>
                    <a:pt x="490" y="16"/>
                  </a:lnTo>
                  <a:lnTo>
                    <a:pt x="468" y="10"/>
                  </a:lnTo>
                  <a:lnTo>
                    <a:pt x="447" y="4"/>
                  </a:lnTo>
                  <a:lnTo>
                    <a:pt x="426" y="2"/>
                  </a:lnTo>
                  <a:lnTo>
                    <a:pt x="405" y="0"/>
                  </a:lnTo>
                  <a:lnTo>
                    <a:pt x="383" y="0"/>
                  </a:lnTo>
                  <a:lnTo>
                    <a:pt x="364" y="2"/>
                  </a:lnTo>
                  <a:lnTo>
                    <a:pt x="342" y="6"/>
                  </a:lnTo>
                  <a:lnTo>
                    <a:pt x="323" y="12"/>
                  </a:lnTo>
                  <a:lnTo>
                    <a:pt x="303" y="18"/>
                  </a:lnTo>
                  <a:lnTo>
                    <a:pt x="284" y="26"/>
                  </a:lnTo>
                  <a:lnTo>
                    <a:pt x="266" y="36"/>
                  </a:lnTo>
                  <a:lnTo>
                    <a:pt x="247" y="48"/>
                  </a:lnTo>
                  <a:lnTo>
                    <a:pt x="229" y="60"/>
                  </a:lnTo>
                  <a:lnTo>
                    <a:pt x="211" y="74"/>
                  </a:lnTo>
                  <a:lnTo>
                    <a:pt x="195" y="88"/>
                  </a:lnTo>
                  <a:lnTo>
                    <a:pt x="177" y="104"/>
                  </a:lnTo>
                  <a:lnTo>
                    <a:pt x="163" y="122"/>
                  </a:lnTo>
                  <a:lnTo>
                    <a:pt x="133" y="158"/>
                  </a:lnTo>
                  <a:lnTo>
                    <a:pt x="105" y="200"/>
                  </a:lnTo>
                  <a:lnTo>
                    <a:pt x="82" y="244"/>
                  </a:lnTo>
                  <a:lnTo>
                    <a:pt x="60" y="290"/>
                  </a:lnTo>
                  <a:lnTo>
                    <a:pt x="43" y="340"/>
                  </a:lnTo>
                  <a:lnTo>
                    <a:pt x="28" y="390"/>
                  </a:lnTo>
                  <a:lnTo>
                    <a:pt x="28" y="390"/>
                  </a:lnTo>
                  <a:lnTo>
                    <a:pt x="14" y="456"/>
                  </a:lnTo>
                  <a:lnTo>
                    <a:pt x="5" y="516"/>
                  </a:lnTo>
                  <a:lnTo>
                    <a:pt x="2" y="546"/>
                  </a:lnTo>
                  <a:lnTo>
                    <a:pt x="2" y="574"/>
                  </a:lnTo>
                  <a:lnTo>
                    <a:pt x="0" y="600"/>
                  </a:lnTo>
                  <a:lnTo>
                    <a:pt x="2" y="628"/>
                  </a:lnTo>
                  <a:lnTo>
                    <a:pt x="4" y="654"/>
                  </a:lnTo>
                  <a:lnTo>
                    <a:pt x="7" y="678"/>
                  </a:lnTo>
                  <a:lnTo>
                    <a:pt x="11" y="704"/>
                  </a:lnTo>
                  <a:lnTo>
                    <a:pt x="16" y="728"/>
                  </a:lnTo>
                  <a:lnTo>
                    <a:pt x="28" y="776"/>
                  </a:lnTo>
                  <a:lnTo>
                    <a:pt x="44" y="824"/>
                  </a:lnTo>
                  <a:lnTo>
                    <a:pt x="66" y="870"/>
                  </a:lnTo>
                  <a:lnTo>
                    <a:pt x="89" y="918"/>
                  </a:lnTo>
                  <a:lnTo>
                    <a:pt x="117" y="964"/>
                  </a:lnTo>
                  <a:lnTo>
                    <a:pt x="147" y="1014"/>
                  </a:lnTo>
                  <a:lnTo>
                    <a:pt x="181" y="1064"/>
                  </a:lnTo>
                  <a:lnTo>
                    <a:pt x="216" y="1116"/>
                  </a:lnTo>
                  <a:lnTo>
                    <a:pt x="296" y="1228"/>
                  </a:lnTo>
                  <a:lnTo>
                    <a:pt x="296" y="1228"/>
                  </a:lnTo>
                  <a:lnTo>
                    <a:pt x="328" y="1272"/>
                  </a:lnTo>
                  <a:lnTo>
                    <a:pt x="364" y="1316"/>
                  </a:lnTo>
                  <a:lnTo>
                    <a:pt x="399" y="1358"/>
                  </a:lnTo>
                  <a:lnTo>
                    <a:pt x="438" y="1396"/>
                  </a:lnTo>
                  <a:lnTo>
                    <a:pt x="476" y="1436"/>
                  </a:lnTo>
                  <a:lnTo>
                    <a:pt x="515" y="1472"/>
                  </a:lnTo>
                  <a:lnTo>
                    <a:pt x="554" y="1506"/>
                  </a:lnTo>
                  <a:lnTo>
                    <a:pt x="593" y="1540"/>
                  </a:lnTo>
                  <a:lnTo>
                    <a:pt x="669" y="1600"/>
                  </a:lnTo>
                  <a:lnTo>
                    <a:pt x="740" y="1652"/>
                  </a:lnTo>
                  <a:lnTo>
                    <a:pt x="804" y="1696"/>
                  </a:lnTo>
                  <a:lnTo>
                    <a:pt x="857" y="1732"/>
                  </a:lnTo>
                  <a:lnTo>
                    <a:pt x="857" y="1738"/>
                  </a:lnTo>
                  <a:lnTo>
                    <a:pt x="857" y="1738"/>
                  </a:lnTo>
                  <a:lnTo>
                    <a:pt x="862" y="1734"/>
                  </a:lnTo>
                  <a:lnTo>
                    <a:pt x="862" y="1734"/>
                  </a:lnTo>
                  <a:lnTo>
                    <a:pt x="868" y="1738"/>
                  </a:lnTo>
                  <a:lnTo>
                    <a:pt x="868" y="1732"/>
                  </a:lnTo>
                  <a:lnTo>
                    <a:pt x="868" y="1732"/>
                  </a:lnTo>
                  <a:lnTo>
                    <a:pt x="921" y="1696"/>
                  </a:lnTo>
                  <a:lnTo>
                    <a:pt x="985" y="1654"/>
                  </a:lnTo>
                  <a:lnTo>
                    <a:pt x="1056" y="1600"/>
                  </a:lnTo>
                  <a:lnTo>
                    <a:pt x="1132" y="1540"/>
                  </a:lnTo>
                  <a:lnTo>
                    <a:pt x="1169" y="1508"/>
                  </a:lnTo>
                  <a:lnTo>
                    <a:pt x="1208" y="1472"/>
                  </a:lnTo>
                  <a:lnTo>
                    <a:pt x="1247" y="1436"/>
                  </a:lnTo>
                  <a:lnTo>
                    <a:pt x="1286" y="1398"/>
                  </a:lnTo>
                  <a:lnTo>
                    <a:pt x="1324" y="1358"/>
                  </a:lnTo>
                  <a:lnTo>
                    <a:pt x="1361" y="1316"/>
                  </a:lnTo>
                  <a:lnTo>
                    <a:pt x="1395" y="1274"/>
                  </a:lnTo>
                  <a:lnTo>
                    <a:pt x="1428" y="1228"/>
                  </a:lnTo>
                  <a:lnTo>
                    <a:pt x="1428" y="1228"/>
                  </a:lnTo>
                  <a:lnTo>
                    <a:pt x="1508" y="1116"/>
                  </a:lnTo>
                  <a:lnTo>
                    <a:pt x="1544" y="1064"/>
                  </a:lnTo>
                  <a:lnTo>
                    <a:pt x="1577" y="1014"/>
                  </a:lnTo>
                  <a:lnTo>
                    <a:pt x="1608" y="966"/>
                  </a:lnTo>
                  <a:lnTo>
                    <a:pt x="1634" y="918"/>
                  </a:lnTo>
                  <a:lnTo>
                    <a:pt x="1659" y="870"/>
                  </a:lnTo>
                  <a:lnTo>
                    <a:pt x="1679" y="824"/>
                  </a:lnTo>
                  <a:lnTo>
                    <a:pt x="1696" y="778"/>
                  </a:lnTo>
                  <a:lnTo>
                    <a:pt x="1709" y="728"/>
                  </a:lnTo>
                  <a:lnTo>
                    <a:pt x="1714" y="704"/>
                  </a:lnTo>
                  <a:lnTo>
                    <a:pt x="1718" y="680"/>
                  </a:lnTo>
                  <a:lnTo>
                    <a:pt x="1721" y="654"/>
                  </a:lnTo>
                  <a:lnTo>
                    <a:pt x="1723" y="628"/>
                  </a:lnTo>
                  <a:lnTo>
                    <a:pt x="1723" y="602"/>
                  </a:lnTo>
                  <a:lnTo>
                    <a:pt x="1723" y="574"/>
                  </a:lnTo>
                  <a:lnTo>
                    <a:pt x="1721" y="546"/>
                  </a:lnTo>
                  <a:lnTo>
                    <a:pt x="1719" y="516"/>
                  </a:lnTo>
                  <a:lnTo>
                    <a:pt x="1711" y="456"/>
                  </a:lnTo>
                  <a:lnTo>
                    <a:pt x="1696" y="392"/>
                  </a:lnTo>
                  <a:lnTo>
                    <a:pt x="1696" y="3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62840" y="3392640"/>
              <a:ext cx="53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200" spc="-1" strike="noStrike">
                  <a:solidFill>
                    <a:srgbClr val="ffffff"/>
                  </a:solidFill>
                  <a:latin typeface="Verdana"/>
                </a:rPr>
                <a:t>I</a:t>
              </a:r>
              <a:endParaRPr b="0" lang="en-US" sz="72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26240" y="3392640"/>
              <a:ext cx="872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7200" spc="-1" strike="noStrike">
                  <a:solidFill>
                    <a:srgbClr val="ffffff"/>
                  </a:solidFill>
                  <a:latin typeface="Verdana"/>
                </a:rPr>
                <a:t>U</a:t>
              </a:r>
              <a:endParaRPr b="0" lang="en-US" sz="7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a50021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a50021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a50021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a50021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a50021"/>
                </a:solidFill>
                <a:latin typeface="Times New Roman"/>
                <a:ea typeface="宋体"/>
              </a:rPr>
              <a:t>I Love You</a:t>
            </a:r>
            <a:endParaRPr b="0" lang="en-US" sz="96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a50021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a50021"/>
                </a:solidFill>
                <a:latin typeface="Arial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a5002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你还记得我们什么时候遇见？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59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时间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Verdana"/>
                <a:ea typeface="宋体"/>
              </a:rPr>
              <a:t>地点</a:t>
            </a:r>
            <a:endParaRPr b="0" lang="en-US" sz="28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感情色调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241720"/>
            <a:ext cx="9144000" cy="4616280"/>
          </a:xfrm>
          <a:prstGeom prst="rect">
            <a:avLst/>
          </a:prstGeom>
          <a:solidFill>
            <a:srgbClr val="fffffe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30280" y="3322800"/>
            <a:ext cx="82728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6680" y="3322800"/>
            <a:ext cx="826920" cy="610920"/>
          </a:xfrm>
          <a:prstGeom prst="rect">
            <a:avLst/>
          </a:prstGeom>
          <a:solidFill>
            <a:srgbClr val="808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35360" y="3322800"/>
            <a:ext cx="827280" cy="610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03840" y="3322800"/>
            <a:ext cx="827280" cy="610920"/>
          </a:xfrm>
          <a:prstGeom prst="rect">
            <a:avLst/>
          </a:prstGeom>
          <a:solidFill>
            <a:srgbClr val="cc0066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7232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2240" y="3322800"/>
            <a:ext cx="826920" cy="610920"/>
          </a:xfrm>
          <a:prstGeom prst="rect">
            <a:avLst/>
          </a:prstGeom>
          <a:solidFill>
            <a:srgbClr val="800080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67240" y="3322800"/>
            <a:ext cx="826920" cy="610920"/>
          </a:xfrm>
          <a:prstGeom prst="rect">
            <a:avLst/>
          </a:prstGeom>
          <a:solidFill>
            <a:srgbClr val="a50021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1800" y="3322800"/>
            <a:ext cx="827280" cy="61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4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白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40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79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灰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6812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76480" y="2682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浅粉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1444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粉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62400" y="26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红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042760" y="2682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紫色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照片墙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地点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照片说明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2093760" cy="352872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恋爱那些大事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31640" y="1916280"/>
          <a:ext cx="6229440" cy="3262320"/>
        </p:xfrm>
        <a:graphic>
          <a:graphicData uri="http://schemas.openxmlformats.org/drawingml/2006/table">
            <a:tbl>
              <a:tblPr/>
              <a:tblGrid>
                <a:gridCol w="3114720"/>
                <a:gridCol w="3114720"/>
              </a:tblGrid>
              <a:tr h="51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solidFill>
                      <a:srgbClr val="a50021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心情起伏表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2360" y="1873080"/>
            <a:ext cx="673272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你眼中的我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3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ta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178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你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我们的纪念日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60920" cy="452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宋体"/>
              </a:rPr>
              <a:t>相识第一天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50021"/>
                </a:solidFill>
                <a:uFillTx/>
                <a:latin typeface="Verdana"/>
                <a:ea typeface="宋体"/>
              </a:rPr>
              <a:t>相恋第一天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800080"/>
                </a:solidFill>
                <a:uFillTx/>
                <a:latin typeface="Verdana"/>
                <a:ea typeface="宋体"/>
              </a:rPr>
              <a:t>恋爱纪念日</a:t>
            </a:r>
            <a:endParaRPr b="0" lang="en-US" sz="2400" spc="-1" strike="noStrike">
              <a:solidFill>
                <a:srgbClr val="a50021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457880" y="1781280"/>
          <a:ext cx="2543040" cy="1614240"/>
        </p:xfrm>
        <a:graphic>
          <a:graphicData uri="http://schemas.openxmlformats.org/drawingml/2006/table">
            <a:tbl>
              <a:tblPr/>
              <a:tblGrid>
                <a:gridCol w="1271520"/>
                <a:gridCol w="12715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a50021"/>
                          </a:solidFill>
                          <a:latin typeface="Verdana"/>
                          <a:ea typeface="宋体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1368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a50021"/>
                      </a:solidFill>
                    </a:lnL>
                    <a:lnR w="576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a500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50021"/>
                      </a:solidFill>
                    </a:lnL>
                    <a:lnR w="13680">
                      <a:solidFill>
                        <a:srgbClr val="a50021"/>
                      </a:solidFill>
                    </a:lnR>
                    <a:lnT w="5760">
                      <a:solidFill>
                        <a:srgbClr val="a50021"/>
                      </a:solidFill>
                    </a:lnT>
                    <a:lnB w="1368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792000" y="5253120"/>
            <a:ext cx="223236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  <a:ea typeface="宋体"/>
              </a:rPr>
              <a:t>最深刻的事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72000" y="5253120"/>
            <a:ext cx="2232000" cy="1368360"/>
          </a:xfrm>
          <a:prstGeom prst="rect">
            <a:avLst/>
          </a:prstGeom>
          <a:solidFill>
            <a:srgbClr val="ffccff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  <a:ea typeface="宋体"/>
              </a:rPr>
              <a:t>最深刻的事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51280" y="2313000"/>
            <a:ext cx="460440" cy="1440"/>
          </a:xfrm>
          <a:prstGeom prst="line">
            <a:avLst/>
          </a:prstGeom>
          <a:ln w="1260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a5002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9640" y="1268280"/>
            <a:ext cx="8209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祝福</a:t>
            </a:r>
            <a:endParaRPr b="0" lang="en-US" sz="3200" spc="-1" strike="noStrike">
              <a:solidFill>
                <a:srgbClr val="a50021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1150920" y="1463760"/>
            <a:ext cx="69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朋友们的祝福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50920" y="3139920"/>
            <a:ext cx="3409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陌生人的祝福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95680" y="3139920"/>
            <a:ext cx="36403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a50021"/>
                </a:solidFill>
                <a:uFillTx/>
                <a:latin typeface="Arial"/>
                <a:ea typeface="宋体"/>
              </a:rPr>
              <a:t>邻居的祝福</a:t>
            </a:r>
            <a:endParaRPr b="0" lang="en-US" sz="16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42920" y="5423040"/>
            <a:ext cx="71643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50021"/>
                </a:solidFill>
                <a:latin typeface="Arial"/>
                <a:ea typeface="宋体"/>
              </a:rPr>
              <a:t>你的祝福</a:t>
            </a: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50920" y="2360520"/>
            <a:ext cx="692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Arial"/>
                <a:ea typeface="宋体"/>
              </a:rPr>
              <a:t>亲人的祝福</a:t>
            </a:r>
            <a:endParaRPr b="0" lang="en-US" sz="1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a50021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20:03:18Z</dcterms:created>
  <dc:creator>Presentation Magazine</dc:creator>
  <dc:description/>
  <dc:language>en-US</dc:language>
  <cp:lastModifiedBy>Jonty Pearce</cp:lastModifiedBy>
  <cp:lastPrinted>1899-12-30T00:00:00Z</cp:lastPrinted>
  <dcterms:modified xsi:type="dcterms:W3CDTF">2014-06-03T05:41:51Z</dcterms:modified>
  <cp:revision>3</cp:revision>
  <dc:subject/>
  <dc:title>Hearts 4 I Love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