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8DE-E68B-4B72-9040-F6916002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75438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3853800"/>
            <a:ext cx="75438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AAF-35E4-47AA-9EFD-76CB82CD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385380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8360" y="385380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37D8-716F-4976-B11D-815EC096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3280" y="146808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44240" y="146808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385380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3280" y="385380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44240" y="3853800"/>
            <a:ext cx="2428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889-A5B3-4DD9-B1EA-BDC8241B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6E4-0CE0-4B72-A148-DF829918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38A-3075-4856-B739-86BE65DF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DE1-5722-4C40-978A-A42079D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5199-E9D8-4259-A4DB-6A533988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777960"/>
            <a:ext cx="75438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F796-6C9C-4B5F-B02F-90E22372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385380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3F6-D09A-45DA-8584-1424BB6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8360" y="385380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9AE0-2444-4FD9-A803-D03729BD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8360" y="1468080"/>
            <a:ext cx="36813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3853800"/>
            <a:ext cx="754380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3E5-D40E-4677-858E-038FA418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5528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A5CF-A811-45F9-9E46-66201ADBD002}" type="datetime">
              <a:rPr b="0" lang="zh-CN" sz="1200" spc="-1" strike="noStrike">
                <a:solidFill>
                  <a:srgbClr val="7f7f7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2280" y="61653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165360" y="61653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4F36-DE40-435E-8AE2-9C688B7EB542}" type="slidenum">
              <a:rPr b="0" lang="zh-CN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9"/>
          <p:cNvSpPr/>
          <p:nvPr/>
        </p:nvSpPr>
        <p:spPr>
          <a:xfrm>
            <a:off x="755640" y="777960"/>
            <a:ext cx="7543800" cy="5257800"/>
          </a:xfrm>
          <a:prstGeom prst="rect">
            <a:avLst/>
          </a:prstGeom>
          <a:solidFill>
            <a:srgbClr val="ffffff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1" marL="457200" indent="4572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2" marL="9144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3" marL="1371600" indent="-4572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4" marL="1828800" indent="-914400">
              <a:spcBef>
                <a:spcPts val="45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7" name="椭圆 8">
            <a:hlinkClick r:id="" action="ppaction://hlinkshowjump?jump=firstslide"/>
          </p:cNvPr>
          <p:cNvSpPr/>
          <p:nvPr/>
        </p:nvSpPr>
        <p:spPr>
          <a:xfrm>
            <a:off x="8461440" y="3200400"/>
            <a:ext cx="419040" cy="4190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756144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Verdana"/>
              </a:rPr>
              <a:t>点击此处添加标题</a:t>
            </a:r>
            <a:endParaRPr b="0" lang="en-US" sz="40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52040" y="3428640"/>
            <a:ext cx="7566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f3f3f"/>
                </a:solidFill>
                <a:latin typeface="Verdana"/>
              </a:rPr>
              <a:t>点击此处添加副标题</a:t>
            </a: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739800" y="5667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2680" y="777960"/>
            <a:ext cx="75438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2680" y="1468080"/>
            <a:ext cx="75438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/>
  <dc:description/>
  <dc:language>en-US</dc:language>
  <cp:lastModifiedBy>ilovePPT.ORG</cp:lastModifiedBy>
  <dcterms:modified xsi:type="dcterms:W3CDTF">2014-10-23T16:51:47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