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4229-41AD-40A2-9985-A006CCE1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823-BF7F-4B2B-B6E8-273F8C70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DF0-44E9-4CBE-BB9B-7468E03E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0CF-EBC5-40EB-9F0C-A1FF8F21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BBB-15C8-48A7-9856-6C612050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390-7CEE-47AF-B209-814D407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9C88-F30C-47F4-83F9-EEF6472A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B756-52BF-43D8-8C48-9D718384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C4E-2205-4A49-836F-8CEFF09D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E5B-CF8A-4B76-AFBB-AB9E0B77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7864-F269-4994-928B-1B830F77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AF3-7CF5-47E1-A144-0F02BC7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C90-6D56-478D-8728-B2819CD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825-AEA9-4BCA-B13C-CA8885E2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F77F-1ACB-4ED5-B094-50AE7DC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022-198A-4E2E-AD2B-CBBB4559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6267-1435-4724-BAF8-90CD9418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CE8-A837-4D3C-83BA-60A7E903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D6B-9841-4A1E-8AAC-7FEBCC6E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2C9-0872-49B6-8BA3-8EEC54CC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A19-EDA8-45E3-80E0-2B7D422F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BB1-F639-44FA-8B8C-390E6145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73F-7EF5-4490-A681-090A88E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BA8-721A-42EA-888F-DE516A1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E88F-E0C2-4421-AD68-4DEAA13E5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64000" y="2205000"/>
            <a:ext cx="36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4BFA-5491-4C55-8DE1-09A0A383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64000" y="2205000"/>
            <a:ext cx="367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65800" y="3717720"/>
            <a:ext cx="367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9212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82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53:02Z</dcterms:created>
  <dc:creator>Administrator</dc:creator>
  <dc:description/>
  <dc:language>en-US</dc:language>
  <cp:lastModifiedBy/>
  <cp:lastPrinted>1899-12-30T00:00:00Z</cp:lastPrinted>
  <dcterms:modified xsi:type="dcterms:W3CDTF">2014-06-05T07:45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