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280" y="362376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436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420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48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28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420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48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7237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436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280" y="362376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436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420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480" y="76464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28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420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480" y="3623760"/>
            <a:ext cx="23644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7237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4360" y="362376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78840"/>
            <a:ext cx="723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4360" y="764640"/>
            <a:ext cx="35834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280" y="3623760"/>
            <a:ext cx="73436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23744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23744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280" y="764640"/>
            <a:ext cx="73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7280" y="1483920"/>
            <a:ext cx="468144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067280" y="2421000"/>
            <a:ext cx="41767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78" name=""/>
          <p:cNvSpPr/>
          <p:nvPr/>
        </p:nvSpPr>
        <p:spPr>
          <a:xfrm>
            <a:off x="249840" y="623736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70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1" name=""/>
          <p:cNvSpPr/>
          <p:nvPr/>
        </p:nvSpPr>
        <p:spPr>
          <a:xfrm>
            <a:off x="251496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47d7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47d7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747d7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747d7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king</cp:lastModifiedBy>
  <cp:lastPrinted>1899-12-30T00:00:00Z</cp:lastPrinted>
  <dcterms:modified xsi:type="dcterms:W3CDTF">2014-05-24T01:47:26Z</dcterms:modified>
  <cp:revision>8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