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81E-8BE6-4C4F-A1C1-FE1377B8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91B-ED6F-4E4C-B725-623FCAED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36C-B15D-4968-BA95-09B52084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B99A-1CD7-4CC4-BE80-42BF0670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A427-46CC-400B-9891-C64B6856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9000-E053-457C-8CED-36666E0A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591-7973-4A92-9D34-26EE31DC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D19-1A5C-4B0A-B4CA-85795E8D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408-F298-4F10-B04F-4B5FAB76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D7A-0CC9-4728-91A3-7110EEBB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717-6815-4D07-A8D5-52D94461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0D23-75AE-474D-90F0-4D2A3E63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3F1F-878E-4135-9A65-1573EE61D9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hyperlink" Target="http://www.eeppt.com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9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0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1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2" descr="1.1.1.4.png"/>
          <p:cNvPicPr/>
          <p:nvPr/>
        </p:nvPicPr>
        <p:blipFill>
          <a:blip r:embed="rId4"/>
          <a:srcRect l="30469" t="33333" r="46094" b="25002"/>
          <a:stretch/>
        </p:blipFill>
        <p:spPr>
          <a:xfrm>
            <a:off x="2786040" y="2571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3" descr="1.1.1.5.png"/>
          <p:cNvPicPr/>
          <p:nvPr/>
        </p:nvPicPr>
        <p:blipFill>
          <a:blip r:embed="rId5"/>
          <a:srcRect l="50001" t="51389" r="30469" b="5557"/>
          <a:stretch/>
        </p:blipFill>
        <p:spPr>
          <a:xfrm>
            <a:off x="4572000" y="3500280"/>
            <a:ext cx="1785960" cy="22147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4" descr="1.1.1.5.png"/>
          <p:cNvPicPr/>
          <p:nvPr/>
        </p:nvPicPr>
        <p:blipFill>
          <a:blip r:embed="rId6"/>
          <a:srcRect l="67188" t="51389" r="0" b="0"/>
          <a:stretch/>
        </p:blipFill>
        <p:spPr>
          <a:xfrm>
            <a:off x="6143760" y="3500280"/>
            <a:ext cx="3000240" cy="25005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5" descr="1.1.1.7.png"/>
          <p:cNvPicPr/>
          <p:nvPr/>
        </p:nvPicPr>
        <p:blipFill>
          <a:blip r:embed="rId7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6" descr="1.1.1.8.png"/>
          <p:cNvPicPr/>
          <p:nvPr/>
        </p:nvPicPr>
        <p:blipFill>
          <a:blip r:embed="rId8"/>
          <a:srcRect l="41407" t="81947" r="53906" b="9721"/>
          <a:stretch/>
        </p:blipFill>
        <p:spPr>
          <a:xfrm>
            <a:off x="5143680" y="507204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49" name="锐得PPT1" descr="1.1.1.9.png"/>
          <p:cNvPicPr/>
          <p:nvPr/>
        </p:nvPicPr>
        <p:blipFill>
          <a:blip r:embed="rId9"/>
          <a:srcRect l="36719" t="44447" r="36719" b="20834"/>
          <a:stretch/>
        </p:blipFill>
        <p:spPr>
          <a:xfrm>
            <a:off x="3357720" y="3143160"/>
            <a:ext cx="242856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锐得PPT" descr="1.1.2.2.png"/>
          <p:cNvPicPr/>
          <p:nvPr/>
        </p:nvPicPr>
        <p:blipFill>
          <a:blip r:embed="rId10"/>
          <a:srcRect l="37500" t="38890" r="35937" b="18056"/>
          <a:stretch/>
        </p:blipFill>
        <p:spPr>
          <a:xfrm>
            <a:off x="3429000" y="285768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9" descr="1.1.2.1.png"/>
          <p:cNvPicPr/>
          <p:nvPr/>
        </p:nvPicPr>
        <p:blipFill>
          <a:blip r:embed="rId11"/>
          <a:srcRect l="36719" t="52778" r="56250" b="31944"/>
          <a:stretch/>
        </p:blipFill>
        <p:spPr>
          <a:xfrm>
            <a:off x="3357720" y="3571920"/>
            <a:ext cx="642960" cy="7858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0" descr="1.1.1.7.png"/>
          <p:cNvPicPr/>
          <p:nvPr/>
        </p:nvPicPr>
        <p:blipFill>
          <a:blip r:embed="rId12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1" descr="1.1.1.7.png"/>
          <p:cNvPicPr/>
          <p:nvPr/>
        </p:nvPicPr>
        <p:blipFill>
          <a:blip r:embed="rId13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2" descr="1.1.1.7.png"/>
          <p:cNvPicPr/>
          <p:nvPr/>
        </p:nvPicPr>
        <p:blipFill>
          <a:blip r:embed="rId14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43" descr="1.1.1.7.png"/>
          <p:cNvPicPr/>
          <p:nvPr/>
        </p:nvPicPr>
        <p:blipFill>
          <a:blip r:embed="rId15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4" descr="1.1.1.7.png"/>
          <p:cNvPicPr/>
          <p:nvPr/>
        </p:nvPicPr>
        <p:blipFill>
          <a:blip r:embed="rId16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5" descr="1.1.1.7.png"/>
          <p:cNvPicPr/>
          <p:nvPr/>
        </p:nvPicPr>
        <p:blipFill>
          <a:blip r:embed="rId17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6" descr="1.1.1.7.png"/>
          <p:cNvPicPr/>
          <p:nvPr/>
        </p:nvPicPr>
        <p:blipFill>
          <a:blip r:embed="rId18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7" descr="1.1.1.7.png"/>
          <p:cNvPicPr/>
          <p:nvPr/>
        </p:nvPicPr>
        <p:blipFill>
          <a:blip r:embed="rId19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8" descr="1.1.1.8.png"/>
          <p:cNvPicPr/>
          <p:nvPr/>
        </p:nvPicPr>
        <p:blipFill>
          <a:blip r:embed="rId20"/>
          <a:srcRect l="5468" t="66670" r="89845" b="22223"/>
          <a:stretch/>
        </p:blipFill>
        <p:spPr>
          <a:xfrm>
            <a:off x="500040" y="4286160"/>
            <a:ext cx="42876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9" descr="1.1.1.8.png"/>
          <p:cNvPicPr/>
          <p:nvPr/>
        </p:nvPicPr>
        <p:blipFill>
          <a:blip r:embed="rId21"/>
          <a:srcRect l="75789" t="45836" r="19524" b="45833"/>
          <a:stretch/>
        </p:blipFill>
        <p:spPr>
          <a:xfrm>
            <a:off x="3786120" y="507204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50" descr="1.1.1.8.png"/>
          <p:cNvPicPr/>
          <p:nvPr/>
        </p:nvPicPr>
        <p:blipFill>
          <a:blip r:embed="rId22"/>
          <a:srcRect l="80477" t="66670" r="15617" b="26391"/>
          <a:stretch/>
        </p:blipFill>
        <p:spPr>
          <a:xfrm>
            <a:off x="7358040" y="4286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1" descr="1.1.1.8.png"/>
          <p:cNvPicPr/>
          <p:nvPr/>
        </p:nvPicPr>
        <p:blipFill>
          <a:blip r:embed="rId23"/>
          <a:srcRect l="22652" t="81947" r="71880" b="9721"/>
          <a:stretch/>
        </p:blipFill>
        <p:spPr>
          <a:xfrm>
            <a:off x="2071800" y="5072040"/>
            <a:ext cx="500040" cy="4287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2" descr="1.1.1.8.png"/>
          <p:cNvPicPr/>
          <p:nvPr/>
        </p:nvPicPr>
        <p:blipFill>
          <a:blip r:embed="rId24"/>
          <a:srcRect l="5468" t="66670" r="89845" b="22223"/>
          <a:stretch/>
        </p:blipFill>
        <p:spPr>
          <a:xfrm>
            <a:off x="1557360" y="5140440"/>
            <a:ext cx="503280" cy="6714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3" descr="1.1.1.8.png"/>
          <p:cNvPicPr/>
          <p:nvPr/>
        </p:nvPicPr>
        <p:blipFill>
          <a:blip r:embed="rId25"/>
          <a:srcRect l="22652" t="81947" r="71880" b="9721"/>
          <a:stretch/>
        </p:blipFill>
        <p:spPr>
          <a:xfrm>
            <a:off x="8448840" y="4540320"/>
            <a:ext cx="539640" cy="46332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55" descr=""/>
          <p:cNvPicPr/>
          <p:nvPr/>
        </p:nvPicPr>
        <p:blipFill>
          <a:blip r:embed="rId26"/>
          <a:stretch/>
        </p:blipFill>
        <p:spPr>
          <a:xfrm>
            <a:off x="3773520" y="3376440"/>
            <a:ext cx="1676520" cy="909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32760" y="62373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9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9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9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9" presetSubtype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27552 -0.64662 C -0.24306 -0.60823 -0.21059 -0.56961 -0.19393 -0.50809 C -0.17726 -0.44658 -0.19115 -0.33927 -0.17552 -0.27706 C -0.1599 -0.21508 -0.129 -0.18987 -0.1 -0.13575 C -0.07101 -0.08164 -0.02188 0.00948 -0.00139 0.04764 E">
                                      <p:cBhvr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20608 -0.54068 C 0.21337 -0.50069 0.22066 -0.46047 0.20608 -0.40199 C 0.19149 -0.3435 0.14635 -0.25774 0.1184 -0.19024 C 0.09045 -0.12274 0.05851 -0.02889 0.03872 0.00278 C 0.01892 0.03445 0.00938 0.01711 4.44444E-006 -6.14887E-007 E">
                                      <p:cBhvr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03889 -0.31753 C 0.03767 -0.32401 0.03646 -0.35384 0.03177 -0.35615 C 0.02708 -0.35846 0.01927 -0.33973 0.01024 -0.33094 C 0.00122 -0.32216 -0.01424 -0.31845 -0.0224 -0.30389 C -0.03056 -0.28932 -0.04149 -0.27613 -0.03872 -0.24399 C -0.03594 -0.21207 -0.01215 -0.14986 -0.00608 -0.11101 C 5.55111512312578E-017 -0.07216 -0.00104 -0.0414 -0.00191 -0.01041 E">
                                      <p:cBhvr>
                                        <p:cTn id="6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3019 -0.47272 C -0.30017 -0.38627 -0.29843 -0.29958 -0.28558 -0.24988 C -0.27274 -0.20018 -0.24322 -0.20897 -0.22447 -0.17383 C -0.20572 -0.13892 -0.19444 -0.07004 -0.17343 -0.04068 C -0.15242 -0.01132 -0.12673 -0.00393 -0.09791 0.00278 C -0.06909 0.00948 -0.03454 0.00463 6.38889E-006 -4.43828E-007 E">
                                      <p:cBhvr>
                                        <p:cTn id="7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16128 -0.64678 C 0.16684 -0.59292 0.17239 -0.53906 0.1592 -0.47827 C 0.14601 -0.41747 0.10104 -0.34188 0.0816 -0.28248 C 0.06215 -0.22307 0.05642 -0.16944 0.04288 -0.12228 C 0.02934 -0.07512 0.01458 -0.03768 1.38889E-006 1.33148E-006 E">
                                      <p:cBhvr>
                                        <p:cTn id="8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3 -0.6864 C 0.29098 -0.62257 0.28212 -0.55805 0.25591 -0.49769 C 0.22952 -0.43756 0.16858 -0.38529 0.14219 -0.32539 C 0.11563 -0.26619 0.12101 -0.19334 0.09723 -0.13899 C 0.07344 -0.08464 0.02032 -0.02914 -3.05556E-006 -1.07308E-006 E">
                                      <p:cBhvr>
                                        <p:cTn id="8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46336 -0.55456 C -0.41632 -0.49608 -0.36909 -0.43759 -0.33264 -0.36686 C -0.29618 -0.29612 -0.28402 -0.18863 -0.24496 -0.13061 C -0.2059 -0.07259 -0.13889 -0.04092 -0.09809 -0.01919 C -0.05729 0.00254 -0.02864 0.00115 -2.22222E-006 -7.40638E-006 E">
                                      <p:cBhvr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43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64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65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55" descr="1.1.1.7.png"/>
          <p:cNvPicPr/>
          <p:nvPr/>
        </p:nvPicPr>
        <p:blipFill>
          <a:blip r:embed="rId4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56" descr="1.1.1.7.png"/>
          <p:cNvPicPr/>
          <p:nvPr/>
        </p:nvPicPr>
        <p:blipFill>
          <a:blip r:embed="rId5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57" descr="1.1.1.7.png"/>
          <p:cNvPicPr/>
          <p:nvPr/>
        </p:nvPicPr>
        <p:blipFill>
          <a:blip r:embed="rId6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8" descr="1.1.1.7.png"/>
          <p:cNvPicPr/>
          <p:nvPr/>
        </p:nvPicPr>
        <p:blipFill>
          <a:blip r:embed="rId7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59" descr="1.1.1.7.png"/>
          <p:cNvPicPr/>
          <p:nvPr/>
        </p:nvPicPr>
        <p:blipFill>
          <a:blip r:embed="rId8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60" descr="1.1.1.7.png"/>
          <p:cNvPicPr/>
          <p:nvPr/>
        </p:nvPicPr>
        <p:blipFill>
          <a:blip r:embed="rId9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61" descr="1.1.1.7.png"/>
          <p:cNvPicPr/>
          <p:nvPr/>
        </p:nvPicPr>
        <p:blipFill>
          <a:blip r:embed="rId10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2" descr="1.1.1.7.png"/>
          <p:cNvPicPr/>
          <p:nvPr/>
        </p:nvPicPr>
        <p:blipFill>
          <a:blip r:embed="rId11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63" descr="1.1.1.7.png"/>
          <p:cNvPicPr/>
          <p:nvPr/>
        </p:nvPicPr>
        <p:blipFill>
          <a:blip r:embed="rId12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4" descr="1.1.1.3.png"/>
          <p:cNvPicPr/>
          <p:nvPr/>
        </p:nvPicPr>
        <p:blipFill>
          <a:blip r:embed="rId13"/>
          <a:srcRect l="0" t="43057" r="0" b="0"/>
          <a:stretch/>
        </p:blipFill>
        <p:spPr>
          <a:xfrm>
            <a:off x="0" y="30700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" descr="1.1.1.6.png"/>
          <p:cNvPicPr/>
          <p:nvPr/>
        </p:nvPicPr>
        <p:blipFill>
          <a:blip r:embed="rId14"/>
          <a:srcRect l="67188" t="52781" r="0" b="0"/>
          <a:stretch/>
        </p:blipFill>
        <p:spPr>
          <a:xfrm>
            <a:off x="6143760" y="3571920"/>
            <a:ext cx="3000240" cy="24289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" descr="2.1.1.2.png"/>
          <p:cNvPicPr/>
          <p:nvPr/>
        </p:nvPicPr>
        <p:blipFill>
          <a:blip r:embed="rId15"/>
          <a:srcRect l="92193" t="33336" r="-4" b="52778"/>
          <a:stretch/>
        </p:blipFill>
        <p:spPr>
          <a:xfrm>
            <a:off x="8474040" y="26384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9" descr="2.1.1.2.png"/>
          <p:cNvPicPr/>
          <p:nvPr/>
        </p:nvPicPr>
        <p:blipFill>
          <a:blip r:embed="rId16"/>
          <a:srcRect l="2344" t="43057" r="91408" b="48614"/>
          <a:stretch/>
        </p:blipFill>
        <p:spPr>
          <a:xfrm>
            <a:off x="299880" y="311004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0" descr="2.1.1.2.png"/>
          <p:cNvPicPr/>
          <p:nvPr/>
        </p:nvPicPr>
        <p:blipFill>
          <a:blip r:embed="rId17"/>
          <a:srcRect l="14063" t="29169" r="80470" b="61113"/>
          <a:stretch/>
        </p:blipFill>
        <p:spPr>
          <a:xfrm>
            <a:off x="1324080" y="23986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1" descr="2.1.1.2.png"/>
          <p:cNvPicPr/>
          <p:nvPr/>
        </p:nvPicPr>
        <p:blipFill>
          <a:blip r:embed="rId18"/>
          <a:srcRect l="25781" t="34722" r="68751" b="54167"/>
          <a:stretch/>
        </p:blipFill>
        <p:spPr>
          <a:xfrm>
            <a:off x="2455920" y="2787480"/>
            <a:ext cx="342720" cy="3416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2" descr="2.1.1.2.png"/>
          <p:cNvPicPr/>
          <p:nvPr/>
        </p:nvPicPr>
        <p:blipFill>
          <a:blip r:embed="rId19"/>
          <a:srcRect l="61722" t="37504" r="32812" b="54167"/>
          <a:stretch/>
        </p:blipFill>
        <p:spPr>
          <a:xfrm>
            <a:off x="5722920" y="263376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3" descr="2.1.1.2.png"/>
          <p:cNvPicPr/>
          <p:nvPr/>
        </p:nvPicPr>
        <p:blipFill>
          <a:blip r:embed="rId20"/>
          <a:srcRect l="71878" t="27780" r="23437" b="63888"/>
          <a:stretch/>
        </p:blipFill>
        <p:spPr>
          <a:xfrm>
            <a:off x="6572160" y="207180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4" descr="2.1.1.2.png"/>
          <p:cNvPicPr/>
          <p:nvPr/>
        </p:nvPicPr>
        <p:blipFill>
          <a:blip r:embed="rId21"/>
          <a:srcRect l="82035" t="31947" r="13280" b="61110"/>
          <a:stretch/>
        </p:blipFill>
        <p:spPr>
          <a:xfrm>
            <a:off x="7512120" y="2503440"/>
            <a:ext cx="396720" cy="3970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2387520" y="2259000"/>
            <a:ext cx="4229280" cy="3643200"/>
            <a:chOff x="2387520" y="2259000"/>
            <a:chExt cx="4229280" cy="3643200"/>
          </a:xfrm>
        </p:grpSpPr>
        <p:pic>
          <p:nvPicPr>
            <p:cNvPr id="90" name="Picture 2" descr="D:\Backup\我的文档\My Pictures\1791507_123936051_2.jpg"/>
            <p:cNvPicPr/>
            <p:nvPr/>
          </p:nvPicPr>
          <p:blipFill>
            <a:blip r:embed="rId22"/>
            <a:stretch/>
          </p:blipFill>
          <p:spPr>
            <a:xfrm>
              <a:off x="2700720" y="2681640"/>
              <a:ext cx="3584880" cy="30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图片 8" descr="2.1.1.5.png"/>
            <p:cNvPicPr/>
            <p:nvPr/>
          </p:nvPicPr>
          <p:blipFill>
            <a:blip r:embed="rId23"/>
            <a:srcRect l="24220" t="22223" r="25001" b="0"/>
            <a:stretch/>
          </p:blipFill>
          <p:spPr>
            <a:xfrm>
              <a:off x="2387520" y="2259000"/>
              <a:ext cx="4229280" cy="36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TextBox 67" descr=""/>
          <p:cNvPicPr/>
          <p:nvPr/>
        </p:nvPicPr>
        <p:blipFill>
          <a:blip r:embed="rId24"/>
          <a:stretch/>
        </p:blipFill>
        <p:spPr>
          <a:xfrm>
            <a:off x="2919240" y="1500120"/>
            <a:ext cx="3445200" cy="809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78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5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14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958E-006 C -0.00955 0.01203 -0.01893 0.02429 -0.01841 0.04094 C -0.01789 0.05759 0.00538 0.07655 0.00312 0.10037 C 0.00086 0.1242 -0.02796 0.15588 -0.0323 0.18432 C -0.03664 0.21277 -0.02066 0.24561 -0.02257 0.27082 C -0.02448 0.29603 -0.03959 0.32262 -0.0441 0.33627 E">
                                      <p:cBhvr>
                                        <p:cTn id="163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61111E-006 -1.06383E-006 C 0.00191 0.01249 0.00555 0.04232 0.01111 0.07539 C 0.01666 0.10847 0.03645 0.15773 0.03385 0.19866 C 0.03125 0.23959 0.01406 0.28053 -0.00469 0.32169 E">
                                      <p:cBhvr>
                                        <p:cTn id="165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88889E-006 -1.14709E-006 C 0.01042 0.02475 0.02101 0.04949 0.01997 0.07378 C 0.01893 0.09806 -0.00972 0.11448 -0.00607 0.14547 C -0.00243 0.17646 0.03125 0.22317 0.04167 0.26041 C 0.05209 0.29764 0.0533 0.34621 0.05625 0.36864 E">
                                      <p:cBhvr>
                                        <p:cTn id="16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-6.6605E-007 C -0.00521 0.01411 -0.02916 0.05805 -0.0309 0.08511 C -0.03264 0.11217 -0.0118 0.13182 -0.01094 0.16281 C -0.01007 0.1938 -0.02986 0.23427 -0.02621 0.27058 C -0.02257 0.30689 0.00295 0.35731 0.01059 0.3802 E">
                                      <p:cBhvr>
                                        <p:cTn id="169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2.97872E-006 C -0.00434 0.01526 -0.02899 0.05666 -0.02639 0.09204 C -0.02379 0.12743 0.01649 0.17622 0.01528 0.21299 C 0.01406 0.24977 -0.02448 0.27891 -0.03403 0.31336 C -0.04358 0.34782 -0.0401 0.39778 -0.04167 0.41998 E">
                                      <p:cBhvr>
                                        <p:cTn id="171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5E-006 8.51064E-007 C -0.0073 0.02313 -0.01442 0.04648 -0.01077 0.06961 C -0.00713 0.09274 0.01719 0.11286 0.02153 0.13945 C 0.02587 0.16605 0.02066 0.19773 0.01545 0.22965 E">
                                      <p:cBhvr>
                                        <p:cTn id="17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21:39:25Z</dcterms:created>
  <dc:creator/>
  <dc:description/>
  <dc:language>en-US</dc:language>
  <cp:lastModifiedBy>雨林木风</cp:lastModifiedBy>
  <cp:lastPrinted>1899-12-30T00:00:00Z</cp:lastPrinted>
  <dcterms:modified xsi:type="dcterms:W3CDTF">2014-05-24T09:20:16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