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2F0-D35A-430A-8D25-7040087E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158-D68E-4063-843C-1D2FEE0F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2F0-3D33-4170-8E6A-808313DB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1E5-3B8D-42F0-86BF-47F196C0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68BD-1A08-41C1-A902-317DA4F1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BC2A-8C2F-4E74-9642-B4621570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0D67-2389-41E0-9B9A-23A972AE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A568-9DEB-4104-8269-9D8871A7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A492-A3B1-4605-805A-DAE55642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4FA6-9E87-4D68-85B1-DF762D10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A4EC-6D78-45D2-B047-28F155E4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A85-7EB1-4718-B8BA-86EFB284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C12C-AE3F-4EB6-A787-002357AB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843E-B906-46B6-9334-9BA22C0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6F04-EBDE-41A7-B377-DC18B1B2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93B8-7416-4CC9-8AED-99CC5EA1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AF21-898A-4893-BC40-3213B3D2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56F-4192-4FDD-A49D-1B49028E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43A-2368-488F-9D1E-542A37A3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C08-291E-419A-8422-D44087B5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432-7907-458F-B90F-D8FE6D6D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729B-7536-4EE5-BCF3-307B2AE3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BB9-37E3-4FF1-B331-EB769790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A51-F3D3-475A-A2D4-11E19A95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778E-6547-4E8C-B9DB-984C7BE37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1387-BE26-4E96-B6D2-0CFF411DC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6120" y="500364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27800" y="500364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5398920"/>
            <a:chOff x="0" y="0"/>
            <a:chExt cx="8466120" cy="539892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1349640"/>
              <a:ext cx="8466120" cy="40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42920" y="280980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/>
  <dcterms:modified xsi:type="dcterms:W3CDTF">2014-05-19T05:07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