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24000" y="4172040"/>
            <a:ext cx="8362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40809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9440" y="1599840"/>
            <a:ext cx="40809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4172040"/>
            <a:ext cx="40809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09440" y="4172040"/>
            <a:ext cx="40809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2692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51440" y="1599840"/>
            <a:ext cx="2692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92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24000" y="4172040"/>
            <a:ext cx="2692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51440" y="4172040"/>
            <a:ext cx="2692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78880" y="4172040"/>
            <a:ext cx="2692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240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40809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09440" y="1599840"/>
            <a:ext cx="40809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24000" y="274320"/>
            <a:ext cx="83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40809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09440" y="1599840"/>
            <a:ext cx="40809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24000" y="4172040"/>
            <a:ext cx="40809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240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40809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9440" y="1599840"/>
            <a:ext cx="40809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09440" y="4172040"/>
            <a:ext cx="40809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40809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09440" y="1599840"/>
            <a:ext cx="40809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24000" y="4172040"/>
            <a:ext cx="8362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4000" y="4172040"/>
            <a:ext cx="8362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40809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9440" y="1599840"/>
            <a:ext cx="40809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4172040"/>
            <a:ext cx="40809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09440" y="4172040"/>
            <a:ext cx="40809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2692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51440" y="1599840"/>
            <a:ext cx="2692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92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24000" y="4172040"/>
            <a:ext cx="2692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51440" y="4172040"/>
            <a:ext cx="2692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78880" y="4172040"/>
            <a:ext cx="2692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40809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09440" y="1599840"/>
            <a:ext cx="40809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24000" y="274320"/>
            <a:ext cx="83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40809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9440" y="1599840"/>
            <a:ext cx="40809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24000" y="4172040"/>
            <a:ext cx="40809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40809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9440" y="1599840"/>
            <a:ext cx="40809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09440" y="4172040"/>
            <a:ext cx="40809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40809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9440" y="1599840"/>
            <a:ext cx="40809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4000" y="4172040"/>
            <a:ext cx="8362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478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478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478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478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47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47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47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47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478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240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478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478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478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47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47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47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47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0" y="438120"/>
            <a:ext cx="417672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79a4"/>
                </a:solidFill>
                <a:latin typeface="Arial"/>
              </a:rPr>
              <a:t>Insert presentation title here</a:t>
            </a: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300720" y="2631960"/>
            <a:ext cx="244800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579a4"/>
                </a:solidFill>
                <a:latin typeface="Arial"/>
              </a:rPr>
              <a:t>Insert presenters name here</a:t>
            </a: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3576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4780"/>
                </a:solidFill>
                <a:latin typeface="Arial"/>
              </a:rPr>
              <a:t>Slide title</a:t>
            </a: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40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4780"/>
                </a:solidFill>
                <a:latin typeface="Arial"/>
              </a:rPr>
              <a:t>Bullet one</a:t>
            </a: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4780"/>
                </a:solidFill>
                <a:latin typeface="Arial"/>
              </a:rPr>
              <a:t>Bullet two</a:t>
            </a: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4780"/>
                </a:solidFill>
                <a:latin typeface="Arial"/>
              </a:rPr>
              <a:t>Bullet three</a:t>
            </a: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4780"/>
                </a:solidFill>
                <a:latin typeface="Arial"/>
              </a:rPr>
              <a:t>Bullet four</a:t>
            </a: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4780"/>
                </a:solidFill>
                <a:latin typeface="Arial"/>
              </a:rPr>
              <a:t>Bullet five</a:t>
            </a: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a47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4780"/>
                </a:solidFill>
                <a:latin typeface="Arial"/>
              </a:rPr>
              <a:t>Bullet six</a:t>
            </a:r>
            <a:endParaRPr b="0" lang="en-US" sz="2000" spc="-1" strike="noStrike">
              <a:solidFill>
                <a:srgbClr val="0a47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4780"/>
                </a:solidFill>
                <a:latin typeface="Arial"/>
              </a:rPr>
              <a:t>Chart slide title</a:t>
            </a:r>
            <a:endParaRPr b="0" lang="en-US" sz="3200" spc="-1" strike="noStrike">
              <a:solidFill>
                <a:srgbClr val="0a4780"/>
              </a:solidFill>
              <a:latin typeface="Arial"/>
            </a:endParaRPr>
          </a:p>
        </p:txBody>
      </p:sp>
      <p:pic>
        <p:nvPicPr>
          <p:cNvPr id="82" name="Content Placeholder 3" descr=""/>
          <p:cNvPicPr/>
          <p:nvPr/>
        </p:nvPicPr>
        <p:blipFill>
          <a:blip r:embed="rId2"/>
          <a:stretch/>
        </p:blipFill>
        <p:spPr>
          <a:xfrm>
            <a:off x="417600" y="1577880"/>
            <a:ext cx="7959600" cy="4424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7496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2:35:30Z</dcterms:created>
  <dc:creator>Beckie</dc:creator>
  <dc:description/>
  <dc:language>en-US</dc:language>
  <cp:lastModifiedBy>rachel</cp:lastModifiedBy>
  <dcterms:modified xsi:type="dcterms:W3CDTF">2014-05-15T06:52:5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