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gif" ContentType="image/gi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747-983C-4872-8E87-6D23DB8F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93E-983F-44CF-87A4-8DE9E65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1F3-3AA4-4923-AE88-C2491E52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72A-DF1D-41C2-B252-1DE7E7EA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1CE-E7C8-4384-9AD5-D403B71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6A1-79FF-4B1A-8053-734AD497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45C2-96F5-4615-8714-CC3316C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F0D7-20B7-4F37-A19E-1ADBB06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80C-26CB-4D2F-AFFC-26DB6DD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F452-F94E-41BB-A8AD-436FD63D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39E-651E-452E-84EF-B2E76CF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26C8-AE1F-4AD3-B4F6-7A5A378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51B8-1344-4BB5-9CAC-51F1B0A2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C45-3447-4287-816F-EC2BA8E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68D3-D18F-4859-82B9-71D8C0F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D29F-B48D-4C87-AFD7-EFAF1B0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38E1-5A86-47C9-B550-971DAC44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B48D-0E49-470F-B815-0CFB9FB4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744-011D-4037-BFA4-4CCD5ADF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F58-2206-46FC-BB08-A6568947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78B-7B8D-4793-9DC6-A6B00355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BE5-AE29-4A94-A056-D0875C7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5DD-19DC-46D4-871D-BE7CB0A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698-359E-4E73-BA17-7155E195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Gulim"/>
              </a:rPr>
              <a:t>wps.cn/mo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8AFB-DFF7-4318-944F-56393B9A7AC4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2688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8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4885-3BF7-4F31-B774-6C047462EE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1155600"/>
            <a:ext cx="6119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6720" y="0"/>
              <a:ext cx="6745320" cy="701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4200" y="3571920"/>
              <a:ext cx="46670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3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>황정남</dc:creator>
  <dc:description/>
  <cp:keywords/>
  <dc:language>en-US</dc:language>
  <cp:lastModifiedBy>a</cp:lastModifiedBy>
  <dcterms:modified xsi:type="dcterms:W3CDTF">2014-05-15T00:57:17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</Properties>
</file>