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0D8-F44B-48B5-B876-F65F8409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04E-3544-4E60-B74C-91079177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8FE9-22CE-4E63-A1B3-3BE7F417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F68-B7E1-4AC9-9185-9949932B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6488-A5D4-488E-AF56-B1885A2B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4586-D16F-4B90-BC67-97AFFAF8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A8B1-CB59-4607-AB6C-D210F5ED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20DD-24BE-4602-ADD0-24F6ED90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F304-3850-40D1-BF0B-6B69A98D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4FAA-8553-4FEC-863A-7E19D40A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F0E8-A802-470D-8D47-121BB1BB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30B-2D27-407D-ACB6-F147D7EE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F43D-4526-47B2-9121-3523515E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D72D-395B-4A31-92C7-23970C0D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5040-CC25-4542-977E-AA1F0D3C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7E6C-96F6-438C-A2F4-78F6E711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7C6A-93EF-4C72-8601-7F7EE497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489-0510-4F51-BE5F-57DE4F20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9A4-63CE-4CC9-8600-8433BCB7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A91-4640-4852-99C6-701BF3DC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47C-5485-4275-B3BC-63FD02AD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11A-A224-47B9-B8EF-2F0E0235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A9E-B43F-425A-8745-866B7860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9C7-84E1-4D63-BC36-9D32F446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BB56-093A-4486-865A-BF13D7EAA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ACEA-4F05-4AB0-A6CC-AA0E3F461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63600"/>
            <a:ext cx="822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6160" y="500364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47440" y="500364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5398920"/>
            <a:chOff x="0" y="0"/>
            <a:chExt cx="8466120" cy="539892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349640"/>
              <a:ext cx="8466120" cy="40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42920" y="280980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dc:language>en-US</dc:language>
  <cp:lastModifiedBy/>
  <dcterms:modified xsi:type="dcterms:W3CDTF">2014-05-24T09:19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