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png" ContentType="image/pn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3748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ff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>
            <a:hlinkClick r:id="" action="ppaction://hlinkshowjump?jump=previousslide"/>
          </p:cNvPr>
          <p:cNvSpPr/>
          <p:nvPr/>
        </p:nvSpPr>
        <p:spPr>
          <a:xfrm>
            <a:off x="7543800" y="6400800"/>
            <a:ext cx="228600" cy="22860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>
            <a:hlinkClick r:id="" action="ppaction://hlinkshowjump?jump=nextslide"/>
          </p:cNvPr>
          <p:cNvSpPr/>
          <p:nvPr/>
        </p:nvSpPr>
        <p:spPr>
          <a:xfrm>
            <a:off x="8077320" y="6400800"/>
            <a:ext cx="228600" cy="22860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3780000" y="1628640"/>
            <a:ext cx="3313080" cy="410544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1979640" y="549360"/>
            <a:ext cx="58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师大版 五年级 语文 第七单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452600" y="1557360"/>
            <a:ext cx="6714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02480" y="1557360"/>
            <a:ext cx="13993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普罗米修斯的故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400" y="616572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16000" y="3141720"/>
            <a:ext cx="727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读课文，小组合作学习，思考：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米修斯的英雄行为表现在哪些方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219640" y="1197000"/>
            <a:ext cx="2737080" cy="1004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124000" y="1484280"/>
            <a:ext cx="21337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00000" y="1773360"/>
            <a:ext cx="7775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读课文第三段，思考：课文描写的普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修斯受难的情景给你留下怎样的印象？为什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留下这么深的印象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5280" y="4076640"/>
            <a:ext cx="691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富有同情心  热心帮助人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面对惩罚，  毫不屈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21337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08000" y="260280"/>
            <a:ext cx="5950080" cy="6237360"/>
          </a:xfrm>
          <a:prstGeom prst="rect">
            <a:avLst/>
          </a:prstGeom>
          <a:solidFill>
            <a:srgbClr val="9900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谁？让漫漫黑夜跳跃希望的火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谁？让蛮荒时代沐浴文明的时光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谁？甘愿触犯天条也要救人类于水火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谁？深受酷刑却无怨无悔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啊！巨人，是你给人类带来火种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送来光和热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送来人类新纪元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尽管上天和你蓄意为敌—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高山险峻，铁链加身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烈日如火，暴雨如注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但沉重的铁链只能锁住你的身躯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却怎能锁住那颗坦荡无私的心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难道仅仅是物质的火种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，你给予我们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生生不息的精神火种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勇敢 坚强 博爱 无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就是你——普罗米修斯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previousslide"/>
          </p:cNvPr>
          <p:cNvSpPr/>
          <p:nvPr/>
        </p:nvSpPr>
        <p:spPr>
          <a:xfrm>
            <a:off x="7543800" y="6400800"/>
            <a:ext cx="228600" cy="22860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8077320" y="6400800"/>
            <a:ext cx="228600" cy="22860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88800" y="1413000"/>
            <a:ext cx="10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作业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51040" y="3068640"/>
            <a:ext cx="14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阅读《希腊神话故事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7543800" y="6400800"/>
            <a:ext cx="228600" cy="22860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8077320" y="6400800"/>
            <a:ext cx="304560" cy="228600"/>
          </a:xfrm>
          <a:custGeom>
            <a:avLst/>
            <a:gdLst>
              <a:gd name="textAreaLeft" fmla="*/ 14040 w 304560"/>
              <a:gd name="textAreaRight" fmla="*/ 290520 w 30456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416" y="1350"/>
                </a:lnTo>
                <a:lnTo>
                  <a:pt x="1350" y="135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416" y="20250"/>
                </a:lnTo>
                <a:lnTo>
                  <a:pt x="27416" y="135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16" y="2025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766" h="21600">
                <a:moveTo>
                  <a:pt x="14383" y="3800"/>
                </a:moveTo>
                <a:lnTo>
                  <a:pt x="16973" y="6425"/>
                </a:lnTo>
                <a:lnTo>
                  <a:pt x="16973" y="4675"/>
                </a:lnTo>
                <a:lnTo>
                  <a:pt x="18758" y="4675"/>
                </a:lnTo>
                <a:lnTo>
                  <a:pt x="18758" y="8210"/>
                </a:lnTo>
                <a:lnTo>
                  <a:pt x="21383" y="10800"/>
                </a:lnTo>
                <a:lnTo>
                  <a:pt x="19721" y="10800"/>
                </a:lnTo>
                <a:lnTo>
                  <a:pt x="19721" y="18028"/>
                </a:lnTo>
                <a:lnTo>
                  <a:pt x="9046" y="18028"/>
                </a:lnTo>
                <a:lnTo>
                  <a:pt x="9046" y="10800"/>
                </a:lnTo>
                <a:lnTo>
                  <a:pt x="7383" y="10800"/>
                </a:lnTo>
                <a:close/>
              </a:path>
              <a:path fill="darkenLess" w="28766" h="21600">
                <a:moveTo>
                  <a:pt x="16973" y="6425"/>
                </a:moveTo>
                <a:lnTo>
                  <a:pt x="16973" y="4675"/>
                </a:lnTo>
                <a:lnTo>
                  <a:pt x="18758" y="4675"/>
                </a:lnTo>
                <a:lnTo>
                  <a:pt x="18758" y="8210"/>
                </a:lnTo>
                <a:close/>
              </a:path>
              <a:path fill="darkenLess" w="28766" h="21600">
                <a:moveTo>
                  <a:pt x="13456" y="14318"/>
                </a:moveTo>
                <a:lnTo>
                  <a:pt x="15311" y="14318"/>
                </a:lnTo>
                <a:lnTo>
                  <a:pt x="15311" y="18028"/>
                </a:lnTo>
                <a:lnTo>
                  <a:pt x="19721" y="18028"/>
                </a:lnTo>
                <a:lnTo>
                  <a:pt x="19721" y="10800"/>
                </a:lnTo>
                <a:lnTo>
                  <a:pt x="9046" y="10800"/>
                </a:lnTo>
                <a:lnTo>
                  <a:pt x="9046" y="18028"/>
                </a:lnTo>
                <a:lnTo>
                  <a:pt x="13456" y="18028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675640" y="6381720"/>
            <a:ext cx="228600" cy="22860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724360" y="1052640"/>
            <a:ext cx="1656000" cy="142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2188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cc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2708280"/>
            <a:ext cx="7632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中离不开火，火是怎样来的呢？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问题一直困扰着人们，于是就有了许多关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火的神话故事，今天，我们就来学习一篇古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腊神话故事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普罗米修斯的故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2160720" cy="593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08360" y="620640"/>
            <a:ext cx="2303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19280" y="2060640"/>
            <a:ext cx="5257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赐给  掰开  绒髓  禽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野蛮  蜷居  俯视  惩罚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侍从  铁链  拴在  懊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112536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检测字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8077320" y="6400800"/>
            <a:ext cx="228600" cy="22860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7543800" y="6400800"/>
            <a:ext cx="228600" cy="22860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1268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给课文分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492280"/>
            <a:ext cx="828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一段：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-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然段）主要讲天神普罗米修斯向住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神宙斯请求赐火给正过着可怜生活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类，宙斯不肯，但天神普罗米修斯下决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帮助人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95280" y="907920"/>
            <a:ext cx="813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段：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-1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主要介绍了天神普罗米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斯将火种带给人类，并帮助人类学会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火生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2924280"/>
            <a:ext cx="799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段：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-1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主要写住伸宙斯发现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勃然大怒，派“威力”和“暴力”将普罗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斯捆缚在高加索山的最高峰，百般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磨他，而普罗米修斯始终坚强不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30840" y="616572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3640" y="333360"/>
            <a:ext cx="3960720" cy="2924280"/>
          </a:xfrm>
          <a:prstGeom prst="rect">
            <a:avLst/>
          </a:prstGeom>
          <a:ln w="0">
            <a:noFill/>
          </a:ln>
        </p:spPr>
      </p:pic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7236000" y="6629400"/>
            <a:ext cx="228600" cy="22860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8244000" y="6453360"/>
            <a:ext cx="900000" cy="404640"/>
          </a:xfrm>
          <a:custGeom>
            <a:avLst/>
            <a:gdLst>
              <a:gd name="textAreaLeft" fmla="*/ 25200 w 900000"/>
              <a:gd name="textAreaRight" fmla="*/ 874800 w 900000"/>
              <a:gd name="textAreaTop" fmla="*/ 25200 h 404640"/>
              <a:gd name="textAreaBottom" fmla="*/ 379440 h 404640"/>
            </a:gdLst>
            <a:ahLst/>
            <a:rect l="textAreaLeft" t="textAreaTop" r="textAreaRight" b="textAreaBottom"/>
            <a:pathLst>
              <a:path w="48019" h="21600">
                <a:moveTo>
                  <a:pt x="0" y="0"/>
                </a:moveTo>
                <a:lnTo>
                  <a:pt x="48019" y="0"/>
                </a:lnTo>
                <a:lnTo>
                  <a:pt x="48019" y="21600"/>
                </a:lnTo>
                <a:lnTo>
                  <a:pt x="0" y="21600"/>
                </a:lnTo>
                <a:close/>
              </a:path>
              <a:path fill="lightenLess" w="48019" h="21600">
                <a:moveTo>
                  <a:pt x="0" y="0"/>
                </a:moveTo>
                <a:lnTo>
                  <a:pt x="48019" y="0"/>
                </a:lnTo>
                <a:lnTo>
                  <a:pt x="46669" y="1350"/>
                </a:lnTo>
                <a:lnTo>
                  <a:pt x="1350" y="1350"/>
                </a:lnTo>
                <a:close/>
              </a:path>
              <a:path fill="darken" w="48019" h="21600">
                <a:moveTo>
                  <a:pt x="48019" y="0"/>
                </a:moveTo>
                <a:lnTo>
                  <a:pt x="48019" y="21600"/>
                </a:lnTo>
                <a:lnTo>
                  <a:pt x="46669" y="20250"/>
                </a:lnTo>
                <a:lnTo>
                  <a:pt x="46669" y="1350"/>
                </a:lnTo>
                <a:close/>
              </a:path>
              <a:path fill="darkenLess" w="48019" h="21600">
                <a:moveTo>
                  <a:pt x="4801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6669" y="20250"/>
                </a:lnTo>
                <a:close/>
              </a:path>
              <a:path fill="lighten" w="4801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8019" h="21600">
                <a:moveTo>
                  <a:pt x="16966" y="3756"/>
                </a:moveTo>
                <a:lnTo>
                  <a:pt x="31053" y="10800"/>
                </a:lnTo>
                <a:lnTo>
                  <a:pt x="16966" y="17844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3645000"/>
            <a:ext cx="914400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被钉在飞鸟难越的万丈悬崖，烈日暴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处是黑暗、寒冷和死静， ”冰雪像枪一样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，恶鬼利用山摇地震，以此来撼动钉着普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修斯四肢的钉，增加他的痛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27280" y="1773000"/>
            <a:ext cx="471636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狂风终日在他身边呼啸；冰雹敲打着他的面庞；凶猛的大鹰在他耳边尖叫，用无情的利爪撕裂他的肌体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971640" y="1125360"/>
            <a:ext cx="3055680" cy="3961080"/>
          </a:xfrm>
          <a:prstGeom prst="rect">
            <a:avLst/>
          </a:prstGeom>
          <a:ln w="0">
            <a:noFill/>
          </a:ln>
        </p:spPr>
      </p:pic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5796000" y="6308640"/>
            <a:ext cx="228600" cy="22860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6300720" y="6308640"/>
            <a:ext cx="228600" cy="22860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8437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37415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" nodeType="with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68360" y="836640"/>
            <a:ext cx="3672000" cy="2795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01480" y="4149720"/>
            <a:ext cx="86425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普罗米修斯忍受了这一切苦痛而不哼一声，决不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乞求仁慈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决不对自己做过的事说一句懊悔的话。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6300720" y="6308640"/>
            <a:ext cx="228600" cy="22860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5796000" y="6308640"/>
            <a:ext cx="228600" cy="22860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812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2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6920" y="1268280"/>
            <a:ext cx="74901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段：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2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写人们感激、赞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普罗米修斯的英雄行为。几个世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，英雄海格立斯救下了英雄普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修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30840" y="616572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1:02:48Z</dcterms:created>
  <dc:creator>zgw</dc:creator>
  <dc:description/>
  <dc:language>en-US</dc:language>
  <cp:lastModifiedBy>微软用户</cp:lastModifiedBy>
  <cp:lastPrinted>1899-12-30T00:00:00Z</cp:lastPrinted>
  <dcterms:modified xsi:type="dcterms:W3CDTF">2014-06-07T08:13:54Z</dcterms:modified>
  <cp:revision>6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