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E97-0FB3-48C5-B814-E532C2B3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9AA-B766-4DBC-8FD6-08759E98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C1A-FC35-40A1-AFEE-E53FA493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256-E4A2-4581-BAD7-6EBD39D9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333F-7D01-4130-AD06-80332F8E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B665-AC62-4D2E-AA53-5CDF8D23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C584-5D3E-46F7-94CC-F3D1B8DF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3CEE-77A0-48A6-A78B-51E944CD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3C25-D828-496F-8725-08FDC452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4560" y="102960"/>
            <a:ext cx="471636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B8FE-5B7E-4C59-BBE0-D618A27B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8931-3B5D-424F-8E51-2508458A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AA6-06F8-478B-B3D2-79E966A0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A7B1-8A24-461E-AA00-FB60D475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F202-CA33-4137-9A88-4C40F2C1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7494-A5BD-4282-BC67-30AB92EE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93F1-3E0A-4F02-90AA-AD0DF406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68760"/>
            <a:ext cx="264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6494-B3F9-49EB-9AA7-D53151A7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2ED-E75D-4EFD-AD57-7D9C7D98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469-D905-4985-8CF3-52414213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BEA-2AA1-4D9E-9C4B-29932446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560" y="102960"/>
            <a:ext cx="471636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D7C-1E55-4DC0-B17B-AB81D434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173-54B7-4A2C-9617-EED90830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6876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1DD-BDA9-4FC3-8574-169CD77D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6876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4A0-0BD9-4068-859A-C176DD84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B04D-43FC-44EA-87BC-4446DCD88480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80C5-D8D8-405F-BFD4-3CFDF3C43E53}" type="slidenum"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4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"/>
          <p:cNvSpPr/>
          <p:nvPr/>
        </p:nvSpPr>
        <p:spPr>
          <a:xfrm>
            <a:off x="6948360" y="6165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560" y="102960"/>
            <a:ext cx="471636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27080"/>
            <a:ext cx="4983120" cy="493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71640" y="6310440"/>
            <a:ext cx="7057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66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66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66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66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5:29:32Z</dcterms:created>
  <dc:creator>x</dc:creator>
  <dc:description/>
  <dc:language>en-US</dc:language>
  <cp:lastModifiedBy>king</cp:lastModifiedBy>
  <cp:lastPrinted>1899-12-30T00:00:00Z</cp:lastPrinted>
  <dcterms:modified xsi:type="dcterms:W3CDTF">2014-06-08T04:46:25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