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B8A-C45B-47D3-A11C-7E7C7676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7E6-6035-44A5-9126-0B1C4361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CC2-D74F-4AB0-A3DC-6CED1E87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267-EE5B-42A9-ADD0-B44FAEF5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A1B-AC31-45A4-A85B-4ECE0C4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38D-CACD-4093-8FF7-A1F2187F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051-02CF-46A0-9F5C-1D132784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351-0854-4CA4-9180-1F45C59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73C-5494-463C-B77B-46C9CCC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BCE-29C1-4C51-8AC3-71CC941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102-CD89-44F9-997E-67AB123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B16-E5E1-4283-BAA2-FBECAEA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45440" y="6597720"/>
            <a:ext cx="752400" cy="225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7640" y="62326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A40A-C690-4A59-8043-04227850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cp:lastPrinted>1899-12-30T00:00:00Z</cp:lastPrinted>
  <dcterms:modified xsi:type="dcterms:W3CDTF">2014-05-28T06:16:49Z</dcterms:modified>
  <cp:revision>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