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F890-394F-41E3-9F7F-464CAA7F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5ECE-3DD9-4AAC-9A69-42006873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41D5-9C7C-45CB-8DBF-C3C5DBD6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24E0-ACAF-4FD2-8FA8-06E91130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F21F-019A-4711-9798-5BFAEE5B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9CD2-5E75-4817-8CF4-6CAC4E2C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30C3-3B30-4B73-8FC6-3BA6A9DA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95CC-537B-4427-A718-BECDEFFA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043C-BC2D-4DB3-89D9-9951D0D1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DFC3-D7C2-4417-87B0-BB6D61A8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C742-729B-42F5-84E9-59720F92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BCB-E661-406D-B919-5ED2CD3F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9BC5-88CF-4492-B144-2FBA6907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ED5A-DB2A-4F74-BF39-6A367427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EF90-B73A-487F-8DBB-32EC56A4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EAA3-DA43-4207-BF35-E059EFDD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B3EC-4DF7-473A-B673-13EEF644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F317-CD30-42A6-840D-F4D64B19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69DA-BC48-4985-9334-CC19058E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ACB6-76D9-4B86-9F2B-5611B95B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5DFE-0035-4681-B8CE-BCFE3C32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243-4BA9-45F9-8EDE-2F59C33D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2D30-9853-40CE-89A4-24393E65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BFCA-BCFD-4C26-9D25-CD143EAF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CA10-7EF0-4C3B-B89F-FC7BA5ACDD7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357A-02AD-449D-BB50-2B82B333573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886200" y="32004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月光曲</a:t>
            </a:r>
            <a:endParaRPr b="0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-34920" y="6381720"/>
            <a:ext cx="9142560" cy="405000"/>
          </a:xfrm>
          <a:prstGeom prst="rect">
            <a:avLst/>
          </a:prstGeom>
          <a:solidFill>
            <a:srgbClr val="3399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84360" y="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小学语文课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381080" y="652608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71557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95280" y="8380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用直线连接可以搭配的词语</a:t>
            </a:r>
            <a:r>
              <a:rPr b="1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1905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幽静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2743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微弱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3581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清幽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05120" y="4419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雪亮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5302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美妙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1905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烛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2743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月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4120" y="3581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琴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4120" y="4419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4120" y="5334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浪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05320" y="4724280"/>
            <a:ext cx="1828800" cy="990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429000" y="2286000"/>
            <a:ext cx="1905120" cy="990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2209680"/>
            <a:ext cx="2057400" cy="24386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429000" y="3200400"/>
            <a:ext cx="1981080" cy="838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505320" y="4038120"/>
            <a:ext cx="182880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391520" y="5753160"/>
            <a:ext cx="1714320" cy="1028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143680" cy="6096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019920" y="457200"/>
            <a:ext cx="281916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贝多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770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827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德国著名作曲家，维也纳古典乐派的代表人之一。他一生创作了大量的举世闻名的音乐作品，他的作品，在欧洲音乐史上起到了继往开来的作用， 为世界文化做出了不朽的贡献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5060880" cy="58672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475600" y="762120"/>
            <a:ext cx="12776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位于维也纳的贝多芬雕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391520" y="5753160"/>
            <a:ext cx="1714320" cy="1028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588720" y="645336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806400"/>
            <a:ext cx="8229600" cy="4089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752480" y="5530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贝多芬使用的最后一台钢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课文朗读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7885080" y="6297480"/>
            <a:ext cx="933480" cy="5605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79280" y="1873440"/>
            <a:ext cx="871380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一百多年前，德国有个音乐家叫贝多芬，他谱写了许多著名的曲子。其中有一首著名的钢琴曲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月光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，传说是这样谱成的。 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有一年秋天，贝多芬去各地旅行演出，来到莱茵河边的一个小镇上。一天夜晚，他在幽静的小路上散步，听到断断续续的钢琴声从一所茅屋里传出来，弹的正是他的曲子。 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贝多芬走近茅屋，琴声突然停了，屋子里有人在谈话。一个姑娘说∶“这首曲子多难弹啊！我只听别人弹过几遍，总是记不住该怎样弹，要是能听一听贝多芬自己是怎样弹的，那有多好啊！”一个男的说∶“是啊，可是音乐会的入场券太贵了，咱们又太穷。”姑娘说∶“哥哥，你别难过，我不过随便说说罢了。” 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贝多芬听到这里，就推开门，轻轻地走了进去。茅屋里点着一支蜡烛。在微弱的烛光下，男的正在做皮鞋。窗前有架旧钢琴，前面坐着个十六七岁的姑娘，脸很清秀，可是眼睛瞎了。 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皮鞋匠看见进来个陌生人，站起来问∶“先生，您找谁？走错门了吧？”贝多芬说∶“不，我是来弹一首曲子给这位姑娘听的。” 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姑娘连忙站起来让座。贝多芬坐在钢琴前面，弹起盲姑娘刚才弹的那首曲子来。盲姑娘听得入了神，一曲完了，她激动地说∶“弹得多纯熟啊！感情多深哪！您，您就是贝多芬先生吧？” 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贝多芬没有回答，他问盲姑娘∶“您爱听吗？我再给您弹一首吧。” 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一阵风把蜡烛吹灭了。月光照进窗子来，茅屋里的一切好像披上了银纱，显得格外清幽。贝多芬望了望站在他身旁的穷兄妹俩，借着清幽的月光，按起琴键来。 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皮鞋匠静静地听着。他好像面对着大海，月光正从水天相接的地方升起来。微波粼粼的海面上，霎时间洒遍了银光。月亮越升越高，穿过一缕一缕轻纱似的微云。忽然，海面上刮起了大风，卷起了巨浪。被月光照得雪亮的浪花，一个连一个朝着岸边涌过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……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皮鞋匠看看妹妹，月光正照在她那恬静的脸上，照着她睁得大大的眼睛，她仿佛也看到了，看到了她从来没有看到过的景象，在月光照耀下的波涛汹涌的大海。 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兄妹俩被美妙的琴声陶醉了。等他们苏醒过来，贝多芬早已离开了茅屋。他飞奔回客店，花了一夜工夫，把刚才弹的曲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—《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月光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记录了下来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52120" y="6526080"/>
            <a:ext cx="502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16448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58920" y="907920"/>
            <a:ext cx="2743200" cy="82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课文朗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19320" y="2362320"/>
            <a:ext cx="2819160" cy="82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习词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2347920"/>
            <a:ext cx="2705040" cy="82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阅读思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3789360"/>
            <a:ext cx="2705040" cy="82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课堂练习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24720" y="1341360"/>
            <a:ext cx="417600" cy="417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781520" y="907920"/>
            <a:ext cx="2743200" cy="82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乐曲欣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3860640"/>
            <a:ext cx="27370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贝多芬简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lastslide"/>
          </p:cNvPr>
          <p:cNvSpPr/>
          <p:nvPr/>
        </p:nvSpPr>
        <p:spPr>
          <a:xfrm>
            <a:off x="3132000" y="5157720"/>
            <a:ext cx="26654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结束教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16448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27155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95280" y="700200"/>
            <a:ext cx="398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学习生字新词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5089680"/>
            <a:ext cx="2590920" cy="1312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莱   茵  河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3794040"/>
            <a:ext cx="18288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入场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5089680"/>
            <a:ext cx="18288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盲姑娘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2438280"/>
            <a:ext cx="18288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幽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3794040"/>
            <a:ext cx="18288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蜡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5105520"/>
            <a:ext cx="18288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陌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2438280"/>
            <a:ext cx="22860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微波粼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3600" y="3809880"/>
            <a:ext cx="22860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波涛汹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2454120"/>
            <a:ext cx="22860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眼睛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781680" y="2606760"/>
            <a:ext cx="13716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缕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2590920"/>
            <a:ext cx="121932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恬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2590920"/>
            <a:ext cx="121932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记录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606760"/>
            <a:ext cx="13716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琴键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700200"/>
            <a:ext cx="398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学习生字新词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781680" y="2606760"/>
            <a:ext cx="13716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缕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2590920"/>
            <a:ext cx="121932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恬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2590920"/>
            <a:ext cx="121932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记录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606760"/>
            <a:ext cx="13716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琴键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700200"/>
            <a:ext cx="398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学习生字新词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066680" y="3962520"/>
            <a:ext cx="7086600" cy="1557360"/>
            <a:chOff x="1066680" y="3962520"/>
            <a:chExt cx="7086600" cy="1557360"/>
          </a:xfrm>
        </p:grpSpPr>
        <p:sp>
          <p:nvSpPr>
            <p:cNvPr id="119" name=""/>
            <p:cNvSpPr/>
            <p:nvPr/>
          </p:nvSpPr>
          <p:spPr>
            <a:xfrm>
              <a:off x="1143000" y="3962520"/>
              <a:ext cx="137160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曲子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43000" y="4800600"/>
              <a:ext cx="137160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弯曲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7760" y="3978360"/>
              <a:ext cx="137160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弹琴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7760" y="4816440"/>
              <a:ext cx="137160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子弹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52880" y="3978360"/>
              <a:ext cx="137160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音乐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52880" y="4816440"/>
              <a:ext cx="137160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快乐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81680" y="3978360"/>
              <a:ext cx="137160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难过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81680" y="4816440"/>
              <a:ext cx="137160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遇难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66680" y="437544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71800" y="429912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76560" y="4375440"/>
              <a:ext cx="152640" cy="9144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05360" y="4375440"/>
              <a:ext cx="152640" cy="9144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391520" y="5753160"/>
            <a:ext cx="1714320" cy="1028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661800" y="638172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38560" y="762120"/>
            <a:ext cx="26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阅读思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9810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贝多芬走进茅屋，为什么弹完一曲，又弹一曲？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4290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皮鞋匠听着琴声，好像看到了什么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他为什么会看到这样的景象？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7386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盲姑娘“仿佛也看到了”月光照耀下大海的变化，这说明了什么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391520" y="5753160"/>
            <a:ext cx="17143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486400" cy="4489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236000" y="5589720"/>
            <a:ext cx="1714320" cy="10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57494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09680" y="70020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比一比，组词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1981080"/>
            <a:ext cx="7619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茵（   ） 券（   ） 腊（   ） 屡（   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菌（   ） 卷（   ） 蜡（   ） 缕（   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3487680"/>
            <a:ext cx="7619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吨（   ） 谱（   ） 盲（   ） 醒（   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纯（   ） 普（   ） 育（   ） 醉（   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4935600"/>
            <a:ext cx="7619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瞎（   ） 恬（   ） 键（   ） 涛（   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割（   ） 括（   ） 健（   ） 滔（   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600200" y="1981080"/>
            <a:ext cx="1219320" cy="1144440"/>
            <a:chOff x="1600200" y="1981080"/>
            <a:chExt cx="1219320" cy="1144440"/>
          </a:xfrm>
        </p:grpSpPr>
        <p:sp>
          <p:nvSpPr>
            <p:cNvPr id="145" name=""/>
            <p:cNvSpPr/>
            <p:nvPr/>
          </p:nvSpPr>
          <p:spPr>
            <a:xfrm>
              <a:off x="1600200" y="19810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绿茵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00200" y="260496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细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352680" y="1981080"/>
            <a:ext cx="1219320" cy="1144440"/>
            <a:chOff x="3352680" y="1981080"/>
            <a:chExt cx="1219320" cy="1144440"/>
          </a:xfrm>
        </p:grpSpPr>
        <p:sp>
          <p:nvSpPr>
            <p:cNvPr id="148" name=""/>
            <p:cNvSpPr/>
            <p:nvPr/>
          </p:nvSpPr>
          <p:spPr>
            <a:xfrm>
              <a:off x="3352680" y="19810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证券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52680" y="260496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画卷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181480" y="1981080"/>
            <a:ext cx="1219320" cy="1144440"/>
            <a:chOff x="5181480" y="1981080"/>
            <a:chExt cx="1219320" cy="1144440"/>
          </a:xfrm>
        </p:grpSpPr>
        <p:sp>
          <p:nvSpPr>
            <p:cNvPr id="151" name=""/>
            <p:cNvSpPr/>
            <p:nvPr/>
          </p:nvSpPr>
          <p:spPr>
            <a:xfrm>
              <a:off x="5181480" y="19810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腊月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81480" y="260496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蜡烛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934320" y="1981080"/>
            <a:ext cx="1218960" cy="1144440"/>
            <a:chOff x="6934320" y="1981080"/>
            <a:chExt cx="1218960" cy="1144440"/>
          </a:xfrm>
        </p:grpSpPr>
        <p:sp>
          <p:nvSpPr>
            <p:cNvPr id="154" name=""/>
            <p:cNvSpPr/>
            <p:nvPr/>
          </p:nvSpPr>
          <p:spPr>
            <a:xfrm>
              <a:off x="6934320" y="198108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屡次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34320" y="260496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一缕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00200" y="3505320"/>
            <a:ext cx="1219320" cy="1144440"/>
            <a:chOff x="1600200" y="3505320"/>
            <a:chExt cx="1219320" cy="1144440"/>
          </a:xfrm>
        </p:grpSpPr>
        <p:sp>
          <p:nvSpPr>
            <p:cNvPr id="157" name=""/>
            <p:cNvSpPr/>
            <p:nvPr/>
          </p:nvSpPr>
          <p:spPr>
            <a:xfrm>
              <a:off x="1600200" y="35053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吨位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00200" y="4129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纯洁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352680" y="3505320"/>
            <a:ext cx="1219320" cy="1144440"/>
            <a:chOff x="3352680" y="3505320"/>
            <a:chExt cx="1219320" cy="1144440"/>
          </a:xfrm>
        </p:grpSpPr>
        <p:sp>
          <p:nvSpPr>
            <p:cNvPr id="160" name=""/>
            <p:cNvSpPr/>
            <p:nvPr/>
          </p:nvSpPr>
          <p:spPr>
            <a:xfrm>
              <a:off x="3352680" y="35053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谱写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2680" y="4129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普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181480" y="3505320"/>
            <a:ext cx="1219320" cy="1130040"/>
            <a:chOff x="5181480" y="3505320"/>
            <a:chExt cx="1219320" cy="1130040"/>
          </a:xfrm>
        </p:grpSpPr>
        <p:sp>
          <p:nvSpPr>
            <p:cNvPr id="163" name=""/>
            <p:cNvSpPr/>
            <p:nvPr/>
          </p:nvSpPr>
          <p:spPr>
            <a:xfrm>
              <a:off x="5181480" y="35053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盲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81480" y="41148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培育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934320" y="3505320"/>
            <a:ext cx="1218960" cy="1144440"/>
            <a:chOff x="6934320" y="3505320"/>
            <a:chExt cx="1218960" cy="1144440"/>
          </a:xfrm>
        </p:grpSpPr>
        <p:sp>
          <p:nvSpPr>
            <p:cNvPr id="166" name=""/>
            <p:cNvSpPr/>
            <p:nvPr/>
          </p:nvSpPr>
          <p:spPr>
            <a:xfrm>
              <a:off x="6934320" y="350532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苏醒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4320" y="412920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陶醉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600200" y="4952880"/>
            <a:ext cx="1219320" cy="1144440"/>
            <a:chOff x="1600200" y="4952880"/>
            <a:chExt cx="1219320" cy="1144440"/>
          </a:xfrm>
        </p:grpSpPr>
        <p:sp>
          <p:nvSpPr>
            <p:cNvPr id="169" name=""/>
            <p:cNvSpPr/>
            <p:nvPr/>
          </p:nvSpPr>
          <p:spPr>
            <a:xfrm>
              <a:off x="1600200" y="49528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瞎闹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00200" y="557676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割舍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352680" y="4952880"/>
            <a:ext cx="1219320" cy="1144440"/>
            <a:chOff x="3352680" y="4952880"/>
            <a:chExt cx="1219320" cy="1144440"/>
          </a:xfrm>
        </p:grpSpPr>
        <p:sp>
          <p:nvSpPr>
            <p:cNvPr id="172" name=""/>
            <p:cNvSpPr/>
            <p:nvPr/>
          </p:nvSpPr>
          <p:spPr>
            <a:xfrm>
              <a:off x="3352680" y="49528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恬静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52680" y="557676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概括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181480" y="4952880"/>
            <a:ext cx="1219320" cy="1144440"/>
            <a:chOff x="5181480" y="4952880"/>
            <a:chExt cx="1219320" cy="1144440"/>
          </a:xfrm>
        </p:grpSpPr>
        <p:sp>
          <p:nvSpPr>
            <p:cNvPr id="175" name=""/>
            <p:cNvSpPr/>
            <p:nvPr/>
          </p:nvSpPr>
          <p:spPr>
            <a:xfrm>
              <a:off x="5181480" y="49528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关键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557676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健美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934320" y="4952880"/>
            <a:ext cx="1218960" cy="1130040"/>
            <a:chOff x="6934320" y="4952880"/>
            <a:chExt cx="1218960" cy="1130040"/>
          </a:xfrm>
        </p:grpSpPr>
        <p:sp>
          <p:nvSpPr>
            <p:cNvPr id="178" name=""/>
            <p:cNvSpPr/>
            <p:nvPr/>
          </p:nvSpPr>
          <p:spPr>
            <a:xfrm>
              <a:off x="6934320" y="495288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波涛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34320" y="556236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滔天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95280" y="8380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用直线连接可以搭配的词语</a:t>
            </a:r>
            <a:r>
              <a:rPr b="1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1905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幽静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2743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微弱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3581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清幽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4419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雪亮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5302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美妙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1905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烛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2743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月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3581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琴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4419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5334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浪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37440" y="645336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05:24:46Z</dcterms:created>
  <dc:creator>wangliping</dc:creator>
  <dc:description/>
  <dc:language>en-US</dc:language>
  <cp:lastModifiedBy>微软用户</cp:lastModifiedBy>
  <dcterms:modified xsi:type="dcterms:W3CDTF">2014-05-17T08:38:49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