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75A-21FA-41E8-A858-3CF1A480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BF7-4D61-439D-99F8-0E815688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50F-0303-46A7-AB98-797D286F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3B5-C614-4116-84B5-6C8BA0C3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9BC-DBA0-4CDA-861C-10E1930F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758-B218-4077-A604-80B1B5AC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918-082B-4FFD-ACEE-6E44FBFF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8297-F452-4D41-9666-1864D28D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A4C-3E4B-4581-9F91-F0A9F3BE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8B2-C5C4-42AE-BB65-AFA1CC59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BBA-6F2C-48DC-8FAF-7FB13AF5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416-4343-4987-93D2-0A6E9067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9C00-F104-4191-9EAF-DE1F4F823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97800" cy="6786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503280" y="-736560"/>
            <a:ext cx="10157040" cy="2725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503280" y="5805360"/>
            <a:ext cx="10157040" cy="123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22320" y="2782800"/>
            <a:ext cx="1981080" cy="3167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077840" y="2925720"/>
            <a:ext cx="1730520" cy="2928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454560" y="2782800"/>
            <a:ext cx="1981080" cy="3167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046920" y="2782800"/>
            <a:ext cx="1981080" cy="316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191280" y="2925720"/>
            <a:ext cx="1697040" cy="288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598920" y="2925720"/>
            <a:ext cx="1697040" cy="28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1536840" y="2133720"/>
            <a:ext cx="5843520" cy="25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1177920" y="16286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84720" y="1628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里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97800" cy="678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35640" y="-669960"/>
            <a:ext cx="3868560" cy="3863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503280" y="-736560"/>
            <a:ext cx="10157040" cy="2725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-503280" y="5805360"/>
            <a:ext cx="10157040" cy="123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536840" y="2133720"/>
            <a:ext cx="5843520" cy="2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84720" y="1628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里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242100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足球运动，是目前全球体育界最具影响力的单项体育运动，故有世界第一大运动的美称！主要以脚支配球为主，但也可以使用头、胸部等部位触球（除守门员外，其他队员不得用手或臂触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守门员出了本方的禁区，那也不能用手或臂触球）。两个队在同一场地内进行攻守的体育运动项目。一场精彩的足球比赛，吸引着数以亿计的观众，它已成为电视节目中的重要内容，有关足球的报道，占据  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着世界各种报刊的篇幅，当今足球运动已成为人们生活中不可缺少的组成部分。据不完全统计，现在世界上经常参加比赛的球队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支，登记注册的运动员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人，其中职业运动员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64480" y="6526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63 -0.31365 L 0.04063 0.01968 E">
                                      <p:cBhvr>
                                        <p:cTn id="2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1943280" cy="787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96000" cy="491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302640" y="3141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BankGothic Lt BT"/>
                <a:ea typeface="华文新魏"/>
              </a:rPr>
              <a:t>谢谢欣赏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2296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3:56:49Z</dcterms:created>
  <dc:creator>pc</dc:creator>
  <dc:description/>
  <dc:language>en-US</dc:language>
  <cp:lastModifiedBy>pc</cp:lastModifiedBy>
  <dcterms:modified xsi:type="dcterms:W3CDTF">2014-10-23T16:24:18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