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727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28880" y="3702240"/>
            <a:ext cx="727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776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28880" y="370224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57760" y="370224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9120" y="155268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9720" y="155268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28880" y="370224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89120" y="370224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9720" y="370224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28880" y="155268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355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57760" y="1552680"/>
            <a:ext cx="355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7760" y="1552680"/>
            <a:ext cx="355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28880" y="370224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28880" y="155268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355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776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57760" y="370224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776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28880" y="3702240"/>
            <a:ext cx="727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727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28880" y="3702240"/>
            <a:ext cx="727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776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28880" y="370224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57760" y="370224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89120" y="155268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720" y="155268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28880" y="370224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89120" y="370224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720" y="3702240"/>
            <a:ext cx="2342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355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57760" y="1552680"/>
            <a:ext cx="355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7760" y="1552680"/>
            <a:ext cx="355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28880" y="370224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355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776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57760" y="370224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7760" y="1552680"/>
            <a:ext cx="355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28880" y="3702240"/>
            <a:ext cx="727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155268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36520" indent="-22608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36520" indent="-22608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38120" y="2668320"/>
            <a:ext cx="4800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38120" y="2668320"/>
            <a:ext cx="4800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705200" y="3904920"/>
            <a:ext cx="3657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398000" y="64008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880" y="155268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" name=""/>
          <p:cNvSpPr/>
          <p:nvPr/>
        </p:nvSpPr>
        <p:spPr>
          <a:xfrm>
            <a:off x="2042640" y="5943600"/>
            <a:ext cx="508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之家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8c8c8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8c8c8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8c8c8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Administrator</dc:creator>
  <dc:description/>
  <dc:language>en-US</dc:language>
  <cp:lastModifiedBy>Nick</cp:lastModifiedBy>
  <cp:lastPrinted>1899-12-30T00:00:00Z</cp:lastPrinted>
  <dcterms:modified xsi:type="dcterms:W3CDTF">2014-05-17T08:10:26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