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B3B0-0BBD-4865-94C2-635F5353C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4360" y="310968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1972-C538-48DD-9843-CDE3E5DDB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6432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4360" y="31096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964320" y="31096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C472-7B85-4784-942F-13B45A9B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48320" y="27082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012640" y="27082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4360" y="31096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48320" y="31096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012640" y="31096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ADCA-B3BF-4D80-9E1C-C723CEB24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7B99-BF00-4DBB-BC86-DAAD7561A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4360" y="270828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8C6E3-21BE-4CC4-9B05-AA260E08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19C6-A2F4-4046-8F7B-CF9A4180D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964320" y="270828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05169-4B6A-4B57-B368-620A04D58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FB5B-76B2-4C6C-8FA8-251609BD8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240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3609-F3F2-4970-8FB8-CC7D294F9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964320" y="270828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4360" y="31096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10E9-B797-439B-9245-9899DE780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4360" y="270828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CE9C-6492-4D81-9A5F-601781159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96432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64320" y="31096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4EF21-F615-4B91-9E9C-470DC929D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6432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4360" y="310968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06E56-B349-4008-901E-699AC570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4360" y="310968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D95E-B3B0-4FFF-9FBC-E6AC2B29B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96432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4360" y="31096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964320" y="31096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2441F-3D57-4A55-85AA-70C0076E4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848320" y="27082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12640" y="27082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4360" y="31096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848320" y="31096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012640" y="3109680"/>
            <a:ext cx="206064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9F87-A5BF-417E-9ACF-C8326CE22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A896-38F6-41EE-870B-8D70CEA2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964320" y="270828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9A80-B3F1-47E0-A8AE-2E64BD07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9A29-10EC-4AAA-8E5A-C2A4BD5B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4360" y="1700280"/>
            <a:ext cx="7772400" cy="467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891-F16C-4226-8267-4811FED5E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964320" y="270828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4360" y="31096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004A-C5D1-4E84-A0EA-9B33C6C2F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3123360" cy="76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96432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964320" y="31096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5CC8-91C1-4AFE-BEA8-E422549BC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436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964320" y="2708280"/>
            <a:ext cx="312336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4360" y="3109680"/>
            <a:ext cx="6400800" cy="36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8280-D08D-4C11-8674-71860F80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0D26-10A7-47D5-8035-F76A46CCF5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4C87-0998-44B1-AE09-1C0BBAD0D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Iceberg"/>
          <p:cNvPicPr/>
          <p:nvPr/>
        </p:nvPicPr>
        <p:blipFill>
          <a:blip r:embed="rId2"/>
          <a:stretch/>
        </p:blipFill>
        <p:spPr>
          <a:xfrm>
            <a:off x="5508720" y="2133720"/>
            <a:ext cx="3617640" cy="4824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46200" y="1601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2360" y="334800"/>
            <a:ext cx="6400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在此输入公司说明介绍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85" name=""/>
          <p:cNvSpPr/>
          <p:nvPr/>
        </p:nvSpPr>
        <p:spPr>
          <a:xfrm>
            <a:off x="23040" y="63086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Swis721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Swis721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Iceberg"/>
          <p:cNvPicPr/>
          <p:nvPr/>
        </p:nvPicPr>
        <p:blipFill>
          <a:blip r:embed="rId2"/>
          <a:stretch/>
        </p:blipFill>
        <p:spPr>
          <a:xfrm>
            <a:off x="4410000" y="981000"/>
            <a:ext cx="3618000" cy="4824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2"/>
          <p:cNvSpPr/>
          <p:nvPr/>
        </p:nvSpPr>
        <p:spPr>
          <a:xfrm>
            <a:off x="535320" y="314280"/>
            <a:ext cx="57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Swis721 Lt BT"/>
              </a:rPr>
              <a:t>目录</a:t>
            </a:r>
            <a:endParaRPr b="0" lang="en-US" sz="26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9640" y="1125360"/>
            <a:ext cx="42084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4 color 3d pie-iceblue"/>
          <p:cNvPicPr/>
          <p:nvPr/>
        </p:nvPicPr>
        <p:blipFill>
          <a:blip r:embed="rId2"/>
          <a:stretch/>
        </p:blipFill>
        <p:spPr>
          <a:xfrm>
            <a:off x="395280" y="1052640"/>
            <a:ext cx="7715160" cy="49417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2000" y="266400"/>
            <a:ext cx="178596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微软雅黑"/>
              </a:rPr>
              <a:t>冰动优势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411280" y="3789360"/>
            <a:ext cx="2449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wis721 Lt BT"/>
              </a:rPr>
              <a:t>在此添加内容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5796000" y="2205000"/>
            <a:ext cx="215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wis721 Lt BT"/>
              </a:rPr>
              <a:t>在此添加内容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971640" y="2421000"/>
            <a:ext cx="187164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wis721 Lt BT"/>
              </a:rPr>
              <a:t>在此添加内容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3564000" y="1270080"/>
            <a:ext cx="21589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Swis721 Lt BT"/>
              </a:rPr>
              <a:t>在此添加内容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00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040" y="638172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Swis721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Swis721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3920" y="256680"/>
            <a:ext cx="1685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Arial"/>
                <a:ea typeface="微软雅黑"/>
              </a:rPr>
              <a:t>行业机遇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9" descr="3 blue Arrows in funnel gradients"/>
          <p:cNvPicPr/>
          <p:nvPr/>
        </p:nvPicPr>
        <p:blipFill>
          <a:blip r:embed="rId2"/>
          <a:stretch/>
        </p:blipFill>
        <p:spPr>
          <a:xfrm>
            <a:off x="1476360" y="2205000"/>
            <a:ext cx="6189840" cy="239076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0"/>
          <p:cNvSpPr/>
          <p:nvPr/>
        </p:nvSpPr>
        <p:spPr>
          <a:xfrm>
            <a:off x="1332000" y="1197000"/>
            <a:ext cx="1944720" cy="661680"/>
          </a:xfrm>
          <a:prstGeom prst="rect">
            <a:avLst/>
          </a:prstGeom>
          <a:noFill/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wis721 Lt BT"/>
              </a:rPr>
              <a:t>市场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  <a:p>
            <a:pPr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Swis721 Lt BT"/>
              </a:rPr>
              <a:t>在此添加内容</a:t>
            </a:r>
            <a:endParaRPr b="0" lang="en-US" sz="14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3564000" y="1197000"/>
            <a:ext cx="1944720" cy="70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wis721 Lt BT"/>
              </a:rPr>
              <a:t>产品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wis721 Lt BT"/>
              </a:rPr>
              <a:t>在此添加内容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5796000" y="1197000"/>
            <a:ext cx="1944720" cy="70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wis721 Lt BT"/>
              </a:rPr>
              <a:t>客户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wis721 Lt BT"/>
              </a:rPr>
              <a:t>在此添加内容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1692360" y="4508640"/>
            <a:ext cx="5833800" cy="7077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wis721 Lt BT"/>
              </a:rPr>
              <a:t>机遇所在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  <a:p>
            <a:pPr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Swis721 Lt BT"/>
              </a:rPr>
              <a:t>在此添加内容</a:t>
            </a:r>
            <a:endParaRPr b="0" lang="en-US" sz="1600" spc="-1" strike="noStrike">
              <a:solidFill>
                <a:srgbClr val="000000"/>
              </a:solidFill>
              <a:latin typeface="Swis721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170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e end,thank you!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4360" y="2708280"/>
            <a:ext cx="6400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>
                <a:solidFill>
                  <a:srgbClr val="ffffff"/>
                </a:solidFill>
                <a:latin typeface="Arial"/>
              </a:rPr>
              <a:t>感谢您的关注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2360" y="334800"/>
            <a:ext cx="6400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在此输入公司说明介绍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Swis721 Lt BT"/>
            </a:endParaRPr>
          </a:p>
        </p:txBody>
      </p:sp>
      <p:sp>
        <p:nvSpPr>
          <p:cNvPr id="107" name=""/>
          <p:cNvSpPr/>
          <p:nvPr/>
        </p:nvSpPr>
        <p:spPr>
          <a:xfrm>
            <a:off x="1144800" y="54450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华文新魏"/>
                <a:ea typeface="华文新魏"/>
                <a:hlinkClick r:id="rId2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Swis721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16:06:33Z</dcterms:created>
  <dc:creator/>
  <dc:description/>
  <dc:language>en-US</dc:language>
  <cp:lastModifiedBy>owner</cp:lastModifiedBy>
  <dcterms:modified xsi:type="dcterms:W3CDTF">2014-10-27T00:43:45Z</dcterms:modified>
  <cp:revision>49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