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14D2-97E1-406F-8D60-FC0AB42C3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E69E-071B-468D-AF6E-960DE9057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1824-15B5-4EBA-A779-6C52A5F0A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574D-1617-4BD9-AF8F-9DFD5F0E0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316080"/>
            <a:ext cx="583236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03CA-1D9E-42F3-AEAE-C3C260AFB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6C99-DF14-49A7-8720-8B50A301F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C3102-8444-4476-AEC7-7C2983C42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7237-64B8-44C2-914C-8FF242962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316080"/>
            <a:ext cx="583236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ADE0E-F032-41D9-B1C9-7B875A4F2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1210-0182-43AB-BFFE-DDE02E830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4DA2-09DE-44B1-8D3A-F008BBBB4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E9F2-99D0-42D8-9D85-1D3427BC9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5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913474E-EBA0-49DD-9749-FDE079D3809A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96" descr="bg1"/>
          <p:cNvPicPr/>
          <p:nvPr/>
        </p:nvPicPr>
        <p:blipFill>
          <a:blip r:embed="rId2"/>
          <a:stretch/>
        </p:blipFill>
        <p:spPr>
          <a:xfrm>
            <a:off x="-15840" y="0"/>
            <a:ext cx="917748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331640" y="1125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68360" y="234756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9360" y="64533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4B6C6DD-D15F-40A1-A53B-294101FEFD6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2320" y="623736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26420a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26420a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26420a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26420a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User</cp:lastModifiedBy>
  <cp:lastPrinted>1899-12-30T00:00:00Z</cp:lastPrinted>
  <dcterms:modified xsi:type="dcterms:W3CDTF">2014-05-15T06:55:50Z</dcterms:modified>
  <cp:revision>2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