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941-B540-47EE-B37C-DFD8DA67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792-4DAF-4EF3-9F3C-E1552EB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6DC-1CF9-42CE-ACE5-6283E70B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1C8-0287-4725-BFC4-11DB5D69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968-44B6-409B-8938-1136104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A6B-1399-429F-8673-1962715A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170-5C91-468E-BE2F-98F638F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AFE-6939-4AC3-AF68-5749D4A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9EE-7A7F-491A-87AF-43C9E3E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256-D403-441D-BE92-737511C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C82-7BB1-4877-BBD1-761F478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D4A-80DC-4402-9D25-38DAC89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0DA-4A81-47D0-A768-CD548C0FDC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7aa5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52000"/>
            <a:ext cx="64008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17aa5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525800" y="47322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000" y="348840"/>
            <a:ext cx="6202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000" y="1344600"/>
            <a:ext cx="6202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66656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4884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7aa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000" y="134460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17a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17aa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071440" y="47322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20:51:42Z</dcterms:created>
  <dc:creator/>
  <dc:description/>
  <dc:language>en-US</dc:language>
  <cp:lastModifiedBy>Ric6000</cp:lastModifiedBy>
  <cp:lastPrinted>1899-12-30T00:00:00Z</cp:lastPrinted>
  <dcterms:modified xsi:type="dcterms:W3CDTF">2014-05-27T09:31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