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E32-3D82-4F34-8320-932ACC5C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F52-5585-406D-869D-388A26D3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C8F-411C-43A6-BC73-596AD747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1A2-47E4-47A1-BF75-7215B016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8402-4B36-48FD-BB95-52B85F5E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FB0C-09BD-426A-854A-7E05FFF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D90-75F7-498D-BCB9-28919BF4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6D67-7334-4A02-AA35-6214A8AF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7880-8980-4252-AD11-14339FC7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FBD-4F4A-4094-9092-361A501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F689-A9F1-4582-8BC1-41E5956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83C-09F8-4EE7-8E3A-EB70B8BB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F097-3547-41F2-9C43-64B8DBA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FC56-B12D-4067-9C84-ED20CE5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E0B2-DB41-41A0-8C36-77AE43A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07D-313E-4A02-A16A-F2FCB5D6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97E-A972-4596-8C6F-86C296F1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9FF-DBFD-4EF4-996D-60614DE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8D6-6FC8-47B4-A7BE-0BDC93F6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AD4-A9FB-422A-92B3-F7C8BF3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D13-8DD5-45D4-8539-E43FCAA1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5CE-8FE3-4FCF-BD92-571FBD7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680-317C-49A1-9226-8651185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8DA-9B0E-4F14-97B0-9DC094A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3F16-0BF1-4DC9-852F-68B2878D17D5}" type="slidenum"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" y="4914720"/>
            <a:ext cx="6227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6E8E-90EE-4CD7-A78A-C4881AEC8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66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66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" y="4914720"/>
            <a:ext cx="6227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棒球运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800" y="4365720"/>
            <a:ext cx="62276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4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8640" y="6343560"/>
            <a:ext cx="60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54:51Z</dcterms:created>
  <dc:creator>Administrator</dc:creator>
  <dc:description/>
  <dc:language>en-US</dc:language>
  <cp:lastModifiedBy/>
  <dcterms:modified xsi:type="dcterms:W3CDTF">2014-11-06T01:22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