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653-166A-45BF-A5F1-BAB7D313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284-1E1B-4BC1-9B59-FB8CD178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F35-88C2-4D84-8276-F48838BC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F95-278C-41A7-A920-BA59EF3A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5E39-F9DC-419D-A969-CFD39771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A35-E011-49E8-88FF-2362E84B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CCE-11CB-44DA-94EE-0D717F80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81C-C8DE-43CB-BED2-B5184B95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F2F9-A6D6-4065-8335-CB2F173C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4896-8157-4B8F-92E2-B4D382CE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3632-A1EE-462F-9274-F54C0F2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997-480E-42CB-867D-9936A144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D3B5-756D-414A-BCD8-C24376E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102-9C9D-429F-9FB9-488F854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7646-1BC4-47FF-AF3E-A623D79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38AB-020B-49AC-B0B0-B8DBAF9A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FDD6-41D4-499A-AF38-440399FE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FA1-B023-4AA3-862A-D8CA312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F25-1B4D-4982-90B7-D1470A02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BA2-5DDE-46E4-9A5A-3FBEE2D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1CB-89BD-44FE-B308-B3EE1B8B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E4D-1589-400F-B543-35E531F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76A-B8E1-4881-A34D-A9192AD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E5C-675F-42AE-97D7-B632A6D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E6F0-A924-4583-8DF3-99CC0433838F}" type="slidenum"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E605-9F60-4B25-B939-ED4A84B287E7}" type="slidenum"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510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85880" y="5716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6007b"/>
                </a:solidFill>
                <a:latin typeface="宋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14200" y="1143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4a8"/>
                </a:solidFill>
                <a:latin typeface="宋体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 rot="21444000">
            <a:off x="5000760" y="5032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6007b"/>
                </a:solidFill>
                <a:latin typeface="宋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 rot="21435000">
            <a:off x="5008680" y="10414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4a8"/>
                </a:solidFill>
                <a:latin typeface="宋体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14200" y="379404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4a8"/>
                </a:solidFill>
                <a:latin typeface="宋体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Franklin Gothic Medium"/>
              <a:ea typeface="隶书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93" name=""/>
          <p:cNvSpPr/>
          <p:nvPr/>
        </p:nvSpPr>
        <p:spPr>
          <a:xfrm>
            <a:off x="1722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9Z</dcterms:created>
  <dc:creator/>
  <dc:description/>
  <dc:language>en-US</dc:language>
  <cp:lastModifiedBy/>
  <cp:lastPrinted>1899-12-30T00:00:00Z</cp:lastPrinted>
  <dcterms:modified xsi:type="dcterms:W3CDTF">2014-06-03T05:41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3626592052</vt:lpwstr>
  </property>
</Properties>
</file>