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90CE-43F7-499A-A1AB-0A9FC149E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8640" y="396360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B197-CC16-4FB5-B452-5FFABE712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93B7-7DC3-4F6C-BE01-977AC9E82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4036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864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4036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7676-E796-4A10-A990-C30058756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8640" y="274320"/>
            <a:ext cx="822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FD61-4A60-4D03-B568-CFF6CF1D2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8640" y="396360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4036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864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4036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EB4FF-42FA-46FF-892B-898D6EFFB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56C97-36BC-4A95-A17B-44B51EEF4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4B66C-7C05-48AE-ACBF-0F0BDC51B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9B1EA-1649-47F7-994B-CAB1E13E3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D983F-B4D0-47DB-B440-E55E52C10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1518-AE83-4BCF-9A48-D53492C5A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8640" y="274320"/>
            <a:ext cx="822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C6916-ABF9-4F1C-96E4-BEA20E633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C7A9C-054E-47DA-9F34-2512F527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C8226-4455-471D-83EC-075526096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EEA56-883B-4AD0-9CB7-447EA849D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8640" y="396360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FDFBB-848F-41EF-A486-DE4586F56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5A82B-9D00-4642-BF02-A14ECAC9D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4036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864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4036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D6B2F-800D-4677-96D8-ABFBC118A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E9183-3391-4428-A990-6C5B5FC75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3C522-090B-4CFF-B650-BC045D30D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7AE47-0FC2-4F4E-AC90-EBC061442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3663-28C3-48A4-AEC5-51763D16F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A0D1D-7DAC-4099-ABBF-4EC15D0B9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BB7DF-D02D-4C82-A198-6D86B7E7B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8640" y="274320"/>
            <a:ext cx="822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CF891-9849-4024-93AC-273E4F6F7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DBF56-912E-459C-9EED-84E4E9FD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29F52-EF9B-4F52-80EA-02E7D203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3D57E-C9E1-4C6E-BC26-DD6B61600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8640" y="396360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44720-6F40-46DB-8597-289BAFDD7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EB3F8-6EA4-485A-B522-648D10790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4036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864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4036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52296-E39B-4E89-834D-7E65B5AD7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0E44-0664-4CDD-8796-CB7017139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8640" y="274320"/>
            <a:ext cx="822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3930-1123-4CFF-A65C-4B7C5C1C8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EDF9-3247-4CCD-B739-277B4A71B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62D0-B93B-4FF7-BC7D-92F3624C3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977A-F4FB-422F-9C63-A430FE585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0"/>
            <a:ext cx="9144000" cy="14176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77693-67A6-4B3F-81BA-E206975CC3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126120"/>
            <a:ext cx="9144000" cy="731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8102520" y="6346800"/>
            <a:ext cx="358920" cy="3589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7985160" y="6588000"/>
            <a:ext cx="235080" cy="2365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8339040" y="6588000"/>
            <a:ext cx="236520" cy="2365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7978680" y="6237360"/>
            <a:ext cx="235080" cy="2365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8339040" y="6235560"/>
            <a:ext cx="236520" cy="2365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-31680" y="0"/>
            <a:ext cx="9175680" cy="38862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149720"/>
            <a:ext cx="7772400" cy="11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102520" y="450720"/>
            <a:ext cx="646200" cy="60984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985160" y="685800"/>
            <a:ext cx="511200" cy="51120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54880" y="692280"/>
            <a:ext cx="511200" cy="51264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961400" y="301680"/>
            <a:ext cx="511200" cy="51264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339040" y="333360"/>
            <a:ext cx="513000" cy="51120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-22320"/>
            <a:ext cx="9144000" cy="4287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2526C-1ECF-4EEC-8C4E-16D16174D8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6126120"/>
            <a:ext cx="9144000" cy="731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102520" y="6346800"/>
            <a:ext cx="358920" cy="3589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85160" y="6588000"/>
            <a:ext cx="235080" cy="2365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339040" y="6588000"/>
            <a:ext cx="236520" cy="2365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78680" y="6237360"/>
            <a:ext cx="235080" cy="2365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339040" y="6235560"/>
            <a:ext cx="236520" cy="2365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marL="336600" indent="-336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93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66720" indent="-2235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7"/>
          </p:nvPr>
        </p:nvSpPr>
        <p:spPr>
          <a:xfrm>
            <a:off x="458640" y="62449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8"/>
          </p:nvPr>
        </p:nvSpPr>
        <p:spPr>
          <a:xfrm>
            <a:off x="3122640" y="6244920"/>
            <a:ext cx="289872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9"/>
          </p:nvPr>
        </p:nvSpPr>
        <p:spPr>
          <a:xfrm>
            <a:off x="6554880" y="62449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1F9C2-9954-4BAC-B9A1-7E4999753F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60240" y="1744560"/>
            <a:ext cx="77724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毕业答辩通用模板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2997000"/>
            <a:ext cx="640080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演讲：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54520" y="4780080"/>
            <a:ext cx="142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院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00600" y="5207040"/>
            <a:ext cx="13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3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16436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801880" y="934920"/>
            <a:ext cx="284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cc00"/>
                </a:solidFill>
                <a:latin typeface="Arial"/>
                <a:ea typeface="微软雅黑"/>
              </a:rPr>
              <a:t>目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744640" y="2143080"/>
            <a:ext cx="576360" cy="576360"/>
          </a:xfrm>
          <a:prstGeom prst="pentagon">
            <a:avLst/>
          </a:prstGeom>
          <a:solidFill>
            <a:srgbClr val="99cc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79840" y="2711520"/>
            <a:ext cx="2303280" cy="0"/>
          </a:xfrm>
          <a:prstGeom prst="line">
            <a:avLst/>
          </a:prstGeom>
          <a:ln w="25560">
            <a:solidFill>
              <a:srgbClr val="99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744640" y="2846520"/>
            <a:ext cx="576360" cy="576000"/>
          </a:xfrm>
          <a:prstGeom prst="pentagon">
            <a:avLst/>
          </a:prstGeom>
          <a:solidFill>
            <a:srgbClr val="ffcc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579840" y="3414600"/>
            <a:ext cx="2303280" cy="1800"/>
          </a:xfrm>
          <a:prstGeom prst="line">
            <a:avLst/>
          </a:prstGeom>
          <a:ln w="255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36720" y="3533760"/>
            <a:ext cx="576360" cy="577800"/>
          </a:xfrm>
          <a:prstGeom prst="pentagon">
            <a:avLst/>
          </a:prstGeom>
          <a:solidFill>
            <a:srgbClr val="99cc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595680" y="4094280"/>
            <a:ext cx="2303640" cy="1440"/>
          </a:xfrm>
          <a:prstGeom prst="line">
            <a:avLst/>
          </a:prstGeom>
          <a:ln w="25560">
            <a:solidFill>
              <a:srgbClr val="99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733840" y="4222800"/>
            <a:ext cx="576000" cy="577800"/>
          </a:xfrm>
          <a:prstGeom prst="pentagon">
            <a:avLst/>
          </a:prstGeom>
          <a:solidFill>
            <a:srgbClr val="ffcc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568680" y="4791240"/>
            <a:ext cx="2303640" cy="1440"/>
          </a:xfrm>
          <a:prstGeom prst="line">
            <a:avLst/>
          </a:prstGeom>
          <a:ln w="255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1 /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一级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正文内容介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61960" y="838080"/>
            <a:ext cx="7777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12640" y="882720"/>
            <a:ext cx="353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二级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719280" y="692280"/>
            <a:ext cx="16048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cc00"/>
                </a:solidFill>
                <a:latin typeface="Arial"/>
                <a:ea typeface="微软雅黑"/>
              </a:rPr>
              <a:t>数据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Rectangle 3"/>
          <p:cNvGraphicFramePr/>
          <p:nvPr/>
        </p:nvGraphicFramePr>
        <p:xfrm>
          <a:off x="1403280" y="1701720"/>
          <a:ext cx="6203880" cy="3432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1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701720"/>
                    <a:ext cx="6203880" cy="34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7164360" y="57340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370240" y="2773440"/>
            <a:ext cx="387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99cc00"/>
                </a:solidFill>
                <a:latin typeface="Arial"/>
                <a:ea typeface="微软雅黑"/>
              </a:rPr>
              <a:t>谢谢聆听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154240" y="3870360"/>
            <a:ext cx="4913280" cy="0"/>
          </a:xfrm>
          <a:prstGeom prst="line">
            <a:avLst/>
          </a:prstGeom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827680" y="1849320"/>
            <a:ext cx="1239840" cy="2053800"/>
            <a:chOff x="5827680" y="1849320"/>
            <a:chExt cx="1239840" cy="2053800"/>
          </a:xfrm>
        </p:grpSpPr>
        <p:grpSp>
          <p:nvGrpSpPr>
            <p:cNvPr id="206" name=""/>
            <p:cNvGrpSpPr/>
            <p:nvPr/>
          </p:nvGrpSpPr>
          <p:grpSpPr>
            <a:xfrm>
              <a:off x="5827680" y="1849320"/>
              <a:ext cx="1239840" cy="2053800"/>
              <a:chOff x="5827680" y="1849320"/>
              <a:chExt cx="1239840" cy="2053800"/>
            </a:xfrm>
          </p:grpSpPr>
          <p:sp>
            <p:nvSpPr>
              <p:cNvPr id="207" name=""/>
              <p:cNvSpPr/>
              <p:nvPr/>
            </p:nvSpPr>
            <p:spPr>
              <a:xfrm>
                <a:off x="6126480" y="1849320"/>
                <a:ext cx="644760" cy="645840"/>
              </a:xfrm>
              <a:prstGeom prst="ellips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243120" y="2378160"/>
                <a:ext cx="410040" cy="1116000"/>
              </a:xfrm>
              <a:prstGeom prst="ellips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891840" y="2534040"/>
                <a:ext cx="175680" cy="176040"/>
              </a:xfrm>
              <a:prstGeom prst="ellips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曲线 235"/>
              <p:cNvSpPr/>
              <p:nvPr/>
            </p:nvSpPr>
            <p:spPr>
              <a:xfrm rot="20520000">
                <a:off x="6515280" y="2658240"/>
                <a:ext cx="464040" cy="381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cubicBezTo>
                      <a:pt x="1394" y="18084"/>
                      <a:pt x="3963" y="7704"/>
                      <a:pt x="8286" y="3852"/>
                    </a:cubicBezTo>
                    <a:cubicBezTo>
                      <a:pt x="12609" y="0"/>
                      <a:pt x="18975" y="1530"/>
                      <a:pt x="21600" y="2321"/>
                    </a:cubicBezTo>
                  </a:path>
                </a:pathLst>
              </a:custGeom>
              <a:noFill/>
              <a:ln w="763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曲线 238"/>
              <p:cNvSpPr/>
              <p:nvPr/>
            </p:nvSpPr>
            <p:spPr>
              <a:xfrm rot="660000">
                <a:off x="5915520" y="2459520"/>
                <a:ext cx="498240" cy="31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cubicBezTo>
                      <a:pt x="4212" y="3699"/>
                      <a:pt x="16289" y="11134"/>
                      <a:pt x="21600" y="21600"/>
                    </a:cubicBezTo>
                  </a:path>
                </a:pathLst>
              </a:custGeom>
              <a:noFill/>
              <a:ln w="763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827680" y="2305440"/>
                <a:ext cx="175680" cy="176040"/>
              </a:xfrm>
              <a:prstGeom prst="ellips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H="1">
                <a:off x="6302160" y="3480840"/>
                <a:ext cx="111600" cy="234360"/>
              </a:xfrm>
              <a:prstGeom prst="line">
                <a:avLst/>
              </a:prstGeom>
              <a:ln w="507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501600" y="3467520"/>
                <a:ext cx="135360" cy="234360"/>
              </a:xfrm>
              <a:prstGeom prst="line">
                <a:avLst/>
              </a:prstGeom>
              <a:ln w="507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6540000">
                <a:off x="6193080" y="3664440"/>
                <a:ext cx="176400" cy="234000"/>
              </a:xfrm>
              <a:prstGeom prst="flowChartDelay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4020000">
                <a:off x="6584040" y="3657960"/>
                <a:ext cx="176400" cy="234000"/>
              </a:xfrm>
              <a:prstGeom prst="flowChartDelay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 rot="6300000">
              <a:off x="6369480" y="2294640"/>
              <a:ext cx="96840" cy="95040"/>
            </a:xfrm>
            <a:prstGeom prst="flowChartDelay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273360" y="2069640"/>
              <a:ext cx="75960" cy="74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546600" y="2118960"/>
              <a:ext cx="75960" cy="74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1505160" y="602136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yellownancy</dc:creator>
  <dc:description/>
  <dc:language>en-US</dc:language>
  <cp:lastModifiedBy>LHCan</cp:lastModifiedBy>
  <dcterms:modified xsi:type="dcterms:W3CDTF">2014-05-21T14:39:26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