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6.wmf" ContentType="image/x-wmf"/>
  <Override PartName="/ppt/media/image3.wmf" ContentType="image/x-wmf"/>
  <Override PartName="/ppt/media/image2.png" ContentType="image/png"/>
  <Override PartName="/ppt/media/image25.jpeg" ContentType="image/jpeg"/>
  <Override PartName="/ppt/media/image10.png" ContentType="image/png"/>
  <Override PartName="/ppt/media/image5.png" ContentType="image/png"/>
  <Override PartName="/ppt/media/image26.png" ContentType="image/png"/>
  <Override PartName="/ppt/media/image22.jpeg" ContentType="image/jpeg"/>
  <Override PartName="/ppt/media/image1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24.gif" ContentType="image/gif"/>
  <Override PartName="/ppt/media/image27.png" ContentType="image/png"/>
  <Override PartName="/ppt/media/image1.gif" ContentType="image/gi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124000" y="0"/>
            <a:ext cx="1152720" cy="614520"/>
          </a:xfrm>
          <a:prstGeom prst="parallelogram">
            <a:avLst>
              <a:gd name="adj" fmla="val 1284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495360"/>
            <a:ext cx="9144000" cy="1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70640"/>
            <a:ext cx="91440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979640" y="6480000"/>
            <a:ext cx="792000" cy="405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79200"/>
            <a:ext cx="129672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隶书"/>
              </a:rPr>
              <a:t>复习导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733400" y="81000"/>
            <a:ext cx="12970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隶书"/>
              </a:rPr>
              <a:t>演示实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216240" y="81000"/>
            <a:ext cx="12970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隶书"/>
              </a:rPr>
              <a:t>学生实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700520" y="81000"/>
            <a:ext cx="12970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隶书"/>
              </a:rPr>
              <a:t>小  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183360" y="81000"/>
            <a:ext cx="12970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隶书"/>
              </a:rPr>
              <a:t>检测评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667640" y="81000"/>
            <a:ext cx="129708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华文隶书"/>
              </a:rPr>
              <a:t>拓展练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250920" y="654840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第三节  串联和并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3059280" y="652140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广东省梅州市梅县广益中学       制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葛小英  丘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956720" y="6308640"/>
            <a:ext cx="576000" cy="647640"/>
          </a:xfrm>
          <a:prstGeom prst="diamond">
            <a:avLst/>
          </a:prstGeom>
          <a:solidFill>
            <a:srgbClr val="ff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flipH="1">
            <a:off x="8027640" y="6453360"/>
            <a:ext cx="376200" cy="404640"/>
          </a:xfrm>
          <a:prstGeom prst="rect">
            <a:avLst/>
          </a:prstGeom>
          <a:ln w="0">
            <a:noFill/>
          </a:ln>
        </p:spPr>
      </p:pic>
      <p:sp>
        <p:nvSpPr>
          <p:cNvPr id="16" name="">
            <a:hlinkClick r:id="rId3"/>
          </p:cNvPr>
          <p:cNvSpPr/>
          <p:nvPr/>
        </p:nvSpPr>
        <p:spPr>
          <a:xfrm>
            <a:off x="8532720" y="6310440"/>
            <a:ext cx="576360" cy="647640"/>
          </a:xfrm>
          <a:prstGeom prst="diamond">
            <a:avLst/>
          </a:prstGeom>
          <a:solidFill>
            <a:srgbClr val="ff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88520" y="6453360"/>
            <a:ext cx="37620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0"/>
            <a:ext cx="1152720" cy="614520"/>
          </a:xfrm>
          <a:prstGeom prst="parallelogram">
            <a:avLst>
              <a:gd name="adj" fmla="val 1284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95360"/>
            <a:ext cx="9144000" cy="1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470640"/>
            <a:ext cx="91440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6453360"/>
            <a:ext cx="792360" cy="404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1484280"/>
            <a:ext cx="9144000" cy="4249440"/>
            <a:chOff x="0" y="1484280"/>
            <a:chExt cx="9144000" cy="4249440"/>
          </a:xfrm>
        </p:grpSpPr>
        <p:sp>
          <p:nvSpPr>
            <p:cNvPr id="61" name=""/>
            <p:cNvSpPr/>
            <p:nvPr/>
          </p:nvSpPr>
          <p:spPr>
            <a:xfrm>
              <a:off x="0" y="1484280"/>
              <a:ext cx="9144000" cy="4249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rcRect l="2623" t="1845" r="3884" b="1845"/>
            <a:stretch/>
          </p:blipFill>
          <p:spPr>
            <a:xfrm>
              <a:off x="6732720" y="1484280"/>
              <a:ext cx="2411280" cy="424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3281400" y="18000"/>
            <a:ext cx="58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义 务 教 育 课 程 标 准 实 验 教 科 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5640" y="2781360"/>
            <a:ext cx="4248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第三节 串联和并联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55664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五章   电流和电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4364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广 东 省 梅 县 广 益 中 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48315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授 课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: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丘  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101080" y="5734080"/>
            <a:ext cx="1042920" cy="1123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 flipH="1">
            <a:off x="0" y="5661000"/>
            <a:ext cx="1116000" cy="1197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52995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制 作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: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葛小英  丘  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755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6000" y="-1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初 中 物 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2.jpeg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image" Target="../media/image14.png"/><Relationship Id="rId11" Type="http://schemas.openxmlformats.org/officeDocument/2006/relationships/image" Target="../media/image21.png"/><Relationship Id="rId12" Type="http://schemas.openxmlformats.org/officeDocument/2006/relationships/image" Target="../media/image16.png"/><Relationship Id="rId13" Type="http://schemas.openxmlformats.org/officeDocument/2006/relationships/image" Target="../media/image15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2.jpeg"/><Relationship Id="rId18" Type="http://schemas.openxmlformats.org/officeDocument/2006/relationships/image" Target="../media/image21.png"/><Relationship Id="rId19" Type="http://schemas.openxmlformats.org/officeDocument/2006/relationships/image" Target="../media/image22.jpeg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1.jpe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11.jpe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1.jpe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10.png"/><Relationship Id="rId22" Type="http://schemas.openxmlformats.org/officeDocument/2006/relationships/image" Target="../media/image11.jpe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10.png"/><Relationship Id="rId26" Type="http://schemas.openxmlformats.org/officeDocument/2006/relationships/image" Target="../media/image11.jpe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1.jpe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1.jpe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10.png"/><Relationship Id="rId16" Type="http://schemas.openxmlformats.org/officeDocument/2006/relationships/image" Target="../media/image11.jpe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10.png"/><Relationship Id="rId20" Type="http://schemas.openxmlformats.org/officeDocument/2006/relationships/image" Target="../media/image11.jpe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11.jpe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11.jpe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11.jpe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11.jpe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11.jpe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68,9,&#24187;&#28783;&#29255; 9" TargetMode="External"/><Relationship Id="rId2" Type="http://schemas.openxmlformats.org/officeDocument/2006/relationships/hyperlink" Target="268,9,&#24187;&#28783;&#29255; 9" TargetMode="External"/><Relationship Id="rId3" Type="http://schemas.openxmlformats.org/officeDocument/2006/relationships/hyperlink" Target="268,9,&#24187;&#28783;&#29255; 9" TargetMode="External"/><Relationship Id="rId4" Type="http://schemas.openxmlformats.org/officeDocument/2006/relationships/hyperlink" Target="269,10,&#24187;&#28783;&#29255; 10" TargetMode="External"/><Relationship Id="rId5" Type="http://schemas.openxmlformats.org/officeDocument/2006/relationships/hyperlink" Target="269,10,&#24187;&#28783;&#29255; 10" TargetMode="External"/><Relationship Id="rId6" Type="http://schemas.openxmlformats.org/officeDocument/2006/relationships/hyperlink" Target="269,10,&#24187;&#28783;&#29255; 10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8,9,&#24187;&#28783;&#29255; 9" TargetMode="External"/><Relationship Id="rId2" Type="http://schemas.openxmlformats.org/officeDocument/2006/relationships/hyperlink" Target="268,9,&#24187;&#28783;&#29255; 9" TargetMode="External"/><Relationship Id="rId3" Type="http://schemas.openxmlformats.org/officeDocument/2006/relationships/hyperlink" Target="268,9,&#24187;&#28783;&#29255; 9" TargetMode="External"/><Relationship Id="rId4" Type="http://schemas.openxmlformats.org/officeDocument/2006/relationships/hyperlink" Target="269,10,&#24187;&#28783;&#29255; 10" TargetMode="External"/><Relationship Id="rId5" Type="http://schemas.openxmlformats.org/officeDocument/2006/relationships/hyperlink" Target="269,10,&#24187;&#28783;&#29255; 10" TargetMode="External"/><Relationship Id="rId6" Type="http://schemas.openxmlformats.org/officeDocument/2006/relationships/hyperlink" Target="269,10,&#24187;&#28783;&#29255; 10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00720" y="5950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"/>
          <p:cNvGrpSpPr/>
          <p:nvPr/>
        </p:nvGrpSpPr>
        <p:grpSpPr>
          <a:xfrm>
            <a:off x="468360" y="765000"/>
            <a:ext cx="8388360" cy="5516640"/>
            <a:chOff x="468360" y="765000"/>
            <a:chExt cx="8388360" cy="5516640"/>
          </a:xfrm>
        </p:grpSpPr>
        <p:sp>
          <p:nvSpPr>
            <p:cNvPr id="1057" name=""/>
            <p:cNvSpPr/>
            <p:nvPr/>
          </p:nvSpPr>
          <p:spPr>
            <a:xfrm>
              <a:off x="901800" y="830160"/>
              <a:ext cx="7885080" cy="48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:</a:t>
              </a:r>
              <a:br>
                <a:rPr sz="4400"/>
              </a:b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若把开关接在串联电路的其他位置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开关作用是否改变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问题</a:t>
              </a:r>
              <a:r>
                <a:rPr b="1" lang="en-US" sz="4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:</a:t>
              </a:r>
              <a:br>
                <a:rPr sz="4400"/>
              </a:b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把其中一灯泡旋下来后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另一个灯泡还能否发光</a:t>
              </a:r>
              <a:r>
                <a:rPr b="1" lang="en-US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猜想</a:t>
              </a:r>
              <a:r>
                <a:rPr b="1" lang="en-US" sz="44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:……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8360" y="765000"/>
              <a:ext cx="8388360" cy="5516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765000"/>
            <a:ext cx="4788000" cy="554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280" y="792000"/>
            <a:ext cx="730440" cy="765360"/>
            <a:chOff x="206280" y="792000"/>
            <a:chExt cx="730440" cy="765360"/>
          </a:xfrm>
        </p:grpSpPr>
        <p:sp>
          <p:nvSpPr>
            <p:cNvPr id="1061" name=""/>
            <p:cNvSpPr/>
            <p:nvPr/>
          </p:nvSpPr>
          <p:spPr>
            <a:xfrm>
              <a:off x="206280" y="792000"/>
              <a:ext cx="730440" cy="7653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4560" y="895320"/>
              <a:ext cx="532440" cy="55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1201680" y="792000"/>
            <a:ext cx="730440" cy="765360"/>
            <a:chOff x="1201680" y="792000"/>
            <a:chExt cx="730440" cy="765360"/>
          </a:xfrm>
        </p:grpSpPr>
        <p:sp>
          <p:nvSpPr>
            <p:cNvPr id="1064" name=""/>
            <p:cNvSpPr/>
            <p:nvPr/>
          </p:nvSpPr>
          <p:spPr>
            <a:xfrm>
              <a:off x="1201680" y="792000"/>
              <a:ext cx="730440" cy="7653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99960" y="895320"/>
              <a:ext cx="532440" cy="55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2197080" y="790560"/>
            <a:ext cx="730440" cy="765360"/>
            <a:chOff x="2197080" y="790560"/>
            <a:chExt cx="730440" cy="765360"/>
          </a:xfrm>
        </p:grpSpPr>
        <p:sp>
          <p:nvSpPr>
            <p:cNvPr id="1067" name=""/>
            <p:cNvSpPr/>
            <p:nvPr/>
          </p:nvSpPr>
          <p:spPr>
            <a:xfrm>
              <a:off x="2197080" y="790560"/>
              <a:ext cx="730440" cy="7653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95360" y="893880"/>
              <a:ext cx="532440" cy="55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193920" y="792000"/>
            <a:ext cx="730440" cy="765360"/>
            <a:chOff x="3193920" y="792000"/>
            <a:chExt cx="730440" cy="765360"/>
          </a:xfrm>
        </p:grpSpPr>
        <p:sp>
          <p:nvSpPr>
            <p:cNvPr id="1070" name=""/>
            <p:cNvSpPr/>
            <p:nvPr/>
          </p:nvSpPr>
          <p:spPr>
            <a:xfrm>
              <a:off x="3193920" y="792000"/>
              <a:ext cx="730440" cy="765360"/>
            </a:xfrm>
            <a:prstGeom prst="ellipse">
              <a:avLst/>
            </a:prstGeom>
            <a:gradFill rotWithShape="0">
              <a:gsLst>
                <a:gs pos="0">
                  <a:srgbClr val="ff99ff"/>
                </a:gs>
                <a:gs pos="5000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92200" y="895320"/>
              <a:ext cx="532440" cy="55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580000" y="1052640"/>
            <a:ext cx="2160360" cy="1950480"/>
            <a:chOff x="5580000" y="1052640"/>
            <a:chExt cx="2160360" cy="1950480"/>
          </a:xfrm>
        </p:grpSpPr>
        <p:sp>
          <p:nvSpPr>
            <p:cNvPr id="1073" name=""/>
            <p:cNvSpPr/>
            <p:nvPr/>
          </p:nvSpPr>
          <p:spPr>
            <a:xfrm>
              <a:off x="5580000" y="2636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5724360" y="1052640"/>
              <a:ext cx="2016000" cy="1296360"/>
              <a:chOff x="5724360" y="1052640"/>
              <a:chExt cx="2016000" cy="129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5724360" y="119520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227640" y="1158480"/>
                <a:ext cx="73080" cy="7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445080" y="119520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948360" y="1052640"/>
                <a:ext cx="0" cy="28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19640" y="10872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019640" y="1196640"/>
                <a:ext cx="719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740360" y="1196640"/>
                <a:ext cx="0" cy="100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235640" y="220464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948360" y="2060280"/>
                <a:ext cx="287280" cy="288720"/>
              </a:xfrm>
              <a:prstGeom prst="flowChartSummingJunction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724360" y="220464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156000" y="2060280"/>
                <a:ext cx="287640" cy="288720"/>
              </a:xfrm>
              <a:prstGeom prst="flowChartSummingJunction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443640" y="2204640"/>
                <a:ext cx="50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724360" y="1196640"/>
                <a:ext cx="0" cy="100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6227640" y="1052640"/>
                <a:ext cx="217440" cy="14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091920" y="162864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884280" y="160308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1" name=""/>
          <p:cNvGrpSpPr/>
          <p:nvPr/>
        </p:nvGrpSpPr>
        <p:grpSpPr>
          <a:xfrm>
            <a:off x="5003640" y="620640"/>
            <a:ext cx="3889080" cy="3319560"/>
            <a:chOff x="5003640" y="620640"/>
            <a:chExt cx="3889080" cy="3319560"/>
          </a:xfrm>
        </p:grpSpPr>
        <p:grpSp>
          <p:nvGrpSpPr>
            <p:cNvPr id="1092" name=""/>
            <p:cNvGrpSpPr/>
            <p:nvPr/>
          </p:nvGrpSpPr>
          <p:grpSpPr>
            <a:xfrm>
              <a:off x="5003640" y="620640"/>
              <a:ext cx="3889080" cy="2808360"/>
              <a:chOff x="5003640" y="620640"/>
              <a:chExt cx="3889080" cy="2808360"/>
            </a:xfrm>
          </p:grpSpPr>
          <p:sp>
            <p:nvSpPr>
              <p:cNvPr id="1093" name=""/>
              <p:cNvSpPr/>
              <p:nvPr/>
            </p:nvSpPr>
            <p:spPr>
              <a:xfrm>
                <a:off x="5003640" y="906480"/>
                <a:ext cx="969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73480" y="836640"/>
                <a:ext cx="141480" cy="145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392880" y="906480"/>
                <a:ext cx="969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362720" y="620640"/>
                <a:ext cx="0" cy="57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500600" y="69048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500600" y="90972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889840" y="909720"/>
                <a:ext cx="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178400" y="3139920"/>
                <a:ext cx="99396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624360" y="2851200"/>
                <a:ext cx="554040" cy="577800"/>
              </a:xfrm>
              <a:prstGeom prst="flowChartSummingJunction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003640" y="2565360"/>
                <a:ext cx="717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681600" y="1701720"/>
                <a:ext cx="554040" cy="577800"/>
              </a:xfrm>
              <a:prstGeom prst="flowChartSummingJunction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139920"/>
                <a:ext cx="9702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003640" y="909720"/>
                <a:ext cx="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6084720" y="639360"/>
                <a:ext cx="287280" cy="19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021360" y="148572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019560" y="268452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651280" y="1989000"/>
                <a:ext cx="0" cy="57636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651280" y="2565360"/>
                <a:ext cx="0" cy="57636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81440" y="2495520"/>
                <a:ext cx="142920" cy="1429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237080" y="1989000"/>
                <a:ext cx="93528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51280" y="1989000"/>
                <a:ext cx="10080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8168760" y="2565360"/>
                <a:ext cx="72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170560" y="1989000"/>
                <a:ext cx="0" cy="57636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170560" y="2565360"/>
                <a:ext cx="0" cy="57636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>
                <a:off x="8100000" y="2495520"/>
                <a:ext cx="142920" cy="1429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5790960" y="357336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5580000" y="4149360"/>
            <a:ext cx="2160360" cy="1865520"/>
            <a:chOff x="5580000" y="4149360"/>
            <a:chExt cx="2160360" cy="1865520"/>
          </a:xfrm>
        </p:grpSpPr>
        <p:grpSp>
          <p:nvGrpSpPr>
            <p:cNvPr id="1120" name=""/>
            <p:cNvGrpSpPr/>
            <p:nvPr/>
          </p:nvGrpSpPr>
          <p:grpSpPr>
            <a:xfrm>
              <a:off x="5724360" y="4149360"/>
              <a:ext cx="2016000" cy="1297440"/>
              <a:chOff x="5724360" y="4149360"/>
              <a:chExt cx="2016000" cy="1297440"/>
            </a:xfrm>
          </p:grpSpPr>
          <p:sp>
            <p:nvSpPr>
              <p:cNvPr id="1121" name=""/>
              <p:cNvSpPr/>
              <p:nvPr/>
            </p:nvSpPr>
            <p:spPr>
              <a:xfrm>
                <a:off x="6732360" y="4292640"/>
                <a:ext cx="430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162560" y="4255920"/>
                <a:ext cx="73080" cy="73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24360" y="4292640"/>
                <a:ext cx="93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659280" y="414972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730920" y="4184640"/>
                <a:ext cx="0" cy="21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380000" y="429408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0360" y="429408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235640" y="5302080"/>
                <a:ext cx="50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948360" y="5157720"/>
                <a:ext cx="287280" cy="289080"/>
              </a:xfrm>
              <a:prstGeom prst="flowChartSummingJunction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724360" y="530208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156000" y="5157720"/>
                <a:ext cx="287640" cy="289080"/>
              </a:xfrm>
              <a:prstGeom prst="flowChartSummingJunction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443640" y="5302080"/>
                <a:ext cx="502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724360" y="4294080"/>
                <a:ext cx="0" cy="10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7162560" y="4149360"/>
                <a:ext cx="21744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091920" y="472608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884280" y="470052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5580000" y="56484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5146560" y="3514680"/>
            <a:ext cx="3889080" cy="3319560"/>
            <a:chOff x="5146560" y="3514680"/>
            <a:chExt cx="3889080" cy="3319560"/>
          </a:xfrm>
        </p:grpSpPr>
        <p:grpSp>
          <p:nvGrpSpPr>
            <p:cNvPr id="1139" name=""/>
            <p:cNvGrpSpPr/>
            <p:nvPr/>
          </p:nvGrpSpPr>
          <p:grpSpPr>
            <a:xfrm>
              <a:off x="5146560" y="3514680"/>
              <a:ext cx="3889080" cy="2808360"/>
              <a:chOff x="5146560" y="3514680"/>
              <a:chExt cx="3889080" cy="2808360"/>
            </a:xfrm>
          </p:grpSpPr>
          <p:sp>
            <p:nvSpPr>
              <p:cNvPr id="1140" name=""/>
              <p:cNvSpPr/>
              <p:nvPr/>
            </p:nvSpPr>
            <p:spPr>
              <a:xfrm>
                <a:off x="7019640" y="3800520"/>
                <a:ext cx="792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812000" y="3730680"/>
                <a:ext cx="141120" cy="1458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146560" y="3800520"/>
                <a:ext cx="172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75280" y="3514680"/>
                <a:ext cx="0" cy="57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013520" y="35845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243640" y="3803760"/>
                <a:ext cx="785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9032760" y="3803760"/>
                <a:ext cx="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321320" y="6033960"/>
                <a:ext cx="99396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767280" y="5745240"/>
                <a:ext cx="554040" cy="577800"/>
              </a:xfrm>
              <a:prstGeom prst="flowChartSummingJunction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146560" y="5459400"/>
                <a:ext cx="717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824520" y="4595760"/>
                <a:ext cx="554040" cy="577800"/>
              </a:xfrm>
              <a:prstGeom prst="flowChartSummingJunction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794200" y="6033960"/>
                <a:ext cx="9702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46560" y="3803760"/>
                <a:ext cx="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7883280" y="3533400"/>
                <a:ext cx="287640" cy="19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64280" y="437976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62480" y="557856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794200" y="4883040"/>
                <a:ext cx="0" cy="57636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794200" y="5459400"/>
                <a:ext cx="0" cy="57636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724360" y="5389560"/>
                <a:ext cx="142920" cy="1429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380000" y="4883040"/>
                <a:ext cx="93528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794200" y="4883040"/>
                <a:ext cx="1008000" cy="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8311680" y="5459400"/>
                <a:ext cx="72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313480" y="4883040"/>
                <a:ext cx="0" cy="57636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313480" y="5459400"/>
                <a:ext cx="0" cy="57636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8242920" y="5389560"/>
                <a:ext cx="142920" cy="1429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"/>
            <p:cNvSpPr/>
            <p:nvPr/>
          </p:nvSpPr>
          <p:spPr>
            <a:xfrm>
              <a:off x="5933880" y="6467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0" y="1557360"/>
            <a:ext cx="4643280" cy="576360"/>
            <a:chOff x="0" y="1557360"/>
            <a:chExt cx="4643280" cy="576360"/>
          </a:xfrm>
        </p:grpSpPr>
        <p:sp>
          <p:nvSpPr>
            <p:cNvPr id="1167" name=""/>
            <p:cNvSpPr/>
            <p:nvPr/>
          </p:nvSpPr>
          <p:spPr>
            <a:xfrm>
              <a:off x="0" y="1557360"/>
              <a:ext cx="4643280" cy="0"/>
            </a:xfrm>
            <a:prstGeom prst="line">
              <a:avLst/>
            </a:prstGeom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0" y="2133720"/>
              <a:ext cx="4643280" cy="0"/>
            </a:xfrm>
            <a:prstGeom prst="line">
              <a:avLst/>
            </a:prstGeom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85240" y="163044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实验要求：先画出电路图，根据电路图连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4211640" y="836640"/>
            <a:ext cx="2627280" cy="2736720"/>
            <a:chOff x="4211640" y="836640"/>
            <a:chExt cx="2627280" cy="2736720"/>
          </a:xfrm>
        </p:grpSpPr>
        <p:sp>
          <p:nvSpPr>
            <p:cNvPr id="1171" name=""/>
            <p:cNvSpPr/>
            <p:nvPr/>
          </p:nvSpPr>
          <p:spPr>
            <a:xfrm>
              <a:off x="4211640" y="836640"/>
              <a:ext cx="2627280" cy="2736720"/>
            </a:xfrm>
            <a:custGeom>
              <a:avLst/>
              <a:gdLst>
                <a:gd name="textAreaLeft" fmla="*/ 128160 w 2627280"/>
                <a:gd name="textAreaRight" fmla="*/ 2499120 w 2627280"/>
                <a:gd name="textAreaTop" fmla="*/ 128160 h 2736720"/>
                <a:gd name="textAreaBottom" fmla="*/ 2608560 h 2736720"/>
              </a:gdLst>
              <a:ahLst/>
              <a:rect l="textAreaLeft" t="textAreaTop" r="textAreaRight" b="textAreaBottom"/>
              <a:pathLst>
                <a:path w="21600" h="22500">
                  <a:moveTo>
                    <a:pt x="3600" y="0"/>
                  </a:moveTo>
                  <a:arcTo wR="3600" hR="3600" stAng="16200000" swAng="-5400000"/>
                  <a:lnTo>
                    <a:pt x="0" y="18900"/>
                  </a:lnTo>
                  <a:arcTo wR="3600" hR="3600" stAng="10800000" swAng="-5400000"/>
                  <a:lnTo>
                    <a:pt x="18000" y="225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354560" y="870120"/>
              <a:ext cx="248436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任何情况下都不允许不经过用电器而把电源的两端直接连在一起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140360" y="691920"/>
            <a:ext cx="792000" cy="934920"/>
            <a:chOff x="4140360" y="691920"/>
            <a:chExt cx="792000" cy="934920"/>
          </a:xfrm>
        </p:grpSpPr>
        <p:sp>
          <p:nvSpPr>
            <p:cNvPr id="1174" name=""/>
            <p:cNvSpPr/>
            <p:nvPr/>
          </p:nvSpPr>
          <p:spPr>
            <a:xfrm flipV="1">
              <a:off x="4140360" y="691200"/>
              <a:ext cx="792000" cy="93492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 txBox="1"/>
            <p:nvPr/>
          </p:nvSpPr>
          <p:spPr>
            <a:xfrm>
              <a:off x="4464360" y="763560"/>
              <a:ext cx="144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！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1176" name="">
            <a:hlinkClick r:id="" action="ppaction://hlinkshowjump?jump=nextslide"/>
          </p:cNvPr>
          <p:cNvSpPr/>
          <p:nvPr/>
        </p:nvSpPr>
        <p:spPr>
          <a:xfrm>
            <a:off x="8136000" y="5950080"/>
            <a:ext cx="1008000" cy="54900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3530520" y="3500280"/>
            <a:ext cx="1257480" cy="797040"/>
            <a:chOff x="3530520" y="3500280"/>
            <a:chExt cx="1257480" cy="797040"/>
          </a:xfrm>
        </p:grpSpPr>
        <p:pic>
          <p:nvPicPr>
            <p:cNvPr id="1178" name="" descr=""/>
            <p:cNvPicPr/>
            <p:nvPr/>
          </p:nvPicPr>
          <p:blipFill>
            <a:blip r:embed="rId1"/>
            <a:stretch/>
          </p:blipFill>
          <p:spPr>
            <a:xfrm>
              <a:off x="3530520" y="3859200"/>
              <a:ext cx="125748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9" name="" descr=""/>
            <p:cNvPicPr/>
            <p:nvPr/>
          </p:nvPicPr>
          <p:blipFill>
            <a:blip r:embed="rId2"/>
            <a:stretch/>
          </p:blipFill>
          <p:spPr>
            <a:xfrm flipH="1">
              <a:off x="3961800" y="3500280"/>
              <a:ext cx="358920" cy="59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0" name="" descr=""/>
          <p:cNvPicPr/>
          <p:nvPr/>
        </p:nvPicPr>
        <p:blipFill>
          <a:blip r:embed="rId3"/>
          <a:stretch/>
        </p:blipFill>
        <p:spPr>
          <a:xfrm>
            <a:off x="538200" y="5037120"/>
            <a:ext cx="2087640" cy="1055880"/>
          </a:xfrm>
          <a:prstGeom prst="rect">
            <a:avLst/>
          </a:prstGeom>
          <a:ln w="0">
            <a:noFill/>
          </a:ln>
        </p:spPr>
      </p:pic>
      <p:pic>
        <p:nvPicPr>
          <p:cNvPr id="1181" name="" descr=""/>
          <p:cNvPicPr/>
          <p:nvPr/>
        </p:nvPicPr>
        <p:blipFill>
          <a:blip r:embed="rId4"/>
          <a:stretch/>
        </p:blipFill>
        <p:spPr>
          <a:xfrm>
            <a:off x="538200" y="2565360"/>
            <a:ext cx="2467080" cy="676440"/>
          </a:xfrm>
          <a:prstGeom prst="rect">
            <a:avLst/>
          </a:prstGeom>
          <a:ln w="0">
            <a:noFill/>
          </a:ln>
        </p:spPr>
      </p:pic>
      <p:grpSp>
        <p:nvGrpSpPr>
          <p:cNvPr id="1182" name=""/>
          <p:cNvGrpSpPr/>
          <p:nvPr/>
        </p:nvGrpSpPr>
        <p:grpSpPr>
          <a:xfrm>
            <a:off x="2954160" y="5445000"/>
            <a:ext cx="1257480" cy="797040"/>
            <a:chOff x="2954160" y="5445000"/>
            <a:chExt cx="1257480" cy="797040"/>
          </a:xfrm>
        </p:grpSpPr>
        <p:pic>
          <p:nvPicPr>
            <p:cNvPr id="1183" name="" descr=""/>
            <p:cNvPicPr/>
            <p:nvPr/>
          </p:nvPicPr>
          <p:blipFill>
            <a:blip r:embed="rId5"/>
            <a:stretch/>
          </p:blipFill>
          <p:spPr>
            <a:xfrm>
              <a:off x="2954160" y="5803920"/>
              <a:ext cx="125748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 flipH="1">
              <a:off x="3385440" y="5445000"/>
              <a:ext cx="358920" cy="59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"/>
          <p:cNvSpPr/>
          <p:nvPr/>
        </p:nvSpPr>
        <p:spPr>
          <a:xfrm>
            <a:off x="3358080" y="4869000"/>
            <a:ext cx="509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r>
              <a:rPr b="1" lang="en-US" sz="3200" spc="-1" strike="noStrike" baseline="-10000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718440" y="2781360"/>
            <a:ext cx="509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r>
              <a:rPr b="1" lang="en-US" sz="3200" spc="-1" strike="noStrike" baseline="-10000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2556000" y="2781360"/>
            <a:ext cx="2663280" cy="3816360"/>
            <a:chOff x="2556000" y="2781360"/>
            <a:chExt cx="2663280" cy="3816360"/>
          </a:xfrm>
        </p:grpSpPr>
        <p:pic>
          <p:nvPicPr>
            <p:cNvPr id="1188" name="" descr=""/>
            <p:cNvPicPr/>
            <p:nvPr/>
          </p:nvPicPr>
          <p:blipFill>
            <a:blip r:embed="rId7"/>
            <a:stretch/>
          </p:blipFill>
          <p:spPr>
            <a:xfrm>
              <a:off x="3132000" y="2781360"/>
              <a:ext cx="208728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9" name="" descr=""/>
            <p:cNvPicPr/>
            <p:nvPr/>
          </p:nvPicPr>
          <p:blipFill>
            <a:blip r:embed="rId8"/>
            <a:stretch/>
          </p:blipFill>
          <p:spPr>
            <a:xfrm>
              <a:off x="2556000" y="4726080"/>
              <a:ext cx="2087280" cy="18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0" name=""/>
          <p:cNvGrpSpPr/>
          <p:nvPr/>
        </p:nvGrpSpPr>
        <p:grpSpPr>
          <a:xfrm>
            <a:off x="-144000" y="4170240"/>
            <a:ext cx="2687760" cy="1892160"/>
            <a:chOff x="-144000" y="4170240"/>
            <a:chExt cx="2687760" cy="1892160"/>
          </a:xfrm>
        </p:grpSpPr>
        <p:pic>
          <p:nvPicPr>
            <p:cNvPr id="1191" name="" descr=""/>
            <p:cNvPicPr/>
            <p:nvPr/>
          </p:nvPicPr>
          <p:blipFill>
            <a:blip r:embed="rId9"/>
            <a:stretch/>
          </p:blipFill>
          <p:spPr>
            <a:xfrm rot="19911000">
              <a:off x="900360" y="4437360"/>
              <a:ext cx="143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"/>
            <p:cNvSpPr/>
            <p:nvPr/>
          </p:nvSpPr>
          <p:spPr>
            <a:xfrm rot="19911000">
              <a:off x="-172800" y="5540040"/>
              <a:ext cx="1351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3" name="" descr=""/>
          <p:cNvPicPr/>
          <p:nvPr/>
        </p:nvPicPr>
        <p:blipFill>
          <a:blip r:embed="rId10"/>
          <a:srcRect l="34195" t="0" r="0" b="0"/>
          <a:stretch/>
        </p:blipFill>
        <p:spPr>
          <a:xfrm>
            <a:off x="1114560" y="5253120"/>
            <a:ext cx="93600" cy="431640"/>
          </a:xfrm>
          <a:prstGeom prst="rect">
            <a:avLst/>
          </a:prstGeom>
          <a:ln w="0">
            <a:noFill/>
          </a:ln>
        </p:spPr>
      </p:pic>
      <p:pic>
        <p:nvPicPr>
          <p:cNvPr id="1194" name="" descr=""/>
          <p:cNvPicPr/>
          <p:nvPr/>
        </p:nvPicPr>
        <p:blipFill>
          <a:blip r:embed="rId11"/>
          <a:srcRect l="28649" t="884" r="28108" b="10849"/>
          <a:stretch/>
        </p:blipFill>
        <p:spPr>
          <a:xfrm>
            <a:off x="1906560" y="5237280"/>
            <a:ext cx="100080" cy="44748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7164360" y="6093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063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063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06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06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069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069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173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173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351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799940">
                                      <p:cBhvr>
                                        <p:cTn id="35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" descr=""/>
          <p:cNvPicPr/>
          <p:nvPr/>
        </p:nvPicPr>
        <p:blipFill>
          <a:blip r:embed="rId1"/>
          <a:srcRect l="13795" t="38873" r="17506" b="11692"/>
          <a:stretch/>
        </p:blipFill>
        <p:spPr>
          <a:xfrm>
            <a:off x="2087640" y="5013360"/>
            <a:ext cx="1942920" cy="136836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2"/>
          <a:stretch/>
        </p:blipFill>
        <p:spPr>
          <a:xfrm>
            <a:off x="576360" y="2347920"/>
            <a:ext cx="2755800" cy="89388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/>
          <p:nvPr/>
        </p:nvSpPr>
        <p:spPr>
          <a:xfrm>
            <a:off x="0" y="1989000"/>
            <a:ext cx="4465800" cy="439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0" y="4460760"/>
            <a:ext cx="2087640" cy="1415880"/>
            <a:chOff x="0" y="4460760"/>
            <a:chExt cx="2087640" cy="1415880"/>
          </a:xfrm>
        </p:grpSpPr>
        <p:pic>
          <p:nvPicPr>
            <p:cNvPr id="1200" name="" descr=""/>
            <p:cNvPicPr/>
            <p:nvPr/>
          </p:nvPicPr>
          <p:blipFill>
            <a:blip r:embed="rId3"/>
            <a:stretch/>
          </p:blipFill>
          <p:spPr>
            <a:xfrm>
              <a:off x="0" y="4821120"/>
              <a:ext cx="208764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1" name="" descr=""/>
            <p:cNvPicPr/>
            <p:nvPr/>
          </p:nvPicPr>
          <p:blipFill>
            <a:blip r:embed="rId4"/>
            <a:stretch/>
          </p:blipFill>
          <p:spPr>
            <a:xfrm>
              <a:off x="431640" y="4460760"/>
              <a:ext cx="13431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5"/>
            <a:srcRect l="34195" t="0" r="0" b="0"/>
            <a:stretch/>
          </p:blipFill>
          <p:spPr>
            <a:xfrm>
              <a:off x="576360" y="5037120"/>
              <a:ext cx="936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6"/>
            <a:srcRect l="28649" t="884" r="28108" b="10849"/>
            <a:stretch/>
          </p:blipFill>
          <p:spPr>
            <a:xfrm>
              <a:off x="1368360" y="5021280"/>
              <a:ext cx="10008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4" name="未知"/>
          <p:cNvSpPr/>
          <p:nvPr/>
        </p:nvSpPr>
        <p:spPr>
          <a:xfrm>
            <a:off x="144360" y="2852640"/>
            <a:ext cx="719280" cy="2592360"/>
          </a:xfrm>
          <a:custGeom>
            <a:avLst/>
            <a:gdLst/>
            <a:ahLst/>
            <a:rect l="l" t="t" r="r" b="b"/>
            <a:pathLst>
              <a:path w="1232" h="1588">
                <a:moveTo>
                  <a:pt x="1232" y="0"/>
                </a:moveTo>
                <a:cubicBezTo>
                  <a:pt x="925" y="30"/>
                  <a:pt x="619" y="60"/>
                  <a:pt x="415" y="272"/>
                </a:cubicBezTo>
                <a:cubicBezTo>
                  <a:pt x="211" y="484"/>
                  <a:pt x="14" y="1051"/>
                  <a:pt x="7" y="1270"/>
                </a:cubicBezTo>
                <a:cubicBezTo>
                  <a:pt x="0" y="1489"/>
                  <a:pt x="185" y="1538"/>
                  <a:pt x="370" y="15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7"/>
          <a:srcRect l="0" t="0" r="0" b="4252"/>
          <a:stretch/>
        </p:blipFill>
        <p:spPr>
          <a:xfrm>
            <a:off x="2664000" y="4940280"/>
            <a:ext cx="792000" cy="57636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8"/>
          <a:srcRect l="13795" t="38873" r="22608" b="11692"/>
          <a:stretch/>
        </p:blipFill>
        <p:spPr>
          <a:xfrm>
            <a:off x="2593800" y="3429000"/>
            <a:ext cx="1798920" cy="1368360"/>
          </a:xfrm>
          <a:prstGeom prst="rect">
            <a:avLst/>
          </a:prstGeom>
          <a:ln w="0">
            <a:noFill/>
          </a:ln>
        </p:spPr>
      </p:pic>
      <p:pic>
        <p:nvPicPr>
          <p:cNvPr id="1207" name="" descr=""/>
          <p:cNvPicPr/>
          <p:nvPr/>
        </p:nvPicPr>
        <p:blipFill>
          <a:blip r:embed="rId9"/>
          <a:srcRect l="0" t="0" r="0" b="4252"/>
          <a:stretch/>
        </p:blipFill>
        <p:spPr>
          <a:xfrm>
            <a:off x="3168720" y="3284640"/>
            <a:ext cx="792000" cy="57600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/>
          <p:nvPr/>
        </p:nvSpPr>
        <p:spPr>
          <a:xfrm>
            <a:off x="2849760" y="335592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449800" y="491184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未知"/>
          <p:cNvSpPr/>
          <p:nvPr/>
        </p:nvSpPr>
        <p:spPr>
          <a:xfrm>
            <a:off x="3529080" y="4148280"/>
            <a:ext cx="792000" cy="1584360"/>
          </a:xfrm>
          <a:custGeom>
            <a:avLst/>
            <a:gdLst/>
            <a:ahLst/>
            <a:rect l="l" t="t" r="r" b="b"/>
            <a:pathLst>
              <a:path w="499" h="998">
                <a:moveTo>
                  <a:pt x="0" y="998"/>
                </a:moveTo>
                <a:cubicBezTo>
                  <a:pt x="139" y="964"/>
                  <a:pt x="279" y="930"/>
                  <a:pt x="362" y="817"/>
                </a:cubicBezTo>
                <a:cubicBezTo>
                  <a:pt x="445" y="704"/>
                  <a:pt x="499" y="454"/>
                  <a:pt x="499" y="318"/>
                </a:cubicBezTo>
                <a:cubicBezTo>
                  <a:pt x="499" y="182"/>
                  <a:pt x="392" y="53"/>
                  <a:pt x="36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未知"/>
          <p:cNvSpPr/>
          <p:nvPr/>
        </p:nvSpPr>
        <p:spPr>
          <a:xfrm>
            <a:off x="2879640" y="2852640"/>
            <a:ext cx="612720" cy="1295640"/>
          </a:xfrm>
          <a:custGeom>
            <a:avLst/>
            <a:gdLst/>
            <a:ahLst/>
            <a:rect l="l" t="t" r="r" b="b"/>
            <a:pathLst>
              <a:path w="386" h="816">
                <a:moveTo>
                  <a:pt x="136" y="816"/>
                </a:moveTo>
                <a:cubicBezTo>
                  <a:pt x="261" y="566"/>
                  <a:pt x="386" y="317"/>
                  <a:pt x="363" y="181"/>
                </a:cubicBezTo>
                <a:cubicBezTo>
                  <a:pt x="340" y="45"/>
                  <a:pt x="60" y="3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未知"/>
          <p:cNvSpPr/>
          <p:nvPr/>
        </p:nvSpPr>
        <p:spPr>
          <a:xfrm>
            <a:off x="1800360" y="5445000"/>
            <a:ext cx="792000" cy="360360"/>
          </a:xfrm>
          <a:custGeom>
            <a:avLst/>
            <a:gdLst/>
            <a:ahLst/>
            <a:rect l="l" t="t" r="r" b="b"/>
            <a:pathLst>
              <a:path w="499" h="227">
                <a:moveTo>
                  <a:pt x="0" y="0"/>
                </a:moveTo>
                <a:cubicBezTo>
                  <a:pt x="208" y="94"/>
                  <a:pt x="416" y="189"/>
                  <a:pt x="499" y="2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0"/>
          <a:srcRect l="0" t="0" r="-229" b="49897"/>
          <a:stretch/>
        </p:blipFill>
        <p:spPr>
          <a:xfrm>
            <a:off x="3313080" y="34290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11"/>
          <a:srcRect l="13795" t="38873" r="17506" b="11692"/>
          <a:stretch/>
        </p:blipFill>
        <p:spPr>
          <a:xfrm>
            <a:off x="6730920" y="5013360"/>
            <a:ext cx="1943280" cy="136836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12"/>
          <a:stretch/>
        </p:blipFill>
        <p:spPr>
          <a:xfrm>
            <a:off x="5219640" y="2347920"/>
            <a:ext cx="2755800" cy="89388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4643280" y="1989000"/>
            <a:ext cx="4465800" cy="4392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4643280" y="4460760"/>
            <a:ext cx="2087640" cy="1415880"/>
            <a:chOff x="4643280" y="4460760"/>
            <a:chExt cx="2087640" cy="1415880"/>
          </a:xfrm>
        </p:grpSpPr>
        <p:pic>
          <p:nvPicPr>
            <p:cNvPr id="1218" name="" descr=""/>
            <p:cNvPicPr/>
            <p:nvPr/>
          </p:nvPicPr>
          <p:blipFill>
            <a:blip r:embed="rId13"/>
            <a:stretch/>
          </p:blipFill>
          <p:spPr>
            <a:xfrm>
              <a:off x="4643280" y="4821120"/>
              <a:ext cx="208764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9" name="" descr=""/>
            <p:cNvPicPr/>
            <p:nvPr/>
          </p:nvPicPr>
          <p:blipFill>
            <a:blip r:embed="rId14"/>
            <a:stretch/>
          </p:blipFill>
          <p:spPr>
            <a:xfrm>
              <a:off x="5074920" y="4460760"/>
              <a:ext cx="13431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0" name="" descr=""/>
            <p:cNvPicPr/>
            <p:nvPr/>
          </p:nvPicPr>
          <p:blipFill>
            <a:blip r:embed="rId15"/>
            <a:srcRect l="34195" t="0" r="0" b="0"/>
            <a:stretch/>
          </p:blipFill>
          <p:spPr>
            <a:xfrm>
              <a:off x="5219640" y="5037120"/>
              <a:ext cx="936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1" name="" descr=""/>
            <p:cNvPicPr/>
            <p:nvPr/>
          </p:nvPicPr>
          <p:blipFill>
            <a:blip r:embed="rId16"/>
            <a:srcRect l="28649" t="884" r="28108" b="10849"/>
            <a:stretch/>
          </p:blipFill>
          <p:spPr>
            <a:xfrm>
              <a:off x="6011640" y="5021280"/>
              <a:ext cx="100080" cy="44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2" name="未知"/>
          <p:cNvSpPr/>
          <p:nvPr/>
        </p:nvSpPr>
        <p:spPr>
          <a:xfrm>
            <a:off x="4788000" y="2852640"/>
            <a:ext cx="718920" cy="2592360"/>
          </a:xfrm>
          <a:custGeom>
            <a:avLst/>
            <a:gdLst/>
            <a:ahLst/>
            <a:rect l="l" t="t" r="r" b="b"/>
            <a:pathLst>
              <a:path w="1232" h="1588">
                <a:moveTo>
                  <a:pt x="1232" y="0"/>
                </a:moveTo>
                <a:cubicBezTo>
                  <a:pt x="925" y="30"/>
                  <a:pt x="619" y="60"/>
                  <a:pt x="415" y="272"/>
                </a:cubicBezTo>
                <a:cubicBezTo>
                  <a:pt x="211" y="484"/>
                  <a:pt x="14" y="1051"/>
                  <a:pt x="7" y="1270"/>
                </a:cubicBezTo>
                <a:cubicBezTo>
                  <a:pt x="0" y="1489"/>
                  <a:pt x="185" y="1538"/>
                  <a:pt x="370" y="15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7"/>
          <a:srcRect l="0" t="0" r="0" b="4252"/>
          <a:stretch/>
        </p:blipFill>
        <p:spPr>
          <a:xfrm>
            <a:off x="7307280" y="4940280"/>
            <a:ext cx="792000" cy="576360"/>
          </a:xfrm>
          <a:prstGeom prst="rect">
            <a:avLst/>
          </a:prstGeom>
          <a:ln w="0">
            <a:noFill/>
          </a:ln>
        </p:spPr>
      </p:pic>
      <p:pic>
        <p:nvPicPr>
          <p:cNvPr id="1224" name="" descr=""/>
          <p:cNvPicPr/>
          <p:nvPr/>
        </p:nvPicPr>
        <p:blipFill>
          <a:blip r:embed="rId18"/>
          <a:srcRect l="13795" t="38873" r="22608" b="11692"/>
          <a:stretch/>
        </p:blipFill>
        <p:spPr>
          <a:xfrm>
            <a:off x="7237440" y="3429000"/>
            <a:ext cx="1798560" cy="136836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19"/>
          <a:srcRect l="0" t="0" r="0" b="4252"/>
          <a:stretch/>
        </p:blipFill>
        <p:spPr>
          <a:xfrm>
            <a:off x="7812000" y="3284640"/>
            <a:ext cx="792360" cy="57600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7493040" y="335592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7093080" y="491184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未知"/>
          <p:cNvSpPr/>
          <p:nvPr/>
        </p:nvSpPr>
        <p:spPr>
          <a:xfrm>
            <a:off x="8172360" y="4148280"/>
            <a:ext cx="792360" cy="1584360"/>
          </a:xfrm>
          <a:custGeom>
            <a:avLst/>
            <a:gdLst/>
            <a:ahLst/>
            <a:rect l="l" t="t" r="r" b="b"/>
            <a:pathLst>
              <a:path w="499" h="998">
                <a:moveTo>
                  <a:pt x="0" y="998"/>
                </a:moveTo>
                <a:cubicBezTo>
                  <a:pt x="139" y="964"/>
                  <a:pt x="279" y="930"/>
                  <a:pt x="362" y="817"/>
                </a:cubicBezTo>
                <a:cubicBezTo>
                  <a:pt x="445" y="704"/>
                  <a:pt x="499" y="454"/>
                  <a:pt x="499" y="318"/>
                </a:cubicBezTo>
                <a:cubicBezTo>
                  <a:pt x="499" y="182"/>
                  <a:pt x="392" y="53"/>
                  <a:pt x="36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未知"/>
          <p:cNvSpPr/>
          <p:nvPr/>
        </p:nvSpPr>
        <p:spPr>
          <a:xfrm>
            <a:off x="7523280" y="2852640"/>
            <a:ext cx="612720" cy="1295640"/>
          </a:xfrm>
          <a:custGeom>
            <a:avLst/>
            <a:gdLst/>
            <a:ahLst/>
            <a:rect l="l" t="t" r="r" b="b"/>
            <a:pathLst>
              <a:path w="386" h="816">
                <a:moveTo>
                  <a:pt x="136" y="816"/>
                </a:moveTo>
                <a:cubicBezTo>
                  <a:pt x="261" y="566"/>
                  <a:pt x="386" y="317"/>
                  <a:pt x="363" y="181"/>
                </a:cubicBezTo>
                <a:cubicBezTo>
                  <a:pt x="340" y="45"/>
                  <a:pt x="60" y="3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未知"/>
          <p:cNvSpPr/>
          <p:nvPr/>
        </p:nvSpPr>
        <p:spPr>
          <a:xfrm>
            <a:off x="6443640" y="5445000"/>
            <a:ext cx="792360" cy="360360"/>
          </a:xfrm>
          <a:custGeom>
            <a:avLst/>
            <a:gdLst/>
            <a:ahLst/>
            <a:rect l="l" t="t" r="r" b="b"/>
            <a:pathLst>
              <a:path w="499" h="227">
                <a:moveTo>
                  <a:pt x="0" y="0"/>
                </a:moveTo>
                <a:cubicBezTo>
                  <a:pt x="208" y="94"/>
                  <a:pt x="416" y="189"/>
                  <a:pt x="499" y="2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20"/>
          <a:srcRect l="0" t="0" r="-229" b="49897"/>
          <a:stretch/>
        </p:blipFill>
        <p:spPr>
          <a:xfrm>
            <a:off x="7418520" y="5084640"/>
            <a:ext cx="574560" cy="50508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0" y="692280"/>
            <a:ext cx="9144000" cy="581400"/>
          </a:xfrm>
          <a:prstGeom prst="rect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: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串联电路中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其中一灯泡旋下来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另一个灯泡还能否发光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91560" y="4005360"/>
            <a:ext cx="16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去掉灯泡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L</a:t>
            </a:r>
            <a:r>
              <a:rPr b="1" lang="en-US" sz="3600" spc="-1" strike="noStrike" baseline="-8000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515920" y="3573360"/>
            <a:ext cx="16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去掉灯泡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L</a:t>
            </a:r>
            <a:r>
              <a:rPr b="1" lang="en-US" sz="3600" spc="-1" strike="noStrike" baseline="-8000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1196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196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224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224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" descr=""/>
          <p:cNvPicPr/>
          <p:nvPr/>
        </p:nvPicPr>
        <p:blipFill>
          <a:blip r:embed="rId1"/>
          <a:srcRect l="13795" t="38873" r="17506" b="11692"/>
          <a:stretch/>
        </p:blipFill>
        <p:spPr>
          <a:xfrm>
            <a:off x="3276720" y="3429000"/>
            <a:ext cx="1942920" cy="1368360"/>
          </a:xfrm>
          <a:prstGeom prst="rect">
            <a:avLst/>
          </a:prstGeom>
          <a:ln w="0">
            <a:noFill/>
          </a:ln>
        </p:spPr>
      </p:pic>
      <p:pic>
        <p:nvPicPr>
          <p:cNvPr id="1236" name="" descr=""/>
          <p:cNvPicPr/>
          <p:nvPr/>
        </p:nvPicPr>
        <p:blipFill>
          <a:blip r:embed="rId2"/>
          <a:stretch/>
        </p:blipFill>
        <p:spPr>
          <a:xfrm>
            <a:off x="4500720" y="5373720"/>
            <a:ext cx="2755800" cy="893880"/>
          </a:xfrm>
          <a:prstGeom prst="rect">
            <a:avLst/>
          </a:prstGeom>
          <a:ln w="0">
            <a:noFill/>
          </a:ln>
        </p:spPr>
      </p:pic>
      <p:sp>
        <p:nvSpPr>
          <p:cNvPr id="1237" name=""/>
          <p:cNvSpPr/>
          <p:nvPr/>
        </p:nvSpPr>
        <p:spPr>
          <a:xfrm>
            <a:off x="539640" y="1844640"/>
            <a:ext cx="8136000" cy="4464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1979640" y="4724280"/>
            <a:ext cx="2050920" cy="1344240"/>
            <a:chOff x="1979640" y="4724280"/>
            <a:chExt cx="2050920" cy="1344240"/>
          </a:xfrm>
        </p:grpSpPr>
        <p:pic>
          <p:nvPicPr>
            <p:cNvPr id="1239" name="" descr=""/>
            <p:cNvPicPr/>
            <p:nvPr/>
          </p:nvPicPr>
          <p:blipFill>
            <a:blip r:embed="rId3"/>
            <a:stretch/>
          </p:blipFill>
          <p:spPr>
            <a:xfrm>
              <a:off x="1979640" y="5066280"/>
              <a:ext cx="2050920" cy="100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0" name="" descr=""/>
            <p:cNvPicPr/>
            <p:nvPr/>
          </p:nvPicPr>
          <p:blipFill>
            <a:blip r:embed="rId4"/>
            <a:stretch/>
          </p:blipFill>
          <p:spPr>
            <a:xfrm>
              <a:off x="2403360" y="4724280"/>
              <a:ext cx="131940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5"/>
            <a:srcRect l="34195" t="0" r="0" b="0"/>
            <a:stretch/>
          </p:blipFill>
          <p:spPr>
            <a:xfrm>
              <a:off x="2545560" y="5271480"/>
              <a:ext cx="918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" descr=""/>
            <p:cNvPicPr/>
            <p:nvPr/>
          </p:nvPicPr>
          <p:blipFill>
            <a:blip r:embed="rId6"/>
            <a:srcRect l="28649" t="884" r="28108" b="10849"/>
            <a:stretch/>
          </p:blipFill>
          <p:spPr>
            <a:xfrm>
              <a:off x="3323880" y="5256360"/>
              <a:ext cx="98280" cy="42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3" name="" descr=""/>
          <p:cNvPicPr/>
          <p:nvPr/>
        </p:nvPicPr>
        <p:blipFill>
          <a:blip r:embed="rId7"/>
          <a:srcRect l="13795" t="38873" r="22608" b="11692"/>
          <a:stretch/>
        </p:blipFill>
        <p:spPr>
          <a:xfrm>
            <a:off x="3276720" y="1917720"/>
            <a:ext cx="1798560" cy="136836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3640320" y="184644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09640" y="549360"/>
            <a:ext cx="7596000" cy="581400"/>
          </a:xfrm>
          <a:prstGeom prst="rect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2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在并联电路中，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其中一灯泡旋下来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另一个灯泡还能否发光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724536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7" name="" descr=""/>
          <p:cNvPicPr/>
          <p:nvPr/>
        </p:nvPicPr>
        <p:blipFill>
          <a:blip r:embed="rId8"/>
          <a:srcRect l="0" t="0" r="0" b="4252"/>
          <a:stretch/>
        </p:blipFill>
        <p:spPr>
          <a:xfrm>
            <a:off x="3852720" y="3357720"/>
            <a:ext cx="792360" cy="576000"/>
          </a:xfrm>
          <a:prstGeom prst="rect">
            <a:avLst/>
          </a:prstGeom>
          <a:ln w="0">
            <a:noFill/>
          </a:ln>
        </p:spPr>
      </p:pic>
      <p:sp>
        <p:nvSpPr>
          <p:cNvPr id="1248" name="未知"/>
          <p:cNvSpPr/>
          <p:nvPr/>
        </p:nvSpPr>
        <p:spPr>
          <a:xfrm>
            <a:off x="3708360" y="5661000"/>
            <a:ext cx="1150920" cy="289080"/>
          </a:xfrm>
          <a:custGeom>
            <a:avLst/>
            <a:gdLst/>
            <a:ahLst/>
            <a:rect l="l" t="t" r="r" b="b"/>
            <a:pathLst>
              <a:path w="136" h="582">
                <a:moveTo>
                  <a:pt x="136" y="499"/>
                </a:moveTo>
                <a:cubicBezTo>
                  <a:pt x="102" y="540"/>
                  <a:pt x="68" y="582"/>
                  <a:pt x="45" y="499"/>
                </a:cubicBezTo>
                <a:cubicBezTo>
                  <a:pt x="22" y="416"/>
                  <a:pt x="7" y="75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未知"/>
          <p:cNvSpPr/>
          <p:nvPr/>
        </p:nvSpPr>
        <p:spPr>
          <a:xfrm>
            <a:off x="2100240" y="4221000"/>
            <a:ext cx="1679760" cy="1440000"/>
          </a:xfrm>
          <a:custGeom>
            <a:avLst/>
            <a:gdLst/>
            <a:ahLst/>
            <a:rect l="l" t="t" r="r" b="b"/>
            <a:pathLst>
              <a:path w="1058" h="907">
                <a:moveTo>
                  <a:pt x="196" y="907"/>
                </a:moveTo>
                <a:cubicBezTo>
                  <a:pt x="113" y="812"/>
                  <a:pt x="30" y="718"/>
                  <a:pt x="15" y="635"/>
                </a:cubicBezTo>
                <a:cubicBezTo>
                  <a:pt x="0" y="552"/>
                  <a:pt x="61" y="468"/>
                  <a:pt x="106" y="408"/>
                </a:cubicBezTo>
                <a:cubicBezTo>
                  <a:pt x="151" y="348"/>
                  <a:pt x="219" y="310"/>
                  <a:pt x="287" y="272"/>
                </a:cubicBezTo>
                <a:cubicBezTo>
                  <a:pt x="355" y="234"/>
                  <a:pt x="386" y="226"/>
                  <a:pt x="514" y="181"/>
                </a:cubicBezTo>
                <a:cubicBezTo>
                  <a:pt x="642" y="136"/>
                  <a:pt x="850" y="68"/>
                  <a:pt x="105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未知"/>
          <p:cNvSpPr/>
          <p:nvPr/>
        </p:nvSpPr>
        <p:spPr>
          <a:xfrm>
            <a:off x="3336840" y="2637000"/>
            <a:ext cx="443160" cy="1584000"/>
          </a:xfrm>
          <a:custGeom>
            <a:avLst/>
            <a:gdLst/>
            <a:ahLst/>
            <a:rect l="l" t="t" r="r" b="b"/>
            <a:pathLst>
              <a:path w="324" h="998">
                <a:moveTo>
                  <a:pt x="279" y="998"/>
                </a:moveTo>
                <a:cubicBezTo>
                  <a:pt x="139" y="922"/>
                  <a:pt x="0" y="846"/>
                  <a:pt x="7" y="680"/>
                </a:cubicBezTo>
                <a:cubicBezTo>
                  <a:pt x="14" y="514"/>
                  <a:pt x="169" y="257"/>
                  <a:pt x="3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未知"/>
          <p:cNvSpPr/>
          <p:nvPr/>
        </p:nvSpPr>
        <p:spPr>
          <a:xfrm>
            <a:off x="4716360" y="4149720"/>
            <a:ext cx="2640240" cy="1800360"/>
          </a:xfrm>
          <a:custGeom>
            <a:avLst/>
            <a:gdLst/>
            <a:ahLst/>
            <a:rect l="l" t="t" r="r" b="b"/>
            <a:pathLst>
              <a:path w="1663" h="1134">
                <a:moveTo>
                  <a:pt x="1361" y="1134"/>
                </a:moveTo>
                <a:cubicBezTo>
                  <a:pt x="1482" y="1031"/>
                  <a:pt x="1603" y="929"/>
                  <a:pt x="1633" y="816"/>
                </a:cubicBezTo>
                <a:cubicBezTo>
                  <a:pt x="1663" y="703"/>
                  <a:pt x="1640" y="551"/>
                  <a:pt x="1542" y="453"/>
                </a:cubicBezTo>
                <a:cubicBezTo>
                  <a:pt x="1444" y="355"/>
                  <a:pt x="1300" y="302"/>
                  <a:pt x="1043" y="226"/>
                </a:cubicBezTo>
                <a:cubicBezTo>
                  <a:pt x="786" y="150"/>
                  <a:pt x="393" y="75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未知"/>
          <p:cNvSpPr/>
          <p:nvPr/>
        </p:nvSpPr>
        <p:spPr>
          <a:xfrm flipH="1">
            <a:off x="4716360" y="2637000"/>
            <a:ext cx="370080" cy="1512720"/>
          </a:xfrm>
          <a:custGeom>
            <a:avLst/>
            <a:gdLst/>
            <a:ahLst/>
            <a:rect l="l" t="t" r="r" b="b"/>
            <a:pathLst>
              <a:path w="324" h="998">
                <a:moveTo>
                  <a:pt x="279" y="998"/>
                </a:moveTo>
                <a:cubicBezTo>
                  <a:pt x="139" y="922"/>
                  <a:pt x="0" y="846"/>
                  <a:pt x="7" y="680"/>
                </a:cubicBezTo>
                <a:cubicBezTo>
                  <a:pt x="14" y="514"/>
                  <a:pt x="169" y="257"/>
                  <a:pt x="3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494160" y="3355920"/>
            <a:ext cx="5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9"/>
          <a:srcRect l="0" t="0" r="0" b="4252"/>
          <a:stretch/>
        </p:blipFill>
        <p:spPr>
          <a:xfrm>
            <a:off x="3851280" y="1844640"/>
            <a:ext cx="792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 txBox="1"/>
          <p:nvPr/>
        </p:nvSpPr>
        <p:spPr>
          <a:xfrm>
            <a:off x="250920" y="1052640"/>
            <a:ext cx="532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幼圆"/>
              </a:rPr>
              <a:t>判断串并联电路的方法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256" name=""/>
          <p:cNvSpPr/>
          <p:nvPr/>
        </p:nvSpPr>
        <p:spPr>
          <a:xfrm>
            <a:off x="179280" y="2060640"/>
            <a:ext cx="54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串联的方法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只有一条回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分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灯不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灯都不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互相影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79280" y="4149720"/>
            <a:ext cx="61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判断并联的方法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至少有两条回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分支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灯不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灯仍会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互相影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5406480" y="765000"/>
            <a:ext cx="3665880" cy="2232360"/>
            <a:chOff x="5406480" y="765000"/>
            <a:chExt cx="3665880" cy="2232360"/>
          </a:xfrm>
        </p:grpSpPr>
        <p:sp>
          <p:nvSpPr>
            <p:cNvPr id="1259" name=""/>
            <p:cNvSpPr/>
            <p:nvPr/>
          </p:nvSpPr>
          <p:spPr>
            <a:xfrm>
              <a:off x="5993640" y="765000"/>
              <a:ext cx="2993040" cy="2232360"/>
            </a:xfrm>
            <a:prstGeom prst="rect">
              <a:avLst/>
            </a:prstGeom>
            <a:noFill/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7306200" y="2323080"/>
              <a:ext cx="1627200" cy="536400"/>
              <a:chOff x="7306200" y="2323080"/>
              <a:chExt cx="1627200" cy="536400"/>
            </a:xfrm>
          </p:grpSpPr>
          <p:grpSp>
            <p:nvGrpSpPr>
              <p:cNvPr id="1261" name=""/>
              <p:cNvGrpSpPr/>
              <p:nvPr/>
            </p:nvGrpSpPr>
            <p:grpSpPr>
              <a:xfrm>
                <a:off x="7306200" y="2323080"/>
                <a:ext cx="1627200" cy="536400"/>
                <a:chOff x="7306200" y="2323080"/>
                <a:chExt cx="1627200" cy="53640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7306200" y="2545920"/>
                  <a:ext cx="1627200" cy="243720"/>
                </a:xfrm>
                <a:prstGeom prst="cube">
                  <a:avLst>
                    <a:gd name="adj" fmla="val 9148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3" name=""/>
                <p:cNvGrpSpPr/>
                <p:nvPr/>
              </p:nvGrpSpPr>
              <p:grpSpPr>
                <a:xfrm>
                  <a:off x="7351560" y="2323080"/>
                  <a:ext cx="361080" cy="405720"/>
                  <a:chOff x="7351560" y="2323080"/>
                  <a:chExt cx="361080" cy="405720"/>
                </a:xfrm>
              </p:grpSpPr>
              <p:sp>
                <p:nvSpPr>
                  <p:cNvPr id="1264" name=""/>
                  <p:cNvSpPr/>
                  <p:nvPr/>
                </p:nvSpPr>
                <p:spPr>
                  <a:xfrm>
                    <a:off x="7351560" y="2593080"/>
                    <a:ext cx="361080" cy="135720"/>
                  </a:xfrm>
                  <a:prstGeom prst="parallelogram">
                    <a:avLst>
                      <a:gd name="adj" fmla="val 10237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7577280" y="2323080"/>
                    <a:ext cx="135360" cy="405720"/>
                  </a:xfrm>
                  <a:prstGeom prst="cube">
                    <a:avLst>
                      <a:gd name="adj" fmla="val 8958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7441560" y="2545920"/>
                    <a:ext cx="67680" cy="117000"/>
                    <a:chOff x="7441560" y="2545920"/>
                    <a:chExt cx="67680" cy="117000"/>
                  </a:xfrm>
                </p:grpSpPr>
                <p:sp>
                  <p:nvSpPr>
                    <p:cNvPr id="1267" name=""/>
                    <p:cNvSpPr/>
                    <p:nvPr/>
                  </p:nvSpPr>
                  <p:spPr>
                    <a:xfrm>
                      <a:off x="7452360" y="2592360"/>
                      <a:ext cx="44640" cy="7056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"/>
                    <p:cNvSpPr/>
                    <p:nvPr/>
                  </p:nvSpPr>
                  <p:spPr>
                    <a:xfrm>
                      <a:off x="7441560" y="2545920"/>
                      <a:ext cx="67680" cy="4644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269" name=""/>
                <p:cNvGrpSpPr/>
                <p:nvPr/>
              </p:nvGrpSpPr>
              <p:grpSpPr>
                <a:xfrm>
                  <a:off x="7613640" y="2416680"/>
                  <a:ext cx="483120" cy="442800"/>
                  <a:chOff x="7613640" y="2416680"/>
                  <a:chExt cx="483120" cy="442800"/>
                </a:xfrm>
              </p:grpSpPr>
              <p:grpSp>
                <p:nvGrpSpPr>
                  <p:cNvPr id="1270" name=""/>
                  <p:cNvGrpSpPr/>
                  <p:nvPr/>
                </p:nvGrpSpPr>
                <p:grpSpPr>
                  <a:xfrm>
                    <a:off x="7613640" y="2416680"/>
                    <a:ext cx="483120" cy="258480"/>
                    <a:chOff x="7613640" y="2416680"/>
                    <a:chExt cx="483120" cy="258480"/>
                  </a:xfrm>
                </p:grpSpPr>
                <p:grpSp>
                  <p:nvGrpSpPr>
                    <p:cNvPr id="1271" name=""/>
                    <p:cNvGrpSpPr/>
                    <p:nvPr/>
                  </p:nvGrpSpPr>
                  <p:grpSpPr>
                    <a:xfrm>
                      <a:off x="7613640" y="2416680"/>
                      <a:ext cx="448920" cy="258120"/>
                      <a:chOff x="7613640" y="2416680"/>
                      <a:chExt cx="448920" cy="258120"/>
                    </a:xfrm>
                  </p:grpSpPr>
                  <p:sp>
                    <p:nvSpPr>
                      <p:cNvPr id="1272" name=""/>
                      <p:cNvSpPr/>
                      <p:nvPr/>
                    </p:nvSpPr>
                    <p:spPr>
                      <a:xfrm rot="5400000">
                        <a:off x="7709040" y="2321280"/>
                        <a:ext cx="258120" cy="44892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73" name=""/>
                      <p:cNvSpPr/>
                      <p:nvPr/>
                    </p:nvSpPr>
                    <p:spPr>
                      <a:xfrm rot="5400000">
                        <a:off x="7864560" y="2476800"/>
                        <a:ext cx="258120" cy="13788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0" bIns="39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74" name=""/>
                    <p:cNvGrpSpPr/>
                    <p:nvPr/>
                  </p:nvGrpSpPr>
                  <p:grpSpPr>
                    <a:xfrm>
                      <a:off x="8010720" y="2416680"/>
                      <a:ext cx="86040" cy="258480"/>
                      <a:chOff x="8010720" y="2416680"/>
                      <a:chExt cx="86040" cy="258480"/>
                    </a:xfrm>
                  </p:grpSpPr>
                  <p:grpSp>
                    <p:nvGrpSpPr>
                      <p:cNvPr id="1275" name=""/>
                      <p:cNvGrpSpPr/>
                      <p:nvPr/>
                    </p:nvGrpSpPr>
                    <p:grpSpPr>
                      <a:xfrm>
                        <a:off x="8010720" y="2416680"/>
                        <a:ext cx="86040" cy="258480"/>
                        <a:chOff x="8010720" y="2416680"/>
                        <a:chExt cx="86040" cy="258480"/>
                      </a:xfrm>
                    </p:grpSpPr>
                    <p:grpSp>
                      <p:nvGrpSpPr>
                        <p:cNvPr id="1276" name=""/>
                        <p:cNvGrpSpPr/>
                        <p:nvPr/>
                      </p:nvGrpSpPr>
                      <p:grpSpPr>
                        <a:xfrm>
                          <a:off x="8010720" y="2416680"/>
                          <a:ext cx="86040" cy="258480"/>
                          <a:chOff x="8010720" y="2416680"/>
                          <a:chExt cx="86040" cy="258480"/>
                        </a:xfrm>
                      </p:grpSpPr>
                      <p:sp>
                        <p:nvSpPr>
                          <p:cNvPr id="1277" name=""/>
                          <p:cNvSpPr/>
                          <p:nvPr/>
                        </p:nvSpPr>
                        <p:spPr>
                          <a:xfrm rot="5400000">
                            <a:off x="7924320" y="2502720"/>
                            <a:ext cx="258480" cy="860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fffff"/>
                              </a:gs>
                              <a:gs pos="100000">
                                <a:srgbClr val="ffcc00"/>
                              </a:gs>
                            </a:gsLst>
                            <a:path path="rect">
                              <a:fillToRect l="50000" t="50000" r="50000" b="50000"/>
                            </a:path>
                          </a:gra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4040" bIns="1404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278" name=""/>
                          <p:cNvSpPr/>
                          <p:nvPr/>
                        </p:nvSpPr>
                        <p:spPr>
                          <a:xfrm rot="5400000">
                            <a:off x="7954920" y="2519640"/>
                            <a:ext cx="198360" cy="5148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0440" bIns="-1044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279" name=""/>
                        <p:cNvSpPr/>
                        <p:nvPr/>
                      </p:nvSpPr>
                      <p:spPr>
                        <a:xfrm rot="5400000">
                          <a:off x="7984440" y="2528280"/>
                          <a:ext cx="138960" cy="34560"/>
                        </a:xfrm>
                        <a:prstGeom prst="ellipse">
                          <a:avLst/>
                        </a:prstGeom>
                        <a:solidFill>
                          <a:srgbClr val="dddddd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2320" bIns="-223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80" name=""/>
                      <p:cNvSpPr/>
                      <p:nvPr/>
                    </p:nvSpPr>
                    <p:spPr>
                      <a:xfrm rot="5400000">
                        <a:off x="8028720" y="2528640"/>
                        <a:ext cx="60120" cy="3384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81" name=""/>
                    <p:cNvGrpSpPr/>
                    <p:nvPr/>
                  </p:nvGrpSpPr>
                  <p:grpSpPr>
                    <a:xfrm>
                      <a:off x="7648920" y="2515680"/>
                      <a:ext cx="327600" cy="118800"/>
                      <a:chOff x="7648920" y="2515680"/>
                      <a:chExt cx="327600" cy="118800"/>
                    </a:xfrm>
                  </p:grpSpPr>
                  <p:sp>
                    <p:nvSpPr>
                      <p:cNvPr id="1282" name=""/>
                      <p:cNvSpPr/>
                      <p:nvPr/>
                    </p:nvSpPr>
                    <p:spPr>
                      <a:xfrm>
                        <a:off x="7648920" y="2515680"/>
                        <a:ext cx="327600" cy="11880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3" name=""/>
                      <p:cNvSpPr/>
                      <p:nvPr/>
                    </p:nvSpPr>
                    <p:spPr>
                      <a:xfrm>
                        <a:off x="7700400" y="2555280"/>
                        <a:ext cx="189720" cy="594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600" bIns="126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5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84" name=""/>
                  <p:cNvSpPr/>
                  <p:nvPr/>
                </p:nvSpPr>
                <p:spPr>
                  <a:xfrm>
                    <a:off x="7863480" y="2491200"/>
                    <a:ext cx="209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  <a:ea typeface="宋体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7615080" y="2483640"/>
                    <a:ext cx="409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  <a:ea typeface="宋体"/>
                      </a:rPr>
                      <a:t>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6" name=""/>
                <p:cNvGrpSpPr/>
                <p:nvPr/>
              </p:nvGrpSpPr>
              <p:grpSpPr>
                <a:xfrm>
                  <a:off x="8031240" y="2416680"/>
                  <a:ext cx="483120" cy="258480"/>
                  <a:chOff x="8031240" y="2416680"/>
                  <a:chExt cx="483120" cy="258480"/>
                </a:xfrm>
              </p:grpSpPr>
              <p:grpSp>
                <p:nvGrpSpPr>
                  <p:cNvPr id="1287" name=""/>
                  <p:cNvGrpSpPr/>
                  <p:nvPr/>
                </p:nvGrpSpPr>
                <p:grpSpPr>
                  <a:xfrm>
                    <a:off x="8031240" y="2416680"/>
                    <a:ext cx="448920" cy="258120"/>
                    <a:chOff x="8031240" y="2416680"/>
                    <a:chExt cx="448920" cy="258120"/>
                  </a:xfrm>
                </p:grpSpPr>
                <p:sp>
                  <p:nvSpPr>
                    <p:cNvPr id="1288" name=""/>
                    <p:cNvSpPr/>
                    <p:nvPr/>
                  </p:nvSpPr>
                  <p:spPr>
                    <a:xfrm rot="5400000">
                      <a:off x="8126640" y="2321280"/>
                      <a:ext cx="258120" cy="4489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 rot="5400000">
                      <a:off x="8282160" y="2476800"/>
                      <a:ext cx="258120" cy="13788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0" bIns="39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0" name=""/>
                  <p:cNvGrpSpPr/>
                  <p:nvPr/>
                </p:nvGrpSpPr>
                <p:grpSpPr>
                  <a:xfrm>
                    <a:off x="8428320" y="2416680"/>
                    <a:ext cx="86040" cy="258480"/>
                    <a:chOff x="8428320" y="2416680"/>
                    <a:chExt cx="86040" cy="258480"/>
                  </a:xfrm>
                </p:grpSpPr>
                <p:grpSp>
                  <p:nvGrpSpPr>
                    <p:cNvPr id="1291" name=""/>
                    <p:cNvGrpSpPr/>
                    <p:nvPr/>
                  </p:nvGrpSpPr>
                  <p:grpSpPr>
                    <a:xfrm>
                      <a:off x="8428320" y="2416680"/>
                      <a:ext cx="86040" cy="258480"/>
                      <a:chOff x="8428320" y="2416680"/>
                      <a:chExt cx="86040" cy="258480"/>
                    </a:xfrm>
                  </p:grpSpPr>
                  <p:grpSp>
                    <p:nvGrpSpPr>
                      <p:cNvPr id="1292" name=""/>
                      <p:cNvGrpSpPr/>
                      <p:nvPr/>
                    </p:nvGrpSpPr>
                    <p:grpSpPr>
                      <a:xfrm>
                        <a:off x="8428320" y="2416680"/>
                        <a:ext cx="86040" cy="258480"/>
                        <a:chOff x="8428320" y="2416680"/>
                        <a:chExt cx="86040" cy="258480"/>
                      </a:xfrm>
                    </p:grpSpPr>
                    <p:sp>
                      <p:nvSpPr>
                        <p:cNvPr id="1293" name=""/>
                        <p:cNvSpPr/>
                        <p:nvPr/>
                      </p:nvSpPr>
                      <p:spPr>
                        <a:xfrm rot="5400000">
                          <a:off x="8341920" y="2502720"/>
                          <a:ext cx="258480" cy="860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ffcc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4040" bIns="140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4" name=""/>
                        <p:cNvSpPr/>
                        <p:nvPr/>
                      </p:nvSpPr>
                      <p:spPr>
                        <a:xfrm rot="5400000">
                          <a:off x="8372520" y="2519640"/>
                          <a:ext cx="198360" cy="5148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440" bIns="-104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95" name=""/>
                      <p:cNvSpPr/>
                      <p:nvPr/>
                    </p:nvSpPr>
                    <p:spPr>
                      <a:xfrm rot="5400000">
                        <a:off x="8402040" y="2528280"/>
                        <a:ext cx="138960" cy="34560"/>
                      </a:xfrm>
                      <a:prstGeom prst="ellipse">
                        <a:avLst/>
                      </a:prstGeom>
                      <a:solidFill>
                        <a:srgbClr val="dddddd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320" bIns="-223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96" name=""/>
                    <p:cNvSpPr/>
                    <p:nvPr/>
                  </p:nvSpPr>
                  <p:spPr>
                    <a:xfrm rot="5400000">
                      <a:off x="8446320" y="2528640"/>
                      <a:ext cx="60120" cy="3384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0" bIns="-25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97" name=""/>
                  <p:cNvGrpSpPr/>
                  <p:nvPr/>
                </p:nvGrpSpPr>
                <p:grpSpPr>
                  <a:xfrm>
                    <a:off x="8066520" y="2515680"/>
                    <a:ext cx="327600" cy="118800"/>
                    <a:chOff x="8066520" y="2515680"/>
                    <a:chExt cx="327600" cy="118800"/>
                  </a:xfrm>
                </p:grpSpPr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8066520" y="2515680"/>
                      <a:ext cx="327600" cy="11880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8118000" y="2555280"/>
                      <a:ext cx="189720" cy="59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2600" bIns="12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00" name=""/>
                <p:cNvGrpSpPr/>
                <p:nvPr/>
              </p:nvGrpSpPr>
              <p:grpSpPr>
                <a:xfrm>
                  <a:off x="8493120" y="2323080"/>
                  <a:ext cx="361080" cy="405720"/>
                  <a:chOff x="8493120" y="2323080"/>
                  <a:chExt cx="361080" cy="405720"/>
                </a:xfrm>
              </p:grpSpPr>
              <p:sp>
                <p:nvSpPr>
                  <p:cNvPr id="1301" name=""/>
                  <p:cNvSpPr/>
                  <p:nvPr/>
                </p:nvSpPr>
                <p:spPr>
                  <a:xfrm>
                    <a:off x="8493120" y="2593080"/>
                    <a:ext cx="361080" cy="135720"/>
                  </a:xfrm>
                  <a:prstGeom prst="parallelogram">
                    <a:avLst>
                      <a:gd name="adj" fmla="val 10237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2" name=""/>
                  <p:cNvGrpSpPr/>
                  <p:nvPr/>
                </p:nvGrpSpPr>
                <p:grpSpPr>
                  <a:xfrm>
                    <a:off x="8673840" y="2569680"/>
                    <a:ext cx="67680" cy="117000"/>
                    <a:chOff x="8673840" y="2569680"/>
                    <a:chExt cx="67680" cy="117000"/>
                  </a:xfrm>
                </p:grpSpPr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8684640" y="2616120"/>
                      <a:ext cx="44640" cy="7056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20" bIns="-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>
                      <a:off x="8673840" y="2569680"/>
                      <a:ext cx="67680" cy="4644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5" name=""/>
                  <p:cNvSpPr/>
                  <p:nvPr/>
                </p:nvSpPr>
                <p:spPr>
                  <a:xfrm>
                    <a:off x="8493120" y="2323080"/>
                    <a:ext cx="135360" cy="405720"/>
                  </a:xfrm>
                  <a:prstGeom prst="cube">
                    <a:avLst>
                      <a:gd name="adj" fmla="val 8958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06" name=""/>
              <p:cNvSpPr/>
              <p:nvPr/>
            </p:nvSpPr>
            <p:spPr>
              <a:xfrm>
                <a:off x="8294400" y="2487600"/>
                <a:ext cx="21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039880" y="2487600"/>
                <a:ext cx="21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7779600" y="972000"/>
              <a:ext cx="892440" cy="519480"/>
              <a:chOff x="7779600" y="972000"/>
              <a:chExt cx="892440" cy="519480"/>
            </a:xfrm>
          </p:grpSpPr>
          <p:grpSp>
            <p:nvGrpSpPr>
              <p:cNvPr id="1309" name=""/>
              <p:cNvGrpSpPr/>
              <p:nvPr/>
            </p:nvGrpSpPr>
            <p:grpSpPr>
              <a:xfrm>
                <a:off x="8098560" y="972000"/>
                <a:ext cx="254880" cy="300600"/>
                <a:chOff x="8098560" y="972000"/>
                <a:chExt cx="254880" cy="30060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8098560" y="972000"/>
                  <a:ext cx="254880" cy="24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83137"/>
                      </a:srgbClr>
                    </a:gs>
                    <a:gs pos="100000">
                      <a:srgbClr val="b2b2b2">
                        <a:alpha val="8117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137800" y="1190880"/>
                  <a:ext cx="176040" cy="81720"/>
                </a:xfrm>
                <a:prstGeom prst="rect">
                  <a:avLst/>
                </a:prstGeom>
                <a:blipFill rotWithShape="0">
                  <a:blip r:embed="rId4">
                    <a:alphaModFix amt="43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7779600" y="1226520"/>
                <a:ext cx="892440" cy="264960"/>
                <a:chOff x="7779600" y="1226520"/>
                <a:chExt cx="892440" cy="2649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7779600" y="1272240"/>
                  <a:ext cx="892440" cy="219240"/>
                </a:xfrm>
                <a:prstGeom prst="cube">
                  <a:avLst>
                    <a:gd name="adj" fmla="val 7261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122320" y="1246320"/>
                  <a:ext cx="206280" cy="1360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8417520" y="1235520"/>
                  <a:ext cx="95400" cy="146880"/>
                  <a:chOff x="8417520" y="1235520"/>
                  <a:chExt cx="95400" cy="146880"/>
                </a:xfrm>
              </p:grpSpPr>
              <p:sp>
                <p:nvSpPr>
                  <p:cNvPr id="1316" name=""/>
                  <p:cNvSpPr/>
                  <p:nvPr/>
                </p:nvSpPr>
                <p:spPr>
                  <a:xfrm>
                    <a:off x="8433000" y="1293840"/>
                    <a:ext cx="62640" cy="885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8417520" y="1235520"/>
                    <a:ext cx="95400" cy="5832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8" name=""/>
                <p:cNvGrpSpPr/>
                <p:nvPr/>
              </p:nvGrpSpPr>
              <p:grpSpPr>
                <a:xfrm>
                  <a:off x="7907400" y="1226520"/>
                  <a:ext cx="95400" cy="146880"/>
                  <a:chOff x="7907400" y="1226520"/>
                  <a:chExt cx="95400" cy="146880"/>
                </a:xfrm>
              </p:grpSpPr>
              <p:sp>
                <p:nvSpPr>
                  <p:cNvPr id="1319" name=""/>
                  <p:cNvSpPr/>
                  <p:nvPr/>
                </p:nvSpPr>
                <p:spPr>
                  <a:xfrm>
                    <a:off x="7922880" y="1284840"/>
                    <a:ext cx="62640" cy="885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7907400" y="1226520"/>
                    <a:ext cx="95400" cy="5832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1" name=""/>
            <p:cNvGrpSpPr/>
            <p:nvPr/>
          </p:nvGrpSpPr>
          <p:grpSpPr>
            <a:xfrm>
              <a:off x="6361560" y="972000"/>
              <a:ext cx="892440" cy="519480"/>
              <a:chOff x="6361560" y="972000"/>
              <a:chExt cx="892440" cy="51948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6680520" y="972000"/>
                <a:ext cx="254880" cy="300600"/>
                <a:chOff x="6680520" y="972000"/>
                <a:chExt cx="254880" cy="3006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680520" y="972000"/>
                  <a:ext cx="254880" cy="24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83137"/>
                      </a:srgbClr>
                    </a:gs>
                    <a:gs pos="100000">
                      <a:srgbClr val="b2b2b2">
                        <a:alpha val="8117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719760" y="1190880"/>
                  <a:ext cx="176040" cy="81720"/>
                </a:xfrm>
                <a:prstGeom prst="rect">
                  <a:avLst/>
                </a:prstGeom>
                <a:blipFill rotWithShape="0">
                  <a:blip r:embed="rId8">
                    <a:alphaModFix amt="43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6361560" y="1226520"/>
                <a:ext cx="892440" cy="264960"/>
                <a:chOff x="6361560" y="1226520"/>
                <a:chExt cx="892440" cy="26496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6361560" y="1272240"/>
                  <a:ext cx="892440" cy="219240"/>
                </a:xfrm>
                <a:prstGeom prst="cube">
                  <a:avLst>
                    <a:gd name="adj" fmla="val 72611"/>
                  </a:avLst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704280" y="1246320"/>
                  <a:ext cx="206280" cy="1360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8" name=""/>
                <p:cNvGrpSpPr/>
                <p:nvPr/>
              </p:nvGrpSpPr>
              <p:grpSpPr>
                <a:xfrm>
                  <a:off x="6999480" y="1235520"/>
                  <a:ext cx="95400" cy="146880"/>
                  <a:chOff x="6999480" y="1235520"/>
                  <a:chExt cx="95400" cy="146880"/>
                </a:xfrm>
              </p:grpSpPr>
              <p:sp>
                <p:nvSpPr>
                  <p:cNvPr id="1329" name=""/>
                  <p:cNvSpPr/>
                  <p:nvPr/>
                </p:nvSpPr>
                <p:spPr>
                  <a:xfrm>
                    <a:off x="7014960" y="1293840"/>
                    <a:ext cx="62640" cy="885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6999480" y="1235520"/>
                    <a:ext cx="95400" cy="5832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1" name=""/>
                <p:cNvGrpSpPr/>
                <p:nvPr/>
              </p:nvGrpSpPr>
              <p:grpSpPr>
                <a:xfrm>
                  <a:off x="6489360" y="1226520"/>
                  <a:ext cx="95400" cy="146880"/>
                  <a:chOff x="6489360" y="1226520"/>
                  <a:chExt cx="95400" cy="14688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6504840" y="1284840"/>
                    <a:ext cx="62640" cy="885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6489360" y="1226520"/>
                    <a:ext cx="95400" cy="5832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34" name=""/>
            <p:cNvSpPr/>
            <p:nvPr/>
          </p:nvSpPr>
          <p:spPr>
            <a:xfrm>
              <a:off x="8410320" y="815040"/>
              <a:ext cx="66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948720" y="91584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5406480" y="1895040"/>
              <a:ext cx="1847160" cy="905760"/>
              <a:chOff x="5406480" y="1895040"/>
              <a:chExt cx="1847160" cy="905760"/>
            </a:xfrm>
          </p:grpSpPr>
          <p:grpSp>
            <p:nvGrpSpPr>
              <p:cNvPr id="1337" name=""/>
              <p:cNvGrpSpPr/>
              <p:nvPr/>
            </p:nvGrpSpPr>
            <p:grpSpPr>
              <a:xfrm>
                <a:off x="6049080" y="2320560"/>
                <a:ext cx="1204560" cy="387360"/>
                <a:chOff x="6049080" y="2320560"/>
                <a:chExt cx="1204560" cy="38736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6049080" y="2481840"/>
                  <a:ext cx="1204560" cy="226080"/>
                </a:xfrm>
                <a:prstGeom prst="cube">
                  <a:avLst>
                    <a:gd name="adj" fmla="val 88430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9" name=""/>
                <p:cNvGrpSpPr/>
                <p:nvPr/>
              </p:nvGrpSpPr>
              <p:grpSpPr>
                <a:xfrm>
                  <a:off x="6124320" y="2320560"/>
                  <a:ext cx="376560" cy="322200"/>
                  <a:chOff x="6124320" y="2320560"/>
                  <a:chExt cx="376560" cy="322200"/>
                </a:xfrm>
              </p:grpSpPr>
              <p:sp>
                <p:nvSpPr>
                  <p:cNvPr id="1340" name=""/>
                  <p:cNvSpPr/>
                  <p:nvPr/>
                </p:nvSpPr>
                <p:spPr>
                  <a:xfrm>
                    <a:off x="6124320" y="2546280"/>
                    <a:ext cx="376560" cy="96480"/>
                  </a:xfrm>
                  <a:prstGeom prst="parallelogram">
                    <a:avLst>
                      <a:gd name="adj" fmla="val 12551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6349680" y="2320560"/>
                    <a:ext cx="75600" cy="225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5000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6199560" y="2463120"/>
                    <a:ext cx="92160" cy="130680"/>
                    <a:chOff x="6199560" y="2463120"/>
                    <a:chExt cx="92160" cy="130680"/>
                  </a:xfrm>
                </p:grpSpPr>
                <p:sp>
                  <p:nvSpPr>
                    <p:cNvPr id="1343" name=""/>
                    <p:cNvSpPr/>
                    <p:nvPr/>
                  </p:nvSpPr>
                  <p:spPr>
                    <a:xfrm>
                      <a:off x="6214320" y="2514960"/>
                      <a:ext cx="60840" cy="7884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>
                      <a:off x="6199560" y="2463120"/>
                      <a:ext cx="92160" cy="5184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45" name=""/>
                <p:cNvGrpSpPr/>
                <p:nvPr/>
              </p:nvGrpSpPr>
              <p:grpSpPr>
                <a:xfrm>
                  <a:off x="6726960" y="2320560"/>
                  <a:ext cx="413640" cy="322200"/>
                  <a:chOff x="6726960" y="2320560"/>
                  <a:chExt cx="413640" cy="32220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6726960" y="2546280"/>
                    <a:ext cx="413640" cy="96480"/>
                  </a:xfrm>
                  <a:prstGeom prst="parallelogram">
                    <a:avLst>
                      <a:gd name="adj" fmla="val 115122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6876720" y="2320560"/>
                    <a:ext cx="75240" cy="258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5000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6989760" y="2463120"/>
                    <a:ext cx="91800" cy="130680"/>
                    <a:chOff x="6989760" y="2463120"/>
                    <a:chExt cx="91800" cy="13068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7004520" y="2514960"/>
                      <a:ext cx="60480" cy="7884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520" bIns="2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6989760" y="2463120"/>
                      <a:ext cx="91800" cy="5184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400" bIns="-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51" name=""/>
              <p:cNvGrpSpPr/>
              <p:nvPr/>
            </p:nvGrpSpPr>
            <p:grpSpPr>
              <a:xfrm>
                <a:off x="5406480" y="1895040"/>
                <a:ext cx="1755000" cy="905760"/>
                <a:chOff x="5406480" y="1895040"/>
                <a:chExt cx="1755000" cy="905760"/>
              </a:xfrm>
            </p:grpSpPr>
            <p:grpSp>
              <p:nvGrpSpPr>
                <p:cNvPr id="1352" name=""/>
                <p:cNvGrpSpPr/>
                <p:nvPr/>
              </p:nvGrpSpPr>
              <p:grpSpPr>
                <a:xfrm>
                  <a:off x="6265800" y="1895040"/>
                  <a:ext cx="895680" cy="533160"/>
                  <a:chOff x="6265800" y="1895040"/>
                  <a:chExt cx="895680" cy="533160"/>
                </a:xfrm>
              </p:grpSpPr>
              <p:sp>
                <p:nvSpPr>
                  <p:cNvPr id="1353" name=""/>
                  <p:cNvSpPr/>
                  <p:nvPr/>
                </p:nvSpPr>
                <p:spPr>
                  <a:xfrm rot="19921800">
                    <a:off x="6235560" y="2195280"/>
                    <a:ext cx="751680" cy="59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ffffff"/>
                      </a:gs>
                      <a:gs pos="100000">
                        <a:srgbClr val="80808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 rot="19921800">
                    <a:off x="6930720" y="1938240"/>
                    <a:ext cx="214560" cy="1209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"/>
                <p:cNvGrpSpPr/>
                <p:nvPr/>
              </p:nvGrpSpPr>
              <p:grpSpPr>
                <a:xfrm>
                  <a:off x="5406480" y="2267280"/>
                  <a:ext cx="896400" cy="533520"/>
                  <a:chOff x="5406480" y="2267280"/>
                  <a:chExt cx="896400" cy="5335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 rot="19921800">
                    <a:off x="5376240" y="2567880"/>
                    <a:ext cx="752040" cy="5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19921800">
                    <a:off x="6071760" y="2310480"/>
                    <a:ext cx="214920" cy="1209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"/>
              <p:cNvGrpSpPr/>
              <p:nvPr/>
            </p:nvGrpSpPr>
            <p:grpSpPr>
              <a:xfrm>
                <a:off x="6315120" y="2320560"/>
                <a:ext cx="601560" cy="258480"/>
                <a:chOff x="6315120" y="2320560"/>
                <a:chExt cx="601560" cy="258480"/>
              </a:xfrm>
            </p:grpSpPr>
            <p:grpSp>
              <p:nvGrpSpPr>
                <p:cNvPr id="1359" name=""/>
                <p:cNvGrpSpPr/>
                <p:nvPr/>
              </p:nvGrpSpPr>
              <p:grpSpPr>
                <a:xfrm>
                  <a:off x="6315120" y="2320560"/>
                  <a:ext cx="75240" cy="258480"/>
                  <a:chOff x="6315120" y="2320560"/>
                  <a:chExt cx="75240" cy="258480"/>
                </a:xfrm>
              </p:grpSpPr>
              <p:sp>
                <p:nvSpPr>
                  <p:cNvPr id="1360" name=""/>
                  <p:cNvSpPr/>
                  <p:nvPr/>
                </p:nvSpPr>
                <p:spPr>
                  <a:xfrm>
                    <a:off x="6315120" y="2320560"/>
                    <a:ext cx="75240" cy="258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5000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6315120" y="2352240"/>
                    <a:ext cx="75240" cy="64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2" name=""/>
                <p:cNvSpPr/>
                <p:nvPr/>
              </p:nvSpPr>
              <p:spPr>
                <a:xfrm>
                  <a:off x="6841440" y="2320560"/>
                  <a:ext cx="75240" cy="258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3" name="未知"/>
            <p:cNvSpPr/>
            <p:nvPr/>
          </p:nvSpPr>
          <p:spPr>
            <a:xfrm>
              <a:off x="7023960" y="2532600"/>
              <a:ext cx="439560" cy="99360"/>
            </a:xfrm>
            <a:custGeom>
              <a:avLst/>
              <a:gdLst/>
              <a:ahLst/>
              <a:rect l="l" t="t" r="r" b="b"/>
              <a:pathLst>
                <a:path w="380" h="87">
                  <a:moveTo>
                    <a:pt x="380" y="44"/>
                  </a:moveTo>
                  <a:cubicBezTo>
                    <a:pt x="343" y="50"/>
                    <a:pt x="223" y="87"/>
                    <a:pt x="160" y="80"/>
                  </a:cubicBezTo>
                  <a:cubicBezTo>
                    <a:pt x="97" y="73"/>
                    <a:pt x="33" y="17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未知"/>
            <p:cNvSpPr/>
            <p:nvPr/>
          </p:nvSpPr>
          <p:spPr>
            <a:xfrm>
              <a:off x="6049080" y="1284480"/>
              <a:ext cx="469800" cy="1245600"/>
            </a:xfrm>
            <a:custGeom>
              <a:avLst/>
              <a:gdLst/>
              <a:ahLst/>
              <a:rect l="l" t="t" r="r" b="b"/>
              <a:pathLst>
                <a:path w="406" h="1088">
                  <a:moveTo>
                    <a:pt x="179" y="1088"/>
                  </a:moveTo>
                  <a:cubicBezTo>
                    <a:pt x="122" y="1080"/>
                    <a:pt x="71" y="1075"/>
                    <a:pt x="43" y="997"/>
                  </a:cubicBezTo>
                  <a:cubicBezTo>
                    <a:pt x="15" y="919"/>
                    <a:pt x="0" y="761"/>
                    <a:pt x="10" y="618"/>
                  </a:cubicBezTo>
                  <a:cubicBezTo>
                    <a:pt x="20" y="475"/>
                    <a:pt x="40" y="241"/>
                    <a:pt x="106" y="138"/>
                  </a:cubicBezTo>
                  <a:cubicBezTo>
                    <a:pt x="172" y="35"/>
                    <a:pt x="344" y="29"/>
                    <a:pt x="40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未知"/>
            <p:cNvSpPr/>
            <p:nvPr/>
          </p:nvSpPr>
          <p:spPr>
            <a:xfrm>
              <a:off x="7023960" y="1296000"/>
              <a:ext cx="925560" cy="174960"/>
            </a:xfrm>
            <a:custGeom>
              <a:avLst/>
              <a:gdLst/>
              <a:ahLst/>
              <a:rect l="l" t="t" r="r" b="b"/>
              <a:pathLst>
                <a:path w="800" h="153">
                  <a:moveTo>
                    <a:pt x="0" y="8"/>
                  </a:moveTo>
                  <a:cubicBezTo>
                    <a:pt x="51" y="32"/>
                    <a:pt x="163" y="153"/>
                    <a:pt x="296" y="152"/>
                  </a:cubicBezTo>
                  <a:cubicBezTo>
                    <a:pt x="429" y="151"/>
                    <a:pt x="695" y="32"/>
                    <a:pt x="80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未知"/>
            <p:cNvSpPr/>
            <p:nvPr/>
          </p:nvSpPr>
          <p:spPr>
            <a:xfrm>
              <a:off x="8468280" y="1305000"/>
              <a:ext cx="441720" cy="1328040"/>
            </a:xfrm>
            <a:custGeom>
              <a:avLst/>
              <a:gdLst/>
              <a:ahLst/>
              <a:rect l="l" t="t" r="r" b="b"/>
              <a:pathLst>
                <a:path w="382" h="1160">
                  <a:moveTo>
                    <a:pt x="0" y="0"/>
                  </a:moveTo>
                  <a:cubicBezTo>
                    <a:pt x="48" y="27"/>
                    <a:pt x="227" y="73"/>
                    <a:pt x="288" y="160"/>
                  </a:cubicBezTo>
                  <a:cubicBezTo>
                    <a:pt x="349" y="247"/>
                    <a:pt x="357" y="391"/>
                    <a:pt x="368" y="520"/>
                  </a:cubicBezTo>
                  <a:cubicBezTo>
                    <a:pt x="379" y="649"/>
                    <a:pt x="382" y="827"/>
                    <a:pt x="357" y="934"/>
                  </a:cubicBezTo>
                  <a:cubicBezTo>
                    <a:pt x="332" y="1041"/>
                    <a:pt x="245" y="1113"/>
                    <a:pt x="216" y="11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5547600" y="3500280"/>
            <a:ext cx="3488400" cy="2592360"/>
            <a:chOff x="5547600" y="3500280"/>
            <a:chExt cx="3488400" cy="2592360"/>
          </a:xfrm>
        </p:grpSpPr>
        <p:sp>
          <p:nvSpPr>
            <p:cNvPr id="1368" name=""/>
            <p:cNvSpPr/>
            <p:nvPr/>
          </p:nvSpPr>
          <p:spPr>
            <a:xfrm>
              <a:off x="6060960" y="3597120"/>
              <a:ext cx="2975040" cy="2495520"/>
            </a:xfrm>
            <a:prstGeom prst="rect">
              <a:avLst/>
            </a:prstGeom>
            <a:noFill/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7445160" y="5468760"/>
              <a:ext cx="1430280" cy="522360"/>
              <a:chOff x="7445160" y="5468760"/>
              <a:chExt cx="1430280" cy="52236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7445160" y="5468760"/>
                <a:ext cx="1430280" cy="522360"/>
                <a:chOff x="7445160" y="5468760"/>
                <a:chExt cx="1430280" cy="52236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7445160" y="5673600"/>
                  <a:ext cx="1430280" cy="223920"/>
                </a:xfrm>
                <a:prstGeom prst="cube">
                  <a:avLst>
                    <a:gd name="adj" fmla="val 91486"/>
                  </a:avLst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2" name=""/>
                <p:cNvGrpSpPr/>
                <p:nvPr/>
              </p:nvGrpSpPr>
              <p:grpSpPr>
                <a:xfrm>
                  <a:off x="7485120" y="5468760"/>
                  <a:ext cx="317160" cy="373320"/>
                  <a:chOff x="7485120" y="5468760"/>
                  <a:chExt cx="317160" cy="373320"/>
                </a:xfrm>
              </p:grpSpPr>
              <p:sp>
                <p:nvSpPr>
                  <p:cNvPr id="1373" name=""/>
                  <p:cNvSpPr/>
                  <p:nvPr/>
                </p:nvSpPr>
                <p:spPr>
                  <a:xfrm>
                    <a:off x="7485120" y="5717160"/>
                    <a:ext cx="317160" cy="124920"/>
                  </a:xfrm>
                  <a:prstGeom prst="parallelogram">
                    <a:avLst>
                      <a:gd name="adj" fmla="val 97701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7683480" y="5468760"/>
                    <a:ext cx="118800" cy="373320"/>
                  </a:xfrm>
                  <a:prstGeom prst="cube">
                    <a:avLst>
                      <a:gd name="adj" fmla="val 8958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75" name=""/>
                  <p:cNvGrpSpPr/>
                  <p:nvPr/>
                </p:nvGrpSpPr>
                <p:grpSpPr>
                  <a:xfrm>
                    <a:off x="7564320" y="5673600"/>
                    <a:ext cx="59400" cy="107640"/>
                    <a:chOff x="7564320" y="5673600"/>
                    <a:chExt cx="59400" cy="107640"/>
                  </a:xfrm>
                </p:grpSpPr>
                <p:sp>
                  <p:nvSpPr>
                    <p:cNvPr id="1376" name=""/>
                    <p:cNvSpPr/>
                    <p:nvPr/>
                  </p:nvSpPr>
                  <p:spPr>
                    <a:xfrm>
                      <a:off x="7574040" y="5716440"/>
                      <a:ext cx="39240" cy="6480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"/>
                    <p:cNvSpPr/>
                    <p:nvPr/>
                  </p:nvSpPr>
                  <p:spPr>
                    <a:xfrm>
                      <a:off x="7564320" y="5673600"/>
                      <a:ext cx="59400" cy="4284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8" name=""/>
                <p:cNvGrpSpPr/>
                <p:nvPr/>
              </p:nvGrpSpPr>
              <p:grpSpPr>
                <a:xfrm>
                  <a:off x="7715160" y="5554800"/>
                  <a:ext cx="425160" cy="436320"/>
                  <a:chOff x="7715160" y="5554800"/>
                  <a:chExt cx="425160" cy="436320"/>
                </a:xfrm>
              </p:grpSpPr>
              <p:grpSp>
                <p:nvGrpSpPr>
                  <p:cNvPr id="1379" name=""/>
                  <p:cNvGrpSpPr/>
                  <p:nvPr/>
                </p:nvGrpSpPr>
                <p:grpSpPr>
                  <a:xfrm>
                    <a:off x="7715160" y="5554800"/>
                    <a:ext cx="425160" cy="237240"/>
                    <a:chOff x="7715160" y="5554800"/>
                    <a:chExt cx="425160" cy="237240"/>
                  </a:xfrm>
                </p:grpSpPr>
                <p:grpSp>
                  <p:nvGrpSpPr>
                    <p:cNvPr id="1380" name=""/>
                    <p:cNvGrpSpPr/>
                    <p:nvPr/>
                  </p:nvGrpSpPr>
                  <p:grpSpPr>
                    <a:xfrm>
                      <a:off x="7715160" y="5554800"/>
                      <a:ext cx="394920" cy="236880"/>
                      <a:chOff x="7715160" y="5554800"/>
                      <a:chExt cx="394920" cy="236880"/>
                    </a:xfrm>
                  </p:grpSpPr>
                  <p:sp>
                    <p:nvSpPr>
                      <p:cNvPr id="1381" name=""/>
                      <p:cNvSpPr/>
                      <p:nvPr/>
                    </p:nvSpPr>
                    <p:spPr>
                      <a:xfrm rot="5400000">
                        <a:off x="7794000" y="5475600"/>
                        <a:ext cx="236880" cy="39492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2" name=""/>
                      <p:cNvSpPr/>
                      <p:nvPr/>
                    </p:nvSpPr>
                    <p:spPr>
                      <a:xfrm rot="5400000">
                        <a:off x="7930800" y="5612400"/>
                        <a:ext cx="236880" cy="12132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9160" bIns="29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3" name=""/>
                    <p:cNvGrpSpPr/>
                    <p:nvPr/>
                  </p:nvGrpSpPr>
                  <p:grpSpPr>
                    <a:xfrm>
                      <a:off x="8064720" y="5554800"/>
                      <a:ext cx="75600" cy="237240"/>
                      <a:chOff x="8064720" y="5554800"/>
                      <a:chExt cx="75600" cy="237240"/>
                    </a:xfrm>
                  </p:grpSpPr>
                  <p:grpSp>
                    <p:nvGrpSpPr>
                      <p:cNvPr id="1384" name=""/>
                      <p:cNvGrpSpPr/>
                      <p:nvPr/>
                    </p:nvGrpSpPr>
                    <p:grpSpPr>
                      <a:xfrm>
                        <a:off x="8064720" y="5554800"/>
                        <a:ext cx="75600" cy="237240"/>
                        <a:chOff x="8064720" y="5554800"/>
                        <a:chExt cx="75600" cy="237240"/>
                      </a:xfrm>
                    </p:grpSpPr>
                    <p:grpSp>
                      <p:nvGrpSpPr>
                        <p:cNvPr id="1385" name=""/>
                        <p:cNvGrpSpPr/>
                        <p:nvPr/>
                      </p:nvGrpSpPr>
                      <p:grpSpPr>
                        <a:xfrm>
                          <a:off x="8064720" y="5554800"/>
                          <a:ext cx="75600" cy="237240"/>
                          <a:chOff x="8064720" y="5554800"/>
                          <a:chExt cx="75600" cy="237240"/>
                        </a:xfrm>
                      </p:grpSpPr>
                      <p:sp>
                        <p:nvSpPr>
                          <p:cNvPr id="1386" name=""/>
                          <p:cNvSpPr/>
                          <p:nvPr/>
                        </p:nvSpPr>
                        <p:spPr>
                          <a:xfrm rot="5400000">
                            <a:off x="7983720" y="5635440"/>
                            <a:ext cx="237240" cy="7560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fffff"/>
                              </a:gs>
                              <a:gs pos="100000">
                                <a:srgbClr val="ffcc00"/>
                              </a:gs>
                            </a:gsLst>
                            <a:path path="rect">
                              <a:fillToRect l="50000" t="50000" r="50000" b="50000"/>
                            </a:path>
                          </a:gra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7200" bIns="7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7" name=""/>
                          <p:cNvSpPr/>
                          <p:nvPr/>
                        </p:nvSpPr>
                        <p:spPr>
                          <a:xfrm rot="5400000">
                            <a:off x="8011800" y="5650560"/>
                            <a:ext cx="182160" cy="4536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4400" bIns="-14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388" name=""/>
                        <p:cNvSpPr/>
                        <p:nvPr/>
                      </p:nvSpPr>
                      <p:spPr>
                        <a:xfrm rot="5400000">
                          <a:off x="8038800" y="5658120"/>
                          <a:ext cx="127440" cy="30240"/>
                        </a:xfrm>
                        <a:prstGeom prst="ellipse">
                          <a:avLst/>
                        </a:prstGeom>
                        <a:solidFill>
                          <a:srgbClr val="dddddd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5200" bIns="-252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389" name=""/>
                      <p:cNvSpPr/>
                      <p:nvPr/>
                    </p:nvSpPr>
                    <p:spPr>
                      <a:xfrm rot="5400000">
                        <a:off x="8079120" y="5658120"/>
                        <a:ext cx="55080" cy="2988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90" name=""/>
                    <p:cNvGrpSpPr/>
                    <p:nvPr/>
                  </p:nvGrpSpPr>
                  <p:grpSpPr>
                    <a:xfrm>
                      <a:off x="7746120" y="5645880"/>
                      <a:ext cx="288360" cy="109080"/>
                      <a:chOff x="7746120" y="5645880"/>
                      <a:chExt cx="288360" cy="109080"/>
                    </a:xfrm>
                  </p:grpSpPr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7746120" y="5645880"/>
                        <a:ext cx="288360" cy="10908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7791480" y="5682240"/>
                        <a:ext cx="167040" cy="5472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5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93" name=""/>
                  <p:cNvSpPr/>
                  <p:nvPr/>
                </p:nvSpPr>
                <p:spPr>
                  <a:xfrm>
                    <a:off x="7934400" y="5622840"/>
                    <a:ext cx="183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  <a:ea typeface="宋体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7716960" y="5614920"/>
                    <a:ext cx="409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  <a:ea typeface="宋体"/>
                      </a:rPr>
                      <a:t>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5" name=""/>
                <p:cNvGrpSpPr/>
                <p:nvPr/>
              </p:nvGrpSpPr>
              <p:grpSpPr>
                <a:xfrm>
                  <a:off x="8082360" y="5554800"/>
                  <a:ext cx="425160" cy="237960"/>
                  <a:chOff x="8082360" y="5554800"/>
                  <a:chExt cx="425160" cy="237960"/>
                </a:xfrm>
              </p:grpSpPr>
              <p:grpSp>
                <p:nvGrpSpPr>
                  <p:cNvPr id="1396" name=""/>
                  <p:cNvGrpSpPr/>
                  <p:nvPr/>
                </p:nvGrpSpPr>
                <p:grpSpPr>
                  <a:xfrm>
                    <a:off x="8082360" y="5554800"/>
                    <a:ext cx="394920" cy="237600"/>
                    <a:chOff x="8082360" y="5554800"/>
                    <a:chExt cx="394920" cy="237600"/>
                  </a:xfrm>
                </p:grpSpPr>
                <p:sp>
                  <p:nvSpPr>
                    <p:cNvPr id="1397" name=""/>
                    <p:cNvSpPr/>
                    <p:nvPr/>
                  </p:nvSpPr>
                  <p:spPr>
                    <a:xfrm rot="5400000">
                      <a:off x="8160840" y="5475960"/>
                      <a:ext cx="237600" cy="3949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8" name=""/>
                    <p:cNvSpPr/>
                    <p:nvPr/>
                  </p:nvSpPr>
                  <p:spPr>
                    <a:xfrm rot="5400000">
                      <a:off x="8297640" y="5612760"/>
                      <a:ext cx="237600" cy="1213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9" name=""/>
                  <p:cNvGrpSpPr/>
                  <p:nvPr/>
                </p:nvGrpSpPr>
                <p:grpSpPr>
                  <a:xfrm>
                    <a:off x="8431920" y="5554800"/>
                    <a:ext cx="75600" cy="237960"/>
                    <a:chOff x="8431920" y="5554800"/>
                    <a:chExt cx="75600" cy="237960"/>
                  </a:xfrm>
                </p:grpSpPr>
                <p:grpSp>
                  <p:nvGrpSpPr>
                    <p:cNvPr id="1400" name=""/>
                    <p:cNvGrpSpPr/>
                    <p:nvPr/>
                  </p:nvGrpSpPr>
                  <p:grpSpPr>
                    <a:xfrm>
                      <a:off x="8431920" y="5554800"/>
                      <a:ext cx="75600" cy="237960"/>
                      <a:chOff x="8431920" y="5554800"/>
                      <a:chExt cx="75600" cy="237960"/>
                    </a:xfrm>
                  </p:grpSpPr>
                  <p:grpSp>
                    <p:nvGrpSpPr>
                      <p:cNvPr id="1401" name=""/>
                      <p:cNvGrpSpPr/>
                      <p:nvPr/>
                    </p:nvGrpSpPr>
                    <p:grpSpPr>
                      <a:xfrm>
                        <a:off x="8431920" y="5554800"/>
                        <a:ext cx="75600" cy="237960"/>
                        <a:chOff x="8431920" y="5554800"/>
                        <a:chExt cx="75600" cy="237960"/>
                      </a:xfrm>
                    </p:grpSpPr>
                    <p:sp>
                      <p:nvSpPr>
                        <p:cNvPr id="1402" name=""/>
                        <p:cNvSpPr/>
                        <p:nvPr/>
                      </p:nvSpPr>
                      <p:spPr>
                        <a:xfrm rot="5400000">
                          <a:off x="8350560" y="5635800"/>
                          <a:ext cx="237960" cy="7560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ffcc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7200" bIns="72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3" name=""/>
                        <p:cNvSpPr/>
                        <p:nvPr/>
                      </p:nvSpPr>
                      <p:spPr>
                        <a:xfrm rot="5400000">
                          <a:off x="8378640" y="5650560"/>
                          <a:ext cx="182520" cy="4536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4400" bIns="-144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404" name=""/>
                      <p:cNvSpPr/>
                      <p:nvPr/>
                    </p:nvSpPr>
                    <p:spPr>
                      <a:xfrm rot="5400000">
                        <a:off x="8405640" y="5658120"/>
                        <a:ext cx="127800" cy="30240"/>
                      </a:xfrm>
                      <a:prstGeom prst="ellipse">
                        <a:avLst/>
                      </a:prstGeom>
                      <a:solidFill>
                        <a:srgbClr val="dddddd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05" name=""/>
                    <p:cNvSpPr/>
                    <p:nvPr/>
                  </p:nvSpPr>
                  <p:spPr>
                    <a:xfrm rot="5400000">
                      <a:off x="8446320" y="5658480"/>
                      <a:ext cx="55080" cy="2988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6" name=""/>
                  <p:cNvGrpSpPr/>
                  <p:nvPr/>
                </p:nvGrpSpPr>
                <p:grpSpPr>
                  <a:xfrm>
                    <a:off x="8113320" y="5646240"/>
                    <a:ext cx="288360" cy="109440"/>
                    <a:chOff x="8113320" y="5646240"/>
                    <a:chExt cx="288360" cy="109440"/>
                  </a:xfrm>
                </p:grpSpPr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8113320" y="5646240"/>
                      <a:ext cx="288360" cy="1094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8" name=""/>
                    <p:cNvSpPr/>
                    <p:nvPr/>
                  </p:nvSpPr>
                  <p:spPr>
                    <a:xfrm>
                      <a:off x="8158680" y="5682600"/>
                      <a:ext cx="167040" cy="54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8488440" y="5468760"/>
                  <a:ext cx="317520" cy="373320"/>
                  <a:chOff x="8488440" y="5468760"/>
                  <a:chExt cx="317520" cy="373320"/>
                </a:xfrm>
              </p:grpSpPr>
              <p:sp>
                <p:nvSpPr>
                  <p:cNvPr id="1410" name=""/>
                  <p:cNvSpPr/>
                  <p:nvPr/>
                </p:nvSpPr>
                <p:spPr>
                  <a:xfrm>
                    <a:off x="8488440" y="5717160"/>
                    <a:ext cx="317520" cy="124920"/>
                  </a:xfrm>
                  <a:prstGeom prst="parallelogram">
                    <a:avLst>
                      <a:gd name="adj" fmla="val 97811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11" name=""/>
                  <p:cNvGrpSpPr/>
                  <p:nvPr/>
                </p:nvGrpSpPr>
                <p:grpSpPr>
                  <a:xfrm>
                    <a:off x="8647560" y="5695560"/>
                    <a:ext cx="59400" cy="107640"/>
                    <a:chOff x="8647560" y="5695560"/>
                    <a:chExt cx="59400" cy="107640"/>
                  </a:xfrm>
                </p:grpSpPr>
                <p:sp>
                  <p:nvSpPr>
                    <p:cNvPr id="1412" name=""/>
                    <p:cNvSpPr/>
                    <p:nvPr/>
                  </p:nvSpPr>
                  <p:spPr>
                    <a:xfrm>
                      <a:off x="8657280" y="5738400"/>
                      <a:ext cx="39240" cy="6480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3" name=""/>
                    <p:cNvSpPr/>
                    <p:nvPr/>
                  </p:nvSpPr>
                  <p:spPr>
                    <a:xfrm>
                      <a:off x="8647560" y="5695560"/>
                      <a:ext cx="59400" cy="4284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4" name=""/>
                  <p:cNvSpPr/>
                  <p:nvPr/>
                </p:nvSpPr>
                <p:spPr>
                  <a:xfrm>
                    <a:off x="8488440" y="5468760"/>
                    <a:ext cx="119160" cy="373320"/>
                  </a:xfrm>
                  <a:prstGeom prst="cube">
                    <a:avLst>
                      <a:gd name="adj" fmla="val 8958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5" name=""/>
              <p:cNvSpPr/>
              <p:nvPr/>
            </p:nvSpPr>
            <p:spPr>
              <a:xfrm>
                <a:off x="8315280" y="5620680"/>
                <a:ext cx="18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089560" y="5618880"/>
                <a:ext cx="18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6183360" y="5333760"/>
              <a:ext cx="1215720" cy="452160"/>
              <a:chOff x="6183360" y="5333760"/>
              <a:chExt cx="1215720" cy="452160"/>
            </a:xfrm>
          </p:grpSpPr>
          <p:sp>
            <p:nvSpPr>
              <p:cNvPr id="1418" name=""/>
              <p:cNvSpPr/>
              <p:nvPr/>
            </p:nvSpPr>
            <p:spPr>
              <a:xfrm>
                <a:off x="6183360" y="5522040"/>
                <a:ext cx="1215720" cy="263880"/>
              </a:xfrm>
              <a:prstGeom prst="cube">
                <a:avLst>
                  <a:gd name="adj" fmla="val 88430"/>
                </a:avLst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"/>
              <p:cNvGrpSpPr/>
              <p:nvPr/>
            </p:nvGrpSpPr>
            <p:grpSpPr>
              <a:xfrm>
                <a:off x="6259320" y="5333760"/>
                <a:ext cx="380160" cy="375480"/>
                <a:chOff x="6259320" y="5333760"/>
                <a:chExt cx="380160" cy="37548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6259320" y="5596920"/>
                  <a:ext cx="380160" cy="112320"/>
                </a:xfrm>
                <a:prstGeom prst="parallelogram">
                  <a:avLst>
                    <a:gd name="adj" fmla="val 10884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486840" y="5333760"/>
                  <a:ext cx="76320" cy="26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6335280" y="5499720"/>
                  <a:ext cx="92880" cy="153000"/>
                  <a:chOff x="6335280" y="5499720"/>
                  <a:chExt cx="92880" cy="15300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>
                    <a:off x="6350400" y="5560560"/>
                    <a:ext cx="61200" cy="921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6335280" y="5499720"/>
                    <a:ext cx="92880" cy="608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5" name=""/>
              <p:cNvGrpSpPr/>
              <p:nvPr/>
            </p:nvGrpSpPr>
            <p:grpSpPr>
              <a:xfrm>
                <a:off x="6867360" y="5333760"/>
                <a:ext cx="417600" cy="375480"/>
                <a:chOff x="6867360" y="5333760"/>
                <a:chExt cx="417600" cy="37548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6867360" y="5596920"/>
                  <a:ext cx="417600" cy="112320"/>
                </a:xfrm>
                <a:prstGeom prst="parallelogram">
                  <a:avLst>
                    <a:gd name="adj" fmla="val 9983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018560" y="5333760"/>
                  <a:ext cx="75960" cy="30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8" name=""/>
                <p:cNvGrpSpPr/>
                <p:nvPr/>
              </p:nvGrpSpPr>
              <p:grpSpPr>
                <a:xfrm>
                  <a:off x="7132680" y="5499720"/>
                  <a:ext cx="92520" cy="153000"/>
                  <a:chOff x="7132680" y="5499720"/>
                  <a:chExt cx="92520" cy="153000"/>
                </a:xfrm>
              </p:grpSpPr>
              <p:sp>
                <p:nvSpPr>
                  <p:cNvPr id="1429" name=""/>
                  <p:cNvSpPr/>
                  <p:nvPr/>
                </p:nvSpPr>
                <p:spPr>
                  <a:xfrm>
                    <a:off x="7147800" y="5560560"/>
                    <a:ext cx="60840" cy="921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7132680" y="5499720"/>
                    <a:ext cx="92520" cy="6084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31" name=""/>
            <p:cNvGrpSpPr/>
            <p:nvPr/>
          </p:nvGrpSpPr>
          <p:grpSpPr>
            <a:xfrm>
              <a:off x="7261200" y="4268520"/>
              <a:ext cx="784080" cy="480600"/>
              <a:chOff x="7261200" y="4268520"/>
              <a:chExt cx="784080" cy="480600"/>
            </a:xfrm>
          </p:grpSpPr>
          <p:grpSp>
            <p:nvGrpSpPr>
              <p:cNvPr id="1432" name=""/>
              <p:cNvGrpSpPr/>
              <p:nvPr/>
            </p:nvGrpSpPr>
            <p:grpSpPr>
              <a:xfrm>
                <a:off x="7541280" y="4268520"/>
                <a:ext cx="223920" cy="278280"/>
                <a:chOff x="7541280" y="4268520"/>
                <a:chExt cx="223920" cy="27828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7541280" y="4268520"/>
                  <a:ext cx="2239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83137"/>
                      </a:srgbClr>
                    </a:gs>
                    <a:gs pos="100000">
                      <a:srgbClr val="b2b2b2">
                        <a:alpha val="8117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575840" y="4471200"/>
                  <a:ext cx="154800" cy="75600"/>
                </a:xfrm>
                <a:prstGeom prst="rect">
                  <a:avLst/>
                </a:prstGeom>
                <a:blipFill rotWithShape="0">
                  <a:blip r:embed="rId21">
                    <a:alphaModFix amt="43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7261200" y="4504320"/>
                <a:ext cx="784080" cy="244800"/>
                <a:chOff x="7261200" y="4504320"/>
                <a:chExt cx="784080" cy="24480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7261200" y="4546440"/>
                  <a:ext cx="784080" cy="202680"/>
                </a:xfrm>
                <a:prstGeom prst="cube">
                  <a:avLst>
                    <a:gd name="adj" fmla="val 72611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562520" y="4522680"/>
                  <a:ext cx="181440" cy="1260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8" name=""/>
                <p:cNvGrpSpPr/>
                <p:nvPr/>
              </p:nvGrpSpPr>
              <p:grpSpPr>
                <a:xfrm>
                  <a:off x="7821720" y="4512600"/>
                  <a:ext cx="83880" cy="135720"/>
                  <a:chOff x="7821720" y="4512600"/>
                  <a:chExt cx="83880" cy="13572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7835400" y="4566600"/>
                    <a:ext cx="55080" cy="8172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821720" y="4512600"/>
                    <a:ext cx="83880" cy="54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7373520" y="4504320"/>
                  <a:ext cx="83880" cy="135720"/>
                  <a:chOff x="7373520" y="4504320"/>
                  <a:chExt cx="83880" cy="13572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7387200" y="4558320"/>
                    <a:ext cx="55080" cy="8172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7373520" y="4504320"/>
                    <a:ext cx="83880" cy="54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44" name=""/>
            <p:cNvGrpSpPr/>
            <p:nvPr/>
          </p:nvGrpSpPr>
          <p:grpSpPr>
            <a:xfrm>
              <a:off x="7261200" y="3597120"/>
              <a:ext cx="784080" cy="480600"/>
              <a:chOff x="7261200" y="3597120"/>
              <a:chExt cx="784080" cy="480600"/>
            </a:xfrm>
          </p:grpSpPr>
          <p:grpSp>
            <p:nvGrpSpPr>
              <p:cNvPr id="1445" name=""/>
              <p:cNvGrpSpPr/>
              <p:nvPr/>
            </p:nvGrpSpPr>
            <p:grpSpPr>
              <a:xfrm>
                <a:off x="7541280" y="3597120"/>
                <a:ext cx="223920" cy="278280"/>
                <a:chOff x="7541280" y="3597120"/>
                <a:chExt cx="223920" cy="27828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7541280" y="3597120"/>
                  <a:ext cx="2239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83137"/>
                      </a:srgbClr>
                    </a:gs>
                    <a:gs pos="100000">
                      <a:srgbClr val="b2b2b2">
                        <a:alpha val="8117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575840" y="3799800"/>
                  <a:ext cx="154800" cy="75600"/>
                </a:xfrm>
                <a:prstGeom prst="rect">
                  <a:avLst/>
                </a:prstGeom>
                <a:blipFill rotWithShape="0">
                  <a:blip r:embed="rId25">
                    <a:alphaModFix amt="43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7261200" y="3832920"/>
                <a:ext cx="784080" cy="244800"/>
                <a:chOff x="7261200" y="3832920"/>
                <a:chExt cx="784080" cy="24480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7261200" y="3875040"/>
                  <a:ext cx="784080" cy="202680"/>
                </a:xfrm>
                <a:prstGeom prst="cube">
                  <a:avLst>
                    <a:gd name="adj" fmla="val 72611"/>
                  </a:avLst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562520" y="3851280"/>
                  <a:ext cx="181440" cy="1260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1" name=""/>
                <p:cNvGrpSpPr/>
                <p:nvPr/>
              </p:nvGrpSpPr>
              <p:grpSpPr>
                <a:xfrm>
                  <a:off x="7821720" y="3841200"/>
                  <a:ext cx="83880" cy="135720"/>
                  <a:chOff x="7821720" y="3841200"/>
                  <a:chExt cx="83880" cy="135720"/>
                </a:xfrm>
              </p:grpSpPr>
              <p:sp>
                <p:nvSpPr>
                  <p:cNvPr id="1452" name=""/>
                  <p:cNvSpPr/>
                  <p:nvPr/>
                </p:nvSpPr>
                <p:spPr>
                  <a:xfrm>
                    <a:off x="7835400" y="3895200"/>
                    <a:ext cx="55080" cy="8172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7821720" y="3841200"/>
                    <a:ext cx="83880" cy="54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4" name=""/>
                <p:cNvGrpSpPr/>
                <p:nvPr/>
              </p:nvGrpSpPr>
              <p:grpSpPr>
                <a:xfrm>
                  <a:off x="7373520" y="3832920"/>
                  <a:ext cx="83880" cy="135720"/>
                  <a:chOff x="7373520" y="3832920"/>
                  <a:chExt cx="83880" cy="135720"/>
                </a:xfrm>
              </p:grpSpPr>
              <p:sp>
                <p:nvSpPr>
                  <p:cNvPr id="1455" name=""/>
                  <p:cNvSpPr/>
                  <p:nvPr/>
                </p:nvSpPr>
                <p:spPr>
                  <a:xfrm>
                    <a:off x="7387200" y="3886920"/>
                    <a:ext cx="55080" cy="8172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7373520" y="3832920"/>
                    <a:ext cx="83880" cy="54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57" name="未知"/>
            <p:cNvSpPr/>
            <p:nvPr/>
          </p:nvSpPr>
          <p:spPr>
            <a:xfrm>
              <a:off x="7051680" y="3821040"/>
              <a:ext cx="439560" cy="784080"/>
            </a:xfrm>
            <a:custGeom>
              <a:avLst/>
              <a:gdLst/>
              <a:ahLst/>
              <a:rect l="l" t="t" r="r" b="b"/>
              <a:pathLst>
                <a:path w="431" h="741">
                  <a:moveTo>
                    <a:pt x="341" y="60"/>
                  </a:moveTo>
                  <a:cubicBezTo>
                    <a:pt x="299" y="30"/>
                    <a:pt x="258" y="0"/>
                    <a:pt x="205" y="15"/>
                  </a:cubicBezTo>
                  <a:cubicBezTo>
                    <a:pt x="152" y="30"/>
                    <a:pt x="46" y="76"/>
                    <a:pt x="23" y="151"/>
                  </a:cubicBezTo>
                  <a:cubicBezTo>
                    <a:pt x="0" y="226"/>
                    <a:pt x="9" y="377"/>
                    <a:pt x="69" y="468"/>
                  </a:cubicBezTo>
                  <a:cubicBezTo>
                    <a:pt x="129" y="559"/>
                    <a:pt x="341" y="650"/>
                    <a:pt x="386" y="695"/>
                  </a:cubicBezTo>
                  <a:cubicBezTo>
                    <a:pt x="431" y="740"/>
                    <a:pt x="386" y="740"/>
                    <a:pt x="341" y="7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未知"/>
            <p:cNvSpPr/>
            <p:nvPr/>
          </p:nvSpPr>
          <p:spPr>
            <a:xfrm>
              <a:off x="6215040" y="4508280"/>
              <a:ext cx="1184040" cy="1166760"/>
            </a:xfrm>
            <a:custGeom>
              <a:avLst/>
              <a:gdLst/>
              <a:ahLst/>
              <a:rect l="l" t="t" r="r" b="b"/>
              <a:pathLst>
                <a:path w="1164" h="1103">
                  <a:moveTo>
                    <a:pt x="1164" y="45"/>
                  </a:moveTo>
                  <a:cubicBezTo>
                    <a:pt x="1160" y="45"/>
                    <a:pt x="1156" y="45"/>
                    <a:pt x="1073" y="45"/>
                  </a:cubicBezTo>
                  <a:cubicBezTo>
                    <a:pt x="990" y="45"/>
                    <a:pt x="809" y="0"/>
                    <a:pt x="665" y="45"/>
                  </a:cubicBezTo>
                  <a:cubicBezTo>
                    <a:pt x="521" y="90"/>
                    <a:pt x="317" y="219"/>
                    <a:pt x="211" y="317"/>
                  </a:cubicBezTo>
                  <a:cubicBezTo>
                    <a:pt x="105" y="415"/>
                    <a:pt x="60" y="514"/>
                    <a:pt x="30" y="635"/>
                  </a:cubicBezTo>
                  <a:cubicBezTo>
                    <a:pt x="0" y="756"/>
                    <a:pt x="7" y="983"/>
                    <a:pt x="30" y="1043"/>
                  </a:cubicBezTo>
                  <a:cubicBezTo>
                    <a:pt x="53" y="1103"/>
                    <a:pt x="151" y="1005"/>
                    <a:pt x="166" y="9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未知"/>
            <p:cNvSpPr/>
            <p:nvPr/>
          </p:nvSpPr>
          <p:spPr>
            <a:xfrm>
              <a:off x="7170480" y="5578200"/>
              <a:ext cx="439920" cy="204840"/>
            </a:xfrm>
            <a:custGeom>
              <a:avLst/>
              <a:gdLst/>
              <a:ahLst/>
              <a:rect l="l" t="t" r="r" b="b"/>
              <a:pathLst>
                <a:path w="432" h="193">
                  <a:moveTo>
                    <a:pt x="0" y="0"/>
                  </a:moveTo>
                  <a:cubicBezTo>
                    <a:pt x="30" y="27"/>
                    <a:pt x="107" y="143"/>
                    <a:pt x="179" y="168"/>
                  </a:cubicBezTo>
                  <a:cubicBezTo>
                    <a:pt x="251" y="193"/>
                    <a:pt x="379" y="155"/>
                    <a:pt x="432" y="15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未知"/>
            <p:cNvSpPr/>
            <p:nvPr/>
          </p:nvSpPr>
          <p:spPr>
            <a:xfrm>
              <a:off x="7861320" y="4535280"/>
              <a:ext cx="1068120" cy="1252440"/>
            </a:xfrm>
            <a:custGeom>
              <a:avLst/>
              <a:gdLst/>
              <a:ahLst/>
              <a:rect l="l" t="t" r="r" b="b"/>
              <a:pathLst>
                <a:path w="1049" h="1184">
                  <a:moveTo>
                    <a:pt x="815" y="1154"/>
                  </a:moveTo>
                  <a:cubicBezTo>
                    <a:pt x="845" y="1169"/>
                    <a:pt x="875" y="1184"/>
                    <a:pt x="905" y="1109"/>
                  </a:cubicBezTo>
                  <a:cubicBezTo>
                    <a:pt x="935" y="1034"/>
                    <a:pt x="1049" y="867"/>
                    <a:pt x="996" y="701"/>
                  </a:cubicBezTo>
                  <a:cubicBezTo>
                    <a:pt x="943" y="535"/>
                    <a:pt x="754" y="222"/>
                    <a:pt x="588" y="111"/>
                  </a:cubicBezTo>
                  <a:cubicBezTo>
                    <a:pt x="422" y="0"/>
                    <a:pt x="122" y="50"/>
                    <a:pt x="0" y="3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未知"/>
            <p:cNvSpPr/>
            <p:nvPr/>
          </p:nvSpPr>
          <p:spPr>
            <a:xfrm>
              <a:off x="7859520" y="3884400"/>
              <a:ext cx="441360" cy="735120"/>
            </a:xfrm>
            <a:custGeom>
              <a:avLst/>
              <a:gdLst/>
              <a:ahLst/>
              <a:rect l="l" t="t" r="r" b="b"/>
              <a:pathLst>
                <a:path w="433" h="695">
                  <a:moveTo>
                    <a:pt x="0" y="635"/>
                  </a:moveTo>
                  <a:cubicBezTo>
                    <a:pt x="34" y="665"/>
                    <a:pt x="68" y="695"/>
                    <a:pt x="136" y="635"/>
                  </a:cubicBezTo>
                  <a:cubicBezTo>
                    <a:pt x="204" y="575"/>
                    <a:pt x="385" y="367"/>
                    <a:pt x="409" y="272"/>
                  </a:cubicBezTo>
                  <a:cubicBezTo>
                    <a:pt x="433" y="177"/>
                    <a:pt x="350" y="110"/>
                    <a:pt x="282" y="65"/>
                  </a:cubicBezTo>
                  <a:cubicBezTo>
                    <a:pt x="214" y="20"/>
                    <a:pt x="59" y="1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180640" y="414972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965000" y="350028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5547600" y="4913280"/>
              <a:ext cx="1779480" cy="983520"/>
              <a:chOff x="5547600" y="4913280"/>
              <a:chExt cx="1779480" cy="983520"/>
            </a:xfrm>
          </p:grpSpPr>
          <p:grpSp>
            <p:nvGrpSpPr>
              <p:cNvPr id="1465" name=""/>
              <p:cNvGrpSpPr/>
              <p:nvPr/>
            </p:nvGrpSpPr>
            <p:grpSpPr>
              <a:xfrm>
                <a:off x="6415560" y="4913280"/>
                <a:ext cx="911520" cy="550800"/>
                <a:chOff x="6415560" y="4913280"/>
                <a:chExt cx="911520" cy="550800"/>
              </a:xfrm>
            </p:grpSpPr>
            <p:sp>
              <p:nvSpPr>
                <p:cNvPr id="1466" name=""/>
                <p:cNvSpPr/>
                <p:nvPr/>
              </p:nvSpPr>
              <p:spPr>
                <a:xfrm rot="19921800">
                  <a:off x="6387480" y="5220360"/>
                  <a:ext cx="759240" cy="69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rot="19921800">
                  <a:off x="7089480" y="4955760"/>
                  <a:ext cx="217080" cy="141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8" name=""/>
              <p:cNvGrpSpPr/>
              <p:nvPr/>
            </p:nvGrpSpPr>
            <p:grpSpPr>
              <a:xfrm>
                <a:off x="5547600" y="5346360"/>
                <a:ext cx="911880" cy="550440"/>
                <a:chOff x="5547600" y="5346360"/>
                <a:chExt cx="911880" cy="550440"/>
              </a:xfrm>
            </p:grpSpPr>
            <p:sp>
              <p:nvSpPr>
                <p:cNvPr id="1469" name=""/>
                <p:cNvSpPr/>
                <p:nvPr/>
              </p:nvSpPr>
              <p:spPr>
                <a:xfrm rot="19921800">
                  <a:off x="5519520" y="5653080"/>
                  <a:ext cx="75960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rot="19921800">
                  <a:off x="6221880" y="5388840"/>
                  <a:ext cx="217080" cy="14076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1" name=""/>
            <p:cNvGrpSpPr/>
            <p:nvPr/>
          </p:nvGrpSpPr>
          <p:grpSpPr>
            <a:xfrm>
              <a:off x="6448320" y="5356080"/>
              <a:ext cx="609480" cy="303120"/>
              <a:chOff x="6448320" y="5356080"/>
              <a:chExt cx="609480" cy="303120"/>
            </a:xfrm>
          </p:grpSpPr>
          <p:grpSp>
            <p:nvGrpSpPr>
              <p:cNvPr id="1472" name=""/>
              <p:cNvGrpSpPr/>
              <p:nvPr/>
            </p:nvGrpSpPr>
            <p:grpSpPr>
              <a:xfrm>
                <a:off x="6448320" y="5356080"/>
                <a:ext cx="76320" cy="303120"/>
                <a:chOff x="6448320" y="5356080"/>
                <a:chExt cx="76320" cy="3031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448320" y="5356080"/>
                  <a:ext cx="763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448320" y="5393520"/>
                  <a:ext cx="7632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5" name=""/>
              <p:cNvSpPr/>
              <p:nvPr/>
            </p:nvSpPr>
            <p:spPr>
              <a:xfrm>
                <a:off x="6981480" y="5356080"/>
                <a:ext cx="76320" cy="30312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"/>
          <p:cNvGrpSpPr/>
          <p:nvPr/>
        </p:nvGrpSpPr>
        <p:grpSpPr>
          <a:xfrm>
            <a:off x="179280" y="2421000"/>
            <a:ext cx="8820000" cy="3887640"/>
            <a:chOff x="179280" y="2421000"/>
            <a:chExt cx="8820000" cy="3887640"/>
          </a:xfrm>
        </p:grpSpPr>
        <p:sp>
          <p:nvSpPr>
            <p:cNvPr id="1477" name=""/>
            <p:cNvSpPr/>
            <p:nvPr/>
          </p:nvSpPr>
          <p:spPr>
            <a:xfrm>
              <a:off x="468360" y="2492280"/>
              <a:ext cx="8208720" cy="34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6600"/>
                  </a:solidFill>
                  <a:latin typeface="华文行楷"/>
                  <a:ea typeface="华文行楷"/>
                </a:rPr>
                <a:t>串联小结</a:t>
              </a:r>
              <a:r>
                <a:rPr b="0" lang="en-US" sz="3600" spc="-1" strike="noStrike">
                  <a:solidFill>
                    <a:srgbClr val="ff6600"/>
                  </a:solidFill>
                  <a:latin typeface="华文行楷"/>
                  <a:ea typeface="华文行楷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串联电路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把电路元件首尾相接起来的电路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判断串联的方法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: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电流只有一条回路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.(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没有分支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一灯不亮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所有灯都不亮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.(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互相影响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连接要点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电流从电源正极出发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顺次经过开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灯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灯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2,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最后回到电源负极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串联特点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开关控制全部用电器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而且与开关位置无关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9280" y="2421000"/>
              <a:ext cx="8820000" cy="38876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1480" name=""/>
          <p:cNvSpPr/>
          <p:nvPr/>
        </p:nvSpPr>
        <p:spPr>
          <a:xfrm>
            <a:off x="3906720" y="520560"/>
            <a:ext cx="1400040" cy="7034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行楷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2627280" y="1268280"/>
            <a:ext cx="3960360" cy="431640"/>
            <a:chOff x="2627280" y="1268280"/>
            <a:chExt cx="3960360" cy="431640"/>
          </a:xfrm>
        </p:grpSpPr>
        <p:sp>
          <p:nvSpPr>
            <p:cNvPr id="1482" name=""/>
            <p:cNvSpPr/>
            <p:nvPr/>
          </p:nvSpPr>
          <p:spPr>
            <a:xfrm>
              <a:off x="2627280" y="1484280"/>
              <a:ext cx="0" cy="215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629080" y="1484280"/>
              <a:ext cx="39582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587640" y="1484280"/>
              <a:ext cx="0" cy="215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607640" y="1268280"/>
              <a:ext cx="0" cy="2160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179280" y="2349360"/>
            <a:ext cx="8820000" cy="3949560"/>
            <a:chOff x="179280" y="2349360"/>
            <a:chExt cx="8820000" cy="3949560"/>
          </a:xfrm>
        </p:grpSpPr>
        <p:sp>
          <p:nvSpPr>
            <p:cNvPr id="1487" name=""/>
            <p:cNvSpPr/>
            <p:nvPr/>
          </p:nvSpPr>
          <p:spPr>
            <a:xfrm>
              <a:off x="179280" y="2411280"/>
              <a:ext cx="8820000" cy="388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8920" y="2349360"/>
              <a:ext cx="7991640" cy="36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250"/>
                </a:spcBef>
                <a:buClr>
                  <a:srgbClr val="ff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6ff"/>
                  </a:solidFill>
                  <a:latin typeface="华文行楷"/>
                  <a:ea typeface="华文行楷"/>
                </a:rPr>
                <a:t>并联小结</a:t>
              </a:r>
              <a:r>
                <a:rPr b="1" lang="en-US" sz="3600" spc="-1" strike="noStrike">
                  <a:solidFill>
                    <a:srgbClr val="ff66ff"/>
                  </a:solidFill>
                  <a:latin typeface="华文行楷"/>
                  <a:ea typeface="华文行楷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8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并联电路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电路元件并列连接起来的电路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8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判断并联的方法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8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电流至少有两条回路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有分支点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8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一灯不亮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另一灯仍会亮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不互相影响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8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并联电路中有干路和支路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8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连接要点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各用电器接在电路两点之间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3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并联的特点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干路开关控制干路及所有的用电器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;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支路开关只控制支路的用电器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9" name=""/>
          <p:cNvSpPr/>
          <p:nvPr/>
        </p:nvSpPr>
        <p:spPr>
          <a:xfrm>
            <a:off x="2050920" y="170028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013440" y="1700280"/>
            <a:ext cx="1150920" cy="1150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490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490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5184720" y="3645000"/>
            <a:ext cx="3816360" cy="27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116000" y="3645000"/>
            <a:ext cx="3816360" cy="2736720"/>
          </a:xfrm>
          <a:prstGeom prst="rect">
            <a:avLst/>
          </a:prstGeom>
          <a:solidFill>
            <a:srgbClr val="ccff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184720" y="1268280"/>
            <a:ext cx="3816360" cy="2519640"/>
          </a:xfrm>
          <a:prstGeom prst="rect">
            <a:avLst/>
          </a:prstGeom>
          <a:solidFill>
            <a:srgbClr val="ccff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116000" y="1268280"/>
            <a:ext cx="3816360" cy="2519640"/>
          </a:xfrm>
          <a:prstGeom prst="rect">
            <a:avLst/>
          </a:prstGeom>
          <a:solidFill>
            <a:srgbClr val="ffff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0" y="40464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判断下面的电路各属于什么电路？</a:t>
            </a:r>
            <a:r>
              <a:rPr b="1" lang="en-US" sz="3200" spc="-1" strike="noStrike">
                <a:solidFill>
                  <a:srgbClr val="000000"/>
                </a:solidFill>
                <a:latin typeface="_x000b__x000c_"/>
                <a:ea typeface="Arial Unicode MS"/>
              </a:rPr>
              <a:t>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652040" y="321300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722560" y="314172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1580760" y="580536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722560" y="5805360"/>
            <a:ext cx="29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0" y="3789360"/>
            <a:ext cx="914400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1547640" y="1125360"/>
            <a:ext cx="2950920" cy="2021040"/>
            <a:chOff x="1547640" y="1125360"/>
            <a:chExt cx="2950920" cy="2021040"/>
          </a:xfrm>
        </p:grpSpPr>
        <p:grpSp>
          <p:nvGrpSpPr>
            <p:cNvPr id="1502" name=""/>
            <p:cNvGrpSpPr/>
            <p:nvPr/>
          </p:nvGrpSpPr>
          <p:grpSpPr>
            <a:xfrm>
              <a:off x="1547640" y="1341360"/>
              <a:ext cx="2950920" cy="1805040"/>
              <a:chOff x="1547640" y="1341360"/>
              <a:chExt cx="2950920" cy="1805040"/>
            </a:xfrm>
          </p:grpSpPr>
          <p:sp>
            <p:nvSpPr>
              <p:cNvPr id="1503" name=""/>
              <p:cNvSpPr/>
              <p:nvPr/>
            </p:nvSpPr>
            <p:spPr>
              <a:xfrm>
                <a:off x="2773080" y="2279520"/>
                <a:ext cx="57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348000" y="2209680"/>
                <a:ext cx="14112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620720" y="227952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628720" y="1993680"/>
                <a:ext cx="0" cy="57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766960" y="2063520"/>
                <a:ext cx="0" cy="43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V="1">
                <a:off x="3779640" y="2279160"/>
                <a:ext cx="64944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862000" y="1341360"/>
                <a:ext cx="486000" cy="50652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620720" y="16318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3420720" y="2012760"/>
                <a:ext cx="287640" cy="1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547640" y="2208240"/>
                <a:ext cx="142920" cy="14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348000" y="1628640"/>
                <a:ext cx="108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620720" y="1628640"/>
                <a:ext cx="122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4355280" y="2208240"/>
                <a:ext cx="142920" cy="142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844720" y="2639880"/>
                <a:ext cx="485640" cy="50652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30360" y="2927160"/>
                <a:ext cx="109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3080" y="2927160"/>
                <a:ext cx="122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29080" y="16318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3310200" y="247788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81840" y="112536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02160" y="1846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Arial"/>
                  <a:ea typeface="宋体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5545080" y="1484280"/>
            <a:ext cx="3240000" cy="1496880"/>
            <a:chOff x="5545080" y="1484280"/>
            <a:chExt cx="3240000" cy="1496880"/>
          </a:xfrm>
        </p:grpSpPr>
        <p:grpSp>
          <p:nvGrpSpPr>
            <p:cNvPr id="1524" name=""/>
            <p:cNvGrpSpPr/>
            <p:nvPr/>
          </p:nvGrpSpPr>
          <p:grpSpPr>
            <a:xfrm>
              <a:off x="5545080" y="1484280"/>
              <a:ext cx="3240000" cy="1496880"/>
              <a:chOff x="5545080" y="1484280"/>
              <a:chExt cx="3240000" cy="1496880"/>
            </a:xfrm>
          </p:grpSpPr>
          <p:sp>
            <p:nvSpPr>
              <p:cNvPr id="1525" name=""/>
              <p:cNvSpPr/>
              <p:nvPr/>
            </p:nvSpPr>
            <p:spPr>
              <a:xfrm>
                <a:off x="7562880" y="2905200"/>
                <a:ext cx="3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921440" y="2835360"/>
                <a:ext cx="14148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481800" y="1917720"/>
                <a:ext cx="1079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8281800" y="2925720"/>
                <a:ext cx="2876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299440" y="1917720"/>
                <a:ext cx="485640" cy="50652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7994520" y="2638080"/>
                <a:ext cx="287280" cy="19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762520" y="1484280"/>
                <a:ext cx="28069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761080" y="292572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42440" y="2422440"/>
                <a:ext cx="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561080" y="2422440"/>
                <a:ext cx="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273800" y="2422440"/>
                <a:ext cx="57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416720" y="2278080"/>
                <a:ext cx="360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561080" y="1917720"/>
                <a:ext cx="0" cy="35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481800" y="1917720"/>
                <a:ext cx="0" cy="100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42440" y="1485720"/>
                <a:ext cx="0" cy="43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45080" y="1917720"/>
                <a:ext cx="485640" cy="50652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88080" y="2422440"/>
                <a:ext cx="0" cy="50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788080" y="1485720"/>
                <a:ext cx="0" cy="43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3" name=""/>
            <p:cNvSpPr/>
            <p:nvPr/>
          </p:nvSpPr>
          <p:spPr>
            <a:xfrm>
              <a:off x="8074440" y="148428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915520" y="162864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850520" y="2347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Arial"/>
                  <a:ea typeface="宋体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6" name=""/>
          <p:cNvGrpSpPr/>
          <p:nvPr/>
        </p:nvGrpSpPr>
        <p:grpSpPr>
          <a:xfrm>
            <a:off x="1547640" y="3933720"/>
            <a:ext cx="2881440" cy="2031480"/>
            <a:chOff x="1547640" y="3933720"/>
            <a:chExt cx="2881440" cy="2031480"/>
          </a:xfrm>
        </p:grpSpPr>
        <p:grpSp>
          <p:nvGrpSpPr>
            <p:cNvPr id="1547" name=""/>
            <p:cNvGrpSpPr/>
            <p:nvPr/>
          </p:nvGrpSpPr>
          <p:grpSpPr>
            <a:xfrm>
              <a:off x="1547640" y="4022640"/>
              <a:ext cx="2881440" cy="1942560"/>
              <a:chOff x="1547640" y="4022640"/>
              <a:chExt cx="2881440" cy="1942560"/>
            </a:xfrm>
          </p:grpSpPr>
          <p:sp>
            <p:nvSpPr>
              <p:cNvPr id="1548" name=""/>
              <p:cNvSpPr/>
              <p:nvPr/>
            </p:nvSpPr>
            <p:spPr>
              <a:xfrm>
                <a:off x="4429080" y="4022640"/>
                <a:ext cx="0" cy="165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773080" y="5676480"/>
                <a:ext cx="57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348000" y="5606640"/>
                <a:ext cx="141120" cy="14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620720" y="567648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771640" y="5390640"/>
                <a:ext cx="0" cy="57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628720" y="5460480"/>
                <a:ext cx="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3779640" y="5676480"/>
                <a:ext cx="64944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979280" y="4381200"/>
                <a:ext cx="486000" cy="50580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20720" y="4669920"/>
                <a:ext cx="0" cy="100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3420720" y="5390280"/>
                <a:ext cx="432000" cy="21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547640" y="5103360"/>
                <a:ext cx="142920" cy="142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700000" y="4022640"/>
                <a:ext cx="172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2628000" y="4598640"/>
                <a:ext cx="142920" cy="142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987640" y="4381200"/>
                <a:ext cx="485640" cy="50580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492360" y="4669920"/>
                <a:ext cx="43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620720" y="4669920"/>
                <a:ext cx="358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620720" y="5173200"/>
                <a:ext cx="23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24000" y="4669920"/>
                <a:ext cx="0" cy="50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84360" y="466992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700000" y="4022640"/>
                <a:ext cx="0" cy="64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1919520" y="393372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261240" y="400680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722760" y="5157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Arial"/>
                  <a:ea typeface="宋体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5473800" y="4005360"/>
            <a:ext cx="3255120" cy="1799640"/>
            <a:chOff x="5473800" y="4005360"/>
            <a:chExt cx="3255120" cy="1799640"/>
          </a:xfrm>
        </p:grpSpPr>
        <p:grpSp>
          <p:nvGrpSpPr>
            <p:cNvPr id="1572" name=""/>
            <p:cNvGrpSpPr/>
            <p:nvPr/>
          </p:nvGrpSpPr>
          <p:grpSpPr>
            <a:xfrm>
              <a:off x="5473800" y="4005360"/>
              <a:ext cx="3168720" cy="1799640"/>
              <a:chOff x="5473800" y="4005360"/>
              <a:chExt cx="3168720" cy="1799640"/>
            </a:xfrm>
          </p:grpSpPr>
          <p:sp>
            <p:nvSpPr>
              <p:cNvPr id="1573" name=""/>
              <p:cNvSpPr/>
              <p:nvPr/>
            </p:nvSpPr>
            <p:spPr>
              <a:xfrm flipV="1">
                <a:off x="7346880" y="5603760"/>
                <a:ext cx="43056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413760" y="4005360"/>
                <a:ext cx="141120" cy="135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762880" y="5004360"/>
                <a:ext cx="20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8282160" y="5602320"/>
                <a:ext cx="3603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796160" y="5336280"/>
                <a:ext cx="486000" cy="46872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764320" y="4071240"/>
                <a:ext cx="64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842160" y="4071240"/>
                <a:ext cx="50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8642520" y="5004360"/>
                <a:ext cx="0" cy="599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346880" y="4071240"/>
                <a:ext cx="0" cy="153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473800" y="4470840"/>
                <a:ext cx="57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583240" y="4604760"/>
                <a:ext cx="360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778880" y="4738320"/>
                <a:ext cx="485640" cy="46872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789880" y="4604760"/>
                <a:ext cx="0" cy="399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789880" y="4072680"/>
                <a:ext cx="0" cy="399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481800" y="4138920"/>
                <a:ext cx="433440" cy="13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8282160" y="500436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8219160" y="520560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787520" y="427104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483600" y="4138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Arial"/>
                  <a:ea typeface="宋体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2" name=""/>
          <p:cNvSpPr txBox="1"/>
          <p:nvPr/>
        </p:nvSpPr>
        <p:spPr>
          <a:xfrm rot="5400000">
            <a:off x="-1494720" y="3373920"/>
            <a:ext cx="4248000" cy="9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ffccff">
                      <a:alpha val="80000"/>
                    </a:srgbClr>
                  </a:outerShdw>
                </a:effectLst>
                <a:latin typeface="华文行楷"/>
              </a:rPr>
              <a:t>检测与评价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99192" dir="7781944" blurRad="0" rotWithShape="0">
                  <a:srgbClr val="ffcc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593" name=""/>
          <p:cNvSpPr/>
          <p:nvPr/>
        </p:nvSpPr>
        <p:spPr>
          <a:xfrm>
            <a:off x="2454120" y="3141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并联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630840" y="3141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串联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2454120" y="58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并联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702120" y="5805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串联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0" y="1052640"/>
            <a:ext cx="95407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有一个电源和两只灯泡，要使两只灯泡同时发光，可以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连接，也可以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连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0" y="4005360"/>
            <a:ext cx="8675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、你认为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马路上的路灯用串联还是并联接法好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什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2492280"/>
            <a:ext cx="91440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教室里的几盏日光灯是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联。教室里的一只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  开关控制一盏电灯，开关和灯是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5157720"/>
            <a:ext cx="8820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 Unicode MS"/>
                <a:ea typeface="_x000b__x000c_"/>
              </a:rPr>
              <a:t>、你认为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家庭中各种电器之间是串联还是并联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什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620640"/>
            <a:ext cx="302436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ccff">
                      <a:alpha val="80000"/>
                    </a:srgbClr>
                  </a:outerShdw>
                </a:effectLst>
                <a:latin typeface="华文行楷"/>
              </a:rPr>
              <a:t>检测与评价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ffcc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03" name=""/>
          <p:cNvSpPr/>
          <p:nvPr/>
        </p:nvSpPr>
        <p:spPr>
          <a:xfrm>
            <a:off x="4737600" y="1841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1137240" y="1841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4871880" y="263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311520" y="3284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7" name=""/>
          <p:cNvGrpSpPr/>
          <p:nvPr/>
        </p:nvGrpSpPr>
        <p:grpSpPr>
          <a:xfrm>
            <a:off x="5076720" y="3933720"/>
            <a:ext cx="3384360" cy="2394360"/>
            <a:chOff x="5076720" y="3933720"/>
            <a:chExt cx="3384360" cy="2394360"/>
          </a:xfrm>
        </p:grpSpPr>
        <p:grpSp>
          <p:nvGrpSpPr>
            <p:cNvPr id="1608" name=""/>
            <p:cNvGrpSpPr/>
            <p:nvPr/>
          </p:nvGrpSpPr>
          <p:grpSpPr>
            <a:xfrm>
              <a:off x="5076720" y="3933720"/>
              <a:ext cx="3384360" cy="2376360"/>
              <a:chOff x="5076720" y="3933720"/>
              <a:chExt cx="3384360" cy="2376360"/>
            </a:xfrm>
          </p:grpSpPr>
          <p:sp>
            <p:nvSpPr>
              <p:cNvPr id="1609" name=""/>
              <p:cNvSpPr/>
              <p:nvPr/>
            </p:nvSpPr>
            <p:spPr>
              <a:xfrm>
                <a:off x="5144040" y="4184280"/>
                <a:ext cx="0" cy="206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071760" y="5433840"/>
                <a:ext cx="1328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395200" y="4184280"/>
                <a:ext cx="0" cy="206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329680" y="5370480"/>
                <a:ext cx="1314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466040" y="4184280"/>
                <a:ext cx="93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670080" y="6245640"/>
                <a:ext cx="172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H="1">
                <a:off x="6669360" y="5370480"/>
                <a:ext cx="1314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673600" y="5181840"/>
                <a:ext cx="447840" cy="43956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144040" y="5433840"/>
                <a:ext cx="529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144040" y="6245640"/>
                <a:ext cx="11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144040" y="4184280"/>
                <a:ext cx="662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806440" y="4123800"/>
                <a:ext cx="130320" cy="126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6204960" y="4182480"/>
                <a:ext cx="863280" cy="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5874120" y="3952800"/>
                <a:ext cx="264600" cy="17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>
                <a:off x="6669360" y="4120920"/>
                <a:ext cx="1314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068240" y="3933720"/>
                <a:ext cx="447480" cy="43956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735960" y="4246200"/>
                <a:ext cx="0" cy="50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404040" y="4746600"/>
                <a:ext cx="664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535440" y="4933800"/>
                <a:ext cx="401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735960" y="4933800"/>
                <a:ext cx="0" cy="50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401600" y="5370480"/>
                <a:ext cx="130320" cy="126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7467480" y="5183280"/>
                <a:ext cx="264960" cy="17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798320" y="5433840"/>
                <a:ext cx="529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72280" y="6183360"/>
                <a:ext cx="129960" cy="126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6337800" y="5995800"/>
                <a:ext cx="264600" cy="172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076720" y="5370480"/>
                <a:ext cx="131400" cy="123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5" name=""/>
            <p:cNvSpPr/>
            <p:nvPr/>
          </p:nvSpPr>
          <p:spPr>
            <a:xfrm>
              <a:off x="5532480" y="418428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r>
                <a:rPr b="1" lang="en-US" sz="3200" spc="-1" strike="noStrike" baseline="-6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75760" y="418428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262480" y="5370480"/>
              <a:ext cx="50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6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608960" y="499572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r>
                <a:rPr b="1" lang="en-US" sz="3200" spc="-1" strike="noStrike" baseline="-6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480720" y="574668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r>
                <a:rPr b="1" lang="en-US" sz="3200" spc="-1" strike="noStrike" baseline="-6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2735280" cy="2492640"/>
          </a:xfrm>
          <a:prstGeom prst="rect">
            <a:avLst/>
          </a:prstGeom>
          <a:ln w="0">
            <a:noFill/>
          </a:ln>
        </p:spPr>
      </p:pic>
      <p:sp>
        <p:nvSpPr>
          <p:cNvPr id="1641" name=""/>
          <p:cNvSpPr txBox="1"/>
          <p:nvPr/>
        </p:nvSpPr>
        <p:spPr>
          <a:xfrm>
            <a:off x="2556000" y="692280"/>
            <a:ext cx="374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华文行楷"/>
              </a:rPr>
              <a:t>拓展训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华文行楷"/>
              <a:ea typeface="华文行楷"/>
            </a:endParaRPr>
          </a:p>
        </p:txBody>
      </p:sp>
      <p:sp>
        <p:nvSpPr>
          <p:cNvPr id="1642" name=""/>
          <p:cNvSpPr/>
          <p:nvPr/>
        </p:nvSpPr>
        <p:spPr>
          <a:xfrm>
            <a:off x="539640" y="1557360"/>
            <a:ext cx="7993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如图所示，要使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串联，应该闭合开关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，断开开关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；如果要使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1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并联，则应该闭合开关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，断开开关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；如果三只开关全闭合，电路发生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50920" y="1628640"/>
            <a:ext cx="8497800" cy="22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6443640" y="4797360"/>
            <a:ext cx="3960720" cy="3745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492360" y="333360"/>
            <a:ext cx="3961080" cy="3745080"/>
          </a:xfrm>
          <a:prstGeom prst="irregularSeal1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932360" y="333360"/>
            <a:ext cx="3960720" cy="3745080"/>
          </a:xfrm>
          <a:prstGeom prst="irregularSeal1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2430360" y="1969920"/>
            <a:ext cx="51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c0c0"/>
                </a:solidFill>
                <a:latin typeface="Arial"/>
                <a:ea typeface="华文新魏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2195640" y="1989000"/>
            <a:ext cx="561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新魏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619280" y="4437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广东省梅州市梅县广益中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547640" y="5229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制作人：葛小英   丘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2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9753480" cy="1523880"/>
          </a:xfrm>
          <a:prstGeom prst="rect">
            <a:avLst/>
          </a:prstGeom>
          <a:ln w="0">
            <a:noFill/>
          </a:ln>
        </p:spPr>
      </p:pic>
      <p:pic>
        <p:nvPicPr>
          <p:cNvPr id="1653" name="" descr=""/>
          <p:cNvPicPr/>
          <p:nvPr/>
        </p:nvPicPr>
        <p:blipFill>
          <a:blip r:embed="rId4"/>
          <a:stretch/>
        </p:blipFill>
        <p:spPr>
          <a:xfrm>
            <a:off x="-608040" y="2349360"/>
            <a:ext cx="9752040" cy="135252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1650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5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219743" fill="hold"/>
                                        <p:tgtEl>
                                          <p:spTgt spid="16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8" dur="3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1000" autoRev="1" fill="hold"/>
                                        <p:tgtEl>
                                          <p:spTgt spid="1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473" dur="3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1000" autoRev="1" fill="hold"/>
                                        <p:tgtEl>
                                          <p:spTgt spid="16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78" dur="100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100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00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200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100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100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00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2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 repeatCount="indefinite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3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5" dur="3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3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4437000"/>
            <a:ext cx="6516720" cy="144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1989000"/>
            <a:ext cx="142920" cy="4869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160" y="4690440"/>
            <a:ext cx="1539720" cy="642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电路构成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21680" y="1989000"/>
            <a:ext cx="182232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04000" y="907920"/>
            <a:ext cx="195120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复  习</a:t>
            </a:r>
            <a:endParaRPr b="0" lang="en-US" sz="5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558900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电源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5589000"/>
            <a:ext cx="22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用电器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66064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开关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660640"/>
            <a:ext cx="16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导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8280" y="1411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下列接法对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516720" y="1989000"/>
            <a:ext cx="2627280" cy="2736720"/>
            <a:chOff x="6516720" y="1989000"/>
            <a:chExt cx="2627280" cy="2736720"/>
          </a:xfrm>
        </p:grpSpPr>
        <p:sp>
          <p:nvSpPr>
            <p:cNvPr id="123" name=""/>
            <p:cNvSpPr/>
            <p:nvPr/>
          </p:nvSpPr>
          <p:spPr>
            <a:xfrm>
              <a:off x="6516720" y="1989000"/>
              <a:ext cx="2627280" cy="2736720"/>
            </a:xfrm>
            <a:custGeom>
              <a:avLst/>
              <a:gdLst>
                <a:gd name="textAreaLeft" fmla="*/ 128160 w 2627280"/>
                <a:gd name="textAreaRight" fmla="*/ 2499120 w 2627280"/>
                <a:gd name="textAreaTop" fmla="*/ 128160 h 2736720"/>
                <a:gd name="textAreaBottom" fmla="*/ 2608560 h 2736720"/>
              </a:gdLst>
              <a:ahLst/>
              <a:rect l="textAreaLeft" t="textAreaTop" r="textAreaRight" b="textAreaBottom"/>
              <a:pathLst>
                <a:path w="21600" h="22500">
                  <a:moveTo>
                    <a:pt x="3600" y="0"/>
                  </a:moveTo>
                  <a:arcTo wR="3600" hR="3600" stAng="16200000" swAng="-5400000"/>
                  <a:lnTo>
                    <a:pt x="0" y="18900"/>
                  </a:lnTo>
                  <a:arcTo wR="3600" hR="3600" stAng="10800000" swAng="-5400000"/>
                  <a:lnTo>
                    <a:pt x="18000" y="225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59640" y="2022480"/>
              <a:ext cx="24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禁止将电池两端直接连在一起，否则会将电池烧坏，即短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872640" y="2205000"/>
            <a:ext cx="2160720" cy="576360"/>
            <a:chOff x="872640" y="2205000"/>
            <a:chExt cx="2160720" cy="576360"/>
          </a:xfrm>
        </p:grpSpPr>
        <p:grpSp>
          <p:nvGrpSpPr>
            <p:cNvPr id="126" name=""/>
            <p:cNvGrpSpPr/>
            <p:nvPr/>
          </p:nvGrpSpPr>
          <p:grpSpPr>
            <a:xfrm>
              <a:off x="872640" y="2205000"/>
              <a:ext cx="1152360" cy="576360"/>
              <a:chOff x="872640" y="2205000"/>
              <a:chExt cx="1152360" cy="5763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872640" y="2205000"/>
                <a:ext cx="1152360" cy="576360"/>
                <a:chOff x="872640" y="2205000"/>
                <a:chExt cx="1152360" cy="57636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872640" y="2205000"/>
                  <a:ext cx="1071000" cy="574920"/>
                  <a:chOff x="872640" y="2205000"/>
                  <a:chExt cx="1071000" cy="5749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rot="5400000">
                    <a:off x="1120680" y="1956960"/>
                    <a:ext cx="574920" cy="1071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5400000">
                    <a:off x="1491480" y="2327760"/>
                    <a:ext cx="574920" cy="3294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1819800" y="2205000"/>
                  <a:ext cx="205200" cy="576360"/>
                  <a:chOff x="1819800" y="2205000"/>
                  <a:chExt cx="205200" cy="57636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819800" y="2205000"/>
                    <a:ext cx="205200" cy="576360"/>
                    <a:chOff x="1819800" y="2205000"/>
                    <a:chExt cx="205200" cy="576360"/>
                  </a:xfrm>
                </p:grpSpPr>
                <p:grpSp>
                  <p:nvGrpSpPr>
                    <p:cNvPr id="133" name=""/>
                    <p:cNvGrpSpPr/>
                    <p:nvPr/>
                  </p:nvGrpSpPr>
                  <p:grpSpPr>
                    <a:xfrm>
                      <a:off x="1819800" y="2205000"/>
                      <a:ext cx="205200" cy="576360"/>
                      <a:chOff x="1819800" y="2205000"/>
                      <a:chExt cx="205200" cy="576360"/>
                    </a:xfrm>
                  </p:grpSpPr>
                  <p:sp>
                    <p:nvSpPr>
                      <p:cNvPr id="134" name=""/>
                      <p:cNvSpPr/>
                      <p:nvPr/>
                    </p:nvSpPr>
                    <p:spPr>
                      <a:xfrm rot="5400000">
                        <a:off x="1634040" y="2390400"/>
                        <a:ext cx="576360" cy="205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cc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 rot="5400000">
                        <a:off x="1702080" y="2431080"/>
                        <a:ext cx="442440" cy="1227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6" name=""/>
                    <p:cNvSpPr/>
                    <p:nvPr/>
                  </p:nvSpPr>
                  <p:spPr>
                    <a:xfrm rot="5400000">
                      <a:off x="1767960" y="2451600"/>
                      <a:ext cx="309600" cy="8208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520" bIns="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"/>
                  <p:cNvSpPr/>
                  <p:nvPr/>
                </p:nvSpPr>
                <p:spPr>
                  <a:xfrm rot="5400000">
                    <a:off x="1866600" y="2451960"/>
                    <a:ext cx="133920" cy="81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956520" y="2426040"/>
                  <a:ext cx="781560" cy="265320"/>
                  <a:chOff x="956520" y="2426040"/>
                  <a:chExt cx="781560" cy="2653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956520" y="2426040"/>
                    <a:ext cx="781560" cy="265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1079640" y="2514600"/>
                    <a:ext cx="452160" cy="13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55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"/>
              <p:cNvSpPr/>
              <p:nvPr/>
            </p:nvSpPr>
            <p:spPr>
              <a:xfrm>
                <a:off x="1560960" y="23684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74800" y="23493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881000" y="2205000"/>
              <a:ext cx="1152360" cy="576360"/>
              <a:chOff x="1881000" y="2205000"/>
              <a:chExt cx="1152360" cy="5763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881000" y="2205000"/>
                <a:ext cx="1152360" cy="576360"/>
                <a:chOff x="1881000" y="2205000"/>
                <a:chExt cx="1152360" cy="57636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1881000" y="2205000"/>
                  <a:ext cx="1071360" cy="574920"/>
                  <a:chOff x="1881000" y="2205000"/>
                  <a:chExt cx="1071360" cy="5749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5400000">
                    <a:off x="2129040" y="1956600"/>
                    <a:ext cx="574920" cy="10713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5400000">
                    <a:off x="2500200" y="2327760"/>
                    <a:ext cx="574920" cy="3294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828160" y="2205000"/>
                  <a:ext cx="205200" cy="576360"/>
                  <a:chOff x="2828160" y="2205000"/>
                  <a:chExt cx="205200" cy="576360"/>
                </a:xfrm>
              </p:grpSpPr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2828160" y="2205000"/>
                    <a:ext cx="205200" cy="576360"/>
                    <a:chOff x="2828160" y="2205000"/>
                    <a:chExt cx="205200" cy="576360"/>
                  </a:xfrm>
                </p:grpSpPr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2828160" y="2205000"/>
                      <a:ext cx="205200" cy="576360"/>
                      <a:chOff x="2828160" y="2205000"/>
                      <a:chExt cx="205200" cy="576360"/>
                    </a:xfrm>
                  </p:grpSpPr>
                  <p:sp>
                    <p:nvSpPr>
                      <p:cNvPr id="151" name=""/>
                      <p:cNvSpPr/>
                      <p:nvPr/>
                    </p:nvSpPr>
                    <p:spPr>
                      <a:xfrm rot="5400000">
                        <a:off x="2642400" y="2390400"/>
                        <a:ext cx="576360" cy="2052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cc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 rot="5400000">
                        <a:off x="2710440" y="2431080"/>
                        <a:ext cx="442440" cy="12276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3" name=""/>
                    <p:cNvSpPr/>
                    <p:nvPr/>
                  </p:nvSpPr>
                  <p:spPr>
                    <a:xfrm rot="5400000">
                      <a:off x="2776320" y="2451600"/>
                      <a:ext cx="309600" cy="8208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520" bIns="11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 rot="5400000">
                    <a:off x="2874960" y="2451960"/>
                    <a:ext cx="133920" cy="81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1964520" y="2426040"/>
                  <a:ext cx="781920" cy="265320"/>
                  <a:chOff x="1964520" y="2426040"/>
                  <a:chExt cx="781920" cy="2653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964520" y="2426040"/>
                    <a:ext cx="781920" cy="2653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087640" y="2514600"/>
                    <a:ext cx="452520" cy="13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55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8" name=""/>
              <p:cNvSpPr/>
              <p:nvPr/>
            </p:nvSpPr>
            <p:spPr>
              <a:xfrm>
                <a:off x="2569320" y="23684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82800" y="234936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0" y="1125360"/>
            <a:ext cx="9253440" cy="863640"/>
            <a:chOff x="0" y="1125360"/>
            <a:chExt cx="9253440" cy="863640"/>
          </a:xfrm>
        </p:grpSpPr>
        <p:sp>
          <p:nvSpPr>
            <p:cNvPr id="161" name=""/>
            <p:cNvSpPr/>
            <p:nvPr/>
          </p:nvSpPr>
          <p:spPr>
            <a:xfrm flipH="1">
              <a:off x="5112720" y="1844640"/>
              <a:ext cx="4140360" cy="1443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0" y="1125360"/>
              <a:ext cx="3744720" cy="1429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12291600">
              <a:off x="3590640" y="1483560"/>
              <a:ext cx="1666800" cy="129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176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 txBox="1"/>
          <p:nvPr/>
        </p:nvSpPr>
        <p:spPr>
          <a:xfrm>
            <a:off x="3635280" y="2924280"/>
            <a:ext cx="1582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错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156360" y="1915920"/>
            <a:ext cx="792000" cy="934920"/>
            <a:chOff x="6156360" y="1915920"/>
            <a:chExt cx="792000" cy="934920"/>
          </a:xfrm>
        </p:grpSpPr>
        <p:sp>
          <p:nvSpPr>
            <p:cNvPr id="166" name=""/>
            <p:cNvSpPr/>
            <p:nvPr/>
          </p:nvSpPr>
          <p:spPr>
            <a:xfrm flipV="1">
              <a:off x="6156360" y="1915560"/>
              <a:ext cx="792000" cy="93492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480360" y="1987560"/>
              <a:ext cx="144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！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83040" y="1032480"/>
            <a:ext cx="715680" cy="980280"/>
            <a:chOff x="4883040" y="1032480"/>
            <a:chExt cx="715680" cy="980280"/>
          </a:xfrm>
        </p:grpSpPr>
        <p:sp>
          <p:nvSpPr>
            <p:cNvPr id="169" name="未知"/>
            <p:cNvSpPr/>
            <p:nvPr/>
          </p:nvSpPr>
          <p:spPr>
            <a:xfrm>
              <a:off x="4883040" y="1032480"/>
              <a:ext cx="715680" cy="980280"/>
            </a:xfrm>
            <a:custGeom>
              <a:avLst/>
              <a:gdLst/>
              <a:ahLst/>
              <a:rect l="l" t="t" r="r" b="b"/>
              <a:pathLst>
                <a:path w="1444" h="2141">
                  <a:moveTo>
                    <a:pt x="458" y="36"/>
                  </a:moveTo>
                  <a:lnTo>
                    <a:pt x="393" y="73"/>
                  </a:lnTo>
                  <a:lnTo>
                    <a:pt x="330" y="115"/>
                  </a:lnTo>
                  <a:lnTo>
                    <a:pt x="268" y="164"/>
                  </a:lnTo>
                  <a:lnTo>
                    <a:pt x="212" y="218"/>
                  </a:lnTo>
                  <a:lnTo>
                    <a:pt x="160" y="278"/>
                  </a:lnTo>
                  <a:lnTo>
                    <a:pt x="115" y="342"/>
                  </a:lnTo>
                  <a:lnTo>
                    <a:pt x="75" y="411"/>
                  </a:lnTo>
                  <a:lnTo>
                    <a:pt x="44" y="485"/>
                  </a:lnTo>
                  <a:lnTo>
                    <a:pt x="20" y="563"/>
                  </a:lnTo>
                  <a:lnTo>
                    <a:pt x="5" y="646"/>
                  </a:lnTo>
                  <a:lnTo>
                    <a:pt x="0" y="734"/>
                  </a:lnTo>
                  <a:lnTo>
                    <a:pt x="6" y="825"/>
                  </a:lnTo>
                  <a:lnTo>
                    <a:pt x="23" y="919"/>
                  </a:lnTo>
                  <a:lnTo>
                    <a:pt x="54" y="1017"/>
                  </a:lnTo>
                  <a:lnTo>
                    <a:pt x="97" y="1118"/>
                  </a:lnTo>
                  <a:lnTo>
                    <a:pt x="154" y="1222"/>
                  </a:lnTo>
                  <a:lnTo>
                    <a:pt x="342" y="1439"/>
                  </a:lnTo>
                  <a:lnTo>
                    <a:pt x="396" y="1575"/>
                  </a:lnTo>
                  <a:lnTo>
                    <a:pt x="426" y="1849"/>
                  </a:lnTo>
                  <a:lnTo>
                    <a:pt x="508" y="2026"/>
                  </a:lnTo>
                  <a:lnTo>
                    <a:pt x="536" y="2053"/>
                  </a:lnTo>
                  <a:lnTo>
                    <a:pt x="564" y="2076"/>
                  </a:lnTo>
                  <a:lnTo>
                    <a:pt x="592" y="2095"/>
                  </a:lnTo>
                  <a:lnTo>
                    <a:pt x="620" y="2111"/>
                  </a:lnTo>
                  <a:lnTo>
                    <a:pt x="648" y="2124"/>
                  </a:lnTo>
                  <a:lnTo>
                    <a:pt x="676" y="2133"/>
                  </a:lnTo>
                  <a:lnTo>
                    <a:pt x="704" y="2139"/>
                  </a:lnTo>
                  <a:lnTo>
                    <a:pt x="731" y="2141"/>
                  </a:lnTo>
                  <a:lnTo>
                    <a:pt x="760" y="2140"/>
                  </a:lnTo>
                  <a:lnTo>
                    <a:pt x="788" y="2137"/>
                  </a:lnTo>
                  <a:lnTo>
                    <a:pt x="815" y="2129"/>
                  </a:lnTo>
                  <a:lnTo>
                    <a:pt x="843" y="2117"/>
                  </a:lnTo>
                  <a:lnTo>
                    <a:pt x="871" y="2102"/>
                  </a:lnTo>
                  <a:lnTo>
                    <a:pt x="900" y="2085"/>
                  </a:lnTo>
                  <a:lnTo>
                    <a:pt x="927" y="2063"/>
                  </a:lnTo>
                  <a:lnTo>
                    <a:pt x="955" y="2038"/>
                  </a:lnTo>
                  <a:lnTo>
                    <a:pt x="1073" y="1841"/>
                  </a:lnTo>
                  <a:lnTo>
                    <a:pt x="1092" y="1593"/>
                  </a:lnTo>
                  <a:lnTo>
                    <a:pt x="1132" y="1443"/>
                  </a:lnTo>
                  <a:lnTo>
                    <a:pt x="1221" y="1295"/>
                  </a:lnTo>
                  <a:lnTo>
                    <a:pt x="1240" y="1266"/>
                  </a:lnTo>
                  <a:lnTo>
                    <a:pt x="1262" y="1234"/>
                  </a:lnTo>
                  <a:lnTo>
                    <a:pt x="1285" y="1198"/>
                  </a:lnTo>
                  <a:lnTo>
                    <a:pt x="1307" y="1159"/>
                  </a:lnTo>
                  <a:lnTo>
                    <a:pt x="1330" y="1116"/>
                  </a:lnTo>
                  <a:lnTo>
                    <a:pt x="1352" y="1070"/>
                  </a:lnTo>
                  <a:lnTo>
                    <a:pt x="1373" y="1021"/>
                  </a:lnTo>
                  <a:lnTo>
                    <a:pt x="1392" y="968"/>
                  </a:lnTo>
                  <a:lnTo>
                    <a:pt x="1409" y="912"/>
                  </a:lnTo>
                  <a:lnTo>
                    <a:pt x="1423" y="854"/>
                  </a:lnTo>
                  <a:lnTo>
                    <a:pt x="1434" y="793"/>
                  </a:lnTo>
                  <a:lnTo>
                    <a:pt x="1441" y="728"/>
                  </a:lnTo>
                  <a:lnTo>
                    <a:pt x="1444" y="660"/>
                  </a:lnTo>
                  <a:lnTo>
                    <a:pt x="1442" y="591"/>
                  </a:lnTo>
                  <a:lnTo>
                    <a:pt x="1435" y="518"/>
                  </a:lnTo>
                  <a:lnTo>
                    <a:pt x="1422" y="444"/>
                  </a:lnTo>
                  <a:lnTo>
                    <a:pt x="1410" y="403"/>
                  </a:lnTo>
                  <a:lnTo>
                    <a:pt x="1394" y="366"/>
                  </a:lnTo>
                  <a:lnTo>
                    <a:pt x="1376" y="331"/>
                  </a:lnTo>
                  <a:lnTo>
                    <a:pt x="1358" y="297"/>
                  </a:lnTo>
                  <a:lnTo>
                    <a:pt x="1336" y="265"/>
                  </a:lnTo>
                  <a:lnTo>
                    <a:pt x="1313" y="236"/>
                  </a:lnTo>
                  <a:lnTo>
                    <a:pt x="1289" y="209"/>
                  </a:lnTo>
                  <a:lnTo>
                    <a:pt x="1262" y="183"/>
                  </a:lnTo>
                  <a:lnTo>
                    <a:pt x="1235" y="159"/>
                  </a:lnTo>
                  <a:lnTo>
                    <a:pt x="1206" y="137"/>
                  </a:lnTo>
                  <a:lnTo>
                    <a:pt x="1175" y="118"/>
                  </a:lnTo>
                  <a:lnTo>
                    <a:pt x="1144" y="99"/>
                  </a:lnTo>
                  <a:lnTo>
                    <a:pt x="1111" y="82"/>
                  </a:lnTo>
                  <a:lnTo>
                    <a:pt x="1078" y="67"/>
                  </a:lnTo>
                  <a:lnTo>
                    <a:pt x="1045" y="54"/>
                  </a:lnTo>
                  <a:lnTo>
                    <a:pt x="1010" y="43"/>
                  </a:lnTo>
                  <a:lnTo>
                    <a:pt x="974" y="32"/>
                  </a:lnTo>
                  <a:lnTo>
                    <a:pt x="939" y="23"/>
                  </a:lnTo>
                  <a:lnTo>
                    <a:pt x="903" y="16"/>
                  </a:lnTo>
                  <a:lnTo>
                    <a:pt x="866" y="10"/>
                  </a:lnTo>
                  <a:lnTo>
                    <a:pt x="830" y="6"/>
                  </a:lnTo>
                  <a:lnTo>
                    <a:pt x="795" y="2"/>
                  </a:lnTo>
                  <a:lnTo>
                    <a:pt x="758" y="1"/>
                  </a:lnTo>
                  <a:lnTo>
                    <a:pt x="722" y="0"/>
                  </a:lnTo>
                  <a:lnTo>
                    <a:pt x="686" y="1"/>
                  </a:lnTo>
                  <a:lnTo>
                    <a:pt x="652" y="2"/>
                  </a:lnTo>
                  <a:lnTo>
                    <a:pt x="617" y="6"/>
                  </a:lnTo>
                  <a:lnTo>
                    <a:pt x="584" y="9"/>
                  </a:lnTo>
                  <a:lnTo>
                    <a:pt x="551" y="15"/>
                  </a:lnTo>
                  <a:lnTo>
                    <a:pt x="520" y="21"/>
                  </a:lnTo>
                  <a:lnTo>
                    <a:pt x="488" y="28"/>
                  </a:lnTo>
                  <a:lnTo>
                    <a:pt x="458" y="36"/>
                  </a:lnTo>
                  <a:close/>
                </a:path>
              </a:pathLst>
            </a:custGeom>
            <a:solidFill>
              <a:srgbClr val="002b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4890960" y="1042560"/>
              <a:ext cx="699480" cy="956520"/>
            </a:xfrm>
            <a:custGeom>
              <a:avLst/>
              <a:gdLst/>
              <a:ahLst/>
              <a:rect l="l" t="t" r="r" b="b"/>
              <a:pathLst>
                <a:path w="1413" h="2090">
                  <a:moveTo>
                    <a:pt x="447" y="35"/>
                  </a:moveTo>
                  <a:lnTo>
                    <a:pt x="383" y="70"/>
                  </a:lnTo>
                  <a:lnTo>
                    <a:pt x="320" y="113"/>
                  </a:lnTo>
                  <a:lnTo>
                    <a:pt x="261" y="160"/>
                  </a:lnTo>
                  <a:lnTo>
                    <a:pt x="205" y="213"/>
                  </a:lnTo>
                  <a:lnTo>
                    <a:pt x="156" y="272"/>
                  </a:lnTo>
                  <a:lnTo>
                    <a:pt x="111" y="335"/>
                  </a:lnTo>
                  <a:lnTo>
                    <a:pt x="73" y="403"/>
                  </a:lnTo>
                  <a:lnTo>
                    <a:pt x="42" y="476"/>
                  </a:lnTo>
                  <a:lnTo>
                    <a:pt x="19" y="553"/>
                  </a:lnTo>
                  <a:lnTo>
                    <a:pt x="5" y="633"/>
                  </a:lnTo>
                  <a:lnTo>
                    <a:pt x="0" y="719"/>
                  </a:lnTo>
                  <a:lnTo>
                    <a:pt x="7" y="809"/>
                  </a:lnTo>
                  <a:lnTo>
                    <a:pt x="24" y="901"/>
                  </a:lnTo>
                  <a:lnTo>
                    <a:pt x="54" y="997"/>
                  </a:lnTo>
                  <a:lnTo>
                    <a:pt x="97" y="1096"/>
                  </a:lnTo>
                  <a:lnTo>
                    <a:pt x="153" y="1199"/>
                  </a:lnTo>
                  <a:lnTo>
                    <a:pt x="176" y="1225"/>
                  </a:lnTo>
                  <a:lnTo>
                    <a:pt x="199" y="1252"/>
                  </a:lnTo>
                  <a:lnTo>
                    <a:pt x="221" y="1280"/>
                  </a:lnTo>
                  <a:lnTo>
                    <a:pt x="244" y="1306"/>
                  </a:lnTo>
                  <a:lnTo>
                    <a:pt x="267" y="1333"/>
                  </a:lnTo>
                  <a:lnTo>
                    <a:pt x="289" y="1359"/>
                  </a:lnTo>
                  <a:lnTo>
                    <a:pt x="312" y="1387"/>
                  </a:lnTo>
                  <a:lnTo>
                    <a:pt x="335" y="1413"/>
                  </a:lnTo>
                  <a:lnTo>
                    <a:pt x="342" y="1430"/>
                  </a:lnTo>
                  <a:lnTo>
                    <a:pt x="349" y="1447"/>
                  </a:lnTo>
                  <a:lnTo>
                    <a:pt x="356" y="1464"/>
                  </a:lnTo>
                  <a:lnTo>
                    <a:pt x="362" y="1480"/>
                  </a:lnTo>
                  <a:lnTo>
                    <a:pt x="369" y="1497"/>
                  </a:lnTo>
                  <a:lnTo>
                    <a:pt x="376" y="1513"/>
                  </a:lnTo>
                  <a:lnTo>
                    <a:pt x="381" y="1531"/>
                  </a:lnTo>
                  <a:lnTo>
                    <a:pt x="388" y="1547"/>
                  </a:lnTo>
                  <a:lnTo>
                    <a:pt x="396" y="1615"/>
                  </a:lnTo>
                  <a:lnTo>
                    <a:pt x="403" y="1683"/>
                  </a:lnTo>
                  <a:lnTo>
                    <a:pt x="410" y="1749"/>
                  </a:lnTo>
                  <a:lnTo>
                    <a:pt x="417" y="1817"/>
                  </a:lnTo>
                  <a:lnTo>
                    <a:pt x="428" y="1838"/>
                  </a:lnTo>
                  <a:lnTo>
                    <a:pt x="437" y="1859"/>
                  </a:lnTo>
                  <a:lnTo>
                    <a:pt x="447" y="1880"/>
                  </a:lnTo>
                  <a:lnTo>
                    <a:pt x="456" y="1900"/>
                  </a:lnTo>
                  <a:lnTo>
                    <a:pt x="467" y="1922"/>
                  </a:lnTo>
                  <a:lnTo>
                    <a:pt x="476" y="1943"/>
                  </a:lnTo>
                  <a:lnTo>
                    <a:pt x="486" y="1964"/>
                  </a:lnTo>
                  <a:lnTo>
                    <a:pt x="495" y="1984"/>
                  </a:lnTo>
                  <a:lnTo>
                    <a:pt x="523" y="2009"/>
                  </a:lnTo>
                  <a:lnTo>
                    <a:pt x="551" y="2031"/>
                  </a:lnTo>
                  <a:lnTo>
                    <a:pt x="578" y="2048"/>
                  </a:lnTo>
                  <a:lnTo>
                    <a:pt x="606" y="2063"/>
                  </a:lnTo>
                  <a:lnTo>
                    <a:pt x="634" y="2074"/>
                  </a:lnTo>
                  <a:lnTo>
                    <a:pt x="661" y="2083"/>
                  </a:lnTo>
                  <a:lnTo>
                    <a:pt x="689" y="2088"/>
                  </a:lnTo>
                  <a:lnTo>
                    <a:pt x="717" y="2090"/>
                  </a:lnTo>
                  <a:lnTo>
                    <a:pt x="744" y="2089"/>
                  </a:lnTo>
                  <a:lnTo>
                    <a:pt x="772" y="2086"/>
                  </a:lnTo>
                  <a:lnTo>
                    <a:pt x="799" y="2079"/>
                  </a:lnTo>
                  <a:lnTo>
                    <a:pt x="827" y="2069"/>
                  </a:lnTo>
                  <a:lnTo>
                    <a:pt x="854" y="2055"/>
                  </a:lnTo>
                  <a:lnTo>
                    <a:pt x="881" y="2037"/>
                  </a:lnTo>
                  <a:lnTo>
                    <a:pt x="909" y="2018"/>
                  </a:lnTo>
                  <a:lnTo>
                    <a:pt x="936" y="1995"/>
                  </a:lnTo>
                  <a:lnTo>
                    <a:pt x="950" y="1972"/>
                  </a:lnTo>
                  <a:lnTo>
                    <a:pt x="964" y="1949"/>
                  </a:lnTo>
                  <a:lnTo>
                    <a:pt x="978" y="1926"/>
                  </a:lnTo>
                  <a:lnTo>
                    <a:pt x="992" y="1903"/>
                  </a:lnTo>
                  <a:lnTo>
                    <a:pt x="1006" y="1880"/>
                  </a:lnTo>
                  <a:lnTo>
                    <a:pt x="1019" y="1857"/>
                  </a:lnTo>
                  <a:lnTo>
                    <a:pt x="1034" y="1834"/>
                  </a:lnTo>
                  <a:lnTo>
                    <a:pt x="1048" y="1811"/>
                  </a:lnTo>
                  <a:lnTo>
                    <a:pt x="1053" y="1749"/>
                  </a:lnTo>
                  <a:lnTo>
                    <a:pt x="1057" y="1688"/>
                  </a:lnTo>
                  <a:lnTo>
                    <a:pt x="1061" y="1627"/>
                  </a:lnTo>
                  <a:lnTo>
                    <a:pt x="1065" y="1566"/>
                  </a:lnTo>
                  <a:lnTo>
                    <a:pt x="1070" y="1548"/>
                  </a:lnTo>
                  <a:lnTo>
                    <a:pt x="1076" y="1530"/>
                  </a:lnTo>
                  <a:lnTo>
                    <a:pt x="1080" y="1511"/>
                  </a:lnTo>
                  <a:lnTo>
                    <a:pt x="1086" y="1493"/>
                  </a:lnTo>
                  <a:lnTo>
                    <a:pt x="1091" y="1475"/>
                  </a:lnTo>
                  <a:lnTo>
                    <a:pt x="1095" y="1457"/>
                  </a:lnTo>
                  <a:lnTo>
                    <a:pt x="1101" y="1439"/>
                  </a:lnTo>
                  <a:lnTo>
                    <a:pt x="1106" y="1420"/>
                  </a:lnTo>
                  <a:lnTo>
                    <a:pt x="1116" y="1402"/>
                  </a:lnTo>
                  <a:lnTo>
                    <a:pt x="1128" y="1383"/>
                  </a:lnTo>
                  <a:lnTo>
                    <a:pt x="1138" y="1365"/>
                  </a:lnTo>
                  <a:lnTo>
                    <a:pt x="1150" y="1346"/>
                  </a:lnTo>
                  <a:lnTo>
                    <a:pt x="1161" y="1328"/>
                  </a:lnTo>
                  <a:lnTo>
                    <a:pt x="1171" y="1310"/>
                  </a:lnTo>
                  <a:lnTo>
                    <a:pt x="1183" y="1291"/>
                  </a:lnTo>
                  <a:lnTo>
                    <a:pt x="1193" y="1273"/>
                  </a:lnTo>
                  <a:lnTo>
                    <a:pt x="1213" y="1245"/>
                  </a:lnTo>
                  <a:lnTo>
                    <a:pt x="1234" y="1213"/>
                  </a:lnTo>
                  <a:lnTo>
                    <a:pt x="1255" y="1178"/>
                  </a:lnTo>
                  <a:lnTo>
                    <a:pt x="1279" y="1139"/>
                  </a:lnTo>
                  <a:lnTo>
                    <a:pt x="1300" y="1098"/>
                  </a:lnTo>
                  <a:lnTo>
                    <a:pt x="1322" y="1053"/>
                  </a:lnTo>
                  <a:lnTo>
                    <a:pt x="1343" y="1004"/>
                  </a:lnTo>
                  <a:lnTo>
                    <a:pt x="1361" y="952"/>
                  </a:lnTo>
                  <a:lnTo>
                    <a:pt x="1379" y="898"/>
                  </a:lnTo>
                  <a:lnTo>
                    <a:pt x="1393" y="841"/>
                  </a:lnTo>
                  <a:lnTo>
                    <a:pt x="1403" y="780"/>
                  </a:lnTo>
                  <a:lnTo>
                    <a:pt x="1411" y="716"/>
                  </a:lnTo>
                  <a:lnTo>
                    <a:pt x="1413" y="651"/>
                  </a:lnTo>
                  <a:lnTo>
                    <a:pt x="1412" y="582"/>
                  </a:lnTo>
                  <a:lnTo>
                    <a:pt x="1405" y="510"/>
                  </a:lnTo>
                  <a:lnTo>
                    <a:pt x="1393" y="437"/>
                  </a:lnTo>
                  <a:lnTo>
                    <a:pt x="1380" y="397"/>
                  </a:lnTo>
                  <a:lnTo>
                    <a:pt x="1365" y="361"/>
                  </a:lnTo>
                  <a:lnTo>
                    <a:pt x="1348" y="325"/>
                  </a:lnTo>
                  <a:lnTo>
                    <a:pt x="1328" y="293"/>
                  </a:lnTo>
                  <a:lnTo>
                    <a:pt x="1307" y="261"/>
                  </a:lnTo>
                  <a:lnTo>
                    <a:pt x="1285" y="233"/>
                  </a:lnTo>
                  <a:lnTo>
                    <a:pt x="1261" y="205"/>
                  </a:lnTo>
                  <a:lnTo>
                    <a:pt x="1235" y="180"/>
                  </a:lnTo>
                  <a:lnTo>
                    <a:pt x="1208" y="157"/>
                  </a:lnTo>
                  <a:lnTo>
                    <a:pt x="1179" y="135"/>
                  </a:lnTo>
                  <a:lnTo>
                    <a:pt x="1150" y="115"/>
                  </a:lnTo>
                  <a:lnTo>
                    <a:pt x="1118" y="97"/>
                  </a:lnTo>
                  <a:lnTo>
                    <a:pt x="1087" y="81"/>
                  </a:lnTo>
                  <a:lnTo>
                    <a:pt x="1055" y="66"/>
                  </a:lnTo>
                  <a:lnTo>
                    <a:pt x="1022" y="53"/>
                  </a:lnTo>
                  <a:lnTo>
                    <a:pt x="987" y="41"/>
                  </a:lnTo>
                  <a:lnTo>
                    <a:pt x="953" y="31"/>
                  </a:lnTo>
                  <a:lnTo>
                    <a:pt x="918" y="22"/>
                  </a:lnTo>
                  <a:lnTo>
                    <a:pt x="884" y="15"/>
                  </a:lnTo>
                  <a:lnTo>
                    <a:pt x="848" y="9"/>
                  </a:lnTo>
                  <a:lnTo>
                    <a:pt x="812" y="5"/>
                  </a:lnTo>
                  <a:lnTo>
                    <a:pt x="776" y="2"/>
                  </a:lnTo>
                  <a:lnTo>
                    <a:pt x="742" y="0"/>
                  </a:lnTo>
                  <a:lnTo>
                    <a:pt x="706" y="0"/>
                  </a:lnTo>
                  <a:lnTo>
                    <a:pt x="672" y="0"/>
                  </a:lnTo>
                  <a:lnTo>
                    <a:pt x="637" y="2"/>
                  </a:lnTo>
                  <a:lnTo>
                    <a:pt x="604" y="5"/>
                  </a:lnTo>
                  <a:lnTo>
                    <a:pt x="570" y="9"/>
                  </a:lnTo>
                  <a:lnTo>
                    <a:pt x="538" y="14"/>
                  </a:lnTo>
                  <a:lnTo>
                    <a:pt x="507" y="20"/>
                  </a:lnTo>
                  <a:lnTo>
                    <a:pt x="476" y="27"/>
                  </a:lnTo>
                  <a:lnTo>
                    <a:pt x="447" y="35"/>
                  </a:lnTo>
                  <a:close/>
                </a:path>
              </a:pathLst>
            </a:custGeom>
            <a:solidFill>
              <a:srgbClr val="002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4898880" y="1051920"/>
              <a:ext cx="684720" cy="934560"/>
            </a:xfrm>
            <a:custGeom>
              <a:avLst/>
              <a:gdLst/>
              <a:ahLst/>
              <a:rect l="l" t="t" r="r" b="b"/>
              <a:pathLst>
                <a:path w="1382" h="2041">
                  <a:moveTo>
                    <a:pt x="436" y="34"/>
                  </a:moveTo>
                  <a:lnTo>
                    <a:pt x="372" y="70"/>
                  </a:lnTo>
                  <a:lnTo>
                    <a:pt x="310" y="111"/>
                  </a:lnTo>
                  <a:lnTo>
                    <a:pt x="253" y="158"/>
                  </a:lnTo>
                  <a:lnTo>
                    <a:pt x="198" y="209"/>
                  </a:lnTo>
                  <a:lnTo>
                    <a:pt x="149" y="267"/>
                  </a:lnTo>
                  <a:lnTo>
                    <a:pt x="106" y="329"/>
                  </a:lnTo>
                  <a:lnTo>
                    <a:pt x="68" y="395"/>
                  </a:lnTo>
                  <a:lnTo>
                    <a:pt x="38" y="466"/>
                  </a:lnTo>
                  <a:lnTo>
                    <a:pt x="17" y="542"/>
                  </a:lnTo>
                  <a:lnTo>
                    <a:pt x="4" y="622"/>
                  </a:lnTo>
                  <a:lnTo>
                    <a:pt x="0" y="706"/>
                  </a:lnTo>
                  <a:lnTo>
                    <a:pt x="6" y="793"/>
                  </a:lnTo>
                  <a:lnTo>
                    <a:pt x="25" y="884"/>
                  </a:lnTo>
                  <a:lnTo>
                    <a:pt x="55" y="979"/>
                  </a:lnTo>
                  <a:lnTo>
                    <a:pt x="97" y="1077"/>
                  </a:lnTo>
                  <a:lnTo>
                    <a:pt x="152" y="1178"/>
                  </a:lnTo>
                  <a:lnTo>
                    <a:pt x="174" y="1204"/>
                  </a:lnTo>
                  <a:lnTo>
                    <a:pt x="196" y="1231"/>
                  </a:lnTo>
                  <a:lnTo>
                    <a:pt x="218" y="1257"/>
                  </a:lnTo>
                  <a:lnTo>
                    <a:pt x="241" y="1283"/>
                  </a:lnTo>
                  <a:lnTo>
                    <a:pt x="263" y="1309"/>
                  </a:lnTo>
                  <a:lnTo>
                    <a:pt x="285" y="1336"/>
                  </a:lnTo>
                  <a:lnTo>
                    <a:pt x="307" y="1362"/>
                  </a:lnTo>
                  <a:lnTo>
                    <a:pt x="329" y="1389"/>
                  </a:lnTo>
                  <a:lnTo>
                    <a:pt x="336" y="1405"/>
                  </a:lnTo>
                  <a:lnTo>
                    <a:pt x="341" y="1422"/>
                  </a:lnTo>
                  <a:lnTo>
                    <a:pt x="348" y="1438"/>
                  </a:lnTo>
                  <a:lnTo>
                    <a:pt x="355" y="1454"/>
                  </a:lnTo>
                  <a:lnTo>
                    <a:pt x="361" y="1471"/>
                  </a:lnTo>
                  <a:lnTo>
                    <a:pt x="368" y="1488"/>
                  </a:lnTo>
                  <a:lnTo>
                    <a:pt x="374" y="1504"/>
                  </a:lnTo>
                  <a:lnTo>
                    <a:pt x="380" y="1521"/>
                  </a:lnTo>
                  <a:lnTo>
                    <a:pt x="388" y="1588"/>
                  </a:lnTo>
                  <a:lnTo>
                    <a:pt x="395" y="1654"/>
                  </a:lnTo>
                  <a:lnTo>
                    <a:pt x="402" y="1720"/>
                  </a:lnTo>
                  <a:lnTo>
                    <a:pt x="409" y="1787"/>
                  </a:lnTo>
                  <a:lnTo>
                    <a:pt x="418" y="1807"/>
                  </a:lnTo>
                  <a:lnTo>
                    <a:pt x="428" y="1826"/>
                  </a:lnTo>
                  <a:lnTo>
                    <a:pt x="437" y="1846"/>
                  </a:lnTo>
                  <a:lnTo>
                    <a:pt x="447" y="1866"/>
                  </a:lnTo>
                  <a:lnTo>
                    <a:pt x="456" y="1885"/>
                  </a:lnTo>
                  <a:lnTo>
                    <a:pt x="466" y="1906"/>
                  </a:lnTo>
                  <a:lnTo>
                    <a:pt x="475" y="1925"/>
                  </a:lnTo>
                  <a:lnTo>
                    <a:pt x="484" y="1945"/>
                  </a:lnTo>
                  <a:lnTo>
                    <a:pt x="512" y="1967"/>
                  </a:lnTo>
                  <a:lnTo>
                    <a:pt x="538" y="1986"/>
                  </a:lnTo>
                  <a:lnTo>
                    <a:pt x="566" y="2003"/>
                  </a:lnTo>
                  <a:lnTo>
                    <a:pt x="593" y="2015"/>
                  </a:lnTo>
                  <a:lnTo>
                    <a:pt x="620" y="2026"/>
                  </a:lnTo>
                  <a:lnTo>
                    <a:pt x="648" y="2034"/>
                  </a:lnTo>
                  <a:lnTo>
                    <a:pt x="674" y="2038"/>
                  </a:lnTo>
                  <a:lnTo>
                    <a:pt x="702" y="2041"/>
                  </a:lnTo>
                  <a:lnTo>
                    <a:pt x="729" y="2039"/>
                  </a:lnTo>
                  <a:lnTo>
                    <a:pt x="756" y="2036"/>
                  </a:lnTo>
                  <a:lnTo>
                    <a:pt x="783" y="2030"/>
                  </a:lnTo>
                  <a:lnTo>
                    <a:pt x="811" y="2020"/>
                  </a:lnTo>
                  <a:lnTo>
                    <a:pt x="838" y="2008"/>
                  </a:lnTo>
                  <a:lnTo>
                    <a:pt x="865" y="1993"/>
                  </a:lnTo>
                  <a:lnTo>
                    <a:pt x="892" y="1975"/>
                  </a:lnTo>
                  <a:lnTo>
                    <a:pt x="919" y="1954"/>
                  </a:lnTo>
                  <a:lnTo>
                    <a:pt x="932" y="1932"/>
                  </a:lnTo>
                  <a:lnTo>
                    <a:pt x="945" y="1910"/>
                  </a:lnTo>
                  <a:lnTo>
                    <a:pt x="957" y="1890"/>
                  </a:lnTo>
                  <a:lnTo>
                    <a:pt x="971" y="1868"/>
                  </a:lnTo>
                  <a:lnTo>
                    <a:pt x="984" y="1846"/>
                  </a:lnTo>
                  <a:lnTo>
                    <a:pt x="996" y="1824"/>
                  </a:lnTo>
                  <a:lnTo>
                    <a:pt x="1009" y="1803"/>
                  </a:lnTo>
                  <a:lnTo>
                    <a:pt x="1022" y="1781"/>
                  </a:lnTo>
                  <a:lnTo>
                    <a:pt x="1026" y="1722"/>
                  </a:lnTo>
                  <a:lnTo>
                    <a:pt x="1031" y="1661"/>
                  </a:lnTo>
                  <a:lnTo>
                    <a:pt x="1036" y="1601"/>
                  </a:lnTo>
                  <a:lnTo>
                    <a:pt x="1040" y="1542"/>
                  </a:lnTo>
                  <a:lnTo>
                    <a:pt x="1045" y="1523"/>
                  </a:lnTo>
                  <a:lnTo>
                    <a:pt x="1049" y="1505"/>
                  </a:lnTo>
                  <a:lnTo>
                    <a:pt x="1054" y="1488"/>
                  </a:lnTo>
                  <a:lnTo>
                    <a:pt x="1060" y="1469"/>
                  </a:lnTo>
                  <a:lnTo>
                    <a:pt x="1064" y="1451"/>
                  </a:lnTo>
                  <a:lnTo>
                    <a:pt x="1069" y="1432"/>
                  </a:lnTo>
                  <a:lnTo>
                    <a:pt x="1075" y="1415"/>
                  </a:lnTo>
                  <a:lnTo>
                    <a:pt x="1079" y="1397"/>
                  </a:lnTo>
                  <a:lnTo>
                    <a:pt x="1090" y="1378"/>
                  </a:lnTo>
                  <a:lnTo>
                    <a:pt x="1101" y="1360"/>
                  </a:lnTo>
                  <a:lnTo>
                    <a:pt x="1112" y="1343"/>
                  </a:lnTo>
                  <a:lnTo>
                    <a:pt x="1123" y="1324"/>
                  </a:lnTo>
                  <a:lnTo>
                    <a:pt x="1134" y="1306"/>
                  </a:lnTo>
                  <a:lnTo>
                    <a:pt x="1144" y="1287"/>
                  </a:lnTo>
                  <a:lnTo>
                    <a:pt x="1155" y="1270"/>
                  </a:lnTo>
                  <a:lnTo>
                    <a:pt x="1166" y="1252"/>
                  </a:lnTo>
                  <a:lnTo>
                    <a:pt x="1185" y="1224"/>
                  </a:lnTo>
                  <a:lnTo>
                    <a:pt x="1206" y="1193"/>
                  </a:lnTo>
                  <a:lnTo>
                    <a:pt x="1228" y="1158"/>
                  </a:lnTo>
                  <a:lnTo>
                    <a:pt x="1250" y="1120"/>
                  </a:lnTo>
                  <a:lnTo>
                    <a:pt x="1272" y="1080"/>
                  </a:lnTo>
                  <a:lnTo>
                    <a:pt x="1294" y="1035"/>
                  </a:lnTo>
                  <a:lnTo>
                    <a:pt x="1313" y="988"/>
                  </a:lnTo>
                  <a:lnTo>
                    <a:pt x="1332" y="937"/>
                  </a:lnTo>
                  <a:lnTo>
                    <a:pt x="1349" y="883"/>
                  </a:lnTo>
                  <a:lnTo>
                    <a:pt x="1363" y="827"/>
                  </a:lnTo>
                  <a:lnTo>
                    <a:pt x="1373" y="768"/>
                  </a:lnTo>
                  <a:lnTo>
                    <a:pt x="1380" y="706"/>
                  </a:lnTo>
                  <a:lnTo>
                    <a:pt x="1382" y="640"/>
                  </a:lnTo>
                  <a:lnTo>
                    <a:pt x="1381" y="572"/>
                  </a:lnTo>
                  <a:lnTo>
                    <a:pt x="1374" y="502"/>
                  </a:lnTo>
                  <a:lnTo>
                    <a:pt x="1362" y="429"/>
                  </a:lnTo>
                  <a:lnTo>
                    <a:pt x="1349" y="391"/>
                  </a:lnTo>
                  <a:lnTo>
                    <a:pt x="1334" y="354"/>
                  </a:lnTo>
                  <a:lnTo>
                    <a:pt x="1318" y="320"/>
                  </a:lnTo>
                  <a:lnTo>
                    <a:pt x="1298" y="288"/>
                  </a:lnTo>
                  <a:lnTo>
                    <a:pt x="1279" y="257"/>
                  </a:lnTo>
                  <a:lnTo>
                    <a:pt x="1257" y="229"/>
                  </a:lnTo>
                  <a:lnTo>
                    <a:pt x="1233" y="201"/>
                  </a:lnTo>
                  <a:lnTo>
                    <a:pt x="1207" y="177"/>
                  </a:lnTo>
                  <a:lnTo>
                    <a:pt x="1181" y="154"/>
                  </a:lnTo>
                  <a:lnTo>
                    <a:pt x="1153" y="133"/>
                  </a:lnTo>
                  <a:lnTo>
                    <a:pt x="1124" y="114"/>
                  </a:lnTo>
                  <a:lnTo>
                    <a:pt x="1094" y="95"/>
                  </a:lnTo>
                  <a:lnTo>
                    <a:pt x="1063" y="79"/>
                  </a:lnTo>
                  <a:lnTo>
                    <a:pt x="1031" y="65"/>
                  </a:lnTo>
                  <a:lnTo>
                    <a:pt x="999" y="52"/>
                  </a:lnTo>
                  <a:lnTo>
                    <a:pt x="965" y="40"/>
                  </a:lnTo>
                  <a:lnTo>
                    <a:pt x="932" y="31"/>
                  </a:lnTo>
                  <a:lnTo>
                    <a:pt x="897" y="22"/>
                  </a:lnTo>
                  <a:lnTo>
                    <a:pt x="863" y="15"/>
                  </a:lnTo>
                  <a:lnTo>
                    <a:pt x="828" y="9"/>
                  </a:lnTo>
                  <a:lnTo>
                    <a:pt x="794" y="6"/>
                  </a:lnTo>
                  <a:lnTo>
                    <a:pt x="759" y="2"/>
                  </a:lnTo>
                  <a:lnTo>
                    <a:pt x="725" y="0"/>
                  </a:lnTo>
                  <a:lnTo>
                    <a:pt x="690" y="0"/>
                  </a:lnTo>
                  <a:lnTo>
                    <a:pt x="657" y="0"/>
                  </a:lnTo>
                  <a:lnTo>
                    <a:pt x="622" y="2"/>
                  </a:lnTo>
                  <a:lnTo>
                    <a:pt x="590" y="4"/>
                  </a:lnTo>
                  <a:lnTo>
                    <a:pt x="557" y="9"/>
                  </a:lnTo>
                  <a:lnTo>
                    <a:pt x="526" y="14"/>
                  </a:lnTo>
                  <a:lnTo>
                    <a:pt x="494" y="19"/>
                  </a:lnTo>
                  <a:lnTo>
                    <a:pt x="464" y="26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0c33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4906800" y="1061640"/>
              <a:ext cx="669240" cy="910800"/>
            </a:xfrm>
            <a:custGeom>
              <a:avLst/>
              <a:gdLst/>
              <a:ahLst/>
              <a:rect l="l" t="t" r="r" b="b"/>
              <a:pathLst>
                <a:path w="1350" h="1992">
                  <a:moveTo>
                    <a:pt x="422" y="35"/>
                  </a:moveTo>
                  <a:lnTo>
                    <a:pt x="360" y="70"/>
                  </a:lnTo>
                  <a:lnTo>
                    <a:pt x="300" y="111"/>
                  </a:lnTo>
                  <a:lnTo>
                    <a:pt x="244" y="156"/>
                  </a:lnTo>
                  <a:lnTo>
                    <a:pt x="191" y="208"/>
                  </a:lnTo>
                  <a:lnTo>
                    <a:pt x="142" y="263"/>
                  </a:lnTo>
                  <a:lnTo>
                    <a:pt x="101" y="324"/>
                  </a:lnTo>
                  <a:lnTo>
                    <a:pt x="65" y="390"/>
                  </a:lnTo>
                  <a:lnTo>
                    <a:pt x="36" y="460"/>
                  </a:lnTo>
                  <a:lnTo>
                    <a:pt x="14" y="534"/>
                  </a:lnTo>
                  <a:lnTo>
                    <a:pt x="2" y="612"/>
                  </a:lnTo>
                  <a:lnTo>
                    <a:pt x="0" y="694"/>
                  </a:lnTo>
                  <a:lnTo>
                    <a:pt x="6" y="780"/>
                  </a:lnTo>
                  <a:lnTo>
                    <a:pt x="24" y="870"/>
                  </a:lnTo>
                  <a:lnTo>
                    <a:pt x="54" y="962"/>
                  </a:lnTo>
                  <a:lnTo>
                    <a:pt x="95" y="1059"/>
                  </a:lnTo>
                  <a:lnTo>
                    <a:pt x="150" y="1158"/>
                  </a:lnTo>
                  <a:lnTo>
                    <a:pt x="171" y="1183"/>
                  </a:lnTo>
                  <a:lnTo>
                    <a:pt x="193" y="1210"/>
                  </a:lnTo>
                  <a:lnTo>
                    <a:pt x="214" y="1235"/>
                  </a:lnTo>
                  <a:lnTo>
                    <a:pt x="236" y="1262"/>
                  </a:lnTo>
                  <a:lnTo>
                    <a:pt x="257" y="1287"/>
                  </a:lnTo>
                  <a:lnTo>
                    <a:pt x="278" y="1313"/>
                  </a:lnTo>
                  <a:lnTo>
                    <a:pt x="300" y="1339"/>
                  </a:lnTo>
                  <a:lnTo>
                    <a:pt x="321" y="1365"/>
                  </a:lnTo>
                  <a:lnTo>
                    <a:pt x="328" y="1381"/>
                  </a:lnTo>
                  <a:lnTo>
                    <a:pt x="333" y="1398"/>
                  </a:lnTo>
                  <a:lnTo>
                    <a:pt x="340" y="1414"/>
                  </a:lnTo>
                  <a:lnTo>
                    <a:pt x="347" y="1430"/>
                  </a:lnTo>
                  <a:lnTo>
                    <a:pt x="353" y="1446"/>
                  </a:lnTo>
                  <a:lnTo>
                    <a:pt x="360" y="1463"/>
                  </a:lnTo>
                  <a:lnTo>
                    <a:pt x="366" y="1479"/>
                  </a:lnTo>
                  <a:lnTo>
                    <a:pt x="373" y="1495"/>
                  </a:lnTo>
                  <a:lnTo>
                    <a:pt x="380" y="1561"/>
                  </a:lnTo>
                  <a:lnTo>
                    <a:pt x="386" y="1626"/>
                  </a:lnTo>
                  <a:lnTo>
                    <a:pt x="393" y="1691"/>
                  </a:lnTo>
                  <a:lnTo>
                    <a:pt x="400" y="1757"/>
                  </a:lnTo>
                  <a:lnTo>
                    <a:pt x="409" y="1775"/>
                  </a:lnTo>
                  <a:lnTo>
                    <a:pt x="418" y="1794"/>
                  </a:lnTo>
                  <a:lnTo>
                    <a:pt x="427" y="1812"/>
                  </a:lnTo>
                  <a:lnTo>
                    <a:pt x="435" y="1831"/>
                  </a:lnTo>
                  <a:lnTo>
                    <a:pt x="444" y="1850"/>
                  </a:lnTo>
                  <a:lnTo>
                    <a:pt x="452" y="1869"/>
                  </a:lnTo>
                  <a:lnTo>
                    <a:pt x="461" y="1887"/>
                  </a:lnTo>
                  <a:lnTo>
                    <a:pt x="471" y="1905"/>
                  </a:lnTo>
                  <a:lnTo>
                    <a:pt x="497" y="1925"/>
                  </a:lnTo>
                  <a:lnTo>
                    <a:pt x="525" y="1942"/>
                  </a:lnTo>
                  <a:lnTo>
                    <a:pt x="551" y="1957"/>
                  </a:lnTo>
                  <a:lnTo>
                    <a:pt x="578" y="1970"/>
                  </a:lnTo>
                  <a:lnTo>
                    <a:pt x="605" y="1979"/>
                  </a:lnTo>
                  <a:lnTo>
                    <a:pt x="632" y="1986"/>
                  </a:lnTo>
                  <a:lnTo>
                    <a:pt x="658" y="1991"/>
                  </a:lnTo>
                  <a:lnTo>
                    <a:pt x="686" y="1992"/>
                  </a:lnTo>
                  <a:lnTo>
                    <a:pt x="712" y="1991"/>
                  </a:lnTo>
                  <a:lnTo>
                    <a:pt x="739" y="1987"/>
                  </a:lnTo>
                  <a:lnTo>
                    <a:pt x="766" y="1981"/>
                  </a:lnTo>
                  <a:lnTo>
                    <a:pt x="793" y="1973"/>
                  </a:lnTo>
                  <a:lnTo>
                    <a:pt x="821" y="1962"/>
                  </a:lnTo>
                  <a:lnTo>
                    <a:pt x="847" y="1948"/>
                  </a:lnTo>
                  <a:lnTo>
                    <a:pt x="875" y="1932"/>
                  </a:lnTo>
                  <a:lnTo>
                    <a:pt x="901" y="1913"/>
                  </a:lnTo>
                  <a:lnTo>
                    <a:pt x="913" y="1894"/>
                  </a:lnTo>
                  <a:lnTo>
                    <a:pt x="924" y="1873"/>
                  </a:lnTo>
                  <a:lnTo>
                    <a:pt x="936" y="1854"/>
                  </a:lnTo>
                  <a:lnTo>
                    <a:pt x="948" y="1833"/>
                  </a:lnTo>
                  <a:lnTo>
                    <a:pt x="960" y="1813"/>
                  </a:lnTo>
                  <a:lnTo>
                    <a:pt x="971" y="1794"/>
                  </a:lnTo>
                  <a:lnTo>
                    <a:pt x="984" y="1773"/>
                  </a:lnTo>
                  <a:lnTo>
                    <a:pt x="996" y="1753"/>
                  </a:lnTo>
                  <a:lnTo>
                    <a:pt x="1000" y="1695"/>
                  </a:lnTo>
                  <a:lnTo>
                    <a:pt x="1005" y="1635"/>
                  </a:lnTo>
                  <a:lnTo>
                    <a:pt x="1008" y="1576"/>
                  </a:lnTo>
                  <a:lnTo>
                    <a:pt x="1013" y="1517"/>
                  </a:lnTo>
                  <a:lnTo>
                    <a:pt x="1017" y="1500"/>
                  </a:lnTo>
                  <a:lnTo>
                    <a:pt x="1022" y="1482"/>
                  </a:lnTo>
                  <a:lnTo>
                    <a:pt x="1028" y="1464"/>
                  </a:lnTo>
                  <a:lnTo>
                    <a:pt x="1032" y="1446"/>
                  </a:lnTo>
                  <a:lnTo>
                    <a:pt x="1037" y="1427"/>
                  </a:lnTo>
                  <a:lnTo>
                    <a:pt x="1043" y="1410"/>
                  </a:lnTo>
                  <a:lnTo>
                    <a:pt x="1047" y="1392"/>
                  </a:lnTo>
                  <a:lnTo>
                    <a:pt x="1052" y="1374"/>
                  </a:lnTo>
                  <a:lnTo>
                    <a:pt x="1062" y="1357"/>
                  </a:lnTo>
                  <a:lnTo>
                    <a:pt x="1073" y="1339"/>
                  </a:lnTo>
                  <a:lnTo>
                    <a:pt x="1083" y="1322"/>
                  </a:lnTo>
                  <a:lnTo>
                    <a:pt x="1095" y="1303"/>
                  </a:lnTo>
                  <a:lnTo>
                    <a:pt x="1105" y="1286"/>
                  </a:lnTo>
                  <a:lnTo>
                    <a:pt x="1115" y="1267"/>
                  </a:lnTo>
                  <a:lnTo>
                    <a:pt x="1127" y="1250"/>
                  </a:lnTo>
                  <a:lnTo>
                    <a:pt x="1137" y="1232"/>
                  </a:lnTo>
                  <a:lnTo>
                    <a:pt x="1156" y="1205"/>
                  </a:lnTo>
                  <a:lnTo>
                    <a:pt x="1176" y="1174"/>
                  </a:lnTo>
                  <a:lnTo>
                    <a:pt x="1198" y="1141"/>
                  </a:lnTo>
                  <a:lnTo>
                    <a:pt x="1219" y="1103"/>
                  </a:lnTo>
                  <a:lnTo>
                    <a:pt x="1241" y="1062"/>
                  </a:lnTo>
                  <a:lnTo>
                    <a:pt x="1262" y="1020"/>
                  </a:lnTo>
                  <a:lnTo>
                    <a:pt x="1282" y="973"/>
                  </a:lnTo>
                  <a:lnTo>
                    <a:pt x="1300" y="923"/>
                  </a:lnTo>
                  <a:lnTo>
                    <a:pt x="1316" y="870"/>
                  </a:lnTo>
                  <a:lnTo>
                    <a:pt x="1330" y="815"/>
                  </a:lnTo>
                  <a:lnTo>
                    <a:pt x="1341" y="756"/>
                  </a:lnTo>
                  <a:lnTo>
                    <a:pt x="1348" y="695"/>
                  </a:lnTo>
                  <a:lnTo>
                    <a:pt x="1350" y="632"/>
                  </a:lnTo>
                  <a:lnTo>
                    <a:pt x="1349" y="565"/>
                  </a:lnTo>
                  <a:lnTo>
                    <a:pt x="1342" y="496"/>
                  </a:lnTo>
                  <a:lnTo>
                    <a:pt x="1331" y="424"/>
                  </a:lnTo>
                  <a:lnTo>
                    <a:pt x="1318" y="386"/>
                  </a:lnTo>
                  <a:lnTo>
                    <a:pt x="1304" y="351"/>
                  </a:lnTo>
                  <a:lnTo>
                    <a:pt x="1287" y="316"/>
                  </a:lnTo>
                  <a:lnTo>
                    <a:pt x="1269" y="284"/>
                  </a:lnTo>
                  <a:lnTo>
                    <a:pt x="1249" y="254"/>
                  </a:lnTo>
                  <a:lnTo>
                    <a:pt x="1227" y="226"/>
                  </a:lnTo>
                  <a:lnTo>
                    <a:pt x="1204" y="200"/>
                  </a:lnTo>
                  <a:lnTo>
                    <a:pt x="1179" y="176"/>
                  </a:lnTo>
                  <a:lnTo>
                    <a:pt x="1153" y="153"/>
                  </a:lnTo>
                  <a:lnTo>
                    <a:pt x="1126" y="132"/>
                  </a:lnTo>
                  <a:lnTo>
                    <a:pt x="1097" y="112"/>
                  </a:lnTo>
                  <a:lnTo>
                    <a:pt x="1068" y="95"/>
                  </a:lnTo>
                  <a:lnTo>
                    <a:pt x="1037" y="79"/>
                  </a:lnTo>
                  <a:lnTo>
                    <a:pt x="1006" y="65"/>
                  </a:lnTo>
                  <a:lnTo>
                    <a:pt x="975" y="52"/>
                  </a:lnTo>
                  <a:lnTo>
                    <a:pt x="943" y="41"/>
                  </a:lnTo>
                  <a:lnTo>
                    <a:pt x="909" y="32"/>
                  </a:lnTo>
                  <a:lnTo>
                    <a:pt x="876" y="22"/>
                  </a:lnTo>
                  <a:lnTo>
                    <a:pt x="842" y="15"/>
                  </a:lnTo>
                  <a:lnTo>
                    <a:pt x="808" y="11"/>
                  </a:lnTo>
                  <a:lnTo>
                    <a:pt x="775" y="6"/>
                  </a:lnTo>
                  <a:lnTo>
                    <a:pt x="740" y="3"/>
                  </a:lnTo>
                  <a:lnTo>
                    <a:pt x="707" y="2"/>
                  </a:lnTo>
                  <a:lnTo>
                    <a:pt x="672" y="0"/>
                  </a:lnTo>
                  <a:lnTo>
                    <a:pt x="639" y="2"/>
                  </a:lnTo>
                  <a:lnTo>
                    <a:pt x="606" y="3"/>
                  </a:lnTo>
                  <a:lnTo>
                    <a:pt x="573" y="6"/>
                  </a:lnTo>
                  <a:lnTo>
                    <a:pt x="542" y="10"/>
                  </a:lnTo>
                  <a:lnTo>
                    <a:pt x="511" y="14"/>
                  </a:lnTo>
                  <a:lnTo>
                    <a:pt x="480" y="20"/>
                  </a:lnTo>
                  <a:lnTo>
                    <a:pt x="451" y="27"/>
                  </a:lnTo>
                  <a:lnTo>
                    <a:pt x="422" y="35"/>
                  </a:lnTo>
                  <a:close/>
                </a:path>
              </a:pathLst>
            </a:custGeom>
            <a:solidFill>
              <a:srgbClr val="21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4913640" y="1072080"/>
              <a:ext cx="655200" cy="887760"/>
            </a:xfrm>
            <a:custGeom>
              <a:avLst/>
              <a:gdLst/>
              <a:ahLst/>
              <a:rect l="l" t="t" r="r" b="b"/>
              <a:pathLst>
                <a:path w="1321" h="1941">
                  <a:moveTo>
                    <a:pt x="413" y="34"/>
                  </a:moveTo>
                  <a:lnTo>
                    <a:pt x="352" y="68"/>
                  </a:lnTo>
                  <a:lnTo>
                    <a:pt x="292" y="107"/>
                  </a:lnTo>
                  <a:lnTo>
                    <a:pt x="237" y="154"/>
                  </a:lnTo>
                  <a:lnTo>
                    <a:pt x="186" y="203"/>
                  </a:lnTo>
                  <a:lnTo>
                    <a:pt x="139" y="258"/>
                  </a:lnTo>
                  <a:lnTo>
                    <a:pt x="97" y="317"/>
                  </a:lnTo>
                  <a:lnTo>
                    <a:pt x="63" y="382"/>
                  </a:lnTo>
                  <a:lnTo>
                    <a:pt x="35" y="450"/>
                  </a:lnTo>
                  <a:lnTo>
                    <a:pt x="15" y="523"/>
                  </a:lnTo>
                  <a:lnTo>
                    <a:pt x="3" y="599"/>
                  </a:lnTo>
                  <a:lnTo>
                    <a:pt x="0" y="680"/>
                  </a:lnTo>
                  <a:lnTo>
                    <a:pt x="9" y="764"/>
                  </a:lnTo>
                  <a:lnTo>
                    <a:pt x="26" y="853"/>
                  </a:lnTo>
                  <a:lnTo>
                    <a:pt x="56" y="944"/>
                  </a:lnTo>
                  <a:lnTo>
                    <a:pt x="97" y="1038"/>
                  </a:lnTo>
                  <a:lnTo>
                    <a:pt x="151" y="1136"/>
                  </a:lnTo>
                  <a:lnTo>
                    <a:pt x="172" y="1161"/>
                  </a:lnTo>
                  <a:lnTo>
                    <a:pt x="193" y="1187"/>
                  </a:lnTo>
                  <a:lnTo>
                    <a:pt x="214" y="1212"/>
                  </a:lnTo>
                  <a:lnTo>
                    <a:pt x="234" y="1237"/>
                  </a:lnTo>
                  <a:lnTo>
                    <a:pt x="254" y="1264"/>
                  </a:lnTo>
                  <a:lnTo>
                    <a:pt x="275" y="1289"/>
                  </a:lnTo>
                  <a:lnTo>
                    <a:pt x="295" y="1314"/>
                  </a:lnTo>
                  <a:lnTo>
                    <a:pt x="316" y="1340"/>
                  </a:lnTo>
                  <a:lnTo>
                    <a:pt x="322" y="1356"/>
                  </a:lnTo>
                  <a:lnTo>
                    <a:pt x="329" y="1372"/>
                  </a:lnTo>
                  <a:lnTo>
                    <a:pt x="334" y="1388"/>
                  </a:lnTo>
                  <a:lnTo>
                    <a:pt x="341" y="1403"/>
                  </a:lnTo>
                  <a:lnTo>
                    <a:pt x="347" y="1419"/>
                  </a:lnTo>
                  <a:lnTo>
                    <a:pt x="354" y="1435"/>
                  </a:lnTo>
                  <a:lnTo>
                    <a:pt x="360" y="1452"/>
                  </a:lnTo>
                  <a:lnTo>
                    <a:pt x="367" y="1468"/>
                  </a:lnTo>
                  <a:lnTo>
                    <a:pt x="374" y="1532"/>
                  </a:lnTo>
                  <a:lnTo>
                    <a:pt x="381" y="1597"/>
                  </a:lnTo>
                  <a:lnTo>
                    <a:pt x="387" y="1661"/>
                  </a:lnTo>
                  <a:lnTo>
                    <a:pt x="394" y="1726"/>
                  </a:lnTo>
                  <a:lnTo>
                    <a:pt x="402" y="1743"/>
                  </a:lnTo>
                  <a:lnTo>
                    <a:pt x="410" y="1760"/>
                  </a:lnTo>
                  <a:lnTo>
                    <a:pt x="419" y="1777"/>
                  </a:lnTo>
                  <a:lnTo>
                    <a:pt x="428" y="1795"/>
                  </a:lnTo>
                  <a:lnTo>
                    <a:pt x="436" y="1812"/>
                  </a:lnTo>
                  <a:lnTo>
                    <a:pt x="444" y="1829"/>
                  </a:lnTo>
                  <a:lnTo>
                    <a:pt x="452" y="1847"/>
                  </a:lnTo>
                  <a:lnTo>
                    <a:pt x="460" y="1864"/>
                  </a:lnTo>
                  <a:lnTo>
                    <a:pt x="486" y="1881"/>
                  </a:lnTo>
                  <a:lnTo>
                    <a:pt x="513" y="1897"/>
                  </a:lnTo>
                  <a:lnTo>
                    <a:pt x="539" y="1910"/>
                  </a:lnTo>
                  <a:lnTo>
                    <a:pt x="566" y="1920"/>
                  </a:lnTo>
                  <a:lnTo>
                    <a:pt x="592" y="1930"/>
                  </a:lnTo>
                  <a:lnTo>
                    <a:pt x="619" y="1935"/>
                  </a:lnTo>
                  <a:lnTo>
                    <a:pt x="645" y="1939"/>
                  </a:lnTo>
                  <a:lnTo>
                    <a:pt x="673" y="1941"/>
                  </a:lnTo>
                  <a:lnTo>
                    <a:pt x="699" y="1940"/>
                  </a:lnTo>
                  <a:lnTo>
                    <a:pt x="726" y="1938"/>
                  </a:lnTo>
                  <a:lnTo>
                    <a:pt x="752" y="1932"/>
                  </a:lnTo>
                  <a:lnTo>
                    <a:pt x="779" y="1925"/>
                  </a:lnTo>
                  <a:lnTo>
                    <a:pt x="805" y="1915"/>
                  </a:lnTo>
                  <a:lnTo>
                    <a:pt x="832" y="1903"/>
                  </a:lnTo>
                  <a:lnTo>
                    <a:pt x="858" y="1888"/>
                  </a:lnTo>
                  <a:lnTo>
                    <a:pt x="885" y="1872"/>
                  </a:lnTo>
                  <a:lnTo>
                    <a:pt x="895" y="1853"/>
                  </a:lnTo>
                  <a:lnTo>
                    <a:pt x="907" y="1835"/>
                  </a:lnTo>
                  <a:lnTo>
                    <a:pt x="917" y="1815"/>
                  </a:lnTo>
                  <a:lnTo>
                    <a:pt x="929" y="1797"/>
                  </a:lnTo>
                  <a:lnTo>
                    <a:pt x="940" y="1779"/>
                  </a:lnTo>
                  <a:lnTo>
                    <a:pt x="951" y="1759"/>
                  </a:lnTo>
                  <a:lnTo>
                    <a:pt x="962" y="1741"/>
                  </a:lnTo>
                  <a:lnTo>
                    <a:pt x="972" y="1722"/>
                  </a:lnTo>
                  <a:lnTo>
                    <a:pt x="977" y="1665"/>
                  </a:lnTo>
                  <a:lnTo>
                    <a:pt x="982" y="1607"/>
                  </a:lnTo>
                  <a:lnTo>
                    <a:pt x="985" y="1549"/>
                  </a:lnTo>
                  <a:lnTo>
                    <a:pt x="990" y="1491"/>
                  </a:lnTo>
                  <a:lnTo>
                    <a:pt x="994" y="1473"/>
                  </a:lnTo>
                  <a:lnTo>
                    <a:pt x="999" y="1456"/>
                  </a:lnTo>
                  <a:lnTo>
                    <a:pt x="1003" y="1439"/>
                  </a:lnTo>
                  <a:lnTo>
                    <a:pt x="1009" y="1420"/>
                  </a:lnTo>
                  <a:lnTo>
                    <a:pt x="1014" y="1403"/>
                  </a:lnTo>
                  <a:lnTo>
                    <a:pt x="1018" y="1386"/>
                  </a:lnTo>
                  <a:lnTo>
                    <a:pt x="1023" y="1367"/>
                  </a:lnTo>
                  <a:lnTo>
                    <a:pt x="1028" y="1350"/>
                  </a:lnTo>
                  <a:lnTo>
                    <a:pt x="1038" y="1333"/>
                  </a:lnTo>
                  <a:lnTo>
                    <a:pt x="1048" y="1316"/>
                  </a:lnTo>
                  <a:lnTo>
                    <a:pt x="1059" y="1298"/>
                  </a:lnTo>
                  <a:lnTo>
                    <a:pt x="1069" y="1280"/>
                  </a:lnTo>
                  <a:lnTo>
                    <a:pt x="1079" y="1263"/>
                  </a:lnTo>
                  <a:lnTo>
                    <a:pt x="1090" y="1245"/>
                  </a:lnTo>
                  <a:lnTo>
                    <a:pt x="1100" y="1227"/>
                  </a:lnTo>
                  <a:lnTo>
                    <a:pt x="1111" y="1210"/>
                  </a:lnTo>
                  <a:lnTo>
                    <a:pt x="1129" y="1183"/>
                  </a:lnTo>
                  <a:lnTo>
                    <a:pt x="1150" y="1153"/>
                  </a:lnTo>
                  <a:lnTo>
                    <a:pt x="1170" y="1120"/>
                  </a:lnTo>
                  <a:lnTo>
                    <a:pt x="1192" y="1084"/>
                  </a:lnTo>
                  <a:lnTo>
                    <a:pt x="1213" y="1044"/>
                  </a:lnTo>
                  <a:lnTo>
                    <a:pt x="1234" y="1001"/>
                  </a:lnTo>
                  <a:lnTo>
                    <a:pt x="1253" y="956"/>
                  </a:lnTo>
                  <a:lnTo>
                    <a:pt x="1272" y="907"/>
                  </a:lnTo>
                  <a:lnTo>
                    <a:pt x="1288" y="856"/>
                  </a:lnTo>
                  <a:lnTo>
                    <a:pt x="1301" y="801"/>
                  </a:lnTo>
                  <a:lnTo>
                    <a:pt x="1311" y="744"/>
                  </a:lnTo>
                  <a:lnTo>
                    <a:pt x="1318" y="683"/>
                  </a:lnTo>
                  <a:lnTo>
                    <a:pt x="1321" y="621"/>
                  </a:lnTo>
                  <a:lnTo>
                    <a:pt x="1319" y="555"/>
                  </a:lnTo>
                  <a:lnTo>
                    <a:pt x="1312" y="488"/>
                  </a:lnTo>
                  <a:lnTo>
                    <a:pt x="1301" y="417"/>
                  </a:lnTo>
                  <a:lnTo>
                    <a:pt x="1288" y="380"/>
                  </a:lnTo>
                  <a:lnTo>
                    <a:pt x="1274" y="345"/>
                  </a:lnTo>
                  <a:lnTo>
                    <a:pt x="1258" y="311"/>
                  </a:lnTo>
                  <a:lnTo>
                    <a:pt x="1241" y="279"/>
                  </a:lnTo>
                  <a:lnTo>
                    <a:pt x="1221" y="250"/>
                  </a:lnTo>
                  <a:lnTo>
                    <a:pt x="1199" y="223"/>
                  </a:lnTo>
                  <a:lnTo>
                    <a:pt x="1177" y="196"/>
                  </a:lnTo>
                  <a:lnTo>
                    <a:pt x="1153" y="172"/>
                  </a:lnTo>
                  <a:lnTo>
                    <a:pt x="1128" y="150"/>
                  </a:lnTo>
                  <a:lnTo>
                    <a:pt x="1101" y="129"/>
                  </a:lnTo>
                  <a:lnTo>
                    <a:pt x="1074" y="111"/>
                  </a:lnTo>
                  <a:lnTo>
                    <a:pt x="1045" y="94"/>
                  </a:lnTo>
                  <a:lnTo>
                    <a:pt x="1015" y="78"/>
                  </a:lnTo>
                  <a:lnTo>
                    <a:pt x="985" y="64"/>
                  </a:lnTo>
                  <a:lnTo>
                    <a:pt x="954" y="51"/>
                  </a:lnTo>
                  <a:lnTo>
                    <a:pt x="922" y="40"/>
                  </a:lnTo>
                  <a:lnTo>
                    <a:pt x="889" y="30"/>
                  </a:lnTo>
                  <a:lnTo>
                    <a:pt x="857" y="22"/>
                  </a:lnTo>
                  <a:lnTo>
                    <a:pt x="824" y="15"/>
                  </a:lnTo>
                  <a:lnTo>
                    <a:pt x="790" y="10"/>
                  </a:lnTo>
                  <a:lnTo>
                    <a:pt x="758" y="5"/>
                  </a:lnTo>
                  <a:lnTo>
                    <a:pt x="725" y="3"/>
                  </a:lnTo>
                  <a:lnTo>
                    <a:pt x="691" y="0"/>
                  </a:lnTo>
                  <a:lnTo>
                    <a:pt x="658" y="0"/>
                  </a:lnTo>
                  <a:lnTo>
                    <a:pt x="626" y="0"/>
                  </a:lnTo>
                  <a:lnTo>
                    <a:pt x="594" y="3"/>
                  </a:lnTo>
                  <a:lnTo>
                    <a:pt x="561" y="5"/>
                  </a:lnTo>
                  <a:lnTo>
                    <a:pt x="530" y="8"/>
                  </a:lnTo>
                  <a:lnTo>
                    <a:pt x="499" y="14"/>
                  </a:lnTo>
                  <a:lnTo>
                    <a:pt x="469" y="20"/>
                  </a:lnTo>
                  <a:lnTo>
                    <a:pt x="440" y="26"/>
                  </a:lnTo>
                  <a:lnTo>
                    <a:pt x="413" y="34"/>
                  </a:lnTo>
                  <a:close/>
                </a:path>
              </a:pathLst>
            </a:custGeom>
            <a:solidFill>
              <a:srgbClr val="353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4921560" y="1081080"/>
              <a:ext cx="639360" cy="865800"/>
            </a:xfrm>
            <a:custGeom>
              <a:avLst/>
              <a:gdLst/>
              <a:ahLst/>
              <a:rect l="l" t="t" r="r" b="b"/>
              <a:pathLst>
                <a:path w="1288" h="1891">
                  <a:moveTo>
                    <a:pt x="400" y="33"/>
                  </a:moveTo>
                  <a:lnTo>
                    <a:pt x="339" y="67"/>
                  </a:lnTo>
                  <a:lnTo>
                    <a:pt x="282" y="106"/>
                  </a:lnTo>
                  <a:lnTo>
                    <a:pt x="228" y="150"/>
                  </a:lnTo>
                  <a:lnTo>
                    <a:pt x="177" y="199"/>
                  </a:lnTo>
                  <a:lnTo>
                    <a:pt x="132" y="253"/>
                  </a:lnTo>
                  <a:lnTo>
                    <a:pt x="92" y="311"/>
                  </a:lnTo>
                  <a:lnTo>
                    <a:pt x="58" y="374"/>
                  </a:lnTo>
                  <a:lnTo>
                    <a:pt x="32" y="441"/>
                  </a:lnTo>
                  <a:lnTo>
                    <a:pt x="12" y="513"/>
                  </a:lnTo>
                  <a:lnTo>
                    <a:pt x="2" y="587"/>
                  </a:lnTo>
                  <a:lnTo>
                    <a:pt x="0" y="667"/>
                  </a:lnTo>
                  <a:lnTo>
                    <a:pt x="8" y="750"/>
                  </a:lnTo>
                  <a:lnTo>
                    <a:pt x="26" y="836"/>
                  </a:lnTo>
                  <a:lnTo>
                    <a:pt x="55" y="926"/>
                  </a:lnTo>
                  <a:lnTo>
                    <a:pt x="96" y="1019"/>
                  </a:lnTo>
                  <a:lnTo>
                    <a:pt x="149" y="1115"/>
                  </a:lnTo>
                  <a:lnTo>
                    <a:pt x="169" y="1140"/>
                  </a:lnTo>
                  <a:lnTo>
                    <a:pt x="190" y="1164"/>
                  </a:lnTo>
                  <a:lnTo>
                    <a:pt x="209" y="1190"/>
                  </a:lnTo>
                  <a:lnTo>
                    <a:pt x="229" y="1215"/>
                  </a:lnTo>
                  <a:lnTo>
                    <a:pt x="248" y="1241"/>
                  </a:lnTo>
                  <a:lnTo>
                    <a:pt x="269" y="1265"/>
                  </a:lnTo>
                  <a:lnTo>
                    <a:pt x="289" y="1290"/>
                  </a:lnTo>
                  <a:lnTo>
                    <a:pt x="308" y="1315"/>
                  </a:lnTo>
                  <a:lnTo>
                    <a:pt x="314" y="1331"/>
                  </a:lnTo>
                  <a:lnTo>
                    <a:pt x="321" y="1348"/>
                  </a:lnTo>
                  <a:lnTo>
                    <a:pt x="327" y="1363"/>
                  </a:lnTo>
                  <a:lnTo>
                    <a:pt x="334" y="1379"/>
                  </a:lnTo>
                  <a:lnTo>
                    <a:pt x="339" y="1394"/>
                  </a:lnTo>
                  <a:lnTo>
                    <a:pt x="345" y="1410"/>
                  </a:lnTo>
                  <a:lnTo>
                    <a:pt x="352" y="1425"/>
                  </a:lnTo>
                  <a:lnTo>
                    <a:pt x="358" y="1441"/>
                  </a:lnTo>
                  <a:lnTo>
                    <a:pt x="365" y="1504"/>
                  </a:lnTo>
                  <a:lnTo>
                    <a:pt x="372" y="1568"/>
                  </a:lnTo>
                  <a:lnTo>
                    <a:pt x="378" y="1632"/>
                  </a:lnTo>
                  <a:lnTo>
                    <a:pt x="385" y="1695"/>
                  </a:lnTo>
                  <a:lnTo>
                    <a:pt x="392" y="1712"/>
                  </a:lnTo>
                  <a:lnTo>
                    <a:pt x="400" y="1728"/>
                  </a:lnTo>
                  <a:lnTo>
                    <a:pt x="407" y="1744"/>
                  </a:lnTo>
                  <a:lnTo>
                    <a:pt x="415" y="1760"/>
                  </a:lnTo>
                  <a:lnTo>
                    <a:pt x="423" y="1776"/>
                  </a:lnTo>
                  <a:lnTo>
                    <a:pt x="431" y="1792"/>
                  </a:lnTo>
                  <a:lnTo>
                    <a:pt x="438" y="1808"/>
                  </a:lnTo>
                  <a:lnTo>
                    <a:pt x="446" y="1824"/>
                  </a:lnTo>
                  <a:lnTo>
                    <a:pt x="473" y="1839"/>
                  </a:lnTo>
                  <a:lnTo>
                    <a:pt x="498" y="1853"/>
                  </a:lnTo>
                  <a:lnTo>
                    <a:pt x="525" y="1865"/>
                  </a:lnTo>
                  <a:lnTo>
                    <a:pt x="551" y="1874"/>
                  </a:lnTo>
                  <a:lnTo>
                    <a:pt x="578" y="1882"/>
                  </a:lnTo>
                  <a:lnTo>
                    <a:pt x="603" y="1887"/>
                  </a:lnTo>
                  <a:lnTo>
                    <a:pt x="630" y="1890"/>
                  </a:lnTo>
                  <a:lnTo>
                    <a:pt x="656" y="1891"/>
                  </a:lnTo>
                  <a:lnTo>
                    <a:pt x="682" y="1891"/>
                  </a:lnTo>
                  <a:lnTo>
                    <a:pt x="709" y="1889"/>
                  </a:lnTo>
                  <a:lnTo>
                    <a:pt x="735" y="1884"/>
                  </a:lnTo>
                  <a:lnTo>
                    <a:pt x="762" y="1877"/>
                  </a:lnTo>
                  <a:lnTo>
                    <a:pt x="787" y="1869"/>
                  </a:lnTo>
                  <a:lnTo>
                    <a:pt x="814" y="1859"/>
                  </a:lnTo>
                  <a:lnTo>
                    <a:pt x="840" y="1846"/>
                  </a:lnTo>
                  <a:lnTo>
                    <a:pt x="867" y="1831"/>
                  </a:lnTo>
                  <a:lnTo>
                    <a:pt x="877" y="1814"/>
                  </a:lnTo>
                  <a:lnTo>
                    <a:pt x="886" y="1797"/>
                  </a:lnTo>
                  <a:lnTo>
                    <a:pt x="897" y="1780"/>
                  </a:lnTo>
                  <a:lnTo>
                    <a:pt x="906" y="1762"/>
                  </a:lnTo>
                  <a:lnTo>
                    <a:pt x="916" y="1746"/>
                  </a:lnTo>
                  <a:lnTo>
                    <a:pt x="925" y="1729"/>
                  </a:lnTo>
                  <a:lnTo>
                    <a:pt x="936" y="1712"/>
                  </a:lnTo>
                  <a:lnTo>
                    <a:pt x="945" y="1694"/>
                  </a:lnTo>
                  <a:lnTo>
                    <a:pt x="950" y="1637"/>
                  </a:lnTo>
                  <a:lnTo>
                    <a:pt x="954" y="1580"/>
                  </a:lnTo>
                  <a:lnTo>
                    <a:pt x="958" y="1523"/>
                  </a:lnTo>
                  <a:lnTo>
                    <a:pt x="962" y="1466"/>
                  </a:lnTo>
                  <a:lnTo>
                    <a:pt x="967" y="1449"/>
                  </a:lnTo>
                  <a:lnTo>
                    <a:pt x="972" y="1432"/>
                  </a:lnTo>
                  <a:lnTo>
                    <a:pt x="976" y="1414"/>
                  </a:lnTo>
                  <a:lnTo>
                    <a:pt x="982" y="1397"/>
                  </a:lnTo>
                  <a:lnTo>
                    <a:pt x="986" y="1380"/>
                  </a:lnTo>
                  <a:lnTo>
                    <a:pt x="991" y="1363"/>
                  </a:lnTo>
                  <a:lnTo>
                    <a:pt x="996" y="1345"/>
                  </a:lnTo>
                  <a:lnTo>
                    <a:pt x="1000" y="1328"/>
                  </a:lnTo>
                  <a:lnTo>
                    <a:pt x="1011" y="1311"/>
                  </a:lnTo>
                  <a:lnTo>
                    <a:pt x="1021" y="1293"/>
                  </a:lnTo>
                  <a:lnTo>
                    <a:pt x="1031" y="1276"/>
                  </a:lnTo>
                  <a:lnTo>
                    <a:pt x="1042" y="1259"/>
                  </a:lnTo>
                  <a:lnTo>
                    <a:pt x="1051" y="1242"/>
                  </a:lnTo>
                  <a:lnTo>
                    <a:pt x="1061" y="1224"/>
                  </a:lnTo>
                  <a:lnTo>
                    <a:pt x="1072" y="1207"/>
                  </a:lnTo>
                  <a:lnTo>
                    <a:pt x="1082" y="1190"/>
                  </a:lnTo>
                  <a:lnTo>
                    <a:pt x="1101" y="1163"/>
                  </a:lnTo>
                  <a:lnTo>
                    <a:pt x="1120" y="1135"/>
                  </a:lnTo>
                  <a:lnTo>
                    <a:pt x="1141" y="1101"/>
                  </a:lnTo>
                  <a:lnTo>
                    <a:pt x="1162" y="1065"/>
                  </a:lnTo>
                  <a:lnTo>
                    <a:pt x="1183" y="1026"/>
                  </a:lnTo>
                  <a:lnTo>
                    <a:pt x="1203" y="985"/>
                  </a:lnTo>
                  <a:lnTo>
                    <a:pt x="1223" y="940"/>
                  </a:lnTo>
                  <a:lnTo>
                    <a:pt x="1240" y="892"/>
                  </a:lnTo>
                  <a:lnTo>
                    <a:pt x="1256" y="841"/>
                  </a:lnTo>
                  <a:lnTo>
                    <a:pt x="1269" y="788"/>
                  </a:lnTo>
                  <a:lnTo>
                    <a:pt x="1279" y="731"/>
                  </a:lnTo>
                  <a:lnTo>
                    <a:pt x="1286" y="673"/>
                  </a:lnTo>
                  <a:lnTo>
                    <a:pt x="1288" y="611"/>
                  </a:lnTo>
                  <a:lnTo>
                    <a:pt x="1287" y="546"/>
                  </a:lnTo>
                  <a:lnTo>
                    <a:pt x="1280" y="479"/>
                  </a:lnTo>
                  <a:lnTo>
                    <a:pt x="1269" y="410"/>
                  </a:lnTo>
                  <a:lnTo>
                    <a:pt x="1257" y="373"/>
                  </a:lnTo>
                  <a:lnTo>
                    <a:pt x="1242" y="339"/>
                  </a:lnTo>
                  <a:lnTo>
                    <a:pt x="1227" y="305"/>
                  </a:lnTo>
                  <a:lnTo>
                    <a:pt x="1210" y="274"/>
                  </a:lnTo>
                  <a:lnTo>
                    <a:pt x="1190" y="245"/>
                  </a:lnTo>
                  <a:lnTo>
                    <a:pt x="1170" y="219"/>
                  </a:lnTo>
                  <a:lnTo>
                    <a:pt x="1148" y="194"/>
                  </a:lnTo>
                  <a:lnTo>
                    <a:pt x="1124" y="169"/>
                  </a:lnTo>
                  <a:lnTo>
                    <a:pt x="1099" y="148"/>
                  </a:lnTo>
                  <a:lnTo>
                    <a:pt x="1073" y="127"/>
                  </a:lnTo>
                  <a:lnTo>
                    <a:pt x="1046" y="108"/>
                  </a:lnTo>
                  <a:lnTo>
                    <a:pt x="1019" y="91"/>
                  </a:lnTo>
                  <a:lnTo>
                    <a:pt x="989" y="76"/>
                  </a:lnTo>
                  <a:lnTo>
                    <a:pt x="960" y="62"/>
                  </a:lnTo>
                  <a:lnTo>
                    <a:pt x="929" y="50"/>
                  </a:lnTo>
                  <a:lnTo>
                    <a:pt x="899" y="39"/>
                  </a:lnTo>
                  <a:lnTo>
                    <a:pt x="867" y="30"/>
                  </a:lnTo>
                  <a:lnTo>
                    <a:pt x="836" y="22"/>
                  </a:lnTo>
                  <a:lnTo>
                    <a:pt x="803" y="15"/>
                  </a:lnTo>
                  <a:lnTo>
                    <a:pt x="771" y="9"/>
                  </a:lnTo>
                  <a:lnTo>
                    <a:pt x="738" y="6"/>
                  </a:lnTo>
                  <a:lnTo>
                    <a:pt x="706" y="2"/>
                  </a:lnTo>
                  <a:lnTo>
                    <a:pt x="673" y="1"/>
                  </a:lnTo>
                  <a:lnTo>
                    <a:pt x="641" y="0"/>
                  </a:lnTo>
                  <a:lnTo>
                    <a:pt x="609" y="1"/>
                  </a:lnTo>
                  <a:lnTo>
                    <a:pt x="578" y="2"/>
                  </a:lnTo>
                  <a:lnTo>
                    <a:pt x="547" y="5"/>
                  </a:lnTo>
                  <a:lnTo>
                    <a:pt x="516" y="9"/>
                  </a:lnTo>
                  <a:lnTo>
                    <a:pt x="486" y="14"/>
                  </a:lnTo>
                  <a:lnTo>
                    <a:pt x="457" y="20"/>
                  </a:lnTo>
                  <a:lnTo>
                    <a:pt x="428" y="27"/>
                  </a:lnTo>
                  <a:lnTo>
                    <a:pt x="400" y="33"/>
                  </a:lnTo>
                  <a:close/>
                </a:path>
              </a:pathLst>
            </a:custGeom>
            <a:solidFill>
              <a:srgbClr val="493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4929840" y="1091160"/>
              <a:ext cx="624240" cy="842040"/>
            </a:xfrm>
            <a:custGeom>
              <a:avLst/>
              <a:gdLst/>
              <a:ahLst/>
              <a:rect l="l" t="t" r="r" b="b"/>
              <a:pathLst>
                <a:path w="1258" h="1840">
                  <a:moveTo>
                    <a:pt x="389" y="32"/>
                  </a:moveTo>
                  <a:lnTo>
                    <a:pt x="329" y="66"/>
                  </a:lnTo>
                  <a:lnTo>
                    <a:pt x="273" y="104"/>
                  </a:lnTo>
                  <a:lnTo>
                    <a:pt x="220" y="147"/>
                  </a:lnTo>
                  <a:lnTo>
                    <a:pt x="170" y="195"/>
                  </a:lnTo>
                  <a:lnTo>
                    <a:pt x="126" y="248"/>
                  </a:lnTo>
                  <a:lnTo>
                    <a:pt x="87" y="304"/>
                  </a:lnTo>
                  <a:lnTo>
                    <a:pt x="55" y="366"/>
                  </a:lnTo>
                  <a:lnTo>
                    <a:pt x="30" y="432"/>
                  </a:lnTo>
                  <a:lnTo>
                    <a:pt x="11" y="501"/>
                  </a:lnTo>
                  <a:lnTo>
                    <a:pt x="1" y="575"/>
                  </a:lnTo>
                  <a:lnTo>
                    <a:pt x="0" y="653"/>
                  </a:lnTo>
                  <a:lnTo>
                    <a:pt x="8" y="734"/>
                  </a:lnTo>
                  <a:lnTo>
                    <a:pt x="26" y="819"/>
                  </a:lnTo>
                  <a:lnTo>
                    <a:pt x="55" y="906"/>
                  </a:lnTo>
                  <a:lnTo>
                    <a:pt x="95" y="999"/>
                  </a:lnTo>
                  <a:lnTo>
                    <a:pt x="148" y="1093"/>
                  </a:lnTo>
                  <a:lnTo>
                    <a:pt x="168" y="1117"/>
                  </a:lnTo>
                  <a:lnTo>
                    <a:pt x="186" y="1142"/>
                  </a:lnTo>
                  <a:lnTo>
                    <a:pt x="206" y="1167"/>
                  </a:lnTo>
                  <a:lnTo>
                    <a:pt x="224" y="1191"/>
                  </a:lnTo>
                  <a:lnTo>
                    <a:pt x="244" y="1216"/>
                  </a:lnTo>
                  <a:lnTo>
                    <a:pt x="262" y="1240"/>
                  </a:lnTo>
                  <a:lnTo>
                    <a:pt x="282" y="1266"/>
                  </a:lnTo>
                  <a:lnTo>
                    <a:pt x="301" y="1290"/>
                  </a:lnTo>
                  <a:lnTo>
                    <a:pt x="307" y="1305"/>
                  </a:lnTo>
                  <a:lnTo>
                    <a:pt x="314" y="1321"/>
                  </a:lnTo>
                  <a:lnTo>
                    <a:pt x="320" y="1336"/>
                  </a:lnTo>
                  <a:lnTo>
                    <a:pt x="326" y="1352"/>
                  </a:lnTo>
                  <a:lnTo>
                    <a:pt x="331" y="1367"/>
                  </a:lnTo>
                  <a:lnTo>
                    <a:pt x="338" y="1383"/>
                  </a:lnTo>
                  <a:lnTo>
                    <a:pt x="344" y="1398"/>
                  </a:lnTo>
                  <a:lnTo>
                    <a:pt x="350" y="1414"/>
                  </a:lnTo>
                  <a:lnTo>
                    <a:pt x="357" y="1476"/>
                  </a:lnTo>
                  <a:lnTo>
                    <a:pt x="364" y="1539"/>
                  </a:lnTo>
                  <a:lnTo>
                    <a:pt x="371" y="1601"/>
                  </a:lnTo>
                  <a:lnTo>
                    <a:pt x="376" y="1663"/>
                  </a:lnTo>
                  <a:lnTo>
                    <a:pt x="383" y="1678"/>
                  </a:lnTo>
                  <a:lnTo>
                    <a:pt x="391" y="1693"/>
                  </a:lnTo>
                  <a:lnTo>
                    <a:pt x="398" y="1708"/>
                  </a:lnTo>
                  <a:lnTo>
                    <a:pt x="405" y="1723"/>
                  </a:lnTo>
                  <a:lnTo>
                    <a:pt x="412" y="1738"/>
                  </a:lnTo>
                  <a:lnTo>
                    <a:pt x="419" y="1753"/>
                  </a:lnTo>
                  <a:lnTo>
                    <a:pt x="427" y="1768"/>
                  </a:lnTo>
                  <a:lnTo>
                    <a:pt x="434" y="1783"/>
                  </a:lnTo>
                  <a:lnTo>
                    <a:pt x="460" y="1796"/>
                  </a:lnTo>
                  <a:lnTo>
                    <a:pt x="486" y="1807"/>
                  </a:lnTo>
                  <a:lnTo>
                    <a:pt x="512" y="1817"/>
                  </a:lnTo>
                  <a:lnTo>
                    <a:pt x="538" y="1825"/>
                  </a:lnTo>
                  <a:lnTo>
                    <a:pt x="564" y="1831"/>
                  </a:lnTo>
                  <a:lnTo>
                    <a:pt x="589" y="1836"/>
                  </a:lnTo>
                  <a:lnTo>
                    <a:pt x="616" y="1839"/>
                  </a:lnTo>
                  <a:lnTo>
                    <a:pt x="641" y="1840"/>
                  </a:lnTo>
                  <a:lnTo>
                    <a:pt x="668" y="1840"/>
                  </a:lnTo>
                  <a:lnTo>
                    <a:pt x="693" y="1838"/>
                  </a:lnTo>
                  <a:lnTo>
                    <a:pt x="719" y="1834"/>
                  </a:lnTo>
                  <a:lnTo>
                    <a:pt x="745" y="1829"/>
                  </a:lnTo>
                  <a:lnTo>
                    <a:pt x="771" y="1821"/>
                  </a:lnTo>
                  <a:lnTo>
                    <a:pt x="797" y="1812"/>
                  </a:lnTo>
                  <a:lnTo>
                    <a:pt x="823" y="1801"/>
                  </a:lnTo>
                  <a:lnTo>
                    <a:pt x="848" y="1789"/>
                  </a:lnTo>
                  <a:lnTo>
                    <a:pt x="858" y="1772"/>
                  </a:lnTo>
                  <a:lnTo>
                    <a:pt x="867" y="1758"/>
                  </a:lnTo>
                  <a:lnTo>
                    <a:pt x="876" y="1741"/>
                  </a:lnTo>
                  <a:lnTo>
                    <a:pt x="884" y="1726"/>
                  </a:lnTo>
                  <a:lnTo>
                    <a:pt x="893" y="1710"/>
                  </a:lnTo>
                  <a:lnTo>
                    <a:pt x="903" y="1695"/>
                  </a:lnTo>
                  <a:lnTo>
                    <a:pt x="911" y="1679"/>
                  </a:lnTo>
                  <a:lnTo>
                    <a:pt x="920" y="1664"/>
                  </a:lnTo>
                  <a:lnTo>
                    <a:pt x="924" y="1608"/>
                  </a:lnTo>
                  <a:lnTo>
                    <a:pt x="929" y="1551"/>
                  </a:lnTo>
                  <a:lnTo>
                    <a:pt x="932" y="1495"/>
                  </a:lnTo>
                  <a:lnTo>
                    <a:pt x="937" y="1438"/>
                  </a:lnTo>
                  <a:lnTo>
                    <a:pt x="942" y="1422"/>
                  </a:lnTo>
                  <a:lnTo>
                    <a:pt x="946" y="1405"/>
                  </a:lnTo>
                  <a:lnTo>
                    <a:pt x="951" y="1389"/>
                  </a:lnTo>
                  <a:lnTo>
                    <a:pt x="956" y="1372"/>
                  </a:lnTo>
                  <a:lnTo>
                    <a:pt x="960" y="1354"/>
                  </a:lnTo>
                  <a:lnTo>
                    <a:pt x="965" y="1337"/>
                  </a:lnTo>
                  <a:lnTo>
                    <a:pt x="969" y="1321"/>
                  </a:lnTo>
                  <a:lnTo>
                    <a:pt x="974" y="1304"/>
                  </a:lnTo>
                  <a:lnTo>
                    <a:pt x="984" y="1286"/>
                  </a:lnTo>
                  <a:lnTo>
                    <a:pt x="994" y="1270"/>
                  </a:lnTo>
                  <a:lnTo>
                    <a:pt x="1004" y="1253"/>
                  </a:lnTo>
                  <a:lnTo>
                    <a:pt x="1014" y="1236"/>
                  </a:lnTo>
                  <a:lnTo>
                    <a:pt x="1025" y="1219"/>
                  </a:lnTo>
                  <a:lnTo>
                    <a:pt x="1035" y="1201"/>
                  </a:lnTo>
                  <a:lnTo>
                    <a:pt x="1044" y="1185"/>
                  </a:lnTo>
                  <a:lnTo>
                    <a:pt x="1055" y="1168"/>
                  </a:lnTo>
                  <a:lnTo>
                    <a:pt x="1073" y="1142"/>
                  </a:lnTo>
                  <a:lnTo>
                    <a:pt x="1093" y="1113"/>
                  </a:lnTo>
                  <a:lnTo>
                    <a:pt x="1112" y="1081"/>
                  </a:lnTo>
                  <a:lnTo>
                    <a:pt x="1133" y="1046"/>
                  </a:lnTo>
                  <a:lnTo>
                    <a:pt x="1154" y="1008"/>
                  </a:lnTo>
                  <a:lnTo>
                    <a:pt x="1174" y="966"/>
                  </a:lnTo>
                  <a:lnTo>
                    <a:pt x="1193" y="923"/>
                  </a:lnTo>
                  <a:lnTo>
                    <a:pt x="1210" y="875"/>
                  </a:lnTo>
                  <a:lnTo>
                    <a:pt x="1225" y="826"/>
                  </a:lnTo>
                  <a:lnTo>
                    <a:pt x="1239" y="774"/>
                  </a:lnTo>
                  <a:lnTo>
                    <a:pt x="1248" y="719"/>
                  </a:lnTo>
                  <a:lnTo>
                    <a:pt x="1255" y="660"/>
                  </a:lnTo>
                  <a:lnTo>
                    <a:pt x="1258" y="600"/>
                  </a:lnTo>
                  <a:lnTo>
                    <a:pt x="1256" y="537"/>
                  </a:lnTo>
                  <a:lnTo>
                    <a:pt x="1250" y="471"/>
                  </a:lnTo>
                  <a:lnTo>
                    <a:pt x="1239" y="403"/>
                  </a:lnTo>
                  <a:lnTo>
                    <a:pt x="1227" y="367"/>
                  </a:lnTo>
                  <a:lnTo>
                    <a:pt x="1213" y="333"/>
                  </a:lnTo>
                  <a:lnTo>
                    <a:pt x="1197" y="301"/>
                  </a:lnTo>
                  <a:lnTo>
                    <a:pt x="1180" y="269"/>
                  </a:lnTo>
                  <a:lnTo>
                    <a:pt x="1162" y="241"/>
                  </a:lnTo>
                  <a:lnTo>
                    <a:pt x="1141" y="214"/>
                  </a:lnTo>
                  <a:lnTo>
                    <a:pt x="1120" y="189"/>
                  </a:lnTo>
                  <a:lnTo>
                    <a:pt x="1097" y="166"/>
                  </a:lnTo>
                  <a:lnTo>
                    <a:pt x="1072" y="144"/>
                  </a:lnTo>
                  <a:lnTo>
                    <a:pt x="1046" y="124"/>
                  </a:lnTo>
                  <a:lnTo>
                    <a:pt x="1020" y="106"/>
                  </a:lnTo>
                  <a:lnTo>
                    <a:pt x="994" y="90"/>
                  </a:lnTo>
                  <a:lnTo>
                    <a:pt x="965" y="75"/>
                  </a:lnTo>
                  <a:lnTo>
                    <a:pt x="936" y="61"/>
                  </a:lnTo>
                  <a:lnTo>
                    <a:pt x="906" y="48"/>
                  </a:lnTo>
                  <a:lnTo>
                    <a:pt x="876" y="38"/>
                  </a:lnTo>
                  <a:lnTo>
                    <a:pt x="845" y="29"/>
                  </a:lnTo>
                  <a:lnTo>
                    <a:pt x="814" y="21"/>
                  </a:lnTo>
                  <a:lnTo>
                    <a:pt x="783" y="14"/>
                  </a:lnTo>
                  <a:lnTo>
                    <a:pt x="752" y="9"/>
                  </a:lnTo>
                  <a:lnTo>
                    <a:pt x="719" y="5"/>
                  </a:lnTo>
                  <a:lnTo>
                    <a:pt x="687" y="2"/>
                  </a:lnTo>
                  <a:lnTo>
                    <a:pt x="656" y="0"/>
                  </a:lnTo>
                  <a:lnTo>
                    <a:pt x="624" y="0"/>
                  </a:lnTo>
                  <a:lnTo>
                    <a:pt x="593" y="0"/>
                  </a:lnTo>
                  <a:lnTo>
                    <a:pt x="562" y="2"/>
                  </a:lnTo>
                  <a:lnTo>
                    <a:pt x="532" y="5"/>
                  </a:lnTo>
                  <a:lnTo>
                    <a:pt x="502" y="8"/>
                  </a:lnTo>
                  <a:lnTo>
                    <a:pt x="472" y="13"/>
                  </a:lnTo>
                  <a:lnTo>
                    <a:pt x="444" y="18"/>
                  </a:lnTo>
                  <a:lnTo>
                    <a:pt x="415" y="25"/>
                  </a:lnTo>
                  <a:lnTo>
                    <a:pt x="389" y="32"/>
                  </a:lnTo>
                  <a:close/>
                </a:path>
              </a:pathLst>
            </a:custGeom>
            <a:solidFill>
              <a:srgbClr val="5e3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4937400" y="1100160"/>
              <a:ext cx="608400" cy="820080"/>
            </a:xfrm>
            <a:custGeom>
              <a:avLst/>
              <a:gdLst/>
              <a:ahLst/>
              <a:rect l="l" t="t" r="r" b="b"/>
              <a:pathLst>
                <a:path w="1226" h="1791">
                  <a:moveTo>
                    <a:pt x="376" y="32"/>
                  </a:moveTo>
                  <a:lnTo>
                    <a:pt x="318" y="64"/>
                  </a:lnTo>
                  <a:lnTo>
                    <a:pt x="262" y="102"/>
                  </a:lnTo>
                  <a:lnTo>
                    <a:pt x="211" y="145"/>
                  </a:lnTo>
                  <a:lnTo>
                    <a:pt x="163" y="192"/>
                  </a:lnTo>
                  <a:lnTo>
                    <a:pt x="121" y="243"/>
                  </a:lnTo>
                  <a:lnTo>
                    <a:pt x="83" y="299"/>
                  </a:lnTo>
                  <a:lnTo>
                    <a:pt x="52" y="359"/>
                  </a:lnTo>
                  <a:lnTo>
                    <a:pt x="27" y="424"/>
                  </a:lnTo>
                  <a:lnTo>
                    <a:pt x="10" y="491"/>
                  </a:lnTo>
                  <a:lnTo>
                    <a:pt x="1" y="563"/>
                  </a:lnTo>
                  <a:lnTo>
                    <a:pt x="0" y="639"/>
                  </a:lnTo>
                  <a:lnTo>
                    <a:pt x="9" y="718"/>
                  </a:lnTo>
                  <a:lnTo>
                    <a:pt x="27" y="801"/>
                  </a:lnTo>
                  <a:lnTo>
                    <a:pt x="56" y="889"/>
                  </a:lnTo>
                  <a:lnTo>
                    <a:pt x="95" y="978"/>
                  </a:lnTo>
                  <a:lnTo>
                    <a:pt x="147" y="1071"/>
                  </a:lnTo>
                  <a:lnTo>
                    <a:pt x="166" y="1095"/>
                  </a:lnTo>
                  <a:lnTo>
                    <a:pt x="184" y="1120"/>
                  </a:lnTo>
                  <a:lnTo>
                    <a:pt x="203" y="1145"/>
                  </a:lnTo>
                  <a:lnTo>
                    <a:pt x="221" y="1169"/>
                  </a:lnTo>
                  <a:lnTo>
                    <a:pt x="238" y="1193"/>
                  </a:lnTo>
                  <a:lnTo>
                    <a:pt x="257" y="1217"/>
                  </a:lnTo>
                  <a:lnTo>
                    <a:pt x="275" y="1241"/>
                  </a:lnTo>
                  <a:lnTo>
                    <a:pt x="294" y="1265"/>
                  </a:lnTo>
                  <a:lnTo>
                    <a:pt x="299" y="1280"/>
                  </a:lnTo>
                  <a:lnTo>
                    <a:pt x="306" y="1295"/>
                  </a:lnTo>
                  <a:lnTo>
                    <a:pt x="312" y="1312"/>
                  </a:lnTo>
                  <a:lnTo>
                    <a:pt x="318" y="1326"/>
                  </a:lnTo>
                  <a:lnTo>
                    <a:pt x="323" y="1341"/>
                  </a:lnTo>
                  <a:lnTo>
                    <a:pt x="330" y="1358"/>
                  </a:lnTo>
                  <a:lnTo>
                    <a:pt x="336" y="1373"/>
                  </a:lnTo>
                  <a:lnTo>
                    <a:pt x="342" y="1388"/>
                  </a:lnTo>
                  <a:lnTo>
                    <a:pt x="349" y="1449"/>
                  </a:lnTo>
                  <a:lnTo>
                    <a:pt x="356" y="1510"/>
                  </a:lnTo>
                  <a:lnTo>
                    <a:pt x="361" y="1572"/>
                  </a:lnTo>
                  <a:lnTo>
                    <a:pt x="368" y="1633"/>
                  </a:lnTo>
                  <a:lnTo>
                    <a:pt x="375" y="1647"/>
                  </a:lnTo>
                  <a:lnTo>
                    <a:pt x="381" y="1660"/>
                  </a:lnTo>
                  <a:lnTo>
                    <a:pt x="388" y="1674"/>
                  </a:lnTo>
                  <a:lnTo>
                    <a:pt x="395" y="1688"/>
                  </a:lnTo>
                  <a:lnTo>
                    <a:pt x="402" y="1702"/>
                  </a:lnTo>
                  <a:lnTo>
                    <a:pt x="409" y="1716"/>
                  </a:lnTo>
                  <a:lnTo>
                    <a:pt x="414" y="1730"/>
                  </a:lnTo>
                  <a:lnTo>
                    <a:pt x="421" y="1743"/>
                  </a:lnTo>
                  <a:lnTo>
                    <a:pt x="447" y="1755"/>
                  </a:lnTo>
                  <a:lnTo>
                    <a:pt x="473" y="1764"/>
                  </a:lnTo>
                  <a:lnTo>
                    <a:pt x="498" y="1772"/>
                  </a:lnTo>
                  <a:lnTo>
                    <a:pt x="524" y="1779"/>
                  </a:lnTo>
                  <a:lnTo>
                    <a:pt x="549" y="1784"/>
                  </a:lnTo>
                  <a:lnTo>
                    <a:pt x="576" y="1787"/>
                  </a:lnTo>
                  <a:lnTo>
                    <a:pt x="601" y="1791"/>
                  </a:lnTo>
                  <a:lnTo>
                    <a:pt x="626" y="1791"/>
                  </a:lnTo>
                  <a:lnTo>
                    <a:pt x="652" y="1791"/>
                  </a:lnTo>
                  <a:lnTo>
                    <a:pt x="677" y="1788"/>
                  </a:lnTo>
                  <a:lnTo>
                    <a:pt x="703" y="1786"/>
                  </a:lnTo>
                  <a:lnTo>
                    <a:pt x="729" y="1780"/>
                  </a:lnTo>
                  <a:lnTo>
                    <a:pt x="754" y="1775"/>
                  </a:lnTo>
                  <a:lnTo>
                    <a:pt x="779" y="1768"/>
                  </a:lnTo>
                  <a:lnTo>
                    <a:pt x="806" y="1758"/>
                  </a:lnTo>
                  <a:lnTo>
                    <a:pt x="831" y="1748"/>
                  </a:lnTo>
                  <a:lnTo>
                    <a:pt x="839" y="1733"/>
                  </a:lnTo>
                  <a:lnTo>
                    <a:pt x="847" y="1719"/>
                  </a:lnTo>
                  <a:lnTo>
                    <a:pt x="855" y="1705"/>
                  </a:lnTo>
                  <a:lnTo>
                    <a:pt x="864" y="1692"/>
                  </a:lnTo>
                  <a:lnTo>
                    <a:pt x="870" y="1678"/>
                  </a:lnTo>
                  <a:lnTo>
                    <a:pt x="878" y="1663"/>
                  </a:lnTo>
                  <a:lnTo>
                    <a:pt x="887" y="1649"/>
                  </a:lnTo>
                  <a:lnTo>
                    <a:pt x="895" y="1635"/>
                  </a:lnTo>
                  <a:lnTo>
                    <a:pt x="899" y="1580"/>
                  </a:lnTo>
                  <a:lnTo>
                    <a:pt x="903" y="1525"/>
                  </a:lnTo>
                  <a:lnTo>
                    <a:pt x="906" y="1469"/>
                  </a:lnTo>
                  <a:lnTo>
                    <a:pt x="911" y="1414"/>
                  </a:lnTo>
                  <a:lnTo>
                    <a:pt x="915" y="1398"/>
                  </a:lnTo>
                  <a:lnTo>
                    <a:pt x="920" y="1381"/>
                  </a:lnTo>
                  <a:lnTo>
                    <a:pt x="925" y="1365"/>
                  </a:lnTo>
                  <a:lnTo>
                    <a:pt x="929" y="1347"/>
                  </a:lnTo>
                  <a:lnTo>
                    <a:pt x="934" y="1331"/>
                  </a:lnTo>
                  <a:lnTo>
                    <a:pt x="938" y="1314"/>
                  </a:lnTo>
                  <a:lnTo>
                    <a:pt x="943" y="1298"/>
                  </a:lnTo>
                  <a:lnTo>
                    <a:pt x="948" y="1280"/>
                  </a:lnTo>
                  <a:lnTo>
                    <a:pt x="958" y="1264"/>
                  </a:lnTo>
                  <a:lnTo>
                    <a:pt x="967" y="1247"/>
                  </a:lnTo>
                  <a:lnTo>
                    <a:pt x="978" y="1231"/>
                  </a:lnTo>
                  <a:lnTo>
                    <a:pt x="988" y="1214"/>
                  </a:lnTo>
                  <a:lnTo>
                    <a:pt x="997" y="1198"/>
                  </a:lnTo>
                  <a:lnTo>
                    <a:pt x="1007" y="1180"/>
                  </a:lnTo>
                  <a:lnTo>
                    <a:pt x="1017" y="1164"/>
                  </a:lnTo>
                  <a:lnTo>
                    <a:pt x="1027" y="1147"/>
                  </a:lnTo>
                  <a:lnTo>
                    <a:pt x="1044" y="1121"/>
                  </a:lnTo>
                  <a:lnTo>
                    <a:pt x="1064" y="1093"/>
                  </a:lnTo>
                  <a:lnTo>
                    <a:pt x="1083" y="1062"/>
                  </a:lnTo>
                  <a:lnTo>
                    <a:pt x="1104" y="1027"/>
                  </a:lnTo>
                  <a:lnTo>
                    <a:pt x="1125" y="990"/>
                  </a:lnTo>
                  <a:lnTo>
                    <a:pt x="1145" y="950"/>
                  </a:lnTo>
                  <a:lnTo>
                    <a:pt x="1163" y="907"/>
                  </a:lnTo>
                  <a:lnTo>
                    <a:pt x="1180" y="861"/>
                  </a:lnTo>
                  <a:lnTo>
                    <a:pt x="1195" y="812"/>
                  </a:lnTo>
                  <a:lnTo>
                    <a:pt x="1208" y="761"/>
                  </a:lnTo>
                  <a:lnTo>
                    <a:pt x="1217" y="707"/>
                  </a:lnTo>
                  <a:lnTo>
                    <a:pt x="1224" y="650"/>
                  </a:lnTo>
                  <a:lnTo>
                    <a:pt x="1226" y="591"/>
                  </a:lnTo>
                  <a:lnTo>
                    <a:pt x="1225" y="528"/>
                  </a:lnTo>
                  <a:lnTo>
                    <a:pt x="1219" y="464"/>
                  </a:lnTo>
                  <a:lnTo>
                    <a:pt x="1208" y="397"/>
                  </a:lnTo>
                  <a:lnTo>
                    <a:pt x="1196" y="361"/>
                  </a:lnTo>
                  <a:lnTo>
                    <a:pt x="1183" y="328"/>
                  </a:lnTo>
                  <a:lnTo>
                    <a:pt x="1168" y="296"/>
                  </a:lnTo>
                  <a:lnTo>
                    <a:pt x="1150" y="266"/>
                  </a:lnTo>
                  <a:lnTo>
                    <a:pt x="1133" y="238"/>
                  </a:lnTo>
                  <a:lnTo>
                    <a:pt x="1112" y="212"/>
                  </a:lnTo>
                  <a:lnTo>
                    <a:pt x="1092" y="186"/>
                  </a:lnTo>
                  <a:lnTo>
                    <a:pt x="1069" y="164"/>
                  </a:lnTo>
                  <a:lnTo>
                    <a:pt x="1045" y="143"/>
                  </a:lnTo>
                  <a:lnTo>
                    <a:pt x="1020" y="123"/>
                  </a:lnTo>
                  <a:lnTo>
                    <a:pt x="995" y="106"/>
                  </a:lnTo>
                  <a:lnTo>
                    <a:pt x="968" y="88"/>
                  </a:lnTo>
                  <a:lnTo>
                    <a:pt x="941" y="73"/>
                  </a:lnTo>
                  <a:lnTo>
                    <a:pt x="912" y="61"/>
                  </a:lnTo>
                  <a:lnTo>
                    <a:pt x="883" y="48"/>
                  </a:lnTo>
                  <a:lnTo>
                    <a:pt x="854" y="38"/>
                  </a:lnTo>
                  <a:lnTo>
                    <a:pt x="824" y="28"/>
                  </a:lnTo>
                  <a:lnTo>
                    <a:pt x="793" y="20"/>
                  </a:lnTo>
                  <a:lnTo>
                    <a:pt x="763" y="15"/>
                  </a:lnTo>
                  <a:lnTo>
                    <a:pt x="732" y="9"/>
                  </a:lnTo>
                  <a:lnTo>
                    <a:pt x="701" y="5"/>
                  </a:lnTo>
                  <a:lnTo>
                    <a:pt x="670" y="2"/>
                  </a:lnTo>
                  <a:lnTo>
                    <a:pt x="639" y="1"/>
                  </a:lnTo>
                  <a:lnTo>
                    <a:pt x="608" y="0"/>
                  </a:lnTo>
                  <a:lnTo>
                    <a:pt x="577" y="1"/>
                  </a:lnTo>
                  <a:lnTo>
                    <a:pt x="547" y="2"/>
                  </a:lnTo>
                  <a:lnTo>
                    <a:pt x="517" y="4"/>
                  </a:lnTo>
                  <a:lnTo>
                    <a:pt x="487" y="9"/>
                  </a:lnTo>
                  <a:lnTo>
                    <a:pt x="458" y="14"/>
                  </a:lnTo>
                  <a:lnTo>
                    <a:pt x="431" y="18"/>
                  </a:lnTo>
                  <a:lnTo>
                    <a:pt x="403" y="25"/>
                  </a:lnTo>
                  <a:lnTo>
                    <a:pt x="376" y="32"/>
                  </a:lnTo>
                  <a:close/>
                </a:path>
              </a:pathLst>
            </a:custGeom>
            <a:solidFill>
              <a:srgbClr val="75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4945320" y="1110240"/>
              <a:ext cx="593640" cy="796320"/>
            </a:xfrm>
            <a:custGeom>
              <a:avLst/>
              <a:gdLst/>
              <a:ahLst/>
              <a:rect l="l" t="t" r="r" b="b"/>
              <a:pathLst>
                <a:path w="1197" h="1740">
                  <a:moveTo>
                    <a:pt x="366" y="31"/>
                  </a:moveTo>
                  <a:lnTo>
                    <a:pt x="308" y="63"/>
                  </a:lnTo>
                  <a:lnTo>
                    <a:pt x="254" y="100"/>
                  </a:lnTo>
                  <a:lnTo>
                    <a:pt x="204" y="141"/>
                  </a:lnTo>
                  <a:lnTo>
                    <a:pt x="156" y="187"/>
                  </a:lnTo>
                  <a:lnTo>
                    <a:pt x="115" y="237"/>
                  </a:lnTo>
                  <a:lnTo>
                    <a:pt x="79" y="292"/>
                  </a:lnTo>
                  <a:lnTo>
                    <a:pt x="48" y="351"/>
                  </a:lnTo>
                  <a:lnTo>
                    <a:pt x="25" y="413"/>
                  </a:lnTo>
                  <a:lnTo>
                    <a:pt x="9" y="481"/>
                  </a:lnTo>
                  <a:lnTo>
                    <a:pt x="0" y="551"/>
                  </a:lnTo>
                  <a:lnTo>
                    <a:pt x="0" y="625"/>
                  </a:lnTo>
                  <a:lnTo>
                    <a:pt x="9" y="703"/>
                  </a:lnTo>
                  <a:lnTo>
                    <a:pt x="27" y="785"/>
                  </a:lnTo>
                  <a:lnTo>
                    <a:pt x="56" y="869"/>
                  </a:lnTo>
                  <a:lnTo>
                    <a:pt x="97" y="958"/>
                  </a:lnTo>
                  <a:lnTo>
                    <a:pt x="147" y="1049"/>
                  </a:lnTo>
                  <a:lnTo>
                    <a:pt x="165" y="1073"/>
                  </a:lnTo>
                  <a:lnTo>
                    <a:pt x="183" y="1097"/>
                  </a:lnTo>
                  <a:lnTo>
                    <a:pt x="200" y="1121"/>
                  </a:lnTo>
                  <a:lnTo>
                    <a:pt x="217" y="1144"/>
                  </a:lnTo>
                  <a:lnTo>
                    <a:pt x="235" y="1169"/>
                  </a:lnTo>
                  <a:lnTo>
                    <a:pt x="252" y="1193"/>
                  </a:lnTo>
                  <a:lnTo>
                    <a:pt x="270" y="1216"/>
                  </a:lnTo>
                  <a:lnTo>
                    <a:pt x="288" y="1240"/>
                  </a:lnTo>
                  <a:lnTo>
                    <a:pt x="293" y="1255"/>
                  </a:lnTo>
                  <a:lnTo>
                    <a:pt x="299" y="1270"/>
                  </a:lnTo>
                  <a:lnTo>
                    <a:pt x="306" y="1285"/>
                  </a:lnTo>
                  <a:lnTo>
                    <a:pt x="312" y="1300"/>
                  </a:lnTo>
                  <a:lnTo>
                    <a:pt x="318" y="1315"/>
                  </a:lnTo>
                  <a:lnTo>
                    <a:pt x="323" y="1330"/>
                  </a:lnTo>
                  <a:lnTo>
                    <a:pt x="329" y="1345"/>
                  </a:lnTo>
                  <a:lnTo>
                    <a:pt x="335" y="1360"/>
                  </a:lnTo>
                  <a:lnTo>
                    <a:pt x="342" y="1420"/>
                  </a:lnTo>
                  <a:lnTo>
                    <a:pt x="349" y="1481"/>
                  </a:lnTo>
                  <a:lnTo>
                    <a:pt x="355" y="1541"/>
                  </a:lnTo>
                  <a:lnTo>
                    <a:pt x="361" y="1602"/>
                  </a:lnTo>
                  <a:lnTo>
                    <a:pt x="367" y="1614"/>
                  </a:lnTo>
                  <a:lnTo>
                    <a:pt x="374" y="1626"/>
                  </a:lnTo>
                  <a:lnTo>
                    <a:pt x="380" y="1638"/>
                  </a:lnTo>
                  <a:lnTo>
                    <a:pt x="386" y="1651"/>
                  </a:lnTo>
                  <a:lnTo>
                    <a:pt x="391" y="1664"/>
                  </a:lnTo>
                  <a:lnTo>
                    <a:pt x="398" y="1677"/>
                  </a:lnTo>
                  <a:lnTo>
                    <a:pt x="404" y="1689"/>
                  </a:lnTo>
                  <a:lnTo>
                    <a:pt x="410" y="1702"/>
                  </a:lnTo>
                  <a:lnTo>
                    <a:pt x="435" y="1711"/>
                  </a:lnTo>
                  <a:lnTo>
                    <a:pt x="460" y="1718"/>
                  </a:lnTo>
                  <a:lnTo>
                    <a:pt x="486" y="1725"/>
                  </a:lnTo>
                  <a:lnTo>
                    <a:pt x="511" y="1729"/>
                  </a:lnTo>
                  <a:lnTo>
                    <a:pt x="536" y="1734"/>
                  </a:lnTo>
                  <a:lnTo>
                    <a:pt x="562" y="1738"/>
                  </a:lnTo>
                  <a:lnTo>
                    <a:pt x="587" y="1739"/>
                  </a:lnTo>
                  <a:lnTo>
                    <a:pt x="612" y="1740"/>
                  </a:lnTo>
                  <a:lnTo>
                    <a:pt x="637" y="1740"/>
                  </a:lnTo>
                  <a:lnTo>
                    <a:pt x="662" y="1738"/>
                  </a:lnTo>
                  <a:lnTo>
                    <a:pt x="687" y="1735"/>
                  </a:lnTo>
                  <a:lnTo>
                    <a:pt x="713" y="1732"/>
                  </a:lnTo>
                  <a:lnTo>
                    <a:pt x="738" y="1727"/>
                  </a:lnTo>
                  <a:lnTo>
                    <a:pt x="763" y="1720"/>
                  </a:lnTo>
                  <a:lnTo>
                    <a:pt x="789" y="1713"/>
                  </a:lnTo>
                  <a:lnTo>
                    <a:pt x="814" y="1705"/>
                  </a:lnTo>
                  <a:lnTo>
                    <a:pt x="821" y="1693"/>
                  </a:lnTo>
                  <a:lnTo>
                    <a:pt x="828" y="1680"/>
                  </a:lnTo>
                  <a:lnTo>
                    <a:pt x="835" y="1667"/>
                  </a:lnTo>
                  <a:lnTo>
                    <a:pt x="843" y="1655"/>
                  </a:lnTo>
                  <a:lnTo>
                    <a:pt x="850" y="1642"/>
                  </a:lnTo>
                  <a:lnTo>
                    <a:pt x="857" y="1629"/>
                  </a:lnTo>
                  <a:lnTo>
                    <a:pt x="863" y="1618"/>
                  </a:lnTo>
                  <a:lnTo>
                    <a:pt x="870" y="1605"/>
                  </a:lnTo>
                  <a:lnTo>
                    <a:pt x="874" y="1551"/>
                  </a:lnTo>
                  <a:lnTo>
                    <a:pt x="878" y="1497"/>
                  </a:lnTo>
                  <a:lnTo>
                    <a:pt x="882" y="1443"/>
                  </a:lnTo>
                  <a:lnTo>
                    <a:pt x="887" y="1389"/>
                  </a:lnTo>
                  <a:lnTo>
                    <a:pt x="891" y="1372"/>
                  </a:lnTo>
                  <a:lnTo>
                    <a:pt x="896" y="1355"/>
                  </a:lnTo>
                  <a:lnTo>
                    <a:pt x="899" y="1339"/>
                  </a:lnTo>
                  <a:lnTo>
                    <a:pt x="904" y="1323"/>
                  </a:lnTo>
                  <a:lnTo>
                    <a:pt x="908" y="1306"/>
                  </a:lnTo>
                  <a:lnTo>
                    <a:pt x="913" y="1290"/>
                  </a:lnTo>
                  <a:lnTo>
                    <a:pt x="918" y="1273"/>
                  </a:lnTo>
                  <a:lnTo>
                    <a:pt x="922" y="1257"/>
                  </a:lnTo>
                  <a:lnTo>
                    <a:pt x="931" y="1240"/>
                  </a:lnTo>
                  <a:lnTo>
                    <a:pt x="942" y="1224"/>
                  </a:lnTo>
                  <a:lnTo>
                    <a:pt x="951" y="1207"/>
                  </a:lnTo>
                  <a:lnTo>
                    <a:pt x="961" y="1190"/>
                  </a:lnTo>
                  <a:lnTo>
                    <a:pt x="971" y="1174"/>
                  </a:lnTo>
                  <a:lnTo>
                    <a:pt x="981" y="1158"/>
                  </a:lnTo>
                  <a:lnTo>
                    <a:pt x="990" y="1141"/>
                  </a:lnTo>
                  <a:lnTo>
                    <a:pt x="1001" y="1125"/>
                  </a:lnTo>
                  <a:lnTo>
                    <a:pt x="1018" y="1099"/>
                  </a:lnTo>
                  <a:lnTo>
                    <a:pt x="1037" y="1072"/>
                  </a:lnTo>
                  <a:lnTo>
                    <a:pt x="1057" y="1042"/>
                  </a:lnTo>
                  <a:lnTo>
                    <a:pt x="1077" y="1007"/>
                  </a:lnTo>
                  <a:lnTo>
                    <a:pt x="1096" y="972"/>
                  </a:lnTo>
                  <a:lnTo>
                    <a:pt x="1116" y="931"/>
                  </a:lnTo>
                  <a:lnTo>
                    <a:pt x="1134" y="890"/>
                  </a:lnTo>
                  <a:lnTo>
                    <a:pt x="1151" y="844"/>
                  </a:lnTo>
                  <a:lnTo>
                    <a:pt x="1166" y="797"/>
                  </a:lnTo>
                  <a:lnTo>
                    <a:pt x="1178" y="746"/>
                  </a:lnTo>
                  <a:lnTo>
                    <a:pt x="1188" y="693"/>
                  </a:lnTo>
                  <a:lnTo>
                    <a:pt x="1194" y="636"/>
                  </a:lnTo>
                  <a:lnTo>
                    <a:pt x="1197" y="579"/>
                  </a:lnTo>
                  <a:lnTo>
                    <a:pt x="1195" y="518"/>
                  </a:lnTo>
                  <a:lnTo>
                    <a:pt x="1189" y="453"/>
                  </a:lnTo>
                  <a:lnTo>
                    <a:pt x="1178" y="388"/>
                  </a:lnTo>
                  <a:lnTo>
                    <a:pt x="1166" y="353"/>
                  </a:lnTo>
                  <a:lnTo>
                    <a:pt x="1154" y="320"/>
                  </a:lnTo>
                  <a:lnTo>
                    <a:pt x="1139" y="289"/>
                  </a:lnTo>
                  <a:lnTo>
                    <a:pt x="1123" y="260"/>
                  </a:lnTo>
                  <a:lnTo>
                    <a:pt x="1104" y="232"/>
                  </a:lnTo>
                  <a:lnTo>
                    <a:pt x="1085" y="206"/>
                  </a:lnTo>
                  <a:lnTo>
                    <a:pt x="1064" y="182"/>
                  </a:lnTo>
                  <a:lnTo>
                    <a:pt x="1042" y="160"/>
                  </a:lnTo>
                  <a:lnTo>
                    <a:pt x="1019" y="139"/>
                  </a:lnTo>
                  <a:lnTo>
                    <a:pt x="995" y="119"/>
                  </a:lnTo>
                  <a:lnTo>
                    <a:pt x="971" y="102"/>
                  </a:lnTo>
                  <a:lnTo>
                    <a:pt x="944" y="86"/>
                  </a:lnTo>
                  <a:lnTo>
                    <a:pt x="918" y="71"/>
                  </a:lnTo>
                  <a:lnTo>
                    <a:pt x="890" y="58"/>
                  </a:lnTo>
                  <a:lnTo>
                    <a:pt x="861" y="47"/>
                  </a:lnTo>
                  <a:lnTo>
                    <a:pt x="832" y="36"/>
                  </a:lnTo>
                  <a:lnTo>
                    <a:pt x="804" y="27"/>
                  </a:lnTo>
                  <a:lnTo>
                    <a:pt x="774" y="19"/>
                  </a:lnTo>
                  <a:lnTo>
                    <a:pt x="744" y="13"/>
                  </a:lnTo>
                  <a:lnTo>
                    <a:pt x="714" y="8"/>
                  </a:lnTo>
                  <a:lnTo>
                    <a:pt x="684" y="4"/>
                  </a:lnTo>
                  <a:lnTo>
                    <a:pt x="653" y="1"/>
                  </a:lnTo>
                  <a:lnTo>
                    <a:pt x="623" y="0"/>
                  </a:lnTo>
                  <a:lnTo>
                    <a:pt x="593" y="0"/>
                  </a:lnTo>
                  <a:lnTo>
                    <a:pt x="563" y="0"/>
                  </a:lnTo>
                  <a:lnTo>
                    <a:pt x="533" y="2"/>
                  </a:lnTo>
                  <a:lnTo>
                    <a:pt x="504" y="4"/>
                  </a:lnTo>
                  <a:lnTo>
                    <a:pt x="475" y="8"/>
                  </a:lnTo>
                  <a:lnTo>
                    <a:pt x="447" y="12"/>
                  </a:lnTo>
                  <a:lnTo>
                    <a:pt x="419" y="17"/>
                  </a:lnTo>
                  <a:lnTo>
                    <a:pt x="393" y="24"/>
                  </a:lnTo>
                  <a:lnTo>
                    <a:pt x="366" y="31"/>
                  </a:lnTo>
                  <a:close/>
                </a:path>
              </a:pathLst>
            </a:custGeom>
            <a:solidFill>
              <a:srgbClr val="89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4953240" y="1120320"/>
              <a:ext cx="577800" cy="773640"/>
            </a:xfrm>
            <a:custGeom>
              <a:avLst/>
              <a:gdLst/>
              <a:ahLst/>
              <a:rect l="l" t="t" r="r" b="b"/>
              <a:pathLst>
                <a:path w="1165" h="1691">
                  <a:moveTo>
                    <a:pt x="355" y="31"/>
                  </a:moveTo>
                  <a:lnTo>
                    <a:pt x="298" y="63"/>
                  </a:lnTo>
                  <a:lnTo>
                    <a:pt x="245" y="99"/>
                  </a:lnTo>
                  <a:lnTo>
                    <a:pt x="196" y="140"/>
                  </a:lnTo>
                  <a:lnTo>
                    <a:pt x="151" y="185"/>
                  </a:lnTo>
                  <a:lnTo>
                    <a:pt x="110" y="234"/>
                  </a:lnTo>
                  <a:lnTo>
                    <a:pt x="75" y="287"/>
                  </a:lnTo>
                  <a:lnTo>
                    <a:pt x="46" y="345"/>
                  </a:lnTo>
                  <a:lnTo>
                    <a:pt x="23" y="406"/>
                  </a:lnTo>
                  <a:lnTo>
                    <a:pt x="8" y="471"/>
                  </a:lnTo>
                  <a:lnTo>
                    <a:pt x="0" y="540"/>
                  </a:lnTo>
                  <a:lnTo>
                    <a:pt x="0" y="613"/>
                  </a:lnTo>
                  <a:lnTo>
                    <a:pt x="9" y="690"/>
                  </a:lnTo>
                  <a:lnTo>
                    <a:pt x="29" y="770"/>
                  </a:lnTo>
                  <a:lnTo>
                    <a:pt x="56" y="853"/>
                  </a:lnTo>
                  <a:lnTo>
                    <a:pt x="96" y="939"/>
                  </a:lnTo>
                  <a:lnTo>
                    <a:pt x="146" y="1029"/>
                  </a:lnTo>
                  <a:lnTo>
                    <a:pt x="163" y="1052"/>
                  </a:lnTo>
                  <a:lnTo>
                    <a:pt x="180" y="1076"/>
                  </a:lnTo>
                  <a:lnTo>
                    <a:pt x="197" y="1099"/>
                  </a:lnTo>
                  <a:lnTo>
                    <a:pt x="214" y="1122"/>
                  </a:lnTo>
                  <a:lnTo>
                    <a:pt x="230" y="1146"/>
                  </a:lnTo>
                  <a:lnTo>
                    <a:pt x="248" y="1169"/>
                  </a:lnTo>
                  <a:lnTo>
                    <a:pt x="264" y="1194"/>
                  </a:lnTo>
                  <a:lnTo>
                    <a:pt x="281" y="1217"/>
                  </a:lnTo>
                  <a:lnTo>
                    <a:pt x="287" y="1232"/>
                  </a:lnTo>
                  <a:lnTo>
                    <a:pt x="292" y="1245"/>
                  </a:lnTo>
                  <a:lnTo>
                    <a:pt x="298" y="1260"/>
                  </a:lnTo>
                  <a:lnTo>
                    <a:pt x="305" y="1275"/>
                  </a:lnTo>
                  <a:lnTo>
                    <a:pt x="311" y="1290"/>
                  </a:lnTo>
                  <a:lnTo>
                    <a:pt x="317" y="1304"/>
                  </a:lnTo>
                  <a:lnTo>
                    <a:pt x="322" y="1319"/>
                  </a:lnTo>
                  <a:lnTo>
                    <a:pt x="328" y="1334"/>
                  </a:lnTo>
                  <a:lnTo>
                    <a:pt x="334" y="1394"/>
                  </a:lnTo>
                  <a:lnTo>
                    <a:pt x="341" y="1453"/>
                  </a:lnTo>
                  <a:lnTo>
                    <a:pt x="347" y="1513"/>
                  </a:lnTo>
                  <a:lnTo>
                    <a:pt x="353" y="1571"/>
                  </a:lnTo>
                  <a:lnTo>
                    <a:pt x="359" y="1583"/>
                  </a:lnTo>
                  <a:lnTo>
                    <a:pt x="364" y="1594"/>
                  </a:lnTo>
                  <a:lnTo>
                    <a:pt x="370" y="1606"/>
                  </a:lnTo>
                  <a:lnTo>
                    <a:pt x="375" y="1617"/>
                  </a:lnTo>
                  <a:lnTo>
                    <a:pt x="380" y="1629"/>
                  </a:lnTo>
                  <a:lnTo>
                    <a:pt x="386" y="1639"/>
                  </a:lnTo>
                  <a:lnTo>
                    <a:pt x="391" y="1651"/>
                  </a:lnTo>
                  <a:lnTo>
                    <a:pt x="397" y="1662"/>
                  </a:lnTo>
                  <a:lnTo>
                    <a:pt x="423" y="1669"/>
                  </a:lnTo>
                  <a:lnTo>
                    <a:pt x="447" y="1675"/>
                  </a:lnTo>
                  <a:lnTo>
                    <a:pt x="472" y="1680"/>
                  </a:lnTo>
                  <a:lnTo>
                    <a:pt x="497" y="1684"/>
                  </a:lnTo>
                  <a:lnTo>
                    <a:pt x="523" y="1688"/>
                  </a:lnTo>
                  <a:lnTo>
                    <a:pt x="547" y="1690"/>
                  </a:lnTo>
                  <a:lnTo>
                    <a:pt x="572" y="1691"/>
                  </a:lnTo>
                  <a:lnTo>
                    <a:pt x="598" y="1691"/>
                  </a:lnTo>
                  <a:lnTo>
                    <a:pt x="622" y="1691"/>
                  </a:lnTo>
                  <a:lnTo>
                    <a:pt x="647" y="1690"/>
                  </a:lnTo>
                  <a:lnTo>
                    <a:pt x="671" y="1689"/>
                  </a:lnTo>
                  <a:lnTo>
                    <a:pt x="697" y="1685"/>
                  </a:lnTo>
                  <a:lnTo>
                    <a:pt x="722" y="1682"/>
                  </a:lnTo>
                  <a:lnTo>
                    <a:pt x="747" y="1677"/>
                  </a:lnTo>
                  <a:lnTo>
                    <a:pt x="771" y="1671"/>
                  </a:lnTo>
                  <a:lnTo>
                    <a:pt x="797" y="1666"/>
                  </a:lnTo>
                  <a:lnTo>
                    <a:pt x="803" y="1654"/>
                  </a:lnTo>
                  <a:lnTo>
                    <a:pt x="808" y="1644"/>
                  </a:lnTo>
                  <a:lnTo>
                    <a:pt x="815" y="1632"/>
                  </a:lnTo>
                  <a:lnTo>
                    <a:pt x="821" y="1622"/>
                  </a:lnTo>
                  <a:lnTo>
                    <a:pt x="827" y="1610"/>
                  </a:lnTo>
                  <a:lnTo>
                    <a:pt x="833" y="1600"/>
                  </a:lnTo>
                  <a:lnTo>
                    <a:pt x="838" y="1589"/>
                  </a:lnTo>
                  <a:lnTo>
                    <a:pt x="844" y="1578"/>
                  </a:lnTo>
                  <a:lnTo>
                    <a:pt x="849" y="1524"/>
                  </a:lnTo>
                  <a:lnTo>
                    <a:pt x="852" y="1471"/>
                  </a:lnTo>
                  <a:lnTo>
                    <a:pt x="857" y="1417"/>
                  </a:lnTo>
                  <a:lnTo>
                    <a:pt x="860" y="1364"/>
                  </a:lnTo>
                  <a:lnTo>
                    <a:pt x="865" y="1348"/>
                  </a:lnTo>
                  <a:lnTo>
                    <a:pt x="869" y="1332"/>
                  </a:lnTo>
                  <a:lnTo>
                    <a:pt x="873" y="1316"/>
                  </a:lnTo>
                  <a:lnTo>
                    <a:pt x="877" y="1299"/>
                  </a:lnTo>
                  <a:lnTo>
                    <a:pt x="882" y="1283"/>
                  </a:lnTo>
                  <a:lnTo>
                    <a:pt x="887" y="1266"/>
                  </a:lnTo>
                  <a:lnTo>
                    <a:pt x="891" y="1250"/>
                  </a:lnTo>
                  <a:lnTo>
                    <a:pt x="896" y="1234"/>
                  </a:lnTo>
                  <a:lnTo>
                    <a:pt x="905" y="1218"/>
                  </a:lnTo>
                  <a:lnTo>
                    <a:pt x="915" y="1202"/>
                  </a:lnTo>
                  <a:lnTo>
                    <a:pt x="925" y="1185"/>
                  </a:lnTo>
                  <a:lnTo>
                    <a:pt x="934" y="1169"/>
                  </a:lnTo>
                  <a:lnTo>
                    <a:pt x="943" y="1154"/>
                  </a:lnTo>
                  <a:lnTo>
                    <a:pt x="953" y="1138"/>
                  </a:lnTo>
                  <a:lnTo>
                    <a:pt x="963" y="1122"/>
                  </a:lnTo>
                  <a:lnTo>
                    <a:pt x="973" y="1106"/>
                  </a:lnTo>
                  <a:lnTo>
                    <a:pt x="990" y="1082"/>
                  </a:lnTo>
                  <a:lnTo>
                    <a:pt x="1009" y="1054"/>
                  </a:lnTo>
                  <a:lnTo>
                    <a:pt x="1028" y="1024"/>
                  </a:lnTo>
                  <a:lnTo>
                    <a:pt x="1048" y="991"/>
                  </a:lnTo>
                  <a:lnTo>
                    <a:pt x="1066" y="955"/>
                  </a:lnTo>
                  <a:lnTo>
                    <a:pt x="1086" y="916"/>
                  </a:lnTo>
                  <a:lnTo>
                    <a:pt x="1103" y="874"/>
                  </a:lnTo>
                  <a:lnTo>
                    <a:pt x="1120" y="831"/>
                  </a:lnTo>
                  <a:lnTo>
                    <a:pt x="1134" y="783"/>
                  </a:lnTo>
                  <a:lnTo>
                    <a:pt x="1147" y="734"/>
                  </a:lnTo>
                  <a:lnTo>
                    <a:pt x="1156" y="682"/>
                  </a:lnTo>
                  <a:lnTo>
                    <a:pt x="1163" y="628"/>
                  </a:lnTo>
                  <a:lnTo>
                    <a:pt x="1165" y="570"/>
                  </a:lnTo>
                  <a:lnTo>
                    <a:pt x="1164" y="511"/>
                  </a:lnTo>
                  <a:lnTo>
                    <a:pt x="1158" y="448"/>
                  </a:lnTo>
                  <a:lnTo>
                    <a:pt x="1147" y="384"/>
                  </a:lnTo>
                  <a:lnTo>
                    <a:pt x="1135" y="349"/>
                  </a:lnTo>
                  <a:lnTo>
                    <a:pt x="1123" y="317"/>
                  </a:lnTo>
                  <a:lnTo>
                    <a:pt x="1109" y="286"/>
                  </a:lnTo>
                  <a:lnTo>
                    <a:pt x="1093" y="257"/>
                  </a:lnTo>
                  <a:lnTo>
                    <a:pt x="1076" y="230"/>
                  </a:lnTo>
                  <a:lnTo>
                    <a:pt x="1056" y="204"/>
                  </a:lnTo>
                  <a:lnTo>
                    <a:pt x="1036" y="180"/>
                  </a:lnTo>
                  <a:lnTo>
                    <a:pt x="1014" y="158"/>
                  </a:lnTo>
                  <a:lnTo>
                    <a:pt x="993" y="137"/>
                  </a:lnTo>
                  <a:lnTo>
                    <a:pt x="968" y="119"/>
                  </a:lnTo>
                  <a:lnTo>
                    <a:pt x="944" y="102"/>
                  </a:lnTo>
                  <a:lnTo>
                    <a:pt x="919" y="86"/>
                  </a:lnTo>
                  <a:lnTo>
                    <a:pt x="892" y="72"/>
                  </a:lnTo>
                  <a:lnTo>
                    <a:pt x="866" y="58"/>
                  </a:lnTo>
                  <a:lnTo>
                    <a:pt x="838" y="46"/>
                  </a:lnTo>
                  <a:lnTo>
                    <a:pt x="811" y="36"/>
                  </a:lnTo>
                  <a:lnTo>
                    <a:pt x="782" y="28"/>
                  </a:lnTo>
                  <a:lnTo>
                    <a:pt x="753" y="20"/>
                  </a:lnTo>
                  <a:lnTo>
                    <a:pt x="724" y="14"/>
                  </a:lnTo>
                  <a:lnTo>
                    <a:pt x="694" y="8"/>
                  </a:lnTo>
                  <a:lnTo>
                    <a:pt x="664" y="5"/>
                  </a:lnTo>
                  <a:lnTo>
                    <a:pt x="636" y="3"/>
                  </a:lnTo>
                  <a:lnTo>
                    <a:pt x="606" y="0"/>
                  </a:lnTo>
                  <a:lnTo>
                    <a:pt x="576" y="0"/>
                  </a:lnTo>
                  <a:lnTo>
                    <a:pt x="547" y="0"/>
                  </a:lnTo>
                  <a:lnTo>
                    <a:pt x="518" y="3"/>
                  </a:lnTo>
                  <a:lnTo>
                    <a:pt x="489" y="5"/>
                  </a:lnTo>
                  <a:lnTo>
                    <a:pt x="462" y="8"/>
                  </a:lnTo>
                  <a:lnTo>
                    <a:pt x="434" y="13"/>
                  </a:lnTo>
                  <a:lnTo>
                    <a:pt x="406" y="19"/>
                  </a:lnTo>
                  <a:lnTo>
                    <a:pt x="380" y="25"/>
                  </a:lnTo>
                  <a:lnTo>
                    <a:pt x="355" y="31"/>
                  </a:lnTo>
                  <a:close/>
                </a:path>
              </a:pathLst>
            </a:custGeom>
            <a:solidFill>
              <a:srgbClr val="9e47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4960080" y="1129320"/>
              <a:ext cx="563040" cy="751680"/>
            </a:xfrm>
            <a:custGeom>
              <a:avLst/>
              <a:gdLst/>
              <a:ahLst/>
              <a:rect l="l" t="t" r="r" b="b"/>
              <a:pathLst>
                <a:path w="1135" h="1641">
                  <a:moveTo>
                    <a:pt x="343" y="31"/>
                  </a:moveTo>
                  <a:lnTo>
                    <a:pt x="288" y="62"/>
                  </a:lnTo>
                  <a:lnTo>
                    <a:pt x="236" y="97"/>
                  </a:lnTo>
                  <a:lnTo>
                    <a:pt x="188" y="137"/>
                  </a:lnTo>
                  <a:lnTo>
                    <a:pt x="144" y="181"/>
                  </a:lnTo>
                  <a:lnTo>
                    <a:pt x="105" y="229"/>
                  </a:lnTo>
                  <a:lnTo>
                    <a:pt x="71" y="281"/>
                  </a:lnTo>
                  <a:lnTo>
                    <a:pt x="43" y="338"/>
                  </a:lnTo>
                  <a:lnTo>
                    <a:pt x="22" y="397"/>
                  </a:lnTo>
                  <a:lnTo>
                    <a:pt x="7" y="461"/>
                  </a:lnTo>
                  <a:lnTo>
                    <a:pt x="0" y="529"/>
                  </a:lnTo>
                  <a:lnTo>
                    <a:pt x="1" y="600"/>
                  </a:lnTo>
                  <a:lnTo>
                    <a:pt x="10" y="675"/>
                  </a:lnTo>
                  <a:lnTo>
                    <a:pt x="30" y="753"/>
                  </a:lnTo>
                  <a:lnTo>
                    <a:pt x="57" y="835"/>
                  </a:lnTo>
                  <a:lnTo>
                    <a:pt x="97" y="920"/>
                  </a:lnTo>
                  <a:lnTo>
                    <a:pt x="146" y="1008"/>
                  </a:lnTo>
                  <a:lnTo>
                    <a:pt x="162" y="1031"/>
                  </a:lnTo>
                  <a:lnTo>
                    <a:pt x="178" y="1054"/>
                  </a:lnTo>
                  <a:lnTo>
                    <a:pt x="195" y="1077"/>
                  </a:lnTo>
                  <a:lnTo>
                    <a:pt x="211" y="1100"/>
                  </a:lnTo>
                  <a:lnTo>
                    <a:pt x="227" y="1123"/>
                  </a:lnTo>
                  <a:lnTo>
                    <a:pt x="243" y="1146"/>
                  </a:lnTo>
                  <a:lnTo>
                    <a:pt x="259" y="1169"/>
                  </a:lnTo>
                  <a:lnTo>
                    <a:pt x="275" y="1192"/>
                  </a:lnTo>
                  <a:lnTo>
                    <a:pt x="281" y="1207"/>
                  </a:lnTo>
                  <a:lnTo>
                    <a:pt x="287" y="1221"/>
                  </a:lnTo>
                  <a:lnTo>
                    <a:pt x="292" y="1236"/>
                  </a:lnTo>
                  <a:lnTo>
                    <a:pt x="298" y="1250"/>
                  </a:lnTo>
                  <a:lnTo>
                    <a:pt x="304" y="1265"/>
                  </a:lnTo>
                  <a:lnTo>
                    <a:pt x="310" y="1278"/>
                  </a:lnTo>
                  <a:lnTo>
                    <a:pt x="315" y="1293"/>
                  </a:lnTo>
                  <a:lnTo>
                    <a:pt x="321" y="1307"/>
                  </a:lnTo>
                  <a:lnTo>
                    <a:pt x="327" y="1366"/>
                  </a:lnTo>
                  <a:lnTo>
                    <a:pt x="334" y="1424"/>
                  </a:lnTo>
                  <a:lnTo>
                    <a:pt x="340" y="1482"/>
                  </a:lnTo>
                  <a:lnTo>
                    <a:pt x="345" y="1541"/>
                  </a:lnTo>
                  <a:lnTo>
                    <a:pt x="350" y="1551"/>
                  </a:lnTo>
                  <a:lnTo>
                    <a:pt x="356" y="1562"/>
                  </a:lnTo>
                  <a:lnTo>
                    <a:pt x="360" y="1572"/>
                  </a:lnTo>
                  <a:lnTo>
                    <a:pt x="366" y="1581"/>
                  </a:lnTo>
                  <a:lnTo>
                    <a:pt x="371" y="1592"/>
                  </a:lnTo>
                  <a:lnTo>
                    <a:pt x="376" y="1602"/>
                  </a:lnTo>
                  <a:lnTo>
                    <a:pt x="381" y="1612"/>
                  </a:lnTo>
                  <a:lnTo>
                    <a:pt x="386" y="1623"/>
                  </a:lnTo>
                  <a:lnTo>
                    <a:pt x="410" y="1627"/>
                  </a:lnTo>
                  <a:lnTo>
                    <a:pt x="435" y="1631"/>
                  </a:lnTo>
                  <a:lnTo>
                    <a:pt x="459" y="1633"/>
                  </a:lnTo>
                  <a:lnTo>
                    <a:pt x="485" y="1637"/>
                  </a:lnTo>
                  <a:lnTo>
                    <a:pt x="509" y="1638"/>
                  </a:lnTo>
                  <a:lnTo>
                    <a:pt x="533" y="1640"/>
                  </a:lnTo>
                  <a:lnTo>
                    <a:pt x="558" y="1640"/>
                  </a:lnTo>
                  <a:lnTo>
                    <a:pt x="583" y="1641"/>
                  </a:lnTo>
                  <a:lnTo>
                    <a:pt x="608" y="1641"/>
                  </a:lnTo>
                  <a:lnTo>
                    <a:pt x="632" y="1640"/>
                  </a:lnTo>
                  <a:lnTo>
                    <a:pt x="656" y="1639"/>
                  </a:lnTo>
                  <a:lnTo>
                    <a:pt x="682" y="1638"/>
                  </a:lnTo>
                  <a:lnTo>
                    <a:pt x="706" y="1634"/>
                  </a:lnTo>
                  <a:lnTo>
                    <a:pt x="731" y="1632"/>
                  </a:lnTo>
                  <a:lnTo>
                    <a:pt x="755" y="1629"/>
                  </a:lnTo>
                  <a:lnTo>
                    <a:pt x="781" y="1624"/>
                  </a:lnTo>
                  <a:lnTo>
                    <a:pt x="785" y="1615"/>
                  </a:lnTo>
                  <a:lnTo>
                    <a:pt x="790" y="1606"/>
                  </a:lnTo>
                  <a:lnTo>
                    <a:pt x="796" y="1596"/>
                  </a:lnTo>
                  <a:lnTo>
                    <a:pt x="800" y="1586"/>
                  </a:lnTo>
                  <a:lnTo>
                    <a:pt x="805" y="1577"/>
                  </a:lnTo>
                  <a:lnTo>
                    <a:pt x="811" y="1568"/>
                  </a:lnTo>
                  <a:lnTo>
                    <a:pt x="815" y="1558"/>
                  </a:lnTo>
                  <a:lnTo>
                    <a:pt x="820" y="1549"/>
                  </a:lnTo>
                  <a:lnTo>
                    <a:pt x="824" y="1496"/>
                  </a:lnTo>
                  <a:lnTo>
                    <a:pt x="828" y="1443"/>
                  </a:lnTo>
                  <a:lnTo>
                    <a:pt x="831" y="1391"/>
                  </a:lnTo>
                  <a:lnTo>
                    <a:pt x="836" y="1338"/>
                  </a:lnTo>
                  <a:lnTo>
                    <a:pt x="841" y="1322"/>
                  </a:lnTo>
                  <a:lnTo>
                    <a:pt x="845" y="1307"/>
                  </a:lnTo>
                  <a:lnTo>
                    <a:pt x="849" y="1291"/>
                  </a:lnTo>
                  <a:lnTo>
                    <a:pt x="853" y="1275"/>
                  </a:lnTo>
                  <a:lnTo>
                    <a:pt x="858" y="1259"/>
                  </a:lnTo>
                  <a:lnTo>
                    <a:pt x="862" y="1243"/>
                  </a:lnTo>
                  <a:lnTo>
                    <a:pt x="866" y="1227"/>
                  </a:lnTo>
                  <a:lnTo>
                    <a:pt x="870" y="1211"/>
                  </a:lnTo>
                  <a:lnTo>
                    <a:pt x="880" y="1194"/>
                  </a:lnTo>
                  <a:lnTo>
                    <a:pt x="889" y="1179"/>
                  </a:lnTo>
                  <a:lnTo>
                    <a:pt x="898" y="1163"/>
                  </a:lnTo>
                  <a:lnTo>
                    <a:pt x="907" y="1148"/>
                  </a:lnTo>
                  <a:lnTo>
                    <a:pt x="917" y="1132"/>
                  </a:lnTo>
                  <a:lnTo>
                    <a:pt x="927" y="1117"/>
                  </a:lnTo>
                  <a:lnTo>
                    <a:pt x="936" y="1101"/>
                  </a:lnTo>
                  <a:lnTo>
                    <a:pt x="945" y="1085"/>
                  </a:lnTo>
                  <a:lnTo>
                    <a:pt x="963" y="1061"/>
                  </a:lnTo>
                  <a:lnTo>
                    <a:pt x="981" y="1034"/>
                  </a:lnTo>
                  <a:lnTo>
                    <a:pt x="999" y="1004"/>
                  </a:lnTo>
                  <a:lnTo>
                    <a:pt x="1019" y="972"/>
                  </a:lnTo>
                  <a:lnTo>
                    <a:pt x="1039" y="938"/>
                  </a:lnTo>
                  <a:lnTo>
                    <a:pt x="1057" y="900"/>
                  </a:lnTo>
                  <a:lnTo>
                    <a:pt x="1074" y="859"/>
                  </a:lnTo>
                  <a:lnTo>
                    <a:pt x="1090" y="815"/>
                  </a:lnTo>
                  <a:lnTo>
                    <a:pt x="1105" y="771"/>
                  </a:lnTo>
                  <a:lnTo>
                    <a:pt x="1117" y="722"/>
                  </a:lnTo>
                  <a:lnTo>
                    <a:pt x="1126" y="670"/>
                  </a:lnTo>
                  <a:lnTo>
                    <a:pt x="1133" y="617"/>
                  </a:lnTo>
                  <a:lnTo>
                    <a:pt x="1135" y="561"/>
                  </a:lnTo>
                  <a:lnTo>
                    <a:pt x="1134" y="502"/>
                  </a:lnTo>
                  <a:lnTo>
                    <a:pt x="1127" y="441"/>
                  </a:lnTo>
                  <a:lnTo>
                    <a:pt x="1117" y="378"/>
                  </a:lnTo>
                  <a:lnTo>
                    <a:pt x="1107" y="344"/>
                  </a:lnTo>
                  <a:lnTo>
                    <a:pt x="1094" y="312"/>
                  </a:lnTo>
                  <a:lnTo>
                    <a:pt x="1079" y="282"/>
                  </a:lnTo>
                  <a:lnTo>
                    <a:pt x="1064" y="253"/>
                  </a:lnTo>
                  <a:lnTo>
                    <a:pt x="1047" y="227"/>
                  </a:lnTo>
                  <a:lnTo>
                    <a:pt x="1028" y="202"/>
                  </a:lnTo>
                  <a:lnTo>
                    <a:pt x="1009" y="179"/>
                  </a:lnTo>
                  <a:lnTo>
                    <a:pt x="988" y="157"/>
                  </a:lnTo>
                  <a:lnTo>
                    <a:pt x="966" y="136"/>
                  </a:lnTo>
                  <a:lnTo>
                    <a:pt x="943" y="118"/>
                  </a:lnTo>
                  <a:lnTo>
                    <a:pt x="920" y="100"/>
                  </a:lnTo>
                  <a:lnTo>
                    <a:pt x="895" y="85"/>
                  </a:lnTo>
                  <a:lnTo>
                    <a:pt x="869" y="70"/>
                  </a:lnTo>
                  <a:lnTo>
                    <a:pt x="843" y="58"/>
                  </a:lnTo>
                  <a:lnTo>
                    <a:pt x="816" y="46"/>
                  </a:lnTo>
                  <a:lnTo>
                    <a:pt x="789" y="37"/>
                  </a:lnTo>
                  <a:lnTo>
                    <a:pt x="761" y="28"/>
                  </a:lnTo>
                  <a:lnTo>
                    <a:pt x="733" y="21"/>
                  </a:lnTo>
                  <a:lnTo>
                    <a:pt x="705" y="14"/>
                  </a:lnTo>
                  <a:lnTo>
                    <a:pt x="676" y="9"/>
                  </a:lnTo>
                  <a:lnTo>
                    <a:pt x="647" y="6"/>
                  </a:lnTo>
                  <a:lnTo>
                    <a:pt x="618" y="2"/>
                  </a:lnTo>
                  <a:lnTo>
                    <a:pt x="590" y="1"/>
                  </a:lnTo>
                  <a:lnTo>
                    <a:pt x="561" y="0"/>
                  </a:lnTo>
                  <a:lnTo>
                    <a:pt x="532" y="1"/>
                  </a:lnTo>
                  <a:lnTo>
                    <a:pt x="503" y="2"/>
                  </a:lnTo>
                  <a:lnTo>
                    <a:pt x="476" y="5"/>
                  </a:lnTo>
                  <a:lnTo>
                    <a:pt x="448" y="8"/>
                  </a:lnTo>
                  <a:lnTo>
                    <a:pt x="421" y="13"/>
                  </a:lnTo>
                  <a:lnTo>
                    <a:pt x="394" y="18"/>
                  </a:lnTo>
                  <a:lnTo>
                    <a:pt x="368" y="24"/>
                  </a:lnTo>
                  <a:lnTo>
                    <a:pt x="343" y="31"/>
                  </a:lnTo>
                  <a:close/>
                </a:path>
              </a:pathLst>
            </a:custGeom>
            <a:solidFill>
              <a:srgbClr val="b24c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4968360" y="1139760"/>
              <a:ext cx="547920" cy="727560"/>
            </a:xfrm>
            <a:custGeom>
              <a:avLst/>
              <a:gdLst/>
              <a:ahLst/>
              <a:rect l="l" t="t" r="r" b="b"/>
              <a:pathLst>
                <a:path w="1105" h="1590">
                  <a:moveTo>
                    <a:pt x="333" y="30"/>
                  </a:moveTo>
                  <a:lnTo>
                    <a:pt x="279" y="60"/>
                  </a:lnTo>
                  <a:lnTo>
                    <a:pt x="228" y="94"/>
                  </a:lnTo>
                  <a:lnTo>
                    <a:pt x="181" y="134"/>
                  </a:lnTo>
                  <a:lnTo>
                    <a:pt x="138" y="176"/>
                  </a:lnTo>
                  <a:lnTo>
                    <a:pt x="100" y="223"/>
                  </a:lnTo>
                  <a:lnTo>
                    <a:pt x="67" y="274"/>
                  </a:lnTo>
                  <a:lnTo>
                    <a:pt x="40" y="329"/>
                  </a:lnTo>
                  <a:lnTo>
                    <a:pt x="19" y="388"/>
                  </a:lnTo>
                  <a:lnTo>
                    <a:pt x="6" y="450"/>
                  </a:lnTo>
                  <a:lnTo>
                    <a:pt x="0" y="516"/>
                  </a:lnTo>
                  <a:lnTo>
                    <a:pt x="1" y="586"/>
                  </a:lnTo>
                  <a:lnTo>
                    <a:pt x="11" y="659"/>
                  </a:lnTo>
                  <a:lnTo>
                    <a:pt x="31" y="736"/>
                  </a:lnTo>
                  <a:lnTo>
                    <a:pt x="59" y="817"/>
                  </a:lnTo>
                  <a:lnTo>
                    <a:pt x="98" y="899"/>
                  </a:lnTo>
                  <a:lnTo>
                    <a:pt x="146" y="986"/>
                  </a:lnTo>
                  <a:lnTo>
                    <a:pt x="161" y="1008"/>
                  </a:lnTo>
                  <a:lnTo>
                    <a:pt x="176" y="1031"/>
                  </a:lnTo>
                  <a:lnTo>
                    <a:pt x="192" y="1053"/>
                  </a:lnTo>
                  <a:lnTo>
                    <a:pt x="207" y="1076"/>
                  </a:lnTo>
                  <a:lnTo>
                    <a:pt x="223" y="1099"/>
                  </a:lnTo>
                  <a:lnTo>
                    <a:pt x="238" y="1122"/>
                  </a:lnTo>
                  <a:lnTo>
                    <a:pt x="254" y="1144"/>
                  </a:lnTo>
                  <a:lnTo>
                    <a:pt x="269" y="1167"/>
                  </a:lnTo>
                  <a:lnTo>
                    <a:pt x="275" y="1180"/>
                  </a:lnTo>
                  <a:lnTo>
                    <a:pt x="281" y="1195"/>
                  </a:lnTo>
                  <a:lnTo>
                    <a:pt x="287" y="1209"/>
                  </a:lnTo>
                  <a:lnTo>
                    <a:pt x="292" y="1223"/>
                  </a:lnTo>
                  <a:lnTo>
                    <a:pt x="297" y="1238"/>
                  </a:lnTo>
                  <a:lnTo>
                    <a:pt x="303" y="1252"/>
                  </a:lnTo>
                  <a:lnTo>
                    <a:pt x="309" y="1267"/>
                  </a:lnTo>
                  <a:lnTo>
                    <a:pt x="314" y="1281"/>
                  </a:lnTo>
                  <a:lnTo>
                    <a:pt x="320" y="1338"/>
                  </a:lnTo>
                  <a:lnTo>
                    <a:pt x="327" y="1395"/>
                  </a:lnTo>
                  <a:lnTo>
                    <a:pt x="333" y="1452"/>
                  </a:lnTo>
                  <a:lnTo>
                    <a:pt x="338" y="1510"/>
                  </a:lnTo>
                  <a:lnTo>
                    <a:pt x="343" y="1519"/>
                  </a:lnTo>
                  <a:lnTo>
                    <a:pt x="348" y="1527"/>
                  </a:lnTo>
                  <a:lnTo>
                    <a:pt x="352" y="1536"/>
                  </a:lnTo>
                  <a:lnTo>
                    <a:pt x="357" y="1546"/>
                  </a:lnTo>
                  <a:lnTo>
                    <a:pt x="361" y="1554"/>
                  </a:lnTo>
                  <a:lnTo>
                    <a:pt x="365" y="1563"/>
                  </a:lnTo>
                  <a:lnTo>
                    <a:pt x="370" y="1572"/>
                  </a:lnTo>
                  <a:lnTo>
                    <a:pt x="374" y="1581"/>
                  </a:lnTo>
                  <a:lnTo>
                    <a:pt x="398" y="1584"/>
                  </a:lnTo>
                  <a:lnTo>
                    <a:pt x="423" y="1586"/>
                  </a:lnTo>
                  <a:lnTo>
                    <a:pt x="447" y="1587"/>
                  </a:lnTo>
                  <a:lnTo>
                    <a:pt x="472" y="1588"/>
                  </a:lnTo>
                  <a:lnTo>
                    <a:pt x="496" y="1589"/>
                  </a:lnTo>
                  <a:lnTo>
                    <a:pt x="520" y="1590"/>
                  </a:lnTo>
                  <a:lnTo>
                    <a:pt x="545" y="1590"/>
                  </a:lnTo>
                  <a:lnTo>
                    <a:pt x="569" y="1590"/>
                  </a:lnTo>
                  <a:lnTo>
                    <a:pt x="593" y="1590"/>
                  </a:lnTo>
                  <a:lnTo>
                    <a:pt x="617" y="1590"/>
                  </a:lnTo>
                  <a:lnTo>
                    <a:pt x="641" y="1589"/>
                  </a:lnTo>
                  <a:lnTo>
                    <a:pt x="665" y="1589"/>
                  </a:lnTo>
                  <a:lnTo>
                    <a:pt x="691" y="1588"/>
                  </a:lnTo>
                  <a:lnTo>
                    <a:pt x="715" y="1586"/>
                  </a:lnTo>
                  <a:lnTo>
                    <a:pt x="739" y="1585"/>
                  </a:lnTo>
                  <a:lnTo>
                    <a:pt x="763" y="1582"/>
                  </a:lnTo>
                  <a:lnTo>
                    <a:pt x="771" y="1566"/>
                  </a:lnTo>
                  <a:lnTo>
                    <a:pt x="779" y="1550"/>
                  </a:lnTo>
                  <a:lnTo>
                    <a:pt x="788" y="1535"/>
                  </a:lnTo>
                  <a:lnTo>
                    <a:pt x="796" y="1519"/>
                  </a:lnTo>
                  <a:lnTo>
                    <a:pt x="799" y="1467"/>
                  </a:lnTo>
                  <a:lnTo>
                    <a:pt x="804" y="1415"/>
                  </a:lnTo>
                  <a:lnTo>
                    <a:pt x="807" y="1364"/>
                  </a:lnTo>
                  <a:lnTo>
                    <a:pt x="811" y="1313"/>
                  </a:lnTo>
                  <a:lnTo>
                    <a:pt x="819" y="1282"/>
                  </a:lnTo>
                  <a:lnTo>
                    <a:pt x="828" y="1250"/>
                  </a:lnTo>
                  <a:lnTo>
                    <a:pt x="836" y="1218"/>
                  </a:lnTo>
                  <a:lnTo>
                    <a:pt x="844" y="1187"/>
                  </a:lnTo>
                  <a:lnTo>
                    <a:pt x="853" y="1171"/>
                  </a:lnTo>
                  <a:lnTo>
                    <a:pt x="862" y="1156"/>
                  </a:lnTo>
                  <a:lnTo>
                    <a:pt x="873" y="1140"/>
                  </a:lnTo>
                  <a:lnTo>
                    <a:pt x="882" y="1125"/>
                  </a:lnTo>
                  <a:lnTo>
                    <a:pt x="891" y="1109"/>
                  </a:lnTo>
                  <a:lnTo>
                    <a:pt x="900" y="1094"/>
                  </a:lnTo>
                  <a:lnTo>
                    <a:pt x="910" y="1078"/>
                  </a:lnTo>
                  <a:lnTo>
                    <a:pt x="919" y="1063"/>
                  </a:lnTo>
                  <a:lnTo>
                    <a:pt x="936" y="1040"/>
                  </a:lnTo>
                  <a:lnTo>
                    <a:pt x="953" y="1013"/>
                  </a:lnTo>
                  <a:lnTo>
                    <a:pt x="972" y="985"/>
                  </a:lnTo>
                  <a:lnTo>
                    <a:pt x="991" y="952"/>
                  </a:lnTo>
                  <a:lnTo>
                    <a:pt x="1010" y="919"/>
                  </a:lnTo>
                  <a:lnTo>
                    <a:pt x="1028" y="881"/>
                  </a:lnTo>
                  <a:lnTo>
                    <a:pt x="1046" y="842"/>
                  </a:lnTo>
                  <a:lnTo>
                    <a:pt x="1062" y="799"/>
                  </a:lnTo>
                  <a:lnTo>
                    <a:pt x="1075" y="754"/>
                  </a:lnTo>
                  <a:lnTo>
                    <a:pt x="1087" y="707"/>
                  </a:lnTo>
                  <a:lnTo>
                    <a:pt x="1096" y="658"/>
                  </a:lnTo>
                  <a:lnTo>
                    <a:pt x="1102" y="605"/>
                  </a:lnTo>
                  <a:lnTo>
                    <a:pt x="1105" y="549"/>
                  </a:lnTo>
                  <a:lnTo>
                    <a:pt x="1103" y="492"/>
                  </a:lnTo>
                  <a:lnTo>
                    <a:pt x="1097" y="432"/>
                  </a:lnTo>
                  <a:lnTo>
                    <a:pt x="1087" y="370"/>
                  </a:lnTo>
                  <a:lnTo>
                    <a:pt x="1077" y="336"/>
                  </a:lnTo>
                  <a:lnTo>
                    <a:pt x="1064" y="305"/>
                  </a:lnTo>
                  <a:lnTo>
                    <a:pt x="1050" y="275"/>
                  </a:lnTo>
                  <a:lnTo>
                    <a:pt x="1035" y="248"/>
                  </a:lnTo>
                  <a:lnTo>
                    <a:pt x="1018" y="221"/>
                  </a:lnTo>
                  <a:lnTo>
                    <a:pt x="1001" y="197"/>
                  </a:lnTo>
                  <a:lnTo>
                    <a:pt x="981" y="174"/>
                  </a:lnTo>
                  <a:lnTo>
                    <a:pt x="961" y="152"/>
                  </a:lnTo>
                  <a:lnTo>
                    <a:pt x="940" y="132"/>
                  </a:lnTo>
                  <a:lnTo>
                    <a:pt x="918" y="114"/>
                  </a:lnTo>
                  <a:lnTo>
                    <a:pt x="895" y="98"/>
                  </a:lnTo>
                  <a:lnTo>
                    <a:pt x="870" y="82"/>
                  </a:lnTo>
                  <a:lnTo>
                    <a:pt x="845" y="68"/>
                  </a:lnTo>
                  <a:lnTo>
                    <a:pt x="820" y="55"/>
                  </a:lnTo>
                  <a:lnTo>
                    <a:pt x="794" y="45"/>
                  </a:lnTo>
                  <a:lnTo>
                    <a:pt x="768" y="34"/>
                  </a:lnTo>
                  <a:lnTo>
                    <a:pt x="740" y="26"/>
                  </a:lnTo>
                  <a:lnTo>
                    <a:pt x="714" y="20"/>
                  </a:lnTo>
                  <a:lnTo>
                    <a:pt x="686" y="13"/>
                  </a:lnTo>
                  <a:lnTo>
                    <a:pt x="657" y="8"/>
                  </a:lnTo>
                  <a:lnTo>
                    <a:pt x="630" y="5"/>
                  </a:lnTo>
                  <a:lnTo>
                    <a:pt x="602" y="2"/>
                  </a:lnTo>
                  <a:lnTo>
                    <a:pt x="573" y="0"/>
                  </a:lnTo>
                  <a:lnTo>
                    <a:pt x="546" y="0"/>
                  </a:lnTo>
                  <a:lnTo>
                    <a:pt x="518" y="0"/>
                  </a:lnTo>
                  <a:lnTo>
                    <a:pt x="489" y="2"/>
                  </a:lnTo>
                  <a:lnTo>
                    <a:pt x="463" y="5"/>
                  </a:lnTo>
                  <a:lnTo>
                    <a:pt x="435" y="8"/>
                  </a:lnTo>
                  <a:lnTo>
                    <a:pt x="409" y="11"/>
                  </a:lnTo>
                  <a:lnTo>
                    <a:pt x="383" y="17"/>
                  </a:lnTo>
                  <a:lnTo>
                    <a:pt x="358" y="23"/>
                  </a:lnTo>
                  <a:lnTo>
                    <a:pt x="333" y="30"/>
                  </a:lnTo>
                  <a:close/>
                </a:path>
              </a:pathLst>
            </a:custGeom>
            <a:solidFill>
              <a:srgbClr val="c64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4976280" y="1149840"/>
              <a:ext cx="532080" cy="704520"/>
            </a:xfrm>
            <a:custGeom>
              <a:avLst/>
              <a:gdLst/>
              <a:ahLst/>
              <a:rect l="l" t="t" r="r" b="b"/>
              <a:pathLst>
                <a:path w="1074" h="1540">
                  <a:moveTo>
                    <a:pt x="321" y="29"/>
                  </a:moveTo>
                  <a:lnTo>
                    <a:pt x="268" y="59"/>
                  </a:lnTo>
                  <a:lnTo>
                    <a:pt x="219" y="92"/>
                  </a:lnTo>
                  <a:lnTo>
                    <a:pt x="173" y="130"/>
                  </a:lnTo>
                  <a:lnTo>
                    <a:pt x="131" y="171"/>
                  </a:lnTo>
                  <a:lnTo>
                    <a:pt x="94" y="217"/>
                  </a:lnTo>
                  <a:lnTo>
                    <a:pt x="63" y="267"/>
                  </a:lnTo>
                  <a:lnTo>
                    <a:pt x="37" y="321"/>
                  </a:lnTo>
                  <a:lnTo>
                    <a:pt x="17" y="379"/>
                  </a:lnTo>
                  <a:lnTo>
                    <a:pt x="5" y="440"/>
                  </a:lnTo>
                  <a:lnTo>
                    <a:pt x="0" y="504"/>
                  </a:lnTo>
                  <a:lnTo>
                    <a:pt x="2" y="572"/>
                  </a:lnTo>
                  <a:lnTo>
                    <a:pt x="13" y="644"/>
                  </a:lnTo>
                  <a:lnTo>
                    <a:pt x="31" y="718"/>
                  </a:lnTo>
                  <a:lnTo>
                    <a:pt x="60" y="797"/>
                  </a:lnTo>
                  <a:lnTo>
                    <a:pt x="97" y="879"/>
                  </a:lnTo>
                  <a:lnTo>
                    <a:pt x="145" y="964"/>
                  </a:lnTo>
                  <a:lnTo>
                    <a:pt x="263" y="1141"/>
                  </a:lnTo>
                  <a:lnTo>
                    <a:pt x="306" y="1253"/>
                  </a:lnTo>
                  <a:lnTo>
                    <a:pt x="331" y="1477"/>
                  </a:lnTo>
                  <a:lnTo>
                    <a:pt x="362" y="1540"/>
                  </a:lnTo>
                  <a:lnTo>
                    <a:pt x="746" y="1540"/>
                  </a:lnTo>
                  <a:lnTo>
                    <a:pt x="770" y="1489"/>
                  </a:lnTo>
                  <a:lnTo>
                    <a:pt x="785" y="1286"/>
                  </a:lnTo>
                  <a:lnTo>
                    <a:pt x="818" y="1164"/>
                  </a:lnTo>
                  <a:lnTo>
                    <a:pt x="891" y="1041"/>
                  </a:lnTo>
                  <a:lnTo>
                    <a:pt x="907" y="1018"/>
                  </a:lnTo>
                  <a:lnTo>
                    <a:pt x="926" y="993"/>
                  </a:lnTo>
                  <a:lnTo>
                    <a:pt x="944" y="964"/>
                  </a:lnTo>
                  <a:lnTo>
                    <a:pt x="963" y="933"/>
                  </a:lnTo>
                  <a:lnTo>
                    <a:pt x="981" y="899"/>
                  </a:lnTo>
                  <a:lnTo>
                    <a:pt x="998" y="864"/>
                  </a:lnTo>
                  <a:lnTo>
                    <a:pt x="1016" y="824"/>
                  </a:lnTo>
                  <a:lnTo>
                    <a:pt x="1032" y="783"/>
                  </a:lnTo>
                  <a:lnTo>
                    <a:pt x="1046" y="739"/>
                  </a:lnTo>
                  <a:lnTo>
                    <a:pt x="1057" y="693"/>
                  </a:lnTo>
                  <a:lnTo>
                    <a:pt x="1066" y="645"/>
                  </a:lnTo>
                  <a:lnTo>
                    <a:pt x="1072" y="593"/>
                  </a:lnTo>
                  <a:lnTo>
                    <a:pt x="1074" y="539"/>
                  </a:lnTo>
                  <a:lnTo>
                    <a:pt x="1073" y="482"/>
                  </a:lnTo>
                  <a:lnTo>
                    <a:pt x="1068" y="424"/>
                  </a:lnTo>
                  <a:lnTo>
                    <a:pt x="1057" y="363"/>
                  </a:lnTo>
                  <a:lnTo>
                    <a:pt x="1034" y="299"/>
                  </a:lnTo>
                  <a:lnTo>
                    <a:pt x="1005" y="243"/>
                  </a:lnTo>
                  <a:lnTo>
                    <a:pt x="972" y="192"/>
                  </a:lnTo>
                  <a:lnTo>
                    <a:pt x="934" y="148"/>
                  </a:lnTo>
                  <a:lnTo>
                    <a:pt x="891" y="112"/>
                  </a:lnTo>
                  <a:lnTo>
                    <a:pt x="845" y="80"/>
                  </a:lnTo>
                  <a:lnTo>
                    <a:pt x="797" y="54"/>
                  </a:lnTo>
                  <a:lnTo>
                    <a:pt x="745" y="33"/>
                  </a:lnTo>
                  <a:lnTo>
                    <a:pt x="692" y="18"/>
                  </a:lnTo>
                  <a:lnTo>
                    <a:pt x="638" y="8"/>
                  </a:lnTo>
                  <a:lnTo>
                    <a:pt x="584" y="1"/>
                  </a:lnTo>
                  <a:lnTo>
                    <a:pt x="529" y="0"/>
                  </a:lnTo>
                  <a:lnTo>
                    <a:pt x="474" y="1"/>
                  </a:lnTo>
                  <a:lnTo>
                    <a:pt x="421" y="7"/>
                  </a:lnTo>
                  <a:lnTo>
                    <a:pt x="371" y="16"/>
                  </a:lnTo>
                  <a:lnTo>
                    <a:pt x="321" y="29"/>
                  </a:lnTo>
                  <a:close/>
                </a:path>
              </a:pathLst>
            </a:custGeom>
            <a:solidFill>
              <a:srgbClr val="db51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5013720" y="1180080"/>
              <a:ext cx="460800" cy="583920"/>
            </a:xfrm>
            <a:custGeom>
              <a:avLst/>
              <a:gdLst/>
              <a:ahLst/>
              <a:rect l="l" t="t" r="r" b="b"/>
              <a:pathLst>
                <a:path w="929" h="1276">
                  <a:moveTo>
                    <a:pt x="260" y="40"/>
                  </a:moveTo>
                  <a:lnTo>
                    <a:pt x="220" y="65"/>
                  </a:lnTo>
                  <a:lnTo>
                    <a:pt x="181" y="94"/>
                  </a:lnTo>
                  <a:lnTo>
                    <a:pt x="145" y="125"/>
                  </a:lnTo>
                  <a:lnTo>
                    <a:pt x="112" y="160"/>
                  </a:lnTo>
                  <a:lnTo>
                    <a:pt x="82" y="198"/>
                  </a:lnTo>
                  <a:lnTo>
                    <a:pt x="55" y="239"/>
                  </a:lnTo>
                  <a:lnTo>
                    <a:pt x="33" y="283"/>
                  </a:lnTo>
                  <a:lnTo>
                    <a:pt x="17" y="330"/>
                  </a:lnTo>
                  <a:lnTo>
                    <a:pt x="6" y="380"/>
                  </a:lnTo>
                  <a:lnTo>
                    <a:pt x="0" y="433"/>
                  </a:lnTo>
                  <a:lnTo>
                    <a:pt x="0" y="488"/>
                  </a:lnTo>
                  <a:lnTo>
                    <a:pt x="8" y="547"/>
                  </a:lnTo>
                  <a:lnTo>
                    <a:pt x="22" y="608"/>
                  </a:lnTo>
                  <a:lnTo>
                    <a:pt x="45" y="671"/>
                  </a:lnTo>
                  <a:lnTo>
                    <a:pt x="75" y="738"/>
                  </a:lnTo>
                  <a:lnTo>
                    <a:pt x="114" y="807"/>
                  </a:lnTo>
                  <a:lnTo>
                    <a:pt x="212" y="952"/>
                  </a:lnTo>
                  <a:lnTo>
                    <a:pt x="248" y="1042"/>
                  </a:lnTo>
                  <a:lnTo>
                    <a:pt x="267" y="1225"/>
                  </a:lnTo>
                  <a:lnTo>
                    <a:pt x="294" y="1276"/>
                  </a:lnTo>
                  <a:lnTo>
                    <a:pt x="624" y="1276"/>
                  </a:lnTo>
                  <a:lnTo>
                    <a:pt x="676" y="1241"/>
                  </a:lnTo>
                  <a:lnTo>
                    <a:pt x="689" y="1070"/>
                  </a:lnTo>
                  <a:lnTo>
                    <a:pt x="696" y="1045"/>
                  </a:lnTo>
                  <a:lnTo>
                    <a:pt x="702" y="1021"/>
                  </a:lnTo>
                  <a:lnTo>
                    <a:pt x="709" y="997"/>
                  </a:lnTo>
                  <a:lnTo>
                    <a:pt x="716" y="973"/>
                  </a:lnTo>
                  <a:lnTo>
                    <a:pt x="721" y="959"/>
                  </a:lnTo>
                  <a:lnTo>
                    <a:pt x="725" y="945"/>
                  </a:lnTo>
                  <a:lnTo>
                    <a:pt x="731" y="931"/>
                  </a:lnTo>
                  <a:lnTo>
                    <a:pt x="738" y="919"/>
                  </a:lnTo>
                  <a:lnTo>
                    <a:pt x="745" y="906"/>
                  </a:lnTo>
                  <a:lnTo>
                    <a:pt x="753" y="895"/>
                  </a:lnTo>
                  <a:lnTo>
                    <a:pt x="761" y="882"/>
                  </a:lnTo>
                  <a:lnTo>
                    <a:pt x="769" y="870"/>
                  </a:lnTo>
                  <a:lnTo>
                    <a:pt x="785" y="850"/>
                  </a:lnTo>
                  <a:lnTo>
                    <a:pt x="801" y="825"/>
                  </a:lnTo>
                  <a:lnTo>
                    <a:pt x="818" y="800"/>
                  </a:lnTo>
                  <a:lnTo>
                    <a:pt x="835" y="774"/>
                  </a:lnTo>
                  <a:lnTo>
                    <a:pt x="851" y="745"/>
                  </a:lnTo>
                  <a:lnTo>
                    <a:pt x="866" y="714"/>
                  </a:lnTo>
                  <a:lnTo>
                    <a:pt x="881" y="681"/>
                  </a:lnTo>
                  <a:lnTo>
                    <a:pt x="895" y="646"/>
                  </a:lnTo>
                  <a:lnTo>
                    <a:pt x="906" y="610"/>
                  </a:lnTo>
                  <a:lnTo>
                    <a:pt x="916" y="572"/>
                  </a:lnTo>
                  <a:lnTo>
                    <a:pt x="924" y="532"/>
                  </a:lnTo>
                  <a:lnTo>
                    <a:pt x="928" y="490"/>
                  </a:lnTo>
                  <a:lnTo>
                    <a:pt x="929" y="446"/>
                  </a:lnTo>
                  <a:lnTo>
                    <a:pt x="927" y="400"/>
                  </a:lnTo>
                  <a:lnTo>
                    <a:pt x="921" y="353"/>
                  </a:lnTo>
                  <a:lnTo>
                    <a:pt x="912" y="305"/>
                  </a:lnTo>
                  <a:lnTo>
                    <a:pt x="895" y="251"/>
                  </a:lnTo>
                  <a:lnTo>
                    <a:pt x="869" y="202"/>
                  </a:lnTo>
                  <a:lnTo>
                    <a:pt x="838" y="159"/>
                  </a:lnTo>
                  <a:lnTo>
                    <a:pt x="803" y="122"/>
                  </a:lnTo>
                  <a:lnTo>
                    <a:pt x="761" y="89"/>
                  </a:lnTo>
                  <a:lnTo>
                    <a:pt x="716" y="63"/>
                  </a:lnTo>
                  <a:lnTo>
                    <a:pt x="669" y="41"/>
                  </a:lnTo>
                  <a:lnTo>
                    <a:pt x="620" y="24"/>
                  </a:lnTo>
                  <a:lnTo>
                    <a:pt x="569" y="11"/>
                  </a:lnTo>
                  <a:lnTo>
                    <a:pt x="518" y="3"/>
                  </a:lnTo>
                  <a:lnTo>
                    <a:pt x="469" y="0"/>
                  </a:lnTo>
                  <a:lnTo>
                    <a:pt x="420" y="1"/>
                  </a:lnTo>
                  <a:lnTo>
                    <a:pt x="374" y="4"/>
                  </a:lnTo>
                  <a:lnTo>
                    <a:pt x="332" y="13"/>
                  </a:lnTo>
                  <a:lnTo>
                    <a:pt x="294" y="25"/>
                  </a:lnTo>
                  <a:lnTo>
                    <a:pt x="260" y="40"/>
                  </a:lnTo>
                  <a:close/>
                </a:path>
              </a:pathLst>
            </a:custGeom>
            <a:solidFill>
              <a:srgbClr val="e55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5014800" y="1181880"/>
              <a:ext cx="457920" cy="582120"/>
            </a:xfrm>
            <a:custGeom>
              <a:avLst/>
              <a:gdLst/>
              <a:ahLst/>
              <a:rect l="l" t="t" r="r" b="b"/>
              <a:pathLst>
                <a:path w="924" h="1273">
                  <a:moveTo>
                    <a:pt x="261" y="38"/>
                  </a:moveTo>
                  <a:lnTo>
                    <a:pt x="220" y="63"/>
                  </a:lnTo>
                  <a:lnTo>
                    <a:pt x="181" y="92"/>
                  </a:lnTo>
                  <a:lnTo>
                    <a:pt x="144" y="123"/>
                  </a:lnTo>
                  <a:lnTo>
                    <a:pt x="111" y="158"/>
                  </a:lnTo>
                  <a:lnTo>
                    <a:pt x="81" y="196"/>
                  </a:lnTo>
                  <a:lnTo>
                    <a:pt x="56" y="237"/>
                  </a:lnTo>
                  <a:lnTo>
                    <a:pt x="34" y="281"/>
                  </a:lnTo>
                  <a:lnTo>
                    <a:pt x="18" y="327"/>
                  </a:lnTo>
                  <a:lnTo>
                    <a:pt x="6" y="378"/>
                  </a:lnTo>
                  <a:lnTo>
                    <a:pt x="0" y="431"/>
                  </a:lnTo>
                  <a:lnTo>
                    <a:pt x="0" y="486"/>
                  </a:lnTo>
                  <a:lnTo>
                    <a:pt x="8" y="544"/>
                  </a:lnTo>
                  <a:lnTo>
                    <a:pt x="23" y="605"/>
                  </a:lnTo>
                  <a:lnTo>
                    <a:pt x="45" y="669"/>
                  </a:lnTo>
                  <a:lnTo>
                    <a:pt x="76" y="735"/>
                  </a:lnTo>
                  <a:lnTo>
                    <a:pt x="115" y="804"/>
                  </a:lnTo>
                  <a:lnTo>
                    <a:pt x="128" y="822"/>
                  </a:lnTo>
                  <a:lnTo>
                    <a:pt x="140" y="840"/>
                  </a:lnTo>
                  <a:lnTo>
                    <a:pt x="152" y="858"/>
                  </a:lnTo>
                  <a:lnTo>
                    <a:pt x="164" y="877"/>
                  </a:lnTo>
                  <a:lnTo>
                    <a:pt x="177" y="895"/>
                  </a:lnTo>
                  <a:lnTo>
                    <a:pt x="188" y="912"/>
                  </a:lnTo>
                  <a:lnTo>
                    <a:pt x="201" y="931"/>
                  </a:lnTo>
                  <a:lnTo>
                    <a:pt x="212" y="949"/>
                  </a:lnTo>
                  <a:lnTo>
                    <a:pt x="217" y="961"/>
                  </a:lnTo>
                  <a:lnTo>
                    <a:pt x="221" y="972"/>
                  </a:lnTo>
                  <a:lnTo>
                    <a:pt x="226" y="982"/>
                  </a:lnTo>
                  <a:lnTo>
                    <a:pt x="231" y="994"/>
                  </a:lnTo>
                  <a:lnTo>
                    <a:pt x="234" y="1006"/>
                  </a:lnTo>
                  <a:lnTo>
                    <a:pt x="239" y="1017"/>
                  </a:lnTo>
                  <a:lnTo>
                    <a:pt x="243" y="1029"/>
                  </a:lnTo>
                  <a:lnTo>
                    <a:pt x="248" y="1040"/>
                  </a:lnTo>
                  <a:lnTo>
                    <a:pt x="253" y="1085"/>
                  </a:lnTo>
                  <a:lnTo>
                    <a:pt x="258" y="1131"/>
                  </a:lnTo>
                  <a:lnTo>
                    <a:pt x="263" y="1177"/>
                  </a:lnTo>
                  <a:lnTo>
                    <a:pt x="267" y="1223"/>
                  </a:lnTo>
                  <a:lnTo>
                    <a:pt x="274" y="1236"/>
                  </a:lnTo>
                  <a:lnTo>
                    <a:pt x="281" y="1247"/>
                  </a:lnTo>
                  <a:lnTo>
                    <a:pt x="287" y="1260"/>
                  </a:lnTo>
                  <a:lnTo>
                    <a:pt x="294" y="1273"/>
                  </a:lnTo>
                  <a:lnTo>
                    <a:pt x="315" y="1273"/>
                  </a:lnTo>
                  <a:lnTo>
                    <a:pt x="335" y="1273"/>
                  </a:lnTo>
                  <a:lnTo>
                    <a:pt x="355" y="1273"/>
                  </a:lnTo>
                  <a:lnTo>
                    <a:pt x="376" y="1273"/>
                  </a:lnTo>
                  <a:lnTo>
                    <a:pt x="396" y="1273"/>
                  </a:lnTo>
                  <a:lnTo>
                    <a:pt x="417" y="1273"/>
                  </a:lnTo>
                  <a:lnTo>
                    <a:pt x="438" y="1273"/>
                  </a:lnTo>
                  <a:lnTo>
                    <a:pt x="459" y="1273"/>
                  </a:lnTo>
                  <a:lnTo>
                    <a:pt x="478" y="1273"/>
                  </a:lnTo>
                  <a:lnTo>
                    <a:pt x="499" y="1273"/>
                  </a:lnTo>
                  <a:lnTo>
                    <a:pt x="520" y="1273"/>
                  </a:lnTo>
                  <a:lnTo>
                    <a:pt x="540" y="1273"/>
                  </a:lnTo>
                  <a:lnTo>
                    <a:pt x="561" y="1273"/>
                  </a:lnTo>
                  <a:lnTo>
                    <a:pt x="581" y="1273"/>
                  </a:lnTo>
                  <a:lnTo>
                    <a:pt x="601" y="1273"/>
                  </a:lnTo>
                  <a:lnTo>
                    <a:pt x="622" y="1273"/>
                  </a:lnTo>
                  <a:lnTo>
                    <a:pt x="628" y="1268"/>
                  </a:lnTo>
                  <a:lnTo>
                    <a:pt x="635" y="1264"/>
                  </a:lnTo>
                  <a:lnTo>
                    <a:pt x="641" y="1260"/>
                  </a:lnTo>
                  <a:lnTo>
                    <a:pt x="647" y="1255"/>
                  </a:lnTo>
                  <a:lnTo>
                    <a:pt x="653" y="1251"/>
                  </a:lnTo>
                  <a:lnTo>
                    <a:pt x="659" y="1246"/>
                  </a:lnTo>
                  <a:lnTo>
                    <a:pt x="666" y="1243"/>
                  </a:lnTo>
                  <a:lnTo>
                    <a:pt x="672" y="1238"/>
                  </a:lnTo>
                  <a:lnTo>
                    <a:pt x="675" y="1196"/>
                  </a:lnTo>
                  <a:lnTo>
                    <a:pt x="679" y="1152"/>
                  </a:lnTo>
                  <a:lnTo>
                    <a:pt x="682" y="1109"/>
                  </a:lnTo>
                  <a:lnTo>
                    <a:pt x="684" y="1067"/>
                  </a:lnTo>
                  <a:lnTo>
                    <a:pt x="691" y="1042"/>
                  </a:lnTo>
                  <a:lnTo>
                    <a:pt x="698" y="1018"/>
                  </a:lnTo>
                  <a:lnTo>
                    <a:pt x="705" y="994"/>
                  </a:lnTo>
                  <a:lnTo>
                    <a:pt x="712" y="970"/>
                  </a:lnTo>
                  <a:lnTo>
                    <a:pt x="717" y="956"/>
                  </a:lnTo>
                  <a:lnTo>
                    <a:pt x="722" y="942"/>
                  </a:lnTo>
                  <a:lnTo>
                    <a:pt x="728" y="930"/>
                  </a:lnTo>
                  <a:lnTo>
                    <a:pt x="735" y="917"/>
                  </a:lnTo>
                  <a:lnTo>
                    <a:pt x="742" y="904"/>
                  </a:lnTo>
                  <a:lnTo>
                    <a:pt x="750" y="892"/>
                  </a:lnTo>
                  <a:lnTo>
                    <a:pt x="758" y="880"/>
                  </a:lnTo>
                  <a:lnTo>
                    <a:pt x="766" y="867"/>
                  </a:lnTo>
                  <a:lnTo>
                    <a:pt x="781" y="847"/>
                  </a:lnTo>
                  <a:lnTo>
                    <a:pt x="797" y="824"/>
                  </a:lnTo>
                  <a:lnTo>
                    <a:pt x="813" y="798"/>
                  </a:lnTo>
                  <a:lnTo>
                    <a:pt x="829" y="772"/>
                  </a:lnTo>
                  <a:lnTo>
                    <a:pt x="847" y="743"/>
                  </a:lnTo>
                  <a:lnTo>
                    <a:pt x="862" y="712"/>
                  </a:lnTo>
                  <a:lnTo>
                    <a:pt x="877" y="680"/>
                  </a:lnTo>
                  <a:lnTo>
                    <a:pt x="889" y="645"/>
                  </a:lnTo>
                  <a:lnTo>
                    <a:pt x="901" y="609"/>
                  </a:lnTo>
                  <a:lnTo>
                    <a:pt x="910" y="570"/>
                  </a:lnTo>
                  <a:lnTo>
                    <a:pt x="918" y="530"/>
                  </a:lnTo>
                  <a:lnTo>
                    <a:pt x="923" y="488"/>
                  </a:lnTo>
                  <a:lnTo>
                    <a:pt x="924" y="445"/>
                  </a:lnTo>
                  <a:lnTo>
                    <a:pt x="922" y="400"/>
                  </a:lnTo>
                  <a:lnTo>
                    <a:pt x="916" y="352"/>
                  </a:lnTo>
                  <a:lnTo>
                    <a:pt x="907" y="303"/>
                  </a:lnTo>
                  <a:lnTo>
                    <a:pt x="889" y="249"/>
                  </a:lnTo>
                  <a:lnTo>
                    <a:pt x="865" y="200"/>
                  </a:lnTo>
                  <a:lnTo>
                    <a:pt x="834" y="159"/>
                  </a:lnTo>
                  <a:lnTo>
                    <a:pt x="798" y="121"/>
                  </a:lnTo>
                  <a:lnTo>
                    <a:pt x="758" y="90"/>
                  </a:lnTo>
                  <a:lnTo>
                    <a:pt x="714" y="63"/>
                  </a:lnTo>
                  <a:lnTo>
                    <a:pt x="667" y="42"/>
                  </a:lnTo>
                  <a:lnTo>
                    <a:pt x="619" y="24"/>
                  </a:lnTo>
                  <a:lnTo>
                    <a:pt x="568" y="12"/>
                  </a:lnTo>
                  <a:lnTo>
                    <a:pt x="519" y="4"/>
                  </a:lnTo>
                  <a:lnTo>
                    <a:pt x="469" y="0"/>
                  </a:lnTo>
                  <a:lnTo>
                    <a:pt x="421" y="0"/>
                  </a:lnTo>
                  <a:lnTo>
                    <a:pt x="375" y="4"/>
                  </a:lnTo>
                  <a:lnTo>
                    <a:pt x="333" y="12"/>
                  </a:lnTo>
                  <a:lnTo>
                    <a:pt x="294" y="23"/>
                  </a:lnTo>
                  <a:lnTo>
                    <a:pt x="261" y="38"/>
                  </a:lnTo>
                  <a:close/>
                </a:path>
              </a:pathLst>
            </a:custGeom>
            <a:solidFill>
              <a:srgbClr val="e86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015880" y="1182600"/>
              <a:ext cx="456120" cy="581040"/>
            </a:xfrm>
            <a:custGeom>
              <a:avLst/>
              <a:gdLst/>
              <a:ahLst/>
              <a:rect l="l" t="t" r="r" b="b"/>
              <a:pathLst>
                <a:path w="919" h="1271">
                  <a:moveTo>
                    <a:pt x="260" y="38"/>
                  </a:moveTo>
                  <a:lnTo>
                    <a:pt x="218" y="64"/>
                  </a:lnTo>
                  <a:lnTo>
                    <a:pt x="180" y="91"/>
                  </a:lnTo>
                  <a:lnTo>
                    <a:pt x="144" y="122"/>
                  </a:lnTo>
                  <a:lnTo>
                    <a:pt x="110" y="157"/>
                  </a:lnTo>
                  <a:lnTo>
                    <a:pt x="80" y="195"/>
                  </a:lnTo>
                  <a:lnTo>
                    <a:pt x="55" y="236"/>
                  </a:lnTo>
                  <a:lnTo>
                    <a:pt x="33" y="280"/>
                  </a:lnTo>
                  <a:lnTo>
                    <a:pt x="17" y="326"/>
                  </a:lnTo>
                  <a:lnTo>
                    <a:pt x="5" y="376"/>
                  </a:lnTo>
                  <a:lnTo>
                    <a:pt x="0" y="429"/>
                  </a:lnTo>
                  <a:lnTo>
                    <a:pt x="1" y="484"/>
                  </a:lnTo>
                  <a:lnTo>
                    <a:pt x="8" y="543"/>
                  </a:lnTo>
                  <a:lnTo>
                    <a:pt x="23" y="604"/>
                  </a:lnTo>
                  <a:lnTo>
                    <a:pt x="45" y="667"/>
                  </a:lnTo>
                  <a:lnTo>
                    <a:pt x="76" y="734"/>
                  </a:lnTo>
                  <a:lnTo>
                    <a:pt x="115" y="803"/>
                  </a:lnTo>
                  <a:lnTo>
                    <a:pt x="127" y="822"/>
                  </a:lnTo>
                  <a:lnTo>
                    <a:pt x="139" y="839"/>
                  </a:lnTo>
                  <a:lnTo>
                    <a:pt x="152" y="857"/>
                  </a:lnTo>
                  <a:lnTo>
                    <a:pt x="163" y="875"/>
                  </a:lnTo>
                  <a:lnTo>
                    <a:pt x="176" y="893"/>
                  </a:lnTo>
                  <a:lnTo>
                    <a:pt x="187" y="911"/>
                  </a:lnTo>
                  <a:lnTo>
                    <a:pt x="200" y="929"/>
                  </a:lnTo>
                  <a:lnTo>
                    <a:pt x="212" y="947"/>
                  </a:lnTo>
                  <a:lnTo>
                    <a:pt x="216" y="959"/>
                  </a:lnTo>
                  <a:lnTo>
                    <a:pt x="221" y="970"/>
                  </a:lnTo>
                  <a:lnTo>
                    <a:pt x="225" y="982"/>
                  </a:lnTo>
                  <a:lnTo>
                    <a:pt x="230" y="993"/>
                  </a:lnTo>
                  <a:lnTo>
                    <a:pt x="233" y="1005"/>
                  </a:lnTo>
                  <a:lnTo>
                    <a:pt x="238" y="1015"/>
                  </a:lnTo>
                  <a:lnTo>
                    <a:pt x="243" y="1027"/>
                  </a:lnTo>
                  <a:lnTo>
                    <a:pt x="247" y="1038"/>
                  </a:lnTo>
                  <a:lnTo>
                    <a:pt x="253" y="1083"/>
                  </a:lnTo>
                  <a:lnTo>
                    <a:pt x="258" y="1129"/>
                  </a:lnTo>
                  <a:lnTo>
                    <a:pt x="263" y="1175"/>
                  </a:lnTo>
                  <a:lnTo>
                    <a:pt x="268" y="1221"/>
                  </a:lnTo>
                  <a:lnTo>
                    <a:pt x="274" y="1234"/>
                  </a:lnTo>
                  <a:lnTo>
                    <a:pt x="281" y="1245"/>
                  </a:lnTo>
                  <a:lnTo>
                    <a:pt x="286" y="1258"/>
                  </a:lnTo>
                  <a:lnTo>
                    <a:pt x="293" y="1271"/>
                  </a:lnTo>
                  <a:lnTo>
                    <a:pt x="314" y="1271"/>
                  </a:lnTo>
                  <a:lnTo>
                    <a:pt x="334" y="1271"/>
                  </a:lnTo>
                  <a:lnTo>
                    <a:pt x="354" y="1271"/>
                  </a:lnTo>
                  <a:lnTo>
                    <a:pt x="375" y="1271"/>
                  </a:lnTo>
                  <a:lnTo>
                    <a:pt x="395" y="1271"/>
                  </a:lnTo>
                  <a:lnTo>
                    <a:pt x="415" y="1271"/>
                  </a:lnTo>
                  <a:lnTo>
                    <a:pt x="436" y="1271"/>
                  </a:lnTo>
                  <a:lnTo>
                    <a:pt x="457" y="1271"/>
                  </a:lnTo>
                  <a:lnTo>
                    <a:pt x="476" y="1271"/>
                  </a:lnTo>
                  <a:lnTo>
                    <a:pt x="497" y="1271"/>
                  </a:lnTo>
                  <a:lnTo>
                    <a:pt x="518" y="1271"/>
                  </a:lnTo>
                  <a:lnTo>
                    <a:pt x="537" y="1271"/>
                  </a:lnTo>
                  <a:lnTo>
                    <a:pt x="558" y="1271"/>
                  </a:lnTo>
                  <a:lnTo>
                    <a:pt x="579" y="1271"/>
                  </a:lnTo>
                  <a:lnTo>
                    <a:pt x="598" y="1271"/>
                  </a:lnTo>
                  <a:lnTo>
                    <a:pt x="619" y="1271"/>
                  </a:lnTo>
                  <a:lnTo>
                    <a:pt x="625" y="1266"/>
                  </a:lnTo>
                  <a:lnTo>
                    <a:pt x="631" y="1262"/>
                  </a:lnTo>
                  <a:lnTo>
                    <a:pt x="638" y="1258"/>
                  </a:lnTo>
                  <a:lnTo>
                    <a:pt x="643" y="1253"/>
                  </a:lnTo>
                  <a:lnTo>
                    <a:pt x="649" y="1249"/>
                  </a:lnTo>
                  <a:lnTo>
                    <a:pt x="655" y="1244"/>
                  </a:lnTo>
                  <a:lnTo>
                    <a:pt x="661" y="1240"/>
                  </a:lnTo>
                  <a:lnTo>
                    <a:pt x="666" y="1235"/>
                  </a:lnTo>
                  <a:lnTo>
                    <a:pt x="670" y="1192"/>
                  </a:lnTo>
                  <a:lnTo>
                    <a:pt x="673" y="1150"/>
                  </a:lnTo>
                  <a:lnTo>
                    <a:pt x="677" y="1107"/>
                  </a:lnTo>
                  <a:lnTo>
                    <a:pt x="679" y="1065"/>
                  </a:lnTo>
                  <a:lnTo>
                    <a:pt x="686" y="1040"/>
                  </a:lnTo>
                  <a:lnTo>
                    <a:pt x="693" y="1016"/>
                  </a:lnTo>
                  <a:lnTo>
                    <a:pt x="700" y="992"/>
                  </a:lnTo>
                  <a:lnTo>
                    <a:pt x="707" y="968"/>
                  </a:lnTo>
                  <a:lnTo>
                    <a:pt x="711" y="954"/>
                  </a:lnTo>
                  <a:lnTo>
                    <a:pt x="717" y="941"/>
                  </a:lnTo>
                  <a:lnTo>
                    <a:pt x="723" y="928"/>
                  </a:lnTo>
                  <a:lnTo>
                    <a:pt x="730" y="915"/>
                  </a:lnTo>
                  <a:lnTo>
                    <a:pt x="737" y="902"/>
                  </a:lnTo>
                  <a:lnTo>
                    <a:pt x="745" y="891"/>
                  </a:lnTo>
                  <a:lnTo>
                    <a:pt x="753" y="878"/>
                  </a:lnTo>
                  <a:lnTo>
                    <a:pt x="761" y="866"/>
                  </a:lnTo>
                  <a:lnTo>
                    <a:pt x="776" y="846"/>
                  </a:lnTo>
                  <a:lnTo>
                    <a:pt x="792" y="823"/>
                  </a:lnTo>
                  <a:lnTo>
                    <a:pt x="808" y="797"/>
                  </a:lnTo>
                  <a:lnTo>
                    <a:pt x="824" y="771"/>
                  </a:lnTo>
                  <a:lnTo>
                    <a:pt x="840" y="742"/>
                  </a:lnTo>
                  <a:lnTo>
                    <a:pt x="856" y="711"/>
                  </a:lnTo>
                  <a:lnTo>
                    <a:pt x="870" y="679"/>
                  </a:lnTo>
                  <a:lnTo>
                    <a:pt x="884" y="644"/>
                  </a:lnTo>
                  <a:lnTo>
                    <a:pt x="896" y="608"/>
                  </a:lnTo>
                  <a:lnTo>
                    <a:pt x="905" y="570"/>
                  </a:lnTo>
                  <a:lnTo>
                    <a:pt x="913" y="530"/>
                  </a:lnTo>
                  <a:lnTo>
                    <a:pt x="917" y="489"/>
                  </a:lnTo>
                  <a:lnTo>
                    <a:pt x="919" y="445"/>
                  </a:lnTo>
                  <a:lnTo>
                    <a:pt x="916" y="400"/>
                  </a:lnTo>
                  <a:lnTo>
                    <a:pt x="911" y="353"/>
                  </a:lnTo>
                  <a:lnTo>
                    <a:pt x="901" y="303"/>
                  </a:lnTo>
                  <a:lnTo>
                    <a:pt x="884" y="249"/>
                  </a:lnTo>
                  <a:lnTo>
                    <a:pt x="860" y="202"/>
                  </a:lnTo>
                  <a:lnTo>
                    <a:pt x="829" y="159"/>
                  </a:lnTo>
                  <a:lnTo>
                    <a:pt x="793" y="122"/>
                  </a:lnTo>
                  <a:lnTo>
                    <a:pt x="754" y="90"/>
                  </a:lnTo>
                  <a:lnTo>
                    <a:pt x="710" y="64"/>
                  </a:lnTo>
                  <a:lnTo>
                    <a:pt x="664" y="42"/>
                  </a:lnTo>
                  <a:lnTo>
                    <a:pt x="616" y="25"/>
                  </a:lnTo>
                  <a:lnTo>
                    <a:pt x="566" y="12"/>
                  </a:lnTo>
                  <a:lnTo>
                    <a:pt x="517" y="4"/>
                  </a:lnTo>
                  <a:lnTo>
                    <a:pt x="468" y="0"/>
                  </a:lnTo>
                  <a:lnTo>
                    <a:pt x="420" y="0"/>
                  </a:lnTo>
                  <a:lnTo>
                    <a:pt x="375" y="5"/>
                  </a:lnTo>
                  <a:lnTo>
                    <a:pt x="332" y="12"/>
                  </a:lnTo>
                  <a:lnTo>
                    <a:pt x="293" y="23"/>
                  </a:lnTo>
                  <a:lnTo>
                    <a:pt x="260" y="38"/>
                  </a:lnTo>
                  <a:close/>
                </a:path>
              </a:pathLst>
            </a:custGeom>
            <a:solidFill>
              <a:srgbClr val="ea6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5016960" y="1183680"/>
              <a:ext cx="453600" cy="579960"/>
            </a:xfrm>
            <a:custGeom>
              <a:avLst/>
              <a:gdLst/>
              <a:ahLst/>
              <a:rect l="l" t="t" r="r" b="b"/>
              <a:pathLst>
                <a:path w="914" h="1268">
                  <a:moveTo>
                    <a:pt x="260" y="37"/>
                  </a:moveTo>
                  <a:lnTo>
                    <a:pt x="219" y="62"/>
                  </a:lnTo>
                  <a:lnTo>
                    <a:pt x="180" y="90"/>
                  </a:lnTo>
                  <a:lnTo>
                    <a:pt x="144" y="121"/>
                  </a:lnTo>
                  <a:lnTo>
                    <a:pt x="110" y="155"/>
                  </a:lnTo>
                  <a:lnTo>
                    <a:pt x="81" y="193"/>
                  </a:lnTo>
                  <a:lnTo>
                    <a:pt x="54" y="235"/>
                  </a:lnTo>
                  <a:lnTo>
                    <a:pt x="33" y="278"/>
                  </a:lnTo>
                  <a:lnTo>
                    <a:pt x="17" y="324"/>
                  </a:lnTo>
                  <a:lnTo>
                    <a:pt x="6" y="374"/>
                  </a:lnTo>
                  <a:lnTo>
                    <a:pt x="0" y="427"/>
                  </a:lnTo>
                  <a:lnTo>
                    <a:pt x="1" y="482"/>
                  </a:lnTo>
                  <a:lnTo>
                    <a:pt x="8" y="540"/>
                  </a:lnTo>
                  <a:lnTo>
                    <a:pt x="23" y="601"/>
                  </a:lnTo>
                  <a:lnTo>
                    <a:pt x="46" y="665"/>
                  </a:lnTo>
                  <a:lnTo>
                    <a:pt x="76" y="731"/>
                  </a:lnTo>
                  <a:lnTo>
                    <a:pt x="115" y="800"/>
                  </a:lnTo>
                  <a:lnTo>
                    <a:pt x="128" y="819"/>
                  </a:lnTo>
                  <a:lnTo>
                    <a:pt x="139" y="836"/>
                  </a:lnTo>
                  <a:lnTo>
                    <a:pt x="152" y="854"/>
                  </a:lnTo>
                  <a:lnTo>
                    <a:pt x="163" y="873"/>
                  </a:lnTo>
                  <a:lnTo>
                    <a:pt x="176" y="891"/>
                  </a:lnTo>
                  <a:lnTo>
                    <a:pt x="188" y="908"/>
                  </a:lnTo>
                  <a:lnTo>
                    <a:pt x="200" y="927"/>
                  </a:lnTo>
                  <a:lnTo>
                    <a:pt x="212" y="945"/>
                  </a:lnTo>
                  <a:lnTo>
                    <a:pt x="216" y="957"/>
                  </a:lnTo>
                  <a:lnTo>
                    <a:pt x="221" y="967"/>
                  </a:lnTo>
                  <a:lnTo>
                    <a:pt x="226" y="979"/>
                  </a:lnTo>
                  <a:lnTo>
                    <a:pt x="230" y="990"/>
                  </a:lnTo>
                  <a:lnTo>
                    <a:pt x="234" y="1002"/>
                  </a:lnTo>
                  <a:lnTo>
                    <a:pt x="238" y="1012"/>
                  </a:lnTo>
                  <a:lnTo>
                    <a:pt x="243" y="1024"/>
                  </a:lnTo>
                  <a:lnTo>
                    <a:pt x="248" y="1035"/>
                  </a:lnTo>
                  <a:lnTo>
                    <a:pt x="253" y="1080"/>
                  </a:lnTo>
                  <a:lnTo>
                    <a:pt x="258" y="1126"/>
                  </a:lnTo>
                  <a:lnTo>
                    <a:pt x="264" y="1172"/>
                  </a:lnTo>
                  <a:lnTo>
                    <a:pt x="268" y="1218"/>
                  </a:lnTo>
                  <a:lnTo>
                    <a:pt x="274" y="1231"/>
                  </a:lnTo>
                  <a:lnTo>
                    <a:pt x="281" y="1242"/>
                  </a:lnTo>
                  <a:lnTo>
                    <a:pt x="287" y="1255"/>
                  </a:lnTo>
                  <a:lnTo>
                    <a:pt x="294" y="1268"/>
                  </a:lnTo>
                  <a:lnTo>
                    <a:pt x="314" y="1268"/>
                  </a:lnTo>
                  <a:lnTo>
                    <a:pt x="334" y="1268"/>
                  </a:lnTo>
                  <a:lnTo>
                    <a:pt x="355" y="1268"/>
                  </a:lnTo>
                  <a:lnTo>
                    <a:pt x="375" y="1268"/>
                  </a:lnTo>
                  <a:lnTo>
                    <a:pt x="395" y="1268"/>
                  </a:lnTo>
                  <a:lnTo>
                    <a:pt x="416" y="1268"/>
                  </a:lnTo>
                  <a:lnTo>
                    <a:pt x="435" y="1268"/>
                  </a:lnTo>
                  <a:lnTo>
                    <a:pt x="456" y="1268"/>
                  </a:lnTo>
                  <a:lnTo>
                    <a:pt x="477" y="1268"/>
                  </a:lnTo>
                  <a:lnTo>
                    <a:pt x="496" y="1268"/>
                  </a:lnTo>
                  <a:lnTo>
                    <a:pt x="517" y="1268"/>
                  </a:lnTo>
                  <a:lnTo>
                    <a:pt x="538" y="1268"/>
                  </a:lnTo>
                  <a:lnTo>
                    <a:pt x="557" y="1268"/>
                  </a:lnTo>
                  <a:lnTo>
                    <a:pt x="578" y="1268"/>
                  </a:lnTo>
                  <a:lnTo>
                    <a:pt x="598" y="1268"/>
                  </a:lnTo>
                  <a:lnTo>
                    <a:pt x="618" y="1268"/>
                  </a:lnTo>
                  <a:lnTo>
                    <a:pt x="624" y="1263"/>
                  </a:lnTo>
                  <a:lnTo>
                    <a:pt x="630" y="1259"/>
                  </a:lnTo>
                  <a:lnTo>
                    <a:pt x="636" y="1254"/>
                  </a:lnTo>
                  <a:lnTo>
                    <a:pt x="641" y="1249"/>
                  </a:lnTo>
                  <a:lnTo>
                    <a:pt x="646" y="1246"/>
                  </a:lnTo>
                  <a:lnTo>
                    <a:pt x="652" y="1241"/>
                  </a:lnTo>
                  <a:lnTo>
                    <a:pt x="657" y="1237"/>
                  </a:lnTo>
                  <a:lnTo>
                    <a:pt x="663" y="1232"/>
                  </a:lnTo>
                  <a:lnTo>
                    <a:pt x="666" y="1189"/>
                  </a:lnTo>
                  <a:lnTo>
                    <a:pt x="669" y="1147"/>
                  </a:lnTo>
                  <a:lnTo>
                    <a:pt x="672" y="1105"/>
                  </a:lnTo>
                  <a:lnTo>
                    <a:pt x="675" y="1063"/>
                  </a:lnTo>
                  <a:lnTo>
                    <a:pt x="682" y="1037"/>
                  </a:lnTo>
                  <a:lnTo>
                    <a:pt x="689" y="1013"/>
                  </a:lnTo>
                  <a:lnTo>
                    <a:pt x="695" y="989"/>
                  </a:lnTo>
                  <a:lnTo>
                    <a:pt x="702" y="965"/>
                  </a:lnTo>
                  <a:lnTo>
                    <a:pt x="707" y="951"/>
                  </a:lnTo>
                  <a:lnTo>
                    <a:pt x="713" y="938"/>
                  </a:lnTo>
                  <a:lnTo>
                    <a:pt x="720" y="925"/>
                  </a:lnTo>
                  <a:lnTo>
                    <a:pt x="727" y="912"/>
                  </a:lnTo>
                  <a:lnTo>
                    <a:pt x="733" y="900"/>
                  </a:lnTo>
                  <a:lnTo>
                    <a:pt x="740" y="888"/>
                  </a:lnTo>
                  <a:lnTo>
                    <a:pt x="748" y="876"/>
                  </a:lnTo>
                  <a:lnTo>
                    <a:pt x="756" y="863"/>
                  </a:lnTo>
                  <a:lnTo>
                    <a:pt x="771" y="843"/>
                  </a:lnTo>
                  <a:lnTo>
                    <a:pt x="788" y="821"/>
                  </a:lnTo>
                  <a:lnTo>
                    <a:pt x="804" y="796"/>
                  </a:lnTo>
                  <a:lnTo>
                    <a:pt x="820" y="769"/>
                  </a:lnTo>
                  <a:lnTo>
                    <a:pt x="836" y="741"/>
                  </a:lnTo>
                  <a:lnTo>
                    <a:pt x="851" y="710"/>
                  </a:lnTo>
                  <a:lnTo>
                    <a:pt x="866" y="678"/>
                  </a:lnTo>
                  <a:lnTo>
                    <a:pt x="879" y="643"/>
                  </a:lnTo>
                  <a:lnTo>
                    <a:pt x="890" y="608"/>
                  </a:lnTo>
                  <a:lnTo>
                    <a:pt x="900" y="570"/>
                  </a:lnTo>
                  <a:lnTo>
                    <a:pt x="907" y="529"/>
                  </a:lnTo>
                  <a:lnTo>
                    <a:pt x="912" y="488"/>
                  </a:lnTo>
                  <a:lnTo>
                    <a:pt x="914" y="444"/>
                  </a:lnTo>
                  <a:lnTo>
                    <a:pt x="912" y="399"/>
                  </a:lnTo>
                  <a:lnTo>
                    <a:pt x="906" y="352"/>
                  </a:lnTo>
                  <a:lnTo>
                    <a:pt x="897" y="303"/>
                  </a:lnTo>
                  <a:lnTo>
                    <a:pt x="880" y="250"/>
                  </a:lnTo>
                  <a:lnTo>
                    <a:pt x="856" y="201"/>
                  </a:lnTo>
                  <a:lnTo>
                    <a:pt x="826" y="159"/>
                  </a:lnTo>
                  <a:lnTo>
                    <a:pt x="790" y="122"/>
                  </a:lnTo>
                  <a:lnTo>
                    <a:pt x="751" y="91"/>
                  </a:lnTo>
                  <a:lnTo>
                    <a:pt x="707" y="64"/>
                  </a:lnTo>
                  <a:lnTo>
                    <a:pt x="662" y="42"/>
                  </a:lnTo>
                  <a:lnTo>
                    <a:pt x="615" y="25"/>
                  </a:lnTo>
                  <a:lnTo>
                    <a:pt x="565" y="12"/>
                  </a:lnTo>
                  <a:lnTo>
                    <a:pt x="517" y="4"/>
                  </a:lnTo>
                  <a:lnTo>
                    <a:pt x="469" y="0"/>
                  </a:lnTo>
                  <a:lnTo>
                    <a:pt x="421" y="0"/>
                  </a:lnTo>
                  <a:lnTo>
                    <a:pt x="375" y="3"/>
                  </a:lnTo>
                  <a:lnTo>
                    <a:pt x="334" y="11"/>
                  </a:lnTo>
                  <a:lnTo>
                    <a:pt x="295" y="23"/>
                  </a:lnTo>
                  <a:lnTo>
                    <a:pt x="260" y="37"/>
                  </a:lnTo>
                  <a:close/>
                </a:path>
              </a:pathLst>
            </a:custGeom>
            <a:solidFill>
              <a:srgbClr val="ea7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5018760" y="1184400"/>
              <a:ext cx="450000" cy="579240"/>
            </a:xfrm>
            <a:custGeom>
              <a:avLst/>
              <a:gdLst/>
              <a:ahLst/>
              <a:rect l="l" t="t" r="r" b="b"/>
              <a:pathLst>
                <a:path w="908" h="1266">
                  <a:moveTo>
                    <a:pt x="259" y="36"/>
                  </a:moveTo>
                  <a:lnTo>
                    <a:pt x="218" y="61"/>
                  </a:lnTo>
                  <a:lnTo>
                    <a:pt x="179" y="89"/>
                  </a:lnTo>
                  <a:lnTo>
                    <a:pt x="142" y="120"/>
                  </a:lnTo>
                  <a:lnTo>
                    <a:pt x="110" y="154"/>
                  </a:lnTo>
                  <a:lnTo>
                    <a:pt x="80" y="192"/>
                  </a:lnTo>
                  <a:lnTo>
                    <a:pt x="53" y="234"/>
                  </a:lnTo>
                  <a:lnTo>
                    <a:pt x="33" y="278"/>
                  </a:lnTo>
                  <a:lnTo>
                    <a:pt x="17" y="324"/>
                  </a:lnTo>
                  <a:lnTo>
                    <a:pt x="5" y="373"/>
                  </a:lnTo>
                  <a:lnTo>
                    <a:pt x="0" y="426"/>
                  </a:lnTo>
                  <a:lnTo>
                    <a:pt x="0" y="481"/>
                  </a:lnTo>
                  <a:lnTo>
                    <a:pt x="8" y="539"/>
                  </a:lnTo>
                  <a:lnTo>
                    <a:pt x="23" y="600"/>
                  </a:lnTo>
                  <a:lnTo>
                    <a:pt x="46" y="665"/>
                  </a:lnTo>
                  <a:lnTo>
                    <a:pt x="76" y="730"/>
                  </a:lnTo>
                  <a:lnTo>
                    <a:pt x="116" y="799"/>
                  </a:lnTo>
                  <a:lnTo>
                    <a:pt x="127" y="817"/>
                  </a:lnTo>
                  <a:lnTo>
                    <a:pt x="139" y="835"/>
                  </a:lnTo>
                  <a:lnTo>
                    <a:pt x="151" y="852"/>
                  </a:lnTo>
                  <a:lnTo>
                    <a:pt x="163" y="871"/>
                  </a:lnTo>
                  <a:lnTo>
                    <a:pt x="175" y="889"/>
                  </a:lnTo>
                  <a:lnTo>
                    <a:pt x="187" y="908"/>
                  </a:lnTo>
                  <a:lnTo>
                    <a:pt x="200" y="925"/>
                  </a:lnTo>
                  <a:lnTo>
                    <a:pt x="211" y="943"/>
                  </a:lnTo>
                  <a:lnTo>
                    <a:pt x="216" y="955"/>
                  </a:lnTo>
                  <a:lnTo>
                    <a:pt x="220" y="965"/>
                  </a:lnTo>
                  <a:lnTo>
                    <a:pt x="225" y="977"/>
                  </a:lnTo>
                  <a:lnTo>
                    <a:pt x="230" y="988"/>
                  </a:lnTo>
                  <a:lnTo>
                    <a:pt x="234" y="1000"/>
                  </a:lnTo>
                  <a:lnTo>
                    <a:pt x="239" y="1010"/>
                  </a:lnTo>
                  <a:lnTo>
                    <a:pt x="243" y="1022"/>
                  </a:lnTo>
                  <a:lnTo>
                    <a:pt x="248" y="1033"/>
                  </a:lnTo>
                  <a:lnTo>
                    <a:pt x="253" y="1078"/>
                  </a:lnTo>
                  <a:lnTo>
                    <a:pt x="257" y="1124"/>
                  </a:lnTo>
                  <a:lnTo>
                    <a:pt x="263" y="1170"/>
                  </a:lnTo>
                  <a:lnTo>
                    <a:pt x="268" y="1216"/>
                  </a:lnTo>
                  <a:lnTo>
                    <a:pt x="273" y="1229"/>
                  </a:lnTo>
                  <a:lnTo>
                    <a:pt x="280" y="1240"/>
                  </a:lnTo>
                  <a:lnTo>
                    <a:pt x="286" y="1253"/>
                  </a:lnTo>
                  <a:lnTo>
                    <a:pt x="293" y="1266"/>
                  </a:lnTo>
                  <a:lnTo>
                    <a:pt x="312" y="1266"/>
                  </a:lnTo>
                  <a:lnTo>
                    <a:pt x="333" y="1266"/>
                  </a:lnTo>
                  <a:lnTo>
                    <a:pt x="353" y="1266"/>
                  </a:lnTo>
                  <a:lnTo>
                    <a:pt x="373" y="1266"/>
                  </a:lnTo>
                  <a:lnTo>
                    <a:pt x="393" y="1266"/>
                  </a:lnTo>
                  <a:lnTo>
                    <a:pt x="414" y="1266"/>
                  </a:lnTo>
                  <a:lnTo>
                    <a:pt x="433" y="1266"/>
                  </a:lnTo>
                  <a:lnTo>
                    <a:pt x="454" y="1266"/>
                  </a:lnTo>
                  <a:lnTo>
                    <a:pt x="475" y="1266"/>
                  </a:lnTo>
                  <a:lnTo>
                    <a:pt x="494" y="1266"/>
                  </a:lnTo>
                  <a:lnTo>
                    <a:pt x="515" y="1266"/>
                  </a:lnTo>
                  <a:lnTo>
                    <a:pt x="535" y="1266"/>
                  </a:lnTo>
                  <a:lnTo>
                    <a:pt x="555" y="1266"/>
                  </a:lnTo>
                  <a:lnTo>
                    <a:pt x="575" y="1266"/>
                  </a:lnTo>
                  <a:lnTo>
                    <a:pt x="596" y="1266"/>
                  </a:lnTo>
                  <a:lnTo>
                    <a:pt x="615" y="1266"/>
                  </a:lnTo>
                  <a:lnTo>
                    <a:pt x="621" y="1261"/>
                  </a:lnTo>
                  <a:lnTo>
                    <a:pt x="626" y="1257"/>
                  </a:lnTo>
                  <a:lnTo>
                    <a:pt x="631" y="1252"/>
                  </a:lnTo>
                  <a:lnTo>
                    <a:pt x="637" y="1247"/>
                  </a:lnTo>
                  <a:lnTo>
                    <a:pt x="642" y="1243"/>
                  </a:lnTo>
                  <a:lnTo>
                    <a:pt x="648" y="1238"/>
                  </a:lnTo>
                  <a:lnTo>
                    <a:pt x="652" y="1233"/>
                  </a:lnTo>
                  <a:lnTo>
                    <a:pt x="658" y="1229"/>
                  </a:lnTo>
                  <a:lnTo>
                    <a:pt x="660" y="1186"/>
                  </a:lnTo>
                  <a:lnTo>
                    <a:pt x="664" y="1145"/>
                  </a:lnTo>
                  <a:lnTo>
                    <a:pt x="667" y="1103"/>
                  </a:lnTo>
                  <a:lnTo>
                    <a:pt x="669" y="1061"/>
                  </a:lnTo>
                  <a:lnTo>
                    <a:pt x="676" y="1037"/>
                  </a:lnTo>
                  <a:lnTo>
                    <a:pt x="683" y="1011"/>
                  </a:lnTo>
                  <a:lnTo>
                    <a:pt x="690" y="987"/>
                  </a:lnTo>
                  <a:lnTo>
                    <a:pt x="697" y="963"/>
                  </a:lnTo>
                  <a:lnTo>
                    <a:pt x="703" y="949"/>
                  </a:lnTo>
                  <a:lnTo>
                    <a:pt x="709" y="936"/>
                  </a:lnTo>
                  <a:lnTo>
                    <a:pt x="714" y="924"/>
                  </a:lnTo>
                  <a:lnTo>
                    <a:pt x="721" y="911"/>
                  </a:lnTo>
                  <a:lnTo>
                    <a:pt x="729" y="898"/>
                  </a:lnTo>
                  <a:lnTo>
                    <a:pt x="736" y="886"/>
                  </a:lnTo>
                  <a:lnTo>
                    <a:pt x="744" y="874"/>
                  </a:lnTo>
                  <a:lnTo>
                    <a:pt x="752" y="861"/>
                  </a:lnTo>
                  <a:lnTo>
                    <a:pt x="767" y="841"/>
                  </a:lnTo>
                  <a:lnTo>
                    <a:pt x="782" y="819"/>
                  </a:lnTo>
                  <a:lnTo>
                    <a:pt x="798" y="795"/>
                  </a:lnTo>
                  <a:lnTo>
                    <a:pt x="815" y="768"/>
                  </a:lnTo>
                  <a:lnTo>
                    <a:pt x="831" y="741"/>
                  </a:lnTo>
                  <a:lnTo>
                    <a:pt x="846" y="709"/>
                  </a:lnTo>
                  <a:lnTo>
                    <a:pt x="859" y="677"/>
                  </a:lnTo>
                  <a:lnTo>
                    <a:pt x="873" y="644"/>
                  </a:lnTo>
                  <a:lnTo>
                    <a:pt x="885" y="607"/>
                  </a:lnTo>
                  <a:lnTo>
                    <a:pt x="894" y="570"/>
                  </a:lnTo>
                  <a:lnTo>
                    <a:pt x="902" y="530"/>
                  </a:lnTo>
                  <a:lnTo>
                    <a:pt x="907" y="488"/>
                  </a:lnTo>
                  <a:lnTo>
                    <a:pt x="908" y="445"/>
                  </a:lnTo>
                  <a:lnTo>
                    <a:pt x="907" y="400"/>
                  </a:lnTo>
                  <a:lnTo>
                    <a:pt x="901" y="352"/>
                  </a:lnTo>
                  <a:lnTo>
                    <a:pt x="892" y="303"/>
                  </a:lnTo>
                  <a:lnTo>
                    <a:pt x="874" y="250"/>
                  </a:lnTo>
                  <a:lnTo>
                    <a:pt x="850" y="202"/>
                  </a:lnTo>
                  <a:lnTo>
                    <a:pt x="820" y="160"/>
                  </a:lnTo>
                  <a:lnTo>
                    <a:pt x="786" y="123"/>
                  </a:lnTo>
                  <a:lnTo>
                    <a:pt x="747" y="91"/>
                  </a:lnTo>
                  <a:lnTo>
                    <a:pt x="704" y="64"/>
                  </a:lnTo>
                  <a:lnTo>
                    <a:pt x="659" y="43"/>
                  </a:lnTo>
                  <a:lnTo>
                    <a:pt x="612" y="25"/>
                  </a:lnTo>
                  <a:lnTo>
                    <a:pt x="565" y="13"/>
                  </a:lnTo>
                  <a:lnTo>
                    <a:pt x="516" y="5"/>
                  </a:lnTo>
                  <a:lnTo>
                    <a:pt x="468" y="0"/>
                  </a:lnTo>
                  <a:lnTo>
                    <a:pt x="421" y="0"/>
                  </a:lnTo>
                  <a:lnTo>
                    <a:pt x="376" y="3"/>
                  </a:lnTo>
                  <a:lnTo>
                    <a:pt x="333" y="10"/>
                  </a:lnTo>
                  <a:lnTo>
                    <a:pt x="294" y="22"/>
                  </a:lnTo>
                  <a:lnTo>
                    <a:pt x="259" y="36"/>
                  </a:lnTo>
                  <a:close/>
                </a:path>
              </a:pathLst>
            </a:custGeom>
            <a:solidFill>
              <a:srgbClr val="ed7f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5019840" y="1186200"/>
              <a:ext cx="447120" cy="577440"/>
            </a:xfrm>
            <a:custGeom>
              <a:avLst/>
              <a:gdLst/>
              <a:ahLst/>
              <a:rect l="l" t="t" r="r" b="b"/>
              <a:pathLst>
                <a:path w="902" h="1264">
                  <a:moveTo>
                    <a:pt x="260" y="36"/>
                  </a:moveTo>
                  <a:lnTo>
                    <a:pt x="218" y="60"/>
                  </a:lnTo>
                  <a:lnTo>
                    <a:pt x="179" y="89"/>
                  </a:lnTo>
                  <a:lnTo>
                    <a:pt x="142" y="120"/>
                  </a:lnTo>
                  <a:lnTo>
                    <a:pt x="109" y="155"/>
                  </a:lnTo>
                  <a:lnTo>
                    <a:pt x="79" y="191"/>
                  </a:lnTo>
                  <a:lnTo>
                    <a:pt x="54" y="233"/>
                  </a:lnTo>
                  <a:lnTo>
                    <a:pt x="32" y="277"/>
                  </a:lnTo>
                  <a:lnTo>
                    <a:pt x="16" y="323"/>
                  </a:lnTo>
                  <a:lnTo>
                    <a:pt x="5" y="372"/>
                  </a:lnTo>
                  <a:lnTo>
                    <a:pt x="0" y="425"/>
                  </a:lnTo>
                  <a:lnTo>
                    <a:pt x="1" y="481"/>
                  </a:lnTo>
                  <a:lnTo>
                    <a:pt x="9" y="538"/>
                  </a:lnTo>
                  <a:lnTo>
                    <a:pt x="24" y="599"/>
                  </a:lnTo>
                  <a:lnTo>
                    <a:pt x="47" y="663"/>
                  </a:lnTo>
                  <a:lnTo>
                    <a:pt x="77" y="728"/>
                  </a:lnTo>
                  <a:lnTo>
                    <a:pt x="116" y="797"/>
                  </a:lnTo>
                  <a:lnTo>
                    <a:pt x="127" y="816"/>
                  </a:lnTo>
                  <a:lnTo>
                    <a:pt x="140" y="833"/>
                  </a:lnTo>
                  <a:lnTo>
                    <a:pt x="152" y="851"/>
                  </a:lnTo>
                  <a:lnTo>
                    <a:pt x="164" y="869"/>
                  </a:lnTo>
                  <a:lnTo>
                    <a:pt x="176" y="887"/>
                  </a:lnTo>
                  <a:lnTo>
                    <a:pt x="188" y="906"/>
                  </a:lnTo>
                  <a:lnTo>
                    <a:pt x="200" y="923"/>
                  </a:lnTo>
                  <a:lnTo>
                    <a:pt x="211" y="941"/>
                  </a:lnTo>
                  <a:lnTo>
                    <a:pt x="216" y="953"/>
                  </a:lnTo>
                  <a:lnTo>
                    <a:pt x="221" y="964"/>
                  </a:lnTo>
                  <a:lnTo>
                    <a:pt x="225" y="975"/>
                  </a:lnTo>
                  <a:lnTo>
                    <a:pt x="230" y="986"/>
                  </a:lnTo>
                  <a:lnTo>
                    <a:pt x="234" y="998"/>
                  </a:lnTo>
                  <a:lnTo>
                    <a:pt x="239" y="1009"/>
                  </a:lnTo>
                  <a:lnTo>
                    <a:pt x="244" y="1021"/>
                  </a:lnTo>
                  <a:lnTo>
                    <a:pt x="248" y="1032"/>
                  </a:lnTo>
                  <a:lnTo>
                    <a:pt x="253" y="1077"/>
                  </a:lnTo>
                  <a:lnTo>
                    <a:pt x="257" y="1122"/>
                  </a:lnTo>
                  <a:lnTo>
                    <a:pt x="263" y="1168"/>
                  </a:lnTo>
                  <a:lnTo>
                    <a:pt x="268" y="1214"/>
                  </a:lnTo>
                  <a:lnTo>
                    <a:pt x="274" y="1227"/>
                  </a:lnTo>
                  <a:lnTo>
                    <a:pt x="281" y="1238"/>
                  </a:lnTo>
                  <a:lnTo>
                    <a:pt x="286" y="1251"/>
                  </a:lnTo>
                  <a:lnTo>
                    <a:pt x="293" y="1264"/>
                  </a:lnTo>
                  <a:lnTo>
                    <a:pt x="313" y="1264"/>
                  </a:lnTo>
                  <a:lnTo>
                    <a:pt x="333" y="1264"/>
                  </a:lnTo>
                  <a:lnTo>
                    <a:pt x="353" y="1264"/>
                  </a:lnTo>
                  <a:lnTo>
                    <a:pt x="374" y="1264"/>
                  </a:lnTo>
                  <a:lnTo>
                    <a:pt x="393" y="1264"/>
                  </a:lnTo>
                  <a:lnTo>
                    <a:pt x="414" y="1264"/>
                  </a:lnTo>
                  <a:lnTo>
                    <a:pt x="434" y="1264"/>
                  </a:lnTo>
                  <a:lnTo>
                    <a:pt x="454" y="1264"/>
                  </a:lnTo>
                  <a:lnTo>
                    <a:pt x="474" y="1264"/>
                  </a:lnTo>
                  <a:lnTo>
                    <a:pt x="494" y="1264"/>
                  </a:lnTo>
                  <a:lnTo>
                    <a:pt x="514" y="1264"/>
                  </a:lnTo>
                  <a:lnTo>
                    <a:pt x="534" y="1264"/>
                  </a:lnTo>
                  <a:lnTo>
                    <a:pt x="555" y="1264"/>
                  </a:lnTo>
                  <a:lnTo>
                    <a:pt x="574" y="1264"/>
                  </a:lnTo>
                  <a:lnTo>
                    <a:pt x="595" y="1264"/>
                  </a:lnTo>
                  <a:lnTo>
                    <a:pt x="614" y="1264"/>
                  </a:lnTo>
                  <a:lnTo>
                    <a:pt x="619" y="1259"/>
                  </a:lnTo>
                  <a:lnTo>
                    <a:pt x="624" y="1255"/>
                  </a:lnTo>
                  <a:lnTo>
                    <a:pt x="628" y="1250"/>
                  </a:lnTo>
                  <a:lnTo>
                    <a:pt x="634" y="1245"/>
                  </a:lnTo>
                  <a:lnTo>
                    <a:pt x="639" y="1241"/>
                  </a:lnTo>
                  <a:lnTo>
                    <a:pt x="643" y="1236"/>
                  </a:lnTo>
                  <a:lnTo>
                    <a:pt x="649" y="1231"/>
                  </a:lnTo>
                  <a:lnTo>
                    <a:pt x="654" y="1227"/>
                  </a:lnTo>
                  <a:lnTo>
                    <a:pt x="656" y="1184"/>
                  </a:lnTo>
                  <a:lnTo>
                    <a:pt x="659" y="1143"/>
                  </a:lnTo>
                  <a:lnTo>
                    <a:pt x="663" y="1101"/>
                  </a:lnTo>
                  <a:lnTo>
                    <a:pt x="665" y="1059"/>
                  </a:lnTo>
                  <a:lnTo>
                    <a:pt x="672" y="1035"/>
                  </a:lnTo>
                  <a:lnTo>
                    <a:pt x="679" y="1009"/>
                  </a:lnTo>
                  <a:lnTo>
                    <a:pt x="686" y="985"/>
                  </a:lnTo>
                  <a:lnTo>
                    <a:pt x="693" y="961"/>
                  </a:lnTo>
                  <a:lnTo>
                    <a:pt x="699" y="947"/>
                  </a:lnTo>
                  <a:lnTo>
                    <a:pt x="704" y="934"/>
                  </a:lnTo>
                  <a:lnTo>
                    <a:pt x="710" y="922"/>
                  </a:lnTo>
                  <a:lnTo>
                    <a:pt x="717" y="909"/>
                  </a:lnTo>
                  <a:lnTo>
                    <a:pt x="725" y="896"/>
                  </a:lnTo>
                  <a:lnTo>
                    <a:pt x="732" y="885"/>
                  </a:lnTo>
                  <a:lnTo>
                    <a:pt x="740" y="872"/>
                  </a:lnTo>
                  <a:lnTo>
                    <a:pt x="748" y="861"/>
                  </a:lnTo>
                  <a:lnTo>
                    <a:pt x="763" y="840"/>
                  </a:lnTo>
                  <a:lnTo>
                    <a:pt x="778" y="818"/>
                  </a:lnTo>
                  <a:lnTo>
                    <a:pt x="794" y="794"/>
                  </a:lnTo>
                  <a:lnTo>
                    <a:pt x="810" y="767"/>
                  </a:lnTo>
                  <a:lnTo>
                    <a:pt x="825" y="740"/>
                  </a:lnTo>
                  <a:lnTo>
                    <a:pt x="841" y="710"/>
                  </a:lnTo>
                  <a:lnTo>
                    <a:pt x="855" y="677"/>
                  </a:lnTo>
                  <a:lnTo>
                    <a:pt x="868" y="643"/>
                  </a:lnTo>
                  <a:lnTo>
                    <a:pt x="879" y="607"/>
                  </a:lnTo>
                  <a:lnTo>
                    <a:pt x="889" y="569"/>
                  </a:lnTo>
                  <a:lnTo>
                    <a:pt x="897" y="530"/>
                  </a:lnTo>
                  <a:lnTo>
                    <a:pt x="901" y="489"/>
                  </a:lnTo>
                  <a:lnTo>
                    <a:pt x="902" y="445"/>
                  </a:lnTo>
                  <a:lnTo>
                    <a:pt x="901" y="399"/>
                  </a:lnTo>
                  <a:lnTo>
                    <a:pt x="895" y="353"/>
                  </a:lnTo>
                  <a:lnTo>
                    <a:pt x="886" y="303"/>
                  </a:lnTo>
                  <a:lnTo>
                    <a:pt x="869" y="250"/>
                  </a:lnTo>
                  <a:lnTo>
                    <a:pt x="845" y="203"/>
                  </a:lnTo>
                  <a:lnTo>
                    <a:pt x="815" y="160"/>
                  </a:lnTo>
                  <a:lnTo>
                    <a:pt x="781" y="124"/>
                  </a:lnTo>
                  <a:lnTo>
                    <a:pt x="743" y="92"/>
                  </a:lnTo>
                  <a:lnTo>
                    <a:pt x="701" y="66"/>
                  </a:lnTo>
                  <a:lnTo>
                    <a:pt x="657" y="44"/>
                  </a:lnTo>
                  <a:lnTo>
                    <a:pt x="611" y="27"/>
                  </a:lnTo>
                  <a:lnTo>
                    <a:pt x="564" y="14"/>
                  </a:lnTo>
                  <a:lnTo>
                    <a:pt x="515" y="5"/>
                  </a:lnTo>
                  <a:lnTo>
                    <a:pt x="468" y="1"/>
                  </a:lnTo>
                  <a:lnTo>
                    <a:pt x="422" y="0"/>
                  </a:lnTo>
                  <a:lnTo>
                    <a:pt x="377" y="4"/>
                  </a:lnTo>
                  <a:lnTo>
                    <a:pt x="335" y="12"/>
                  </a:lnTo>
                  <a:lnTo>
                    <a:pt x="295" y="22"/>
                  </a:lnTo>
                  <a:lnTo>
                    <a:pt x="260" y="36"/>
                  </a:lnTo>
                  <a:close/>
                </a:path>
              </a:pathLst>
            </a:custGeom>
            <a:solidFill>
              <a:srgbClr val="ef8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5020560" y="1187280"/>
              <a:ext cx="444960" cy="576720"/>
            </a:xfrm>
            <a:custGeom>
              <a:avLst/>
              <a:gdLst/>
              <a:ahLst/>
              <a:rect l="l" t="t" r="r" b="b"/>
              <a:pathLst>
                <a:path w="898" h="1260">
                  <a:moveTo>
                    <a:pt x="260" y="34"/>
                  </a:moveTo>
                  <a:lnTo>
                    <a:pt x="219" y="58"/>
                  </a:lnTo>
                  <a:lnTo>
                    <a:pt x="179" y="86"/>
                  </a:lnTo>
                  <a:lnTo>
                    <a:pt x="143" y="117"/>
                  </a:lnTo>
                  <a:lnTo>
                    <a:pt x="109" y="152"/>
                  </a:lnTo>
                  <a:lnTo>
                    <a:pt x="79" y="190"/>
                  </a:lnTo>
                  <a:lnTo>
                    <a:pt x="54" y="230"/>
                  </a:lnTo>
                  <a:lnTo>
                    <a:pt x="32" y="273"/>
                  </a:lnTo>
                  <a:lnTo>
                    <a:pt x="16" y="320"/>
                  </a:lnTo>
                  <a:lnTo>
                    <a:pt x="6" y="369"/>
                  </a:lnTo>
                  <a:lnTo>
                    <a:pt x="0" y="421"/>
                  </a:lnTo>
                  <a:lnTo>
                    <a:pt x="1" y="477"/>
                  </a:lnTo>
                  <a:lnTo>
                    <a:pt x="9" y="534"/>
                  </a:lnTo>
                  <a:lnTo>
                    <a:pt x="24" y="595"/>
                  </a:lnTo>
                  <a:lnTo>
                    <a:pt x="47" y="659"/>
                  </a:lnTo>
                  <a:lnTo>
                    <a:pt x="77" y="724"/>
                  </a:lnTo>
                  <a:lnTo>
                    <a:pt x="116" y="793"/>
                  </a:lnTo>
                  <a:lnTo>
                    <a:pt x="128" y="812"/>
                  </a:lnTo>
                  <a:lnTo>
                    <a:pt x="140" y="829"/>
                  </a:lnTo>
                  <a:lnTo>
                    <a:pt x="152" y="847"/>
                  </a:lnTo>
                  <a:lnTo>
                    <a:pt x="165" y="866"/>
                  </a:lnTo>
                  <a:lnTo>
                    <a:pt x="176" y="884"/>
                  </a:lnTo>
                  <a:lnTo>
                    <a:pt x="189" y="902"/>
                  </a:lnTo>
                  <a:lnTo>
                    <a:pt x="200" y="920"/>
                  </a:lnTo>
                  <a:lnTo>
                    <a:pt x="212" y="937"/>
                  </a:lnTo>
                  <a:lnTo>
                    <a:pt x="216" y="949"/>
                  </a:lnTo>
                  <a:lnTo>
                    <a:pt x="221" y="960"/>
                  </a:lnTo>
                  <a:lnTo>
                    <a:pt x="226" y="972"/>
                  </a:lnTo>
                  <a:lnTo>
                    <a:pt x="230" y="983"/>
                  </a:lnTo>
                  <a:lnTo>
                    <a:pt x="235" y="995"/>
                  </a:lnTo>
                  <a:lnTo>
                    <a:pt x="239" y="1005"/>
                  </a:lnTo>
                  <a:lnTo>
                    <a:pt x="244" y="1017"/>
                  </a:lnTo>
                  <a:lnTo>
                    <a:pt x="249" y="1028"/>
                  </a:lnTo>
                  <a:lnTo>
                    <a:pt x="253" y="1073"/>
                  </a:lnTo>
                  <a:lnTo>
                    <a:pt x="258" y="1118"/>
                  </a:lnTo>
                  <a:lnTo>
                    <a:pt x="264" y="1164"/>
                  </a:lnTo>
                  <a:lnTo>
                    <a:pt x="268" y="1210"/>
                  </a:lnTo>
                  <a:lnTo>
                    <a:pt x="274" y="1223"/>
                  </a:lnTo>
                  <a:lnTo>
                    <a:pt x="281" y="1234"/>
                  </a:lnTo>
                  <a:lnTo>
                    <a:pt x="287" y="1247"/>
                  </a:lnTo>
                  <a:lnTo>
                    <a:pt x="293" y="1260"/>
                  </a:lnTo>
                  <a:lnTo>
                    <a:pt x="313" y="1260"/>
                  </a:lnTo>
                  <a:lnTo>
                    <a:pt x="334" y="1260"/>
                  </a:lnTo>
                  <a:lnTo>
                    <a:pt x="353" y="1260"/>
                  </a:lnTo>
                  <a:lnTo>
                    <a:pt x="373" y="1260"/>
                  </a:lnTo>
                  <a:lnTo>
                    <a:pt x="393" y="1260"/>
                  </a:lnTo>
                  <a:lnTo>
                    <a:pt x="413" y="1260"/>
                  </a:lnTo>
                  <a:lnTo>
                    <a:pt x="433" y="1260"/>
                  </a:lnTo>
                  <a:lnTo>
                    <a:pt x="454" y="1260"/>
                  </a:lnTo>
                  <a:lnTo>
                    <a:pt x="473" y="1260"/>
                  </a:lnTo>
                  <a:lnTo>
                    <a:pt x="493" y="1260"/>
                  </a:lnTo>
                  <a:lnTo>
                    <a:pt x="513" y="1260"/>
                  </a:lnTo>
                  <a:lnTo>
                    <a:pt x="533" y="1260"/>
                  </a:lnTo>
                  <a:lnTo>
                    <a:pt x="553" y="1260"/>
                  </a:lnTo>
                  <a:lnTo>
                    <a:pt x="572" y="1260"/>
                  </a:lnTo>
                  <a:lnTo>
                    <a:pt x="593" y="1260"/>
                  </a:lnTo>
                  <a:lnTo>
                    <a:pt x="612" y="1260"/>
                  </a:lnTo>
                  <a:lnTo>
                    <a:pt x="617" y="1255"/>
                  </a:lnTo>
                  <a:lnTo>
                    <a:pt x="622" y="1251"/>
                  </a:lnTo>
                  <a:lnTo>
                    <a:pt x="626" y="1246"/>
                  </a:lnTo>
                  <a:lnTo>
                    <a:pt x="631" y="1240"/>
                  </a:lnTo>
                  <a:lnTo>
                    <a:pt x="635" y="1236"/>
                  </a:lnTo>
                  <a:lnTo>
                    <a:pt x="640" y="1231"/>
                  </a:lnTo>
                  <a:lnTo>
                    <a:pt x="645" y="1226"/>
                  </a:lnTo>
                  <a:lnTo>
                    <a:pt x="649" y="1222"/>
                  </a:lnTo>
                  <a:lnTo>
                    <a:pt x="652" y="1180"/>
                  </a:lnTo>
                  <a:lnTo>
                    <a:pt x="655" y="1139"/>
                  </a:lnTo>
                  <a:lnTo>
                    <a:pt x="659" y="1097"/>
                  </a:lnTo>
                  <a:lnTo>
                    <a:pt x="661" y="1055"/>
                  </a:lnTo>
                  <a:lnTo>
                    <a:pt x="668" y="1031"/>
                  </a:lnTo>
                  <a:lnTo>
                    <a:pt x="675" y="1005"/>
                  </a:lnTo>
                  <a:lnTo>
                    <a:pt x="682" y="981"/>
                  </a:lnTo>
                  <a:lnTo>
                    <a:pt x="688" y="957"/>
                  </a:lnTo>
                  <a:lnTo>
                    <a:pt x="694" y="944"/>
                  </a:lnTo>
                  <a:lnTo>
                    <a:pt x="700" y="931"/>
                  </a:lnTo>
                  <a:lnTo>
                    <a:pt x="707" y="919"/>
                  </a:lnTo>
                  <a:lnTo>
                    <a:pt x="714" y="906"/>
                  </a:lnTo>
                  <a:lnTo>
                    <a:pt x="721" y="893"/>
                  </a:lnTo>
                  <a:lnTo>
                    <a:pt x="729" y="881"/>
                  </a:lnTo>
                  <a:lnTo>
                    <a:pt x="736" y="869"/>
                  </a:lnTo>
                  <a:lnTo>
                    <a:pt x="744" y="857"/>
                  </a:lnTo>
                  <a:lnTo>
                    <a:pt x="758" y="837"/>
                  </a:lnTo>
                  <a:lnTo>
                    <a:pt x="774" y="815"/>
                  </a:lnTo>
                  <a:lnTo>
                    <a:pt x="789" y="791"/>
                  </a:lnTo>
                  <a:lnTo>
                    <a:pt x="805" y="764"/>
                  </a:lnTo>
                  <a:lnTo>
                    <a:pt x="821" y="737"/>
                  </a:lnTo>
                  <a:lnTo>
                    <a:pt x="836" y="707"/>
                  </a:lnTo>
                  <a:lnTo>
                    <a:pt x="850" y="675"/>
                  </a:lnTo>
                  <a:lnTo>
                    <a:pt x="863" y="641"/>
                  </a:lnTo>
                  <a:lnTo>
                    <a:pt x="874" y="606"/>
                  </a:lnTo>
                  <a:lnTo>
                    <a:pt x="884" y="568"/>
                  </a:lnTo>
                  <a:lnTo>
                    <a:pt x="891" y="527"/>
                  </a:lnTo>
                  <a:lnTo>
                    <a:pt x="896" y="486"/>
                  </a:lnTo>
                  <a:lnTo>
                    <a:pt x="898" y="442"/>
                  </a:lnTo>
                  <a:lnTo>
                    <a:pt x="896" y="397"/>
                  </a:lnTo>
                  <a:lnTo>
                    <a:pt x="891" y="350"/>
                  </a:lnTo>
                  <a:lnTo>
                    <a:pt x="882" y="300"/>
                  </a:lnTo>
                  <a:lnTo>
                    <a:pt x="863" y="247"/>
                  </a:lnTo>
                  <a:lnTo>
                    <a:pt x="840" y="200"/>
                  </a:lnTo>
                  <a:lnTo>
                    <a:pt x="811" y="159"/>
                  </a:lnTo>
                  <a:lnTo>
                    <a:pt x="777" y="122"/>
                  </a:lnTo>
                  <a:lnTo>
                    <a:pt x="739" y="91"/>
                  </a:lnTo>
                  <a:lnTo>
                    <a:pt x="699" y="64"/>
                  </a:lnTo>
                  <a:lnTo>
                    <a:pt x="655" y="42"/>
                  </a:lnTo>
                  <a:lnTo>
                    <a:pt x="609" y="25"/>
                  </a:lnTo>
                  <a:lnTo>
                    <a:pt x="563" y="12"/>
                  </a:lnTo>
                  <a:lnTo>
                    <a:pt x="516" y="4"/>
                  </a:lnTo>
                  <a:lnTo>
                    <a:pt x="469" y="0"/>
                  </a:lnTo>
                  <a:lnTo>
                    <a:pt x="422" y="0"/>
                  </a:lnTo>
                  <a:lnTo>
                    <a:pt x="378" y="3"/>
                  </a:lnTo>
                  <a:lnTo>
                    <a:pt x="335" y="10"/>
                  </a:lnTo>
                  <a:lnTo>
                    <a:pt x="296" y="20"/>
                  </a:lnTo>
                  <a:lnTo>
                    <a:pt x="260" y="34"/>
                  </a:lnTo>
                  <a:close/>
                </a:path>
              </a:pathLst>
            </a:custGeom>
            <a:solidFill>
              <a:srgbClr val="f29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022720" y="1189080"/>
              <a:ext cx="441000" cy="574560"/>
            </a:xfrm>
            <a:custGeom>
              <a:avLst/>
              <a:gdLst/>
              <a:ahLst/>
              <a:rect l="l" t="t" r="r" b="b"/>
              <a:pathLst>
                <a:path w="892" h="1258">
                  <a:moveTo>
                    <a:pt x="259" y="33"/>
                  </a:moveTo>
                  <a:lnTo>
                    <a:pt x="218" y="58"/>
                  </a:lnTo>
                  <a:lnTo>
                    <a:pt x="178" y="85"/>
                  </a:lnTo>
                  <a:lnTo>
                    <a:pt x="142" y="116"/>
                  </a:lnTo>
                  <a:lnTo>
                    <a:pt x="109" y="151"/>
                  </a:lnTo>
                  <a:lnTo>
                    <a:pt x="79" y="189"/>
                  </a:lnTo>
                  <a:lnTo>
                    <a:pt x="53" y="229"/>
                  </a:lnTo>
                  <a:lnTo>
                    <a:pt x="31" y="272"/>
                  </a:lnTo>
                  <a:lnTo>
                    <a:pt x="15" y="319"/>
                  </a:lnTo>
                  <a:lnTo>
                    <a:pt x="5" y="369"/>
                  </a:lnTo>
                  <a:lnTo>
                    <a:pt x="0" y="420"/>
                  </a:lnTo>
                  <a:lnTo>
                    <a:pt x="1" y="476"/>
                  </a:lnTo>
                  <a:lnTo>
                    <a:pt x="10" y="533"/>
                  </a:lnTo>
                  <a:lnTo>
                    <a:pt x="24" y="594"/>
                  </a:lnTo>
                  <a:lnTo>
                    <a:pt x="48" y="658"/>
                  </a:lnTo>
                  <a:lnTo>
                    <a:pt x="77" y="723"/>
                  </a:lnTo>
                  <a:lnTo>
                    <a:pt x="117" y="792"/>
                  </a:lnTo>
                  <a:lnTo>
                    <a:pt x="128" y="810"/>
                  </a:lnTo>
                  <a:lnTo>
                    <a:pt x="140" y="828"/>
                  </a:lnTo>
                  <a:lnTo>
                    <a:pt x="152" y="845"/>
                  </a:lnTo>
                  <a:lnTo>
                    <a:pt x="164" y="864"/>
                  </a:lnTo>
                  <a:lnTo>
                    <a:pt x="176" y="882"/>
                  </a:lnTo>
                  <a:lnTo>
                    <a:pt x="188" y="901"/>
                  </a:lnTo>
                  <a:lnTo>
                    <a:pt x="201" y="918"/>
                  </a:lnTo>
                  <a:lnTo>
                    <a:pt x="212" y="936"/>
                  </a:lnTo>
                  <a:lnTo>
                    <a:pt x="217" y="948"/>
                  </a:lnTo>
                  <a:lnTo>
                    <a:pt x="221" y="958"/>
                  </a:lnTo>
                  <a:lnTo>
                    <a:pt x="225" y="970"/>
                  </a:lnTo>
                  <a:lnTo>
                    <a:pt x="229" y="981"/>
                  </a:lnTo>
                  <a:lnTo>
                    <a:pt x="234" y="993"/>
                  </a:lnTo>
                  <a:lnTo>
                    <a:pt x="239" y="1003"/>
                  </a:lnTo>
                  <a:lnTo>
                    <a:pt x="243" y="1015"/>
                  </a:lnTo>
                  <a:lnTo>
                    <a:pt x="248" y="1026"/>
                  </a:lnTo>
                  <a:lnTo>
                    <a:pt x="252" y="1072"/>
                  </a:lnTo>
                  <a:lnTo>
                    <a:pt x="257" y="1117"/>
                  </a:lnTo>
                  <a:lnTo>
                    <a:pt x="263" y="1162"/>
                  </a:lnTo>
                  <a:lnTo>
                    <a:pt x="267" y="1208"/>
                  </a:lnTo>
                  <a:lnTo>
                    <a:pt x="273" y="1221"/>
                  </a:lnTo>
                  <a:lnTo>
                    <a:pt x="280" y="1232"/>
                  </a:lnTo>
                  <a:lnTo>
                    <a:pt x="286" y="1245"/>
                  </a:lnTo>
                  <a:lnTo>
                    <a:pt x="293" y="1258"/>
                  </a:lnTo>
                  <a:lnTo>
                    <a:pt x="312" y="1258"/>
                  </a:lnTo>
                  <a:lnTo>
                    <a:pt x="333" y="1258"/>
                  </a:lnTo>
                  <a:lnTo>
                    <a:pt x="353" y="1258"/>
                  </a:lnTo>
                  <a:lnTo>
                    <a:pt x="372" y="1258"/>
                  </a:lnTo>
                  <a:lnTo>
                    <a:pt x="392" y="1258"/>
                  </a:lnTo>
                  <a:lnTo>
                    <a:pt x="413" y="1258"/>
                  </a:lnTo>
                  <a:lnTo>
                    <a:pt x="432" y="1258"/>
                  </a:lnTo>
                  <a:lnTo>
                    <a:pt x="452" y="1258"/>
                  </a:lnTo>
                  <a:lnTo>
                    <a:pt x="471" y="1258"/>
                  </a:lnTo>
                  <a:lnTo>
                    <a:pt x="492" y="1258"/>
                  </a:lnTo>
                  <a:lnTo>
                    <a:pt x="512" y="1258"/>
                  </a:lnTo>
                  <a:lnTo>
                    <a:pt x="531" y="1258"/>
                  </a:lnTo>
                  <a:lnTo>
                    <a:pt x="551" y="1258"/>
                  </a:lnTo>
                  <a:lnTo>
                    <a:pt x="571" y="1258"/>
                  </a:lnTo>
                  <a:lnTo>
                    <a:pt x="591" y="1258"/>
                  </a:lnTo>
                  <a:lnTo>
                    <a:pt x="611" y="1258"/>
                  </a:lnTo>
                  <a:lnTo>
                    <a:pt x="619" y="1249"/>
                  </a:lnTo>
                  <a:lnTo>
                    <a:pt x="627" y="1238"/>
                  </a:lnTo>
                  <a:lnTo>
                    <a:pt x="636" y="1229"/>
                  </a:lnTo>
                  <a:lnTo>
                    <a:pt x="644" y="1220"/>
                  </a:lnTo>
                  <a:lnTo>
                    <a:pt x="646" y="1178"/>
                  </a:lnTo>
                  <a:lnTo>
                    <a:pt x="650" y="1137"/>
                  </a:lnTo>
                  <a:lnTo>
                    <a:pt x="653" y="1095"/>
                  </a:lnTo>
                  <a:lnTo>
                    <a:pt x="656" y="1053"/>
                  </a:lnTo>
                  <a:lnTo>
                    <a:pt x="662" y="1029"/>
                  </a:lnTo>
                  <a:lnTo>
                    <a:pt x="669" y="1004"/>
                  </a:lnTo>
                  <a:lnTo>
                    <a:pt x="676" y="980"/>
                  </a:lnTo>
                  <a:lnTo>
                    <a:pt x="683" y="955"/>
                  </a:lnTo>
                  <a:lnTo>
                    <a:pt x="689" y="942"/>
                  </a:lnTo>
                  <a:lnTo>
                    <a:pt x="696" y="929"/>
                  </a:lnTo>
                  <a:lnTo>
                    <a:pt x="703" y="917"/>
                  </a:lnTo>
                  <a:lnTo>
                    <a:pt x="710" y="904"/>
                  </a:lnTo>
                  <a:lnTo>
                    <a:pt x="717" y="891"/>
                  </a:lnTo>
                  <a:lnTo>
                    <a:pt x="725" y="879"/>
                  </a:lnTo>
                  <a:lnTo>
                    <a:pt x="732" y="867"/>
                  </a:lnTo>
                  <a:lnTo>
                    <a:pt x="740" y="855"/>
                  </a:lnTo>
                  <a:lnTo>
                    <a:pt x="753" y="835"/>
                  </a:lnTo>
                  <a:lnTo>
                    <a:pt x="768" y="813"/>
                  </a:lnTo>
                  <a:lnTo>
                    <a:pt x="784" y="790"/>
                  </a:lnTo>
                  <a:lnTo>
                    <a:pt x="799" y="764"/>
                  </a:lnTo>
                  <a:lnTo>
                    <a:pt x="816" y="736"/>
                  </a:lnTo>
                  <a:lnTo>
                    <a:pt x="831" y="706"/>
                  </a:lnTo>
                  <a:lnTo>
                    <a:pt x="844" y="675"/>
                  </a:lnTo>
                  <a:lnTo>
                    <a:pt x="857" y="640"/>
                  </a:lnTo>
                  <a:lnTo>
                    <a:pt x="869" y="605"/>
                  </a:lnTo>
                  <a:lnTo>
                    <a:pt x="878" y="567"/>
                  </a:lnTo>
                  <a:lnTo>
                    <a:pt x="886" y="528"/>
                  </a:lnTo>
                  <a:lnTo>
                    <a:pt x="890" y="486"/>
                  </a:lnTo>
                  <a:lnTo>
                    <a:pt x="892" y="442"/>
                  </a:lnTo>
                  <a:lnTo>
                    <a:pt x="890" y="397"/>
                  </a:lnTo>
                  <a:lnTo>
                    <a:pt x="886" y="350"/>
                  </a:lnTo>
                  <a:lnTo>
                    <a:pt x="877" y="301"/>
                  </a:lnTo>
                  <a:lnTo>
                    <a:pt x="858" y="248"/>
                  </a:lnTo>
                  <a:lnTo>
                    <a:pt x="835" y="202"/>
                  </a:lnTo>
                  <a:lnTo>
                    <a:pt x="806" y="160"/>
                  </a:lnTo>
                  <a:lnTo>
                    <a:pt x="773" y="123"/>
                  </a:lnTo>
                  <a:lnTo>
                    <a:pt x="735" y="92"/>
                  </a:lnTo>
                  <a:lnTo>
                    <a:pt x="695" y="66"/>
                  </a:lnTo>
                  <a:lnTo>
                    <a:pt x="652" y="44"/>
                  </a:lnTo>
                  <a:lnTo>
                    <a:pt x="607" y="27"/>
                  </a:lnTo>
                  <a:lnTo>
                    <a:pt x="561" y="14"/>
                  </a:lnTo>
                  <a:lnTo>
                    <a:pt x="515" y="5"/>
                  </a:lnTo>
                  <a:lnTo>
                    <a:pt x="468" y="0"/>
                  </a:lnTo>
                  <a:lnTo>
                    <a:pt x="423" y="0"/>
                  </a:lnTo>
                  <a:lnTo>
                    <a:pt x="378" y="2"/>
                  </a:lnTo>
                  <a:lnTo>
                    <a:pt x="335" y="9"/>
                  </a:lnTo>
                  <a:lnTo>
                    <a:pt x="296" y="20"/>
                  </a:lnTo>
                  <a:lnTo>
                    <a:pt x="259" y="33"/>
                  </a:lnTo>
                  <a:close/>
                </a:path>
              </a:pathLst>
            </a:custGeom>
            <a:solidFill>
              <a:srgbClr val="f49b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5023800" y="1190160"/>
              <a:ext cx="438840" cy="573480"/>
            </a:xfrm>
            <a:custGeom>
              <a:avLst/>
              <a:gdLst/>
              <a:ahLst/>
              <a:rect l="l" t="t" r="r" b="b"/>
              <a:pathLst>
                <a:path w="885" h="1256">
                  <a:moveTo>
                    <a:pt x="259" y="34"/>
                  </a:moveTo>
                  <a:lnTo>
                    <a:pt x="216" y="58"/>
                  </a:lnTo>
                  <a:lnTo>
                    <a:pt x="177" y="86"/>
                  </a:lnTo>
                  <a:lnTo>
                    <a:pt x="140" y="117"/>
                  </a:lnTo>
                  <a:lnTo>
                    <a:pt x="107" y="151"/>
                  </a:lnTo>
                  <a:lnTo>
                    <a:pt x="78" y="188"/>
                  </a:lnTo>
                  <a:lnTo>
                    <a:pt x="51" y="228"/>
                  </a:lnTo>
                  <a:lnTo>
                    <a:pt x="31" y="272"/>
                  </a:lnTo>
                  <a:lnTo>
                    <a:pt x="15" y="318"/>
                  </a:lnTo>
                  <a:lnTo>
                    <a:pt x="4" y="368"/>
                  </a:lnTo>
                  <a:lnTo>
                    <a:pt x="0" y="420"/>
                  </a:lnTo>
                  <a:lnTo>
                    <a:pt x="1" y="475"/>
                  </a:lnTo>
                  <a:lnTo>
                    <a:pt x="9" y="532"/>
                  </a:lnTo>
                  <a:lnTo>
                    <a:pt x="24" y="592"/>
                  </a:lnTo>
                  <a:lnTo>
                    <a:pt x="47" y="656"/>
                  </a:lnTo>
                  <a:lnTo>
                    <a:pt x="77" y="722"/>
                  </a:lnTo>
                  <a:lnTo>
                    <a:pt x="116" y="790"/>
                  </a:lnTo>
                  <a:lnTo>
                    <a:pt x="127" y="809"/>
                  </a:lnTo>
                  <a:lnTo>
                    <a:pt x="139" y="826"/>
                  </a:lnTo>
                  <a:lnTo>
                    <a:pt x="152" y="845"/>
                  </a:lnTo>
                  <a:lnTo>
                    <a:pt x="163" y="862"/>
                  </a:lnTo>
                  <a:lnTo>
                    <a:pt x="176" y="880"/>
                  </a:lnTo>
                  <a:lnTo>
                    <a:pt x="187" y="899"/>
                  </a:lnTo>
                  <a:lnTo>
                    <a:pt x="200" y="916"/>
                  </a:lnTo>
                  <a:lnTo>
                    <a:pt x="211" y="934"/>
                  </a:lnTo>
                  <a:lnTo>
                    <a:pt x="216" y="946"/>
                  </a:lnTo>
                  <a:lnTo>
                    <a:pt x="221" y="956"/>
                  </a:lnTo>
                  <a:lnTo>
                    <a:pt x="224" y="968"/>
                  </a:lnTo>
                  <a:lnTo>
                    <a:pt x="229" y="979"/>
                  </a:lnTo>
                  <a:lnTo>
                    <a:pt x="233" y="991"/>
                  </a:lnTo>
                  <a:lnTo>
                    <a:pt x="238" y="1001"/>
                  </a:lnTo>
                  <a:lnTo>
                    <a:pt x="243" y="1013"/>
                  </a:lnTo>
                  <a:lnTo>
                    <a:pt x="247" y="1024"/>
                  </a:lnTo>
                  <a:lnTo>
                    <a:pt x="252" y="1070"/>
                  </a:lnTo>
                  <a:lnTo>
                    <a:pt x="256" y="1115"/>
                  </a:lnTo>
                  <a:lnTo>
                    <a:pt x="262" y="1160"/>
                  </a:lnTo>
                  <a:lnTo>
                    <a:pt x="267" y="1206"/>
                  </a:lnTo>
                  <a:lnTo>
                    <a:pt x="273" y="1219"/>
                  </a:lnTo>
                  <a:lnTo>
                    <a:pt x="279" y="1230"/>
                  </a:lnTo>
                  <a:lnTo>
                    <a:pt x="285" y="1243"/>
                  </a:lnTo>
                  <a:lnTo>
                    <a:pt x="292" y="1256"/>
                  </a:lnTo>
                  <a:lnTo>
                    <a:pt x="312" y="1256"/>
                  </a:lnTo>
                  <a:lnTo>
                    <a:pt x="331" y="1256"/>
                  </a:lnTo>
                  <a:lnTo>
                    <a:pt x="351" y="1256"/>
                  </a:lnTo>
                  <a:lnTo>
                    <a:pt x="370" y="1256"/>
                  </a:lnTo>
                  <a:lnTo>
                    <a:pt x="391" y="1256"/>
                  </a:lnTo>
                  <a:lnTo>
                    <a:pt x="411" y="1256"/>
                  </a:lnTo>
                  <a:lnTo>
                    <a:pt x="430" y="1256"/>
                  </a:lnTo>
                  <a:lnTo>
                    <a:pt x="450" y="1256"/>
                  </a:lnTo>
                  <a:lnTo>
                    <a:pt x="469" y="1256"/>
                  </a:lnTo>
                  <a:lnTo>
                    <a:pt x="489" y="1256"/>
                  </a:lnTo>
                  <a:lnTo>
                    <a:pt x="509" y="1256"/>
                  </a:lnTo>
                  <a:lnTo>
                    <a:pt x="529" y="1256"/>
                  </a:lnTo>
                  <a:lnTo>
                    <a:pt x="549" y="1256"/>
                  </a:lnTo>
                  <a:lnTo>
                    <a:pt x="568" y="1256"/>
                  </a:lnTo>
                  <a:lnTo>
                    <a:pt x="588" y="1256"/>
                  </a:lnTo>
                  <a:lnTo>
                    <a:pt x="608" y="1256"/>
                  </a:lnTo>
                  <a:lnTo>
                    <a:pt x="616" y="1247"/>
                  </a:lnTo>
                  <a:lnTo>
                    <a:pt x="624" y="1236"/>
                  </a:lnTo>
                  <a:lnTo>
                    <a:pt x="631" y="1227"/>
                  </a:lnTo>
                  <a:lnTo>
                    <a:pt x="639" y="1218"/>
                  </a:lnTo>
                  <a:lnTo>
                    <a:pt x="641" y="1176"/>
                  </a:lnTo>
                  <a:lnTo>
                    <a:pt x="644" y="1135"/>
                  </a:lnTo>
                  <a:lnTo>
                    <a:pt x="648" y="1093"/>
                  </a:lnTo>
                  <a:lnTo>
                    <a:pt x="650" y="1052"/>
                  </a:lnTo>
                  <a:lnTo>
                    <a:pt x="657" y="1027"/>
                  </a:lnTo>
                  <a:lnTo>
                    <a:pt x="664" y="1002"/>
                  </a:lnTo>
                  <a:lnTo>
                    <a:pt x="671" y="978"/>
                  </a:lnTo>
                  <a:lnTo>
                    <a:pt x="678" y="953"/>
                  </a:lnTo>
                  <a:lnTo>
                    <a:pt x="684" y="940"/>
                  </a:lnTo>
                  <a:lnTo>
                    <a:pt x="691" y="927"/>
                  </a:lnTo>
                  <a:lnTo>
                    <a:pt x="697" y="915"/>
                  </a:lnTo>
                  <a:lnTo>
                    <a:pt x="704" y="902"/>
                  </a:lnTo>
                  <a:lnTo>
                    <a:pt x="711" y="891"/>
                  </a:lnTo>
                  <a:lnTo>
                    <a:pt x="719" y="878"/>
                  </a:lnTo>
                  <a:lnTo>
                    <a:pt x="726" y="866"/>
                  </a:lnTo>
                  <a:lnTo>
                    <a:pt x="734" y="854"/>
                  </a:lnTo>
                  <a:lnTo>
                    <a:pt x="748" y="834"/>
                  </a:lnTo>
                  <a:lnTo>
                    <a:pt x="763" y="812"/>
                  </a:lnTo>
                  <a:lnTo>
                    <a:pt x="778" y="789"/>
                  </a:lnTo>
                  <a:lnTo>
                    <a:pt x="794" y="764"/>
                  </a:lnTo>
                  <a:lnTo>
                    <a:pt x="809" y="736"/>
                  </a:lnTo>
                  <a:lnTo>
                    <a:pt x="824" y="706"/>
                  </a:lnTo>
                  <a:lnTo>
                    <a:pt x="838" y="674"/>
                  </a:lnTo>
                  <a:lnTo>
                    <a:pt x="851" y="641"/>
                  </a:lnTo>
                  <a:lnTo>
                    <a:pt x="862" y="605"/>
                  </a:lnTo>
                  <a:lnTo>
                    <a:pt x="871" y="567"/>
                  </a:lnTo>
                  <a:lnTo>
                    <a:pt x="879" y="528"/>
                  </a:lnTo>
                  <a:lnTo>
                    <a:pt x="884" y="486"/>
                  </a:lnTo>
                  <a:lnTo>
                    <a:pt x="885" y="443"/>
                  </a:lnTo>
                  <a:lnTo>
                    <a:pt x="884" y="398"/>
                  </a:lnTo>
                  <a:lnTo>
                    <a:pt x="879" y="350"/>
                  </a:lnTo>
                  <a:lnTo>
                    <a:pt x="870" y="301"/>
                  </a:lnTo>
                  <a:lnTo>
                    <a:pt x="852" y="249"/>
                  </a:lnTo>
                  <a:lnTo>
                    <a:pt x="829" y="202"/>
                  </a:lnTo>
                  <a:lnTo>
                    <a:pt x="800" y="160"/>
                  </a:lnTo>
                  <a:lnTo>
                    <a:pt x="768" y="124"/>
                  </a:lnTo>
                  <a:lnTo>
                    <a:pt x="731" y="92"/>
                  </a:lnTo>
                  <a:lnTo>
                    <a:pt x="692" y="66"/>
                  </a:lnTo>
                  <a:lnTo>
                    <a:pt x="649" y="44"/>
                  </a:lnTo>
                  <a:lnTo>
                    <a:pt x="605" y="27"/>
                  </a:lnTo>
                  <a:lnTo>
                    <a:pt x="559" y="14"/>
                  </a:lnTo>
                  <a:lnTo>
                    <a:pt x="513" y="6"/>
                  </a:lnTo>
                  <a:lnTo>
                    <a:pt x="467" y="1"/>
                  </a:lnTo>
                  <a:lnTo>
                    <a:pt x="422" y="0"/>
                  </a:lnTo>
                  <a:lnTo>
                    <a:pt x="378" y="4"/>
                  </a:lnTo>
                  <a:lnTo>
                    <a:pt x="336" y="11"/>
                  </a:lnTo>
                  <a:lnTo>
                    <a:pt x="296" y="20"/>
                  </a:lnTo>
                  <a:lnTo>
                    <a:pt x="259" y="34"/>
                  </a:lnTo>
                  <a:close/>
                </a:path>
              </a:pathLst>
            </a:custGeom>
            <a:solidFill>
              <a:srgbClr val="f7a5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24880" y="1190880"/>
              <a:ext cx="435960" cy="572760"/>
            </a:xfrm>
            <a:custGeom>
              <a:avLst/>
              <a:gdLst/>
              <a:ahLst/>
              <a:rect l="l" t="t" r="r" b="b"/>
              <a:pathLst>
                <a:path w="881" h="1253">
                  <a:moveTo>
                    <a:pt x="259" y="32"/>
                  </a:moveTo>
                  <a:lnTo>
                    <a:pt x="216" y="56"/>
                  </a:lnTo>
                  <a:lnTo>
                    <a:pt x="177" y="84"/>
                  </a:lnTo>
                  <a:lnTo>
                    <a:pt x="140" y="115"/>
                  </a:lnTo>
                  <a:lnTo>
                    <a:pt x="107" y="148"/>
                  </a:lnTo>
                  <a:lnTo>
                    <a:pt x="78" y="186"/>
                  </a:lnTo>
                  <a:lnTo>
                    <a:pt x="52" y="227"/>
                  </a:lnTo>
                  <a:lnTo>
                    <a:pt x="31" y="269"/>
                  </a:lnTo>
                  <a:lnTo>
                    <a:pt x="15" y="315"/>
                  </a:lnTo>
                  <a:lnTo>
                    <a:pt x="5" y="365"/>
                  </a:lnTo>
                  <a:lnTo>
                    <a:pt x="0" y="417"/>
                  </a:lnTo>
                  <a:lnTo>
                    <a:pt x="1" y="472"/>
                  </a:lnTo>
                  <a:lnTo>
                    <a:pt x="9" y="529"/>
                  </a:lnTo>
                  <a:lnTo>
                    <a:pt x="24" y="590"/>
                  </a:lnTo>
                  <a:lnTo>
                    <a:pt x="47" y="653"/>
                  </a:lnTo>
                  <a:lnTo>
                    <a:pt x="77" y="719"/>
                  </a:lnTo>
                  <a:lnTo>
                    <a:pt x="116" y="787"/>
                  </a:lnTo>
                  <a:lnTo>
                    <a:pt x="128" y="806"/>
                  </a:lnTo>
                  <a:lnTo>
                    <a:pt x="140" y="823"/>
                  </a:lnTo>
                  <a:lnTo>
                    <a:pt x="152" y="842"/>
                  </a:lnTo>
                  <a:lnTo>
                    <a:pt x="165" y="860"/>
                  </a:lnTo>
                  <a:lnTo>
                    <a:pt x="176" y="878"/>
                  </a:lnTo>
                  <a:lnTo>
                    <a:pt x="188" y="896"/>
                  </a:lnTo>
                  <a:lnTo>
                    <a:pt x="200" y="914"/>
                  </a:lnTo>
                  <a:lnTo>
                    <a:pt x="212" y="931"/>
                  </a:lnTo>
                  <a:lnTo>
                    <a:pt x="216" y="943"/>
                  </a:lnTo>
                  <a:lnTo>
                    <a:pt x="221" y="953"/>
                  </a:lnTo>
                  <a:lnTo>
                    <a:pt x="226" y="965"/>
                  </a:lnTo>
                  <a:lnTo>
                    <a:pt x="230" y="976"/>
                  </a:lnTo>
                  <a:lnTo>
                    <a:pt x="234" y="988"/>
                  </a:lnTo>
                  <a:lnTo>
                    <a:pt x="238" y="998"/>
                  </a:lnTo>
                  <a:lnTo>
                    <a:pt x="243" y="1010"/>
                  </a:lnTo>
                  <a:lnTo>
                    <a:pt x="247" y="1021"/>
                  </a:lnTo>
                  <a:lnTo>
                    <a:pt x="252" y="1067"/>
                  </a:lnTo>
                  <a:lnTo>
                    <a:pt x="258" y="1112"/>
                  </a:lnTo>
                  <a:lnTo>
                    <a:pt x="262" y="1157"/>
                  </a:lnTo>
                  <a:lnTo>
                    <a:pt x="267" y="1203"/>
                  </a:lnTo>
                  <a:lnTo>
                    <a:pt x="273" y="1216"/>
                  </a:lnTo>
                  <a:lnTo>
                    <a:pt x="280" y="1227"/>
                  </a:lnTo>
                  <a:lnTo>
                    <a:pt x="287" y="1240"/>
                  </a:lnTo>
                  <a:lnTo>
                    <a:pt x="292" y="1253"/>
                  </a:lnTo>
                  <a:lnTo>
                    <a:pt x="312" y="1253"/>
                  </a:lnTo>
                  <a:lnTo>
                    <a:pt x="332" y="1253"/>
                  </a:lnTo>
                  <a:lnTo>
                    <a:pt x="351" y="1253"/>
                  </a:lnTo>
                  <a:lnTo>
                    <a:pt x="371" y="1253"/>
                  </a:lnTo>
                  <a:lnTo>
                    <a:pt x="390" y="1253"/>
                  </a:lnTo>
                  <a:lnTo>
                    <a:pt x="410" y="1253"/>
                  </a:lnTo>
                  <a:lnTo>
                    <a:pt x="429" y="1253"/>
                  </a:lnTo>
                  <a:lnTo>
                    <a:pt x="450" y="1253"/>
                  </a:lnTo>
                  <a:lnTo>
                    <a:pt x="470" y="1253"/>
                  </a:lnTo>
                  <a:lnTo>
                    <a:pt x="489" y="1253"/>
                  </a:lnTo>
                  <a:lnTo>
                    <a:pt x="509" y="1253"/>
                  </a:lnTo>
                  <a:lnTo>
                    <a:pt x="528" y="1253"/>
                  </a:lnTo>
                  <a:lnTo>
                    <a:pt x="548" y="1253"/>
                  </a:lnTo>
                  <a:lnTo>
                    <a:pt x="568" y="1253"/>
                  </a:lnTo>
                  <a:lnTo>
                    <a:pt x="587" y="1253"/>
                  </a:lnTo>
                  <a:lnTo>
                    <a:pt x="607" y="1253"/>
                  </a:lnTo>
                  <a:lnTo>
                    <a:pt x="614" y="1244"/>
                  </a:lnTo>
                  <a:lnTo>
                    <a:pt x="621" y="1233"/>
                  </a:lnTo>
                  <a:lnTo>
                    <a:pt x="627" y="1224"/>
                  </a:lnTo>
                  <a:lnTo>
                    <a:pt x="634" y="1214"/>
                  </a:lnTo>
                  <a:lnTo>
                    <a:pt x="637" y="1172"/>
                  </a:lnTo>
                  <a:lnTo>
                    <a:pt x="640" y="1131"/>
                  </a:lnTo>
                  <a:lnTo>
                    <a:pt x="644" y="1090"/>
                  </a:lnTo>
                  <a:lnTo>
                    <a:pt x="646" y="1049"/>
                  </a:lnTo>
                  <a:lnTo>
                    <a:pt x="653" y="1024"/>
                  </a:lnTo>
                  <a:lnTo>
                    <a:pt x="660" y="999"/>
                  </a:lnTo>
                  <a:lnTo>
                    <a:pt x="667" y="975"/>
                  </a:lnTo>
                  <a:lnTo>
                    <a:pt x="674" y="950"/>
                  </a:lnTo>
                  <a:lnTo>
                    <a:pt x="680" y="937"/>
                  </a:lnTo>
                  <a:lnTo>
                    <a:pt x="687" y="924"/>
                  </a:lnTo>
                  <a:lnTo>
                    <a:pt x="694" y="912"/>
                  </a:lnTo>
                  <a:lnTo>
                    <a:pt x="701" y="900"/>
                  </a:lnTo>
                  <a:lnTo>
                    <a:pt x="708" y="888"/>
                  </a:lnTo>
                  <a:lnTo>
                    <a:pt x="716" y="875"/>
                  </a:lnTo>
                  <a:lnTo>
                    <a:pt x="723" y="863"/>
                  </a:lnTo>
                  <a:lnTo>
                    <a:pt x="731" y="851"/>
                  </a:lnTo>
                  <a:lnTo>
                    <a:pt x="745" y="831"/>
                  </a:lnTo>
                  <a:lnTo>
                    <a:pt x="760" y="810"/>
                  </a:lnTo>
                  <a:lnTo>
                    <a:pt x="775" y="787"/>
                  </a:lnTo>
                  <a:lnTo>
                    <a:pt x="790" y="761"/>
                  </a:lnTo>
                  <a:lnTo>
                    <a:pt x="805" y="734"/>
                  </a:lnTo>
                  <a:lnTo>
                    <a:pt x="820" y="705"/>
                  </a:lnTo>
                  <a:lnTo>
                    <a:pt x="834" y="673"/>
                  </a:lnTo>
                  <a:lnTo>
                    <a:pt x="846" y="639"/>
                  </a:lnTo>
                  <a:lnTo>
                    <a:pt x="858" y="604"/>
                  </a:lnTo>
                  <a:lnTo>
                    <a:pt x="867" y="566"/>
                  </a:lnTo>
                  <a:lnTo>
                    <a:pt x="874" y="527"/>
                  </a:lnTo>
                  <a:lnTo>
                    <a:pt x="879" y="486"/>
                  </a:lnTo>
                  <a:lnTo>
                    <a:pt x="881" y="442"/>
                  </a:lnTo>
                  <a:lnTo>
                    <a:pt x="880" y="397"/>
                  </a:lnTo>
                  <a:lnTo>
                    <a:pt x="875" y="350"/>
                  </a:lnTo>
                  <a:lnTo>
                    <a:pt x="866" y="300"/>
                  </a:lnTo>
                  <a:lnTo>
                    <a:pt x="847" y="248"/>
                  </a:lnTo>
                  <a:lnTo>
                    <a:pt x="824" y="201"/>
                  </a:lnTo>
                  <a:lnTo>
                    <a:pt x="797" y="160"/>
                  </a:lnTo>
                  <a:lnTo>
                    <a:pt x="763" y="124"/>
                  </a:lnTo>
                  <a:lnTo>
                    <a:pt x="728" y="93"/>
                  </a:lnTo>
                  <a:lnTo>
                    <a:pt x="689" y="66"/>
                  </a:lnTo>
                  <a:lnTo>
                    <a:pt x="647" y="45"/>
                  </a:lnTo>
                  <a:lnTo>
                    <a:pt x="604" y="27"/>
                  </a:lnTo>
                  <a:lnTo>
                    <a:pt x="560" y="15"/>
                  </a:lnTo>
                  <a:lnTo>
                    <a:pt x="513" y="5"/>
                  </a:lnTo>
                  <a:lnTo>
                    <a:pt x="469" y="1"/>
                  </a:lnTo>
                  <a:lnTo>
                    <a:pt x="424" y="0"/>
                  </a:lnTo>
                  <a:lnTo>
                    <a:pt x="379" y="3"/>
                  </a:lnTo>
                  <a:lnTo>
                    <a:pt x="336" y="9"/>
                  </a:lnTo>
                  <a:lnTo>
                    <a:pt x="297" y="19"/>
                  </a:lnTo>
                  <a:lnTo>
                    <a:pt x="259" y="32"/>
                  </a:lnTo>
                  <a:close/>
                </a:path>
              </a:pathLst>
            </a:custGeom>
            <a:solidFill>
              <a:srgbClr val="f7a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5025600" y="1192680"/>
              <a:ext cx="434160" cy="570960"/>
            </a:xfrm>
            <a:custGeom>
              <a:avLst/>
              <a:gdLst/>
              <a:ahLst/>
              <a:rect l="l" t="t" r="r" b="b"/>
              <a:pathLst>
                <a:path w="877" h="1250">
                  <a:moveTo>
                    <a:pt x="259" y="31"/>
                  </a:moveTo>
                  <a:lnTo>
                    <a:pt x="217" y="55"/>
                  </a:lnTo>
                  <a:lnTo>
                    <a:pt x="178" y="83"/>
                  </a:lnTo>
                  <a:lnTo>
                    <a:pt x="141" y="113"/>
                  </a:lnTo>
                  <a:lnTo>
                    <a:pt x="107" y="148"/>
                  </a:lnTo>
                  <a:lnTo>
                    <a:pt x="77" y="184"/>
                  </a:lnTo>
                  <a:lnTo>
                    <a:pt x="52" y="225"/>
                  </a:lnTo>
                  <a:lnTo>
                    <a:pt x="31" y="267"/>
                  </a:lnTo>
                  <a:lnTo>
                    <a:pt x="15" y="313"/>
                  </a:lnTo>
                  <a:lnTo>
                    <a:pt x="5" y="363"/>
                  </a:lnTo>
                  <a:lnTo>
                    <a:pt x="0" y="415"/>
                  </a:lnTo>
                  <a:lnTo>
                    <a:pt x="3" y="470"/>
                  </a:lnTo>
                  <a:lnTo>
                    <a:pt x="11" y="528"/>
                  </a:lnTo>
                  <a:lnTo>
                    <a:pt x="26" y="587"/>
                  </a:lnTo>
                  <a:lnTo>
                    <a:pt x="47" y="651"/>
                  </a:lnTo>
                  <a:lnTo>
                    <a:pt x="79" y="716"/>
                  </a:lnTo>
                  <a:lnTo>
                    <a:pt x="117" y="784"/>
                  </a:lnTo>
                  <a:lnTo>
                    <a:pt x="128" y="803"/>
                  </a:lnTo>
                  <a:lnTo>
                    <a:pt x="141" y="821"/>
                  </a:lnTo>
                  <a:lnTo>
                    <a:pt x="152" y="840"/>
                  </a:lnTo>
                  <a:lnTo>
                    <a:pt x="165" y="857"/>
                  </a:lnTo>
                  <a:lnTo>
                    <a:pt x="176" y="875"/>
                  </a:lnTo>
                  <a:lnTo>
                    <a:pt x="189" y="893"/>
                  </a:lnTo>
                  <a:lnTo>
                    <a:pt x="201" y="911"/>
                  </a:lnTo>
                  <a:lnTo>
                    <a:pt x="212" y="928"/>
                  </a:lnTo>
                  <a:lnTo>
                    <a:pt x="217" y="940"/>
                  </a:lnTo>
                  <a:lnTo>
                    <a:pt x="221" y="951"/>
                  </a:lnTo>
                  <a:lnTo>
                    <a:pt x="226" y="963"/>
                  </a:lnTo>
                  <a:lnTo>
                    <a:pt x="231" y="974"/>
                  </a:lnTo>
                  <a:lnTo>
                    <a:pt x="234" y="986"/>
                  </a:lnTo>
                  <a:lnTo>
                    <a:pt x="239" y="996"/>
                  </a:lnTo>
                  <a:lnTo>
                    <a:pt x="243" y="1008"/>
                  </a:lnTo>
                  <a:lnTo>
                    <a:pt x="248" y="1019"/>
                  </a:lnTo>
                  <a:lnTo>
                    <a:pt x="252" y="1064"/>
                  </a:lnTo>
                  <a:lnTo>
                    <a:pt x="258" y="1109"/>
                  </a:lnTo>
                  <a:lnTo>
                    <a:pt x="263" y="1154"/>
                  </a:lnTo>
                  <a:lnTo>
                    <a:pt x="267" y="1200"/>
                  </a:lnTo>
                  <a:lnTo>
                    <a:pt x="273" y="1213"/>
                  </a:lnTo>
                  <a:lnTo>
                    <a:pt x="280" y="1224"/>
                  </a:lnTo>
                  <a:lnTo>
                    <a:pt x="287" y="1237"/>
                  </a:lnTo>
                  <a:lnTo>
                    <a:pt x="293" y="1250"/>
                  </a:lnTo>
                  <a:lnTo>
                    <a:pt x="312" y="1250"/>
                  </a:lnTo>
                  <a:lnTo>
                    <a:pt x="332" y="1250"/>
                  </a:lnTo>
                  <a:lnTo>
                    <a:pt x="351" y="1250"/>
                  </a:lnTo>
                  <a:lnTo>
                    <a:pt x="371" y="1250"/>
                  </a:lnTo>
                  <a:lnTo>
                    <a:pt x="391" y="1250"/>
                  </a:lnTo>
                  <a:lnTo>
                    <a:pt x="410" y="1250"/>
                  </a:lnTo>
                  <a:lnTo>
                    <a:pt x="430" y="1250"/>
                  </a:lnTo>
                  <a:lnTo>
                    <a:pt x="449" y="1250"/>
                  </a:lnTo>
                  <a:lnTo>
                    <a:pt x="468" y="1250"/>
                  </a:lnTo>
                  <a:lnTo>
                    <a:pt x="487" y="1250"/>
                  </a:lnTo>
                  <a:lnTo>
                    <a:pt x="507" y="1250"/>
                  </a:lnTo>
                  <a:lnTo>
                    <a:pt x="526" y="1250"/>
                  </a:lnTo>
                  <a:lnTo>
                    <a:pt x="546" y="1250"/>
                  </a:lnTo>
                  <a:lnTo>
                    <a:pt x="566" y="1250"/>
                  </a:lnTo>
                  <a:lnTo>
                    <a:pt x="585" y="1250"/>
                  </a:lnTo>
                  <a:lnTo>
                    <a:pt x="605" y="1250"/>
                  </a:lnTo>
                  <a:lnTo>
                    <a:pt x="611" y="1241"/>
                  </a:lnTo>
                  <a:lnTo>
                    <a:pt x="617" y="1230"/>
                  </a:lnTo>
                  <a:lnTo>
                    <a:pt x="624" y="1220"/>
                  </a:lnTo>
                  <a:lnTo>
                    <a:pt x="630" y="1211"/>
                  </a:lnTo>
                  <a:lnTo>
                    <a:pt x="632" y="1169"/>
                  </a:lnTo>
                  <a:lnTo>
                    <a:pt x="636" y="1128"/>
                  </a:lnTo>
                  <a:lnTo>
                    <a:pt x="639" y="1086"/>
                  </a:lnTo>
                  <a:lnTo>
                    <a:pt x="642" y="1046"/>
                  </a:lnTo>
                  <a:lnTo>
                    <a:pt x="649" y="1021"/>
                  </a:lnTo>
                  <a:lnTo>
                    <a:pt x="655" y="996"/>
                  </a:lnTo>
                  <a:lnTo>
                    <a:pt x="662" y="972"/>
                  </a:lnTo>
                  <a:lnTo>
                    <a:pt x="669" y="948"/>
                  </a:lnTo>
                  <a:lnTo>
                    <a:pt x="676" y="935"/>
                  </a:lnTo>
                  <a:lnTo>
                    <a:pt x="683" y="923"/>
                  </a:lnTo>
                  <a:lnTo>
                    <a:pt x="690" y="910"/>
                  </a:lnTo>
                  <a:lnTo>
                    <a:pt x="697" y="897"/>
                  </a:lnTo>
                  <a:lnTo>
                    <a:pt x="704" y="886"/>
                  </a:lnTo>
                  <a:lnTo>
                    <a:pt x="712" y="873"/>
                  </a:lnTo>
                  <a:lnTo>
                    <a:pt x="719" y="862"/>
                  </a:lnTo>
                  <a:lnTo>
                    <a:pt x="727" y="849"/>
                  </a:lnTo>
                  <a:lnTo>
                    <a:pt x="741" y="829"/>
                  </a:lnTo>
                  <a:lnTo>
                    <a:pt x="754" y="809"/>
                  </a:lnTo>
                  <a:lnTo>
                    <a:pt x="769" y="786"/>
                  </a:lnTo>
                  <a:lnTo>
                    <a:pt x="784" y="760"/>
                  </a:lnTo>
                  <a:lnTo>
                    <a:pt x="801" y="733"/>
                  </a:lnTo>
                  <a:lnTo>
                    <a:pt x="814" y="703"/>
                  </a:lnTo>
                  <a:lnTo>
                    <a:pt x="828" y="672"/>
                  </a:lnTo>
                  <a:lnTo>
                    <a:pt x="841" y="638"/>
                  </a:lnTo>
                  <a:lnTo>
                    <a:pt x="852" y="602"/>
                  </a:lnTo>
                  <a:lnTo>
                    <a:pt x="862" y="564"/>
                  </a:lnTo>
                  <a:lnTo>
                    <a:pt x="870" y="525"/>
                  </a:lnTo>
                  <a:lnTo>
                    <a:pt x="874" y="484"/>
                  </a:lnTo>
                  <a:lnTo>
                    <a:pt x="877" y="440"/>
                  </a:lnTo>
                  <a:lnTo>
                    <a:pt x="875" y="395"/>
                  </a:lnTo>
                  <a:lnTo>
                    <a:pt x="870" y="348"/>
                  </a:lnTo>
                  <a:lnTo>
                    <a:pt x="862" y="298"/>
                  </a:lnTo>
                  <a:lnTo>
                    <a:pt x="843" y="247"/>
                  </a:lnTo>
                  <a:lnTo>
                    <a:pt x="820" y="201"/>
                  </a:lnTo>
                  <a:lnTo>
                    <a:pt x="792" y="159"/>
                  </a:lnTo>
                  <a:lnTo>
                    <a:pt x="760" y="123"/>
                  </a:lnTo>
                  <a:lnTo>
                    <a:pt x="725" y="92"/>
                  </a:lnTo>
                  <a:lnTo>
                    <a:pt x="687" y="66"/>
                  </a:lnTo>
                  <a:lnTo>
                    <a:pt x="645" y="44"/>
                  </a:lnTo>
                  <a:lnTo>
                    <a:pt x="602" y="27"/>
                  </a:lnTo>
                  <a:lnTo>
                    <a:pt x="559" y="14"/>
                  </a:lnTo>
                  <a:lnTo>
                    <a:pt x="514" y="6"/>
                  </a:lnTo>
                  <a:lnTo>
                    <a:pt x="469" y="0"/>
                  </a:lnTo>
                  <a:lnTo>
                    <a:pt x="424" y="0"/>
                  </a:lnTo>
                  <a:lnTo>
                    <a:pt x="380" y="2"/>
                  </a:lnTo>
                  <a:lnTo>
                    <a:pt x="338" y="8"/>
                  </a:lnTo>
                  <a:lnTo>
                    <a:pt x="297" y="19"/>
                  </a:lnTo>
                  <a:lnTo>
                    <a:pt x="259" y="31"/>
                  </a:lnTo>
                  <a:close/>
                </a:path>
              </a:pathLst>
            </a:custGeom>
            <a:solidFill>
              <a:srgbClr val="f9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5027760" y="1193760"/>
              <a:ext cx="430920" cy="570240"/>
            </a:xfrm>
            <a:custGeom>
              <a:avLst/>
              <a:gdLst/>
              <a:ahLst/>
              <a:rect l="l" t="t" r="r" b="b"/>
              <a:pathLst>
                <a:path w="869" h="1248">
                  <a:moveTo>
                    <a:pt x="258" y="30"/>
                  </a:moveTo>
                  <a:lnTo>
                    <a:pt x="215" y="55"/>
                  </a:lnTo>
                  <a:lnTo>
                    <a:pt x="176" y="82"/>
                  </a:lnTo>
                  <a:lnTo>
                    <a:pt x="139" y="112"/>
                  </a:lnTo>
                  <a:lnTo>
                    <a:pt x="106" y="147"/>
                  </a:lnTo>
                  <a:lnTo>
                    <a:pt x="76" y="184"/>
                  </a:lnTo>
                  <a:lnTo>
                    <a:pt x="50" y="224"/>
                  </a:lnTo>
                  <a:lnTo>
                    <a:pt x="30" y="266"/>
                  </a:lnTo>
                  <a:lnTo>
                    <a:pt x="15" y="313"/>
                  </a:lnTo>
                  <a:lnTo>
                    <a:pt x="4" y="362"/>
                  </a:lnTo>
                  <a:lnTo>
                    <a:pt x="0" y="414"/>
                  </a:lnTo>
                  <a:lnTo>
                    <a:pt x="1" y="468"/>
                  </a:lnTo>
                  <a:lnTo>
                    <a:pt x="9" y="526"/>
                  </a:lnTo>
                  <a:lnTo>
                    <a:pt x="25" y="585"/>
                  </a:lnTo>
                  <a:lnTo>
                    <a:pt x="47" y="649"/>
                  </a:lnTo>
                  <a:lnTo>
                    <a:pt x="78" y="714"/>
                  </a:lnTo>
                  <a:lnTo>
                    <a:pt x="116" y="782"/>
                  </a:lnTo>
                  <a:lnTo>
                    <a:pt x="127" y="801"/>
                  </a:lnTo>
                  <a:lnTo>
                    <a:pt x="139" y="819"/>
                  </a:lnTo>
                  <a:lnTo>
                    <a:pt x="152" y="838"/>
                  </a:lnTo>
                  <a:lnTo>
                    <a:pt x="163" y="855"/>
                  </a:lnTo>
                  <a:lnTo>
                    <a:pt x="175" y="873"/>
                  </a:lnTo>
                  <a:lnTo>
                    <a:pt x="187" y="891"/>
                  </a:lnTo>
                  <a:lnTo>
                    <a:pt x="199" y="909"/>
                  </a:lnTo>
                  <a:lnTo>
                    <a:pt x="210" y="926"/>
                  </a:lnTo>
                  <a:lnTo>
                    <a:pt x="215" y="938"/>
                  </a:lnTo>
                  <a:lnTo>
                    <a:pt x="220" y="949"/>
                  </a:lnTo>
                  <a:lnTo>
                    <a:pt x="224" y="961"/>
                  </a:lnTo>
                  <a:lnTo>
                    <a:pt x="229" y="972"/>
                  </a:lnTo>
                  <a:lnTo>
                    <a:pt x="233" y="984"/>
                  </a:lnTo>
                  <a:lnTo>
                    <a:pt x="237" y="994"/>
                  </a:lnTo>
                  <a:lnTo>
                    <a:pt x="241" y="1006"/>
                  </a:lnTo>
                  <a:lnTo>
                    <a:pt x="246" y="1017"/>
                  </a:lnTo>
                  <a:lnTo>
                    <a:pt x="251" y="1062"/>
                  </a:lnTo>
                  <a:lnTo>
                    <a:pt x="256" y="1107"/>
                  </a:lnTo>
                  <a:lnTo>
                    <a:pt x="261" y="1153"/>
                  </a:lnTo>
                  <a:lnTo>
                    <a:pt x="266" y="1198"/>
                  </a:lnTo>
                  <a:lnTo>
                    <a:pt x="271" y="1211"/>
                  </a:lnTo>
                  <a:lnTo>
                    <a:pt x="278" y="1222"/>
                  </a:lnTo>
                  <a:lnTo>
                    <a:pt x="285" y="1235"/>
                  </a:lnTo>
                  <a:lnTo>
                    <a:pt x="291" y="1248"/>
                  </a:lnTo>
                  <a:lnTo>
                    <a:pt x="311" y="1248"/>
                  </a:lnTo>
                  <a:lnTo>
                    <a:pt x="330" y="1248"/>
                  </a:lnTo>
                  <a:lnTo>
                    <a:pt x="350" y="1248"/>
                  </a:lnTo>
                  <a:lnTo>
                    <a:pt x="369" y="1248"/>
                  </a:lnTo>
                  <a:lnTo>
                    <a:pt x="388" y="1248"/>
                  </a:lnTo>
                  <a:lnTo>
                    <a:pt x="407" y="1248"/>
                  </a:lnTo>
                  <a:lnTo>
                    <a:pt x="427" y="1248"/>
                  </a:lnTo>
                  <a:lnTo>
                    <a:pt x="446" y="1248"/>
                  </a:lnTo>
                  <a:lnTo>
                    <a:pt x="466" y="1248"/>
                  </a:lnTo>
                  <a:lnTo>
                    <a:pt x="486" y="1248"/>
                  </a:lnTo>
                  <a:lnTo>
                    <a:pt x="505" y="1248"/>
                  </a:lnTo>
                  <a:lnTo>
                    <a:pt x="525" y="1248"/>
                  </a:lnTo>
                  <a:lnTo>
                    <a:pt x="543" y="1248"/>
                  </a:lnTo>
                  <a:lnTo>
                    <a:pt x="563" y="1248"/>
                  </a:lnTo>
                  <a:lnTo>
                    <a:pt x="582" y="1248"/>
                  </a:lnTo>
                  <a:lnTo>
                    <a:pt x="602" y="1248"/>
                  </a:lnTo>
                  <a:lnTo>
                    <a:pt x="608" y="1239"/>
                  </a:lnTo>
                  <a:lnTo>
                    <a:pt x="612" y="1228"/>
                  </a:lnTo>
                  <a:lnTo>
                    <a:pt x="618" y="1218"/>
                  </a:lnTo>
                  <a:lnTo>
                    <a:pt x="624" y="1207"/>
                  </a:lnTo>
                  <a:lnTo>
                    <a:pt x="626" y="1167"/>
                  </a:lnTo>
                  <a:lnTo>
                    <a:pt x="630" y="1126"/>
                  </a:lnTo>
                  <a:lnTo>
                    <a:pt x="633" y="1084"/>
                  </a:lnTo>
                  <a:lnTo>
                    <a:pt x="635" y="1044"/>
                  </a:lnTo>
                  <a:lnTo>
                    <a:pt x="642" y="1020"/>
                  </a:lnTo>
                  <a:lnTo>
                    <a:pt x="649" y="994"/>
                  </a:lnTo>
                  <a:lnTo>
                    <a:pt x="656" y="970"/>
                  </a:lnTo>
                  <a:lnTo>
                    <a:pt x="663" y="946"/>
                  </a:lnTo>
                  <a:lnTo>
                    <a:pt x="670" y="933"/>
                  </a:lnTo>
                  <a:lnTo>
                    <a:pt x="677" y="921"/>
                  </a:lnTo>
                  <a:lnTo>
                    <a:pt x="684" y="908"/>
                  </a:lnTo>
                  <a:lnTo>
                    <a:pt x="692" y="896"/>
                  </a:lnTo>
                  <a:lnTo>
                    <a:pt x="699" y="884"/>
                  </a:lnTo>
                  <a:lnTo>
                    <a:pt x="706" y="871"/>
                  </a:lnTo>
                  <a:lnTo>
                    <a:pt x="714" y="860"/>
                  </a:lnTo>
                  <a:lnTo>
                    <a:pt x="721" y="847"/>
                  </a:lnTo>
                  <a:lnTo>
                    <a:pt x="734" y="829"/>
                  </a:lnTo>
                  <a:lnTo>
                    <a:pt x="748" y="808"/>
                  </a:lnTo>
                  <a:lnTo>
                    <a:pt x="763" y="785"/>
                  </a:lnTo>
                  <a:lnTo>
                    <a:pt x="778" y="759"/>
                  </a:lnTo>
                  <a:lnTo>
                    <a:pt x="793" y="732"/>
                  </a:lnTo>
                  <a:lnTo>
                    <a:pt x="808" y="703"/>
                  </a:lnTo>
                  <a:lnTo>
                    <a:pt x="822" y="672"/>
                  </a:lnTo>
                  <a:lnTo>
                    <a:pt x="835" y="638"/>
                  </a:lnTo>
                  <a:lnTo>
                    <a:pt x="846" y="603"/>
                  </a:lnTo>
                  <a:lnTo>
                    <a:pt x="855" y="565"/>
                  </a:lnTo>
                  <a:lnTo>
                    <a:pt x="862" y="526"/>
                  </a:lnTo>
                  <a:lnTo>
                    <a:pt x="867" y="484"/>
                  </a:lnTo>
                  <a:lnTo>
                    <a:pt x="869" y="440"/>
                  </a:lnTo>
                  <a:lnTo>
                    <a:pt x="868" y="395"/>
                  </a:lnTo>
                  <a:lnTo>
                    <a:pt x="862" y="348"/>
                  </a:lnTo>
                  <a:lnTo>
                    <a:pt x="854" y="299"/>
                  </a:lnTo>
                  <a:lnTo>
                    <a:pt x="836" y="247"/>
                  </a:lnTo>
                  <a:lnTo>
                    <a:pt x="813" y="201"/>
                  </a:lnTo>
                  <a:lnTo>
                    <a:pt x="786" y="160"/>
                  </a:lnTo>
                  <a:lnTo>
                    <a:pt x="754" y="125"/>
                  </a:lnTo>
                  <a:lnTo>
                    <a:pt x="719" y="94"/>
                  </a:lnTo>
                  <a:lnTo>
                    <a:pt x="681" y="67"/>
                  </a:lnTo>
                  <a:lnTo>
                    <a:pt x="641" y="45"/>
                  </a:lnTo>
                  <a:lnTo>
                    <a:pt x="600" y="28"/>
                  </a:lnTo>
                  <a:lnTo>
                    <a:pt x="556" y="15"/>
                  </a:lnTo>
                  <a:lnTo>
                    <a:pt x="512" y="6"/>
                  </a:lnTo>
                  <a:lnTo>
                    <a:pt x="467" y="2"/>
                  </a:lnTo>
                  <a:lnTo>
                    <a:pt x="423" y="0"/>
                  </a:lnTo>
                  <a:lnTo>
                    <a:pt x="380" y="3"/>
                  </a:lnTo>
                  <a:lnTo>
                    <a:pt x="337" y="8"/>
                  </a:lnTo>
                  <a:lnTo>
                    <a:pt x="296" y="18"/>
                  </a:lnTo>
                  <a:lnTo>
                    <a:pt x="258" y="30"/>
                  </a:lnTo>
                  <a:close/>
                </a:path>
              </a:pathLst>
            </a:custGeom>
            <a:solidFill>
              <a:srgbClr val="fcb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027760" y="1194840"/>
              <a:ext cx="429120" cy="569160"/>
            </a:xfrm>
            <a:custGeom>
              <a:avLst/>
              <a:gdLst/>
              <a:ahLst/>
              <a:rect l="l" t="t" r="r" b="b"/>
              <a:pathLst>
                <a:path w="865" h="1245">
                  <a:moveTo>
                    <a:pt x="259" y="30"/>
                  </a:moveTo>
                  <a:lnTo>
                    <a:pt x="216" y="54"/>
                  </a:lnTo>
                  <a:lnTo>
                    <a:pt x="176" y="80"/>
                  </a:lnTo>
                  <a:lnTo>
                    <a:pt x="139" y="111"/>
                  </a:lnTo>
                  <a:lnTo>
                    <a:pt x="106" y="145"/>
                  </a:lnTo>
                  <a:lnTo>
                    <a:pt x="77" y="182"/>
                  </a:lnTo>
                  <a:lnTo>
                    <a:pt x="52" y="222"/>
                  </a:lnTo>
                  <a:lnTo>
                    <a:pt x="31" y="265"/>
                  </a:lnTo>
                  <a:lnTo>
                    <a:pt x="15" y="311"/>
                  </a:lnTo>
                  <a:lnTo>
                    <a:pt x="4" y="360"/>
                  </a:lnTo>
                  <a:lnTo>
                    <a:pt x="0" y="412"/>
                  </a:lnTo>
                  <a:lnTo>
                    <a:pt x="2" y="466"/>
                  </a:lnTo>
                  <a:lnTo>
                    <a:pt x="10" y="524"/>
                  </a:lnTo>
                  <a:lnTo>
                    <a:pt x="25" y="584"/>
                  </a:lnTo>
                  <a:lnTo>
                    <a:pt x="48" y="647"/>
                  </a:lnTo>
                  <a:lnTo>
                    <a:pt x="79" y="713"/>
                  </a:lnTo>
                  <a:lnTo>
                    <a:pt x="117" y="781"/>
                  </a:lnTo>
                  <a:lnTo>
                    <a:pt x="212" y="923"/>
                  </a:lnTo>
                  <a:lnTo>
                    <a:pt x="247" y="1014"/>
                  </a:lnTo>
                  <a:lnTo>
                    <a:pt x="267" y="1195"/>
                  </a:lnTo>
                  <a:lnTo>
                    <a:pt x="292" y="1245"/>
                  </a:lnTo>
                  <a:lnTo>
                    <a:pt x="601" y="1245"/>
                  </a:lnTo>
                  <a:lnTo>
                    <a:pt x="620" y="1204"/>
                  </a:lnTo>
                  <a:lnTo>
                    <a:pt x="632" y="1041"/>
                  </a:lnTo>
                  <a:lnTo>
                    <a:pt x="660" y="943"/>
                  </a:lnTo>
                  <a:lnTo>
                    <a:pt x="718" y="844"/>
                  </a:lnTo>
                  <a:lnTo>
                    <a:pt x="731" y="826"/>
                  </a:lnTo>
                  <a:lnTo>
                    <a:pt x="746" y="805"/>
                  </a:lnTo>
                  <a:lnTo>
                    <a:pt x="760" y="782"/>
                  </a:lnTo>
                  <a:lnTo>
                    <a:pt x="775" y="758"/>
                  </a:lnTo>
                  <a:lnTo>
                    <a:pt x="790" y="730"/>
                  </a:lnTo>
                  <a:lnTo>
                    <a:pt x="805" y="701"/>
                  </a:lnTo>
                  <a:lnTo>
                    <a:pt x="817" y="670"/>
                  </a:lnTo>
                  <a:lnTo>
                    <a:pt x="830" y="637"/>
                  </a:lnTo>
                  <a:lnTo>
                    <a:pt x="842" y="601"/>
                  </a:lnTo>
                  <a:lnTo>
                    <a:pt x="851" y="564"/>
                  </a:lnTo>
                  <a:lnTo>
                    <a:pt x="858" y="525"/>
                  </a:lnTo>
                  <a:lnTo>
                    <a:pt x="862" y="483"/>
                  </a:lnTo>
                  <a:lnTo>
                    <a:pt x="865" y="440"/>
                  </a:lnTo>
                  <a:lnTo>
                    <a:pt x="863" y="395"/>
                  </a:lnTo>
                  <a:lnTo>
                    <a:pt x="859" y="348"/>
                  </a:lnTo>
                  <a:lnTo>
                    <a:pt x="851" y="298"/>
                  </a:lnTo>
                  <a:lnTo>
                    <a:pt x="832" y="246"/>
                  </a:lnTo>
                  <a:lnTo>
                    <a:pt x="809" y="201"/>
                  </a:lnTo>
                  <a:lnTo>
                    <a:pt x="782" y="160"/>
                  </a:lnTo>
                  <a:lnTo>
                    <a:pt x="751" y="124"/>
                  </a:lnTo>
                  <a:lnTo>
                    <a:pt x="716" y="93"/>
                  </a:lnTo>
                  <a:lnTo>
                    <a:pt x="679" y="67"/>
                  </a:lnTo>
                  <a:lnTo>
                    <a:pt x="640" y="45"/>
                  </a:lnTo>
                  <a:lnTo>
                    <a:pt x="599" y="27"/>
                  </a:lnTo>
                  <a:lnTo>
                    <a:pt x="556" y="15"/>
                  </a:lnTo>
                  <a:lnTo>
                    <a:pt x="512" y="5"/>
                  </a:lnTo>
                  <a:lnTo>
                    <a:pt x="468" y="1"/>
                  </a:lnTo>
                  <a:lnTo>
                    <a:pt x="424" y="0"/>
                  </a:lnTo>
                  <a:lnTo>
                    <a:pt x="381" y="2"/>
                  </a:lnTo>
                  <a:lnTo>
                    <a:pt x="338" y="8"/>
                  </a:lnTo>
                  <a:lnTo>
                    <a:pt x="298" y="17"/>
                  </a:lnTo>
                  <a:lnTo>
                    <a:pt x="259" y="3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5052600" y="1218240"/>
              <a:ext cx="383400" cy="537480"/>
            </a:xfrm>
            <a:custGeom>
              <a:avLst/>
              <a:gdLst/>
              <a:ahLst/>
              <a:rect l="l" t="t" r="r" b="b"/>
              <a:pathLst>
                <a:path w="774" h="1173">
                  <a:moveTo>
                    <a:pt x="235" y="20"/>
                  </a:moveTo>
                  <a:lnTo>
                    <a:pt x="196" y="41"/>
                  </a:lnTo>
                  <a:lnTo>
                    <a:pt x="160" y="65"/>
                  </a:lnTo>
                  <a:lnTo>
                    <a:pt x="127" y="93"/>
                  </a:lnTo>
                  <a:lnTo>
                    <a:pt x="96" y="123"/>
                  </a:lnTo>
                  <a:lnTo>
                    <a:pt x="69" y="155"/>
                  </a:lnTo>
                  <a:lnTo>
                    <a:pt x="46" y="191"/>
                  </a:lnTo>
                  <a:lnTo>
                    <a:pt x="28" y="229"/>
                  </a:lnTo>
                  <a:lnTo>
                    <a:pt x="14" y="270"/>
                  </a:lnTo>
                  <a:lnTo>
                    <a:pt x="4" y="314"/>
                  </a:lnTo>
                  <a:lnTo>
                    <a:pt x="0" y="360"/>
                  </a:lnTo>
                  <a:lnTo>
                    <a:pt x="1" y="409"/>
                  </a:lnTo>
                  <a:lnTo>
                    <a:pt x="10" y="460"/>
                  </a:lnTo>
                  <a:lnTo>
                    <a:pt x="23" y="513"/>
                  </a:lnTo>
                  <a:lnTo>
                    <a:pt x="44" y="570"/>
                  </a:lnTo>
                  <a:lnTo>
                    <a:pt x="72" y="627"/>
                  </a:lnTo>
                  <a:lnTo>
                    <a:pt x="106" y="688"/>
                  </a:lnTo>
                  <a:lnTo>
                    <a:pt x="219" y="816"/>
                  </a:lnTo>
                  <a:lnTo>
                    <a:pt x="243" y="896"/>
                  </a:lnTo>
                  <a:lnTo>
                    <a:pt x="259" y="1118"/>
                  </a:lnTo>
                  <a:lnTo>
                    <a:pt x="308" y="1173"/>
                  </a:lnTo>
                  <a:lnTo>
                    <a:pt x="516" y="1173"/>
                  </a:lnTo>
                  <a:lnTo>
                    <a:pt x="557" y="1126"/>
                  </a:lnTo>
                  <a:lnTo>
                    <a:pt x="565" y="935"/>
                  </a:lnTo>
                  <a:lnTo>
                    <a:pt x="589" y="847"/>
                  </a:lnTo>
                  <a:lnTo>
                    <a:pt x="637" y="760"/>
                  </a:lnTo>
                  <a:lnTo>
                    <a:pt x="664" y="722"/>
                  </a:lnTo>
                  <a:lnTo>
                    <a:pt x="691" y="676"/>
                  </a:lnTo>
                  <a:lnTo>
                    <a:pt x="718" y="623"/>
                  </a:lnTo>
                  <a:lnTo>
                    <a:pt x="741" y="564"/>
                  </a:lnTo>
                  <a:lnTo>
                    <a:pt x="759" y="497"/>
                  </a:lnTo>
                  <a:lnTo>
                    <a:pt x="772" y="425"/>
                  </a:lnTo>
                  <a:lnTo>
                    <a:pt x="774" y="345"/>
                  </a:lnTo>
                  <a:lnTo>
                    <a:pt x="766" y="259"/>
                  </a:lnTo>
                  <a:lnTo>
                    <a:pt x="750" y="214"/>
                  </a:lnTo>
                  <a:lnTo>
                    <a:pt x="729" y="172"/>
                  </a:lnTo>
                  <a:lnTo>
                    <a:pt x="705" y="138"/>
                  </a:lnTo>
                  <a:lnTo>
                    <a:pt x="677" y="107"/>
                  </a:lnTo>
                  <a:lnTo>
                    <a:pt x="646" y="79"/>
                  </a:lnTo>
                  <a:lnTo>
                    <a:pt x="614" y="57"/>
                  </a:lnTo>
                  <a:lnTo>
                    <a:pt x="578" y="39"/>
                  </a:lnTo>
                  <a:lnTo>
                    <a:pt x="542" y="24"/>
                  </a:lnTo>
                  <a:lnTo>
                    <a:pt x="504" y="12"/>
                  </a:lnTo>
                  <a:lnTo>
                    <a:pt x="464" y="5"/>
                  </a:lnTo>
                  <a:lnTo>
                    <a:pt x="425" y="1"/>
                  </a:lnTo>
                  <a:lnTo>
                    <a:pt x="386" y="0"/>
                  </a:lnTo>
                  <a:lnTo>
                    <a:pt x="347" y="1"/>
                  </a:lnTo>
                  <a:lnTo>
                    <a:pt x="308" y="5"/>
                  </a:lnTo>
                  <a:lnTo>
                    <a:pt x="271" y="11"/>
                  </a:lnTo>
                  <a:lnTo>
                    <a:pt x="235" y="2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5063400" y="1225800"/>
              <a:ext cx="359640" cy="529920"/>
            </a:xfrm>
            <a:custGeom>
              <a:avLst/>
              <a:gdLst/>
              <a:ahLst/>
              <a:rect l="l" t="t" r="r" b="b"/>
              <a:pathLst>
                <a:path w="728" h="1158">
                  <a:moveTo>
                    <a:pt x="228" y="17"/>
                  </a:moveTo>
                  <a:lnTo>
                    <a:pt x="189" y="38"/>
                  </a:lnTo>
                  <a:lnTo>
                    <a:pt x="153" y="61"/>
                  </a:lnTo>
                  <a:lnTo>
                    <a:pt x="121" y="87"/>
                  </a:lnTo>
                  <a:lnTo>
                    <a:pt x="91" y="116"/>
                  </a:lnTo>
                  <a:lnTo>
                    <a:pt x="65" y="147"/>
                  </a:lnTo>
                  <a:lnTo>
                    <a:pt x="43" y="182"/>
                  </a:lnTo>
                  <a:lnTo>
                    <a:pt x="25" y="218"/>
                  </a:lnTo>
                  <a:lnTo>
                    <a:pt x="12" y="258"/>
                  </a:lnTo>
                  <a:lnTo>
                    <a:pt x="4" y="299"/>
                  </a:lnTo>
                  <a:lnTo>
                    <a:pt x="0" y="342"/>
                  </a:lnTo>
                  <a:lnTo>
                    <a:pt x="2" y="388"/>
                  </a:lnTo>
                  <a:lnTo>
                    <a:pt x="10" y="436"/>
                  </a:lnTo>
                  <a:lnTo>
                    <a:pt x="24" y="486"/>
                  </a:lnTo>
                  <a:lnTo>
                    <a:pt x="45" y="538"/>
                  </a:lnTo>
                  <a:lnTo>
                    <a:pt x="71" y="592"/>
                  </a:lnTo>
                  <a:lnTo>
                    <a:pt x="106" y="647"/>
                  </a:lnTo>
                  <a:lnTo>
                    <a:pt x="119" y="667"/>
                  </a:lnTo>
                  <a:lnTo>
                    <a:pt x="132" y="686"/>
                  </a:lnTo>
                  <a:lnTo>
                    <a:pt x="145" y="706"/>
                  </a:lnTo>
                  <a:lnTo>
                    <a:pt x="158" y="725"/>
                  </a:lnTo>
                  <a:lnTo>
                    <a:pt x="170" y="745"/>
                  </a:lnTo>
                  <a:lnTo>
                    <a:pt x="184" y="764"/>
                  </a:lnTo>
                  <a:lnTo>
                    <a:pt x="197" y="784"/>
                  </a:lnTo>
                  <a:lnTo>
                    <a:pt x="211" y="804"/>
                  </a:lnTo>
                  <a:lnTo>
                    <a:pt x="217" y="823"/>
                  </a:lnTo>
                  <a:lnTo>
                    <a:pt x="222" y="843"/>
                  </a:lnTo>
                  <a:lnTo>
                    <a:pt x="227" y="862"/>
                  </a:lnTo>
                  <a:lnTo>
                    <a:pt x="233" y="882"/>
                  </a:lnTo>
                  <a:lnTo>
                    <a:pt x="236" y="937"/>
                  </a:lnTo>
                  <a:lnTo>
                    <a:pt x="241" y="992"/>
                  </a:lnTo>
                  <a:lnTo>
                    <a:pt x="244" y="1048"/>
                  </a:lnTo>
                  <a:lnTo>
                    <a:pt x="248" y="1103"/>
                  </a:lnTo>
                  <a:lnTo>
                    <a:pt x="253" y="1110"/>
                  </a:lnTo>
                  <a:lnTo>
                    <a:pt x="259" y="1117"/>
                  </a:lnTo>
                  <a:lnTo>
                    <a:pt x="265" y="1124"/>
                  </a:lnTo>
                  <a:lnTo>
                    <a:pt x="271" y="1131"/>
                  </a:lnTo>
                  <a:lnTo>
                    <a:pt x="275" y="1138"/>
                  </a:lnTo>
                  <a:lnTo>
                    <a:pt x="281" y="1144"/>
                  </a:lnTo>
                  <a:lnTo>
                    <a:pt x="287" y="1151"/>
                  </a:lnTo>
                  <a:lnTo>
                    <a:pt x="293" y="1158"/>
                  </a:lnTo>
                  <a:lnTo>
                    <a:pt x="305" y="1158"/>
                  </a:lnTo>
                  <a:lnTo>
                    <a:pt x="317" y="1158"/>
                  </a:lnTo>
                  <a:lnTo>
                    <a:pt x="329" y="1158"/>
                  </a:lnTo>
                  <a:lnTo>
                    <a:pt x="342" y="1158"/>
                  </a:lnTo>
                  <a:lnTo>
                    <a:pt x="354" y="1158"/>
                  </a:lnTo>
                  <a:lnTo>
                    <a:pt x="366" y="1158"/>
                  </a:lnTo>
                  <a:lnTo>
                    <a:pt x="378" y="1158"/>
                  </a:lnTo>
                  <a:lnTo>
                    <a:pt x="390" y="1158"/>
                  </a:lnTo>
                  <a:lnTo>
                    <a:pt x="403" y="1158"/>
                  </a:lnTo>
                  <a:lnTo>
                    <a:pt x="415" y="1158"/>
                  </a:lnTo>
                  <a:lnTo>
                    <a:pt x="427" y="1158"/>
                  </a:lnTo>
                  <a:lnTo>
                    <a:pt x="439" y="1158"/>
                  </a:lnTo>
                  <a:lnTo>
                    <a:pt x="451" y="1158"/>
                  </a:lnTo>
                  <a:lnTo>
                    <a:pt x="464" y="1158"/>
                  </a:lnTo>
                  <a:lnTo>
                    <a:pt x="476" y="1158"/>
                  </a:lnTo>
                  <a:lnTo>
                    <a:pt x="488" y="1158"/>
                  </a:lnTo>
                  <a:lnTo>
                    <a:pt x="493" y="1153"/>
                  </a:lnTo>
                  <a:lnTo>
                    <a:pt x="498" y="1147"/>
                  </a:lnTo>
                  <a:lnTo>
                    <a:pt x="502" y="1141"/>
                  </a:lnTo>
                  <a:lnTo>
                    <a:pt x="508" y="1135"/>
                  </a:lnTo>
                  <a:lnTo>
                    <a:pt x="512" y="1130"/>
                  </a:lnTo>
                  <a:lnTo>
                    <a:pt x="517" y="1123"/>
                  </a:lnTo>
                  <a:lnTo>
                    <a:pt x="522" y="1117"/>
                  </a:lnTo>
                  <a:lnTo>
                    <a:pt x="526" y="1111"/>
                  </a:lnTo>
                  <a:lnTo>
                    <a:pt x="529" y="1064"/>
                  </a:lnTo>
                  <a:lnTo>
                    <a:pt x="530" y="1017"/>
                  </a:lnTo>
                  <a:lnTo>
                    <a:pt x="532" y="969"/>
                  </a:lnTo>
                  <a:lnTo>
                    <a:pt x="533" y="922"/>
                  </a:lnTo>
                  <a:lnTo>
                    <a:pt x="539" y="900"/>
                  </a:lnTo>
                  <a:lnTo>
                    <a:pt x="545" y="878"/>
                  </a:lnTo>
                  <a:lnTo>
                    <a:pt x="550" y="857"/>
                  </a:lnTo>
                  <a:lnTo>
                    <a:pt x="556" y="835"/>
                  </a:lnTo>
                  <a:lnTo>
                    <a:pt x="562" y="824"/>
                  </a:lnTo>
                  <a:lnTo>
                    <a:pt x="568" y="813"/>
                  </a:lnTo>
                  <a:lnTo>
                    <a:pt x="574" y="802"/>
                  </a:lnTo>
                  <a:lnTo>
                    <a:pt x="579" y="791"/>
                  </a:lnTo>
                  <a:lnTo>
                    <a:pt x="584" y="781"/>
                  </a:lnTo>
                  <a:lnTo>
                    <a:pt x="590" y="770"/>
                  </a:lnTo>
                  <a:lnTo>
                    <a:pt x="595" y="759"/>
                  </a:lnTo>
                  <a:lnTo>
                    <a:pt x="601" y="748"/>
                  </a:lnTo>
                  <a:lnTo>
                    <a:pt x="625" y="710"/>
                  </a:lnTo>
                  <a:lnTo>
                    <a:pt x="651" y="664"/>
                  </a:lnTo>
                  <a:lnTo>
                    <a:pt x="676" y="612"/>
                  </a:lnTo>
                  <a:lnTo>
                    <a:pt x="698" y="554"/>
                  </a:lnTo>
                  <a:lnTo>
                    <a:pt x="715" y="489"/>
                  </a:lnTo>
                  <a:lnTo>
                    <a:pt x="726" y="417"/>
                  </a:lnTo>
                  <a:lnTo>
                    <a:pt x="728" y="337"/>
                  </a:lnTo>
                  <a:lnTo>
                    <a:pt x="721" y="252"/>
                  </a:lnTo>
                  <a:lnTo>
                    <a:pt x="707" y="209"/>
                  </a:lnTo>
                  <a:lnTo>
                    <a:pt x="690" y="171"/>
                  </a:lnTo>
                  <a:lnTo>
                    <a:pt x="668" y="137"/>
                  </a:lnTo>
                  <a:lnTo>
                    <a:pt x="643" y="107"/>
                  </a:lnTo>
                  <a:lnTo>
                    <a:pt x="615" y="81"/>
                  </a:lnTo>
                  <a:lnTo>
                    <a:pt x="585" y="60"/>
                  </a:lnTo>
                  <a:lnTo>
                    <a:pt x="553" y="41"/>
                  </a:lnTo>
                  <a:lnTo>
                    <a:pt x="518" y="26"/>
                  </a:lnTo>
                  <a:lnTo>
                    <a:pt x="483" y="15"/>
                  </a:lnTo>
                  <a:lnTo>
                    <a:pt x="446" y="7"/>
                  </a:lnTo>
                  <a:lnTo>
                    <a:pt x="409" y="2"/>
                  </a:lnTo>
                  <a:lnTo>
                    <a:pt x="371" y="0"/>
                  </a:lnTo>
                  <a:lnTo>
                    <a:pt x="334" y="0"/>
                  </a:lnTo>
                  <a:lnTo>
                    <a:pt x="297" y="3"/>
                  </a:lnTo>
                  <a:lnTo>
                    <a:pt x="263" y="9"/>
                  </a:lnTo>
                  <a:lnTo>
                    <a:pt x="228" y="17"/>
                  </a:lnTo>
                  <a:close/>
                </a:path>
              </a:pathLst>
            </a:custGeom>
            <a:solidFill>
              <a:srgbClr val="ffce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5073480" y="1231920"/>
              <a:ext cx="338040" cy="523800"/>
            </a:xfrm>
            <a:custGeom>
              <a:avLst/>
              <a:gdLst/>
              <a:ahLst/>
              <a:rect l="l" t="t" r="r" b="b"/>
              <a:pathLst>
                <a:path w="682" h="1143">
                  <a:moveTo>
                    <a:pt x="219" y="15"/>
                  </a:moveTo>
                  <a:lnTo>
                    <a:pt x="181" y="34"/>
                  </a:lnTo>
                  <a:lnTo>
                    <a:pt x="145" y="56"/>
                  </a:lnTo>
                  <a:lnTo>
                    <a:pt x="113" y="81"/>
                  </a:lnTo>
                  <a:lnTo>
                    <a:pt x="84" y="109"/>
                  </a:lnTo>
                  <a:lnTo>
                    <a:pt x="60" y="139"/>
                  </a:lnTo>
                  <a:lnTo>
                    <a:pt x="38" y="172"/>
                  </a:lnTo>
                  <a:lnTo>
                    <a:pt x="22" y="207"/>
                  </a:lnTo>
                  <a:lnTo>
                    <a:pt x="9" y="244"/>
                  </a:lnTo>
                  <a:lnTo>
                    <a:pt x="2" y="283"/>
                  </a:lnTo>
                  <a:lnTo>
                    <a:pt x="0" y="324"/>
                  </a:lnTo>
                  <a:lnTo>
                    <a:pt x="2" y="367"/>
                  </a:lnTo>
                  <a:lnTo>
                    <a:pt x="10" y="412"/>
                  </a:lnTo>
                  <a:lnTo>
                    <a:pt x="24" y="458"/>
                  </a:lnTo>
                  <a:lnTo>
                    <a:pt x="45" y="506"/>
                  </a:lnTo>
                  <a:lnTo>
                    <a:pt x="71" y="556"/>
                  </a:lnTo>
                  <a:lnTo>
                    <a:pt x="104" y="607"/>
                  </a:lnTo>
                  <a:lnTo>
                    <a:pt x="116" y="630"/>
                  </a:lnTo>
                  <a:lnTo>
                    <a:pt x="128" y="653"/>
                  </a:lnTo>
                  <a:lnTo>
                    <a:pt x="140" y="676"/>
                  </a:lnTo>
                  <a:lnTo>
                    <a:pt x="152" y="699"/>
                  </a:lnTo>
                  <a:lnTo>
                    <a:pt x="165" y="722"/>
                  </a:lnTo>
                  <a:lnTo>
                    <a:pt x="176" y="745"/>
                  </a:lnTo>
                  <a:lnTo>
                    <a:pt x="189" y="768"/>
                  </a:lnTo>
                  <a:lnTo>
                    <a:pt x="200" y="791"/>
                  </a:lnTo>
                  <a:lnTo>
                    <a:pt x="206" y="810"/>
                  </a:lnTo>
                  <a:lnTo>
                    <a:pt x="211" y="830"/>
                  </a:lnTo>
                  <a:lnTo>
                    <a:pt x="216" y="850"/>
                  </a:lnTo>
                  <a:lnTo>
                    <a:pt x="222" y="869"/>
                  </a:lnTo>
                  <a:lnTo>
                    <a:pt x="226" y="924"/>
                  </a:lnTo>
                  <a:lnTo>
                    <a:pt x="229" y="979"/>
                  </a:lnTo>
                  <a:lnTo>
                    <a:pt x="233" y="1034"/>
                  </a:lnTo>
                  <a:lnTo>
                    <a:pt x="236" y="1088"/>
                  </a:lnTo>
                  <a:lnTo>
                    <a:pt x="242" y="1095"/>
                  </a:lnTo>
                  <a:lnTo>
                    <a:pt x="246" y="1102"/>
                  </a:lnTo>
                  <a:lnTo>
                    <a:pt x="252" y="1109"/>
                  </a:lnTo>
                  <a:lnTo>
                    <a:pt x="257" y="1116"/>
                  </a:lnTo>
                  <a:lnTo>
                    <a:pt x="262" y="1123"/>
                  </a:lnTo>
                  <a:lnTo>
                    <a:pt x="267" y="1129"/>
                  </a:lnTo>
                  <a:lnTo>
                    <a:pt x="273" y="1136"/>
                  </a:lnTo>
                  <a:lnTo>
                    <a:pt x="277" y="1143"/>
                  </a:lnTo>
                  <a:lnTo>
                    <a:pt x="300" y="1143"/>
                  </a:lnTo>
                  <a:lnTo>
                    <a:pt x="324" y="1143"/>
                  </a:lnTo>
                  <a:lnTo>
                    <a:pt x="345" y="1143"/>
                  </a:lnTo>
                  <a:lnTo>
                    <a:pt x="368" y="1143"/>
                  </a:lnTo>
                  <a:lnTo>
                    <a:pt x="391" y="1143"/>
                  </a:lnTo>
                  <a:lnTo>
                    <a:pt x="413" y="1143"/>
                  </a:lnTo>
                  <a:lnTo>
                    <a:pt x="436" y="1143"/>
                  </a:lnTo>
                  <a:lnTo>
                    <a:pt x="459" y="1143"/>
                  </a:lnTo>
                  <a:lnTo>
                    <a:pt x="464" y="1138"/>
                  </a:lnTo>
                  <a:lnTo>
                    <a:pt x="469" y="1132"/>
                  </a:lnTo>
                  <a:lnTo>
                    <a:pt x="472" y="1126"/>
                  </a:lnTo>
                  <a:lnTo>
                    <a:pt x="477" y="1119"/>
                  </a:lnTo>
                  <a:lnTo>
                    <a:pt x="481" y="1113"/>
                  </a:lnTo>
                  <a:lnTo>
                    <a:pt x="486" y="1108"/>
                  </a:lnTo>
                  <a:lnTo>
                    <a:pt x="489" y="1102"/>
                  </a:lnTo>
                  <a:lnTo>
                    <a:pt x="494" y="1096"/>
                  </a:lnTo>
                  <a:lnTo>
                    <a:pt x="496" y="1049"/>
                  </a:lnTo>
                  <a:lnTo>
                    <a:pt x="497" y="1003"/>
                  </a:lnTo>
                  <a:lnTo>
                    <a:pt x="500" y="956"/>
                  </a:lnTo>
                  <a:lnTo>
                    <a:pt x="501" y="908"/>
                  </a:lnTo>
                  <a:lnTo>
                    <a:pt x="507" y="886"/>
                  </a:lnTo>
                  <a:lnTo>
                    <a:pt x="512" y="865"/>
                  </a:lnTo>
                  <a:lnTo>
                    <a:pt x="517" y="844"/>
                  </a:lnTo>
                  <a:lnTo>
                    <a:pt x="523" y="822"/>
                  </a:lnTo>
                  <a:lnTo>
                    <a:pt x="528" y="812"/>
                  </a:lnTo>
                  <a:lnTo>
                    <a:pt x="533" y="800"/>
                  </a:lnTo>
                  <a:lnTo>
                    <a:pt x="539" y="790"/>
                  </a:lnTo>
                  <a:lnTo>
                    <a:pt x="543" y="779"/>
                  </a:lnTo>
                  <a:lnTo>
                    <a:pt x="549" y="769"/>
                  </a:lnTo>
                  <a:lnTo>
                    <a:pt x="554" y="759"/>
                  </a:lnTo>
                  <a:lnTo>
                    <a:pt x="560" y="747"/>
                  </a:lnTo>
                  <a:lnTo>
                    <a:pt x="564" y="737"/>
                  </a:lnTo>
                  <a:lnTo>
                    <a:pt x="586" y="699"/>
                  </a:lnTo>
                  <a:lnTo>
                    <a:pt x="609" y="654"/>
                  </a:lnTo>
                  <a:lnTo>
                    <a:pt x="632" y="602"/>
                  </a:lnTo>
                  <a:lnTo>
                    <a:pt x="652" y="544"/>
                  </a:lnTo>
                  <a:lnTo>
                    <a:pt x="668" y="480"/>
                  </a:lnTo>
                  <a:lnTo>
                    <a:pt x="678" y="408"/>
                  </a:lnTo>
                  <a:lnTo>
                    <a:pt x="682" y="330"/>
                  </a:lnTo>
                  <a:lnTo>
                    <a:pt x="676" y="245"/>
                  </a:lnTo>
                  <a:lnTo>
                    <a:pt x="666" y="205"/>
                  </a:lnTo>
                  <a:lnTo>
                    <a:pt x="651" y="168"/>
                  </a:lnTo>
                  <a:lnTo>
                    <a:pt x="631" y="136"/>
                  </a:lnTo>
                  <a:lnTo>
                    <a:pt x="609" y="107"/>
                  </a:lnTo>
                  <a:lnTo>
                    <a:pt x="584" y="81"/>
                  </a:lnTo>
                  <a:lnTo>
                    <a:pt x="556" y="61"/>
                  </a:lnTo>
                  <a:lnTo>
                    <a:pt x="526" y="42"/>
                  </a:lnTo>
                  <a:lnTo>
                    <a:pt x="494" y="27"/>
                  </a:lnTo>
                  <a:lnTo>
                    <a:pt x="461" y="16"/>
                  </a:lnTo>
                  <a:lnTo>
                    <a:pt x="426" y="8"/>
                  </a:lnTo>
                  <a:lnTo>
                    <a:pt x="391" y="2"/>
                  </a:lnTo>
                  <a:lnTo>
                    <a:pt x="356" y="0"/>
                  </a:lnTo>
                  <a:lnTo>
                    <a:pt x="320" y="0"/>
                  </a:lnTo>
                  <a:lnTo>
                    <a:pt x="286" y="2"/>
                  </a:lnTo>
                  <a:lnTo>
                    <a:pt x="251" y="7"/>
                  </a:lnTo>
                  <a:lnTo>
                    <a:pt x="219" y="15"/>
                  </a:lnTo>
                  <a:close/>
                </a:path>
              </a:pathLst>
            </a:custGeom>
            <a:solidFill>
              <a:srgbClr val="ffd1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5084280" y="1238400"/>
              <a:ext cx="315000" cy="517320"/>
            </a:xfrm>
            <a:custGeom>
              <a:avLst/>
              <a:gdLst/>
              <a:ahLst/>
              <a:rect l="l" t="t" r="r" b="b"/>
              <a:pathLst>
                <a:path w="635" h="1130">
                  <a:moveTo>
                    <a:pt x="212" y="13"/>
                  </a:moveTo>
                  <a:lnTo>
                    <a:pt x="174" y="32"/>
                  </a:lnTo>
                  <a:lnTo>
                    <a:pt x="138" y="53"/>
                  </a:lnTo>
                  <a:lnTo>
                    <a:pt x="107" y="78"/>
                  </a:lnTo>
                  <a:lnTo>
                    <a:pt x="79" y="104"/>
                  </a:lnTo>
                  <a:lnTo>
                    <a:pt x="55" y="134"/>
                  </a:lnTo>
                  <a:lnTo>
                    <a:pt x="35" y="165"/>
                  </a:lnTo>
                  <a:lnTo>
                    <a:pt x="19" y="197"/>
                  </a:lnTo>
                  <a:lnTo>
                    <a:pt x="8" y="233"/>
                  </a:lnTo>
                  <a:lnTo>
                    <a:pt x="2" y="270"/>
                  </a:lnTo>
                  <a:lnTo>
                    <a:pt x="0" y="309"/>
                  </a:lnTo>
                  <a:lnTo>
                    <a:pt x="3" y="348"/>
                  </a:lnTo>
                  <a:lnTo>
                    <a:pt x="12" y="390"/>
                  </a:lnTo>
                  <a:lnTo>
                    <a:pt x="26" y="432"/>
                  </a:lnTo>
                  <a:lnTo>
                    <a:pt x="46" y="476"/>
                  </a:lnTo>
                  <a:lnTo>
                    <a:pt x="71" y="521"/>
                  </a:lnTo>
                  <a:lnTo>
                    <a:pt x="103" y="567"/>
                  </a:lnTo>
                  <a:lnTo>
                    <a:pt x="115" y="594"/>
                  </a:lnTo>
                  <a:lnTo>
                    <a:pt x="125" y="620"/>
                  </a:lnTo>
                  <a:lnTo>
                    <a:pt x="137" y="647"/>
                  </a:lnTo>
                  <a:lnTo>
                    <a:pt x="148" y="673"/>
                  </a:lnTo>
                  <a:lnTo>
                    <a:pt x="159" y="701"/>
                  </a:lnTo>
                  <a:lnTo>
                    <a:pt x="170" y="727"/>
                  </a:lnTo>
                  <a:lnTo>
                    <a:pt x="180" y="754"/>
                  </a:lnTo>
                  <a:lnTo>
                    <a:pt x="192" y="780"/>
                  </a:lnTo>
                  <a:lnTo>
                    <a:pt x="197" y="800"/>
                  </a:lnTo>
                  <a:lnTo>
                    <a:pt x="202" y="819"/>
                  </a:lnTo>
                  <a:lnTo>
                    <a:pt x="207" y="838"/>
                  </a:lnTo>
                  <a:lnTo>
                    <a:pt x="212" y="858"/>
                  </a:lnTo>
                  <a:lnTo>
                    <a:pt x="215" y="913"/>
                  </a:lnTo>
                  <a:lnTo>
                    <a:pt x="218" y="967"/>
                  </a:lnTo>
                  <a:lnTo>
                    <a:pt x="221" y="1022"/>
                  </a:lnTo>
                  <a:lnTo>
                    <a:pt x="224" y="1076"/>
                  </a:lnTo>
                  <a:lnTo>
                    <a:pt x="229" y="1083"/>
                  </a:lnTo>
                  <a:lnTo>
                    <a:pt x="233" y="1089"/>
                  </a:lnTo>
                  <a:lnTo>
                    <a:pt x="239" y="1096"/>
                  </a:lnTo>
                  <a:lnTo>
                    <a:pt x="244" y="1103"/>
                  </a:lnTo>
                  <a:lnTo>
                    <a:pt x="248" y="1110"/>
                  </a:lnTo>
                  <a:lnTo>
                    <a:pt x="254" y="1116"/>
                  </a:lnTo>
                  <a:lnTo>
                    <a:pt x="259" y="1123"/>
                  </a:lnTo>
                  <a:lnTo>
                    <a:pt x="263" y="1130"/>
                  </a:lnTo>
                  <a:lnTo>
                    <a:pt x="284" y="1130"/>
                  </a:lnTo>
                  <a:lnTo>
                    <a:pt x="306" y="1130"/>
                  </a:lnTo>
                  <a:lnTo>
                    <a:pt x="327" y="1130"/>
                  </a:lnTo>
                  <a:lnTo>
                    <a:pt x="347" y="1130"/>
                  </a:lnTo>
                  <a:lnTo>
                    <a:pt x="368" y="1130"/>
                  </a:lnTo>
                  <a:lnTo>
                    <a:pt x="389" y="1130"/>
                  </a:lnTo>
                  <a:lnTo>
                    <a:pt x="411" y="1130"/>
                  </a:lnTo>
                  <a:lnTo>
                    <a:pt x="431" y="1130"/>
                  </a:lnTo>
                  <a:lnTo>
                    <a:pt x="440" y="1119"/>
                  </a:lnTo>
                  <a:lnTo>
                    <a:pt x="448" y="1106"/>
                  </a:lnTo>
                  <a:lnTo>
                    <a:pt x="456" y="1095"/>
                  </a:lnTo>
                  <a:lnTo>
                    <a:pt x="464" y="1083"/>
                  </a:lnTo>
                  <a:lnTo>
                    <a:pt x="466" y="1037"/>
                  </a:lnTo>
                  <a:lnTo>
                    <a:pt x="467" y="990"/>
                  </a:lnTo>
                  <a:lnTo>
                    <a:pt x="469" y="944"/>
                  </a:lnTo>
                  <a:lnTo>
                    <a:pt x="471" y="898"/>
                  </a:lnTo>
                  <a:lnTo>
                    <a:pt x="475" y="876"/>
                  </a:lnTo>
                  <a:lnTo>
                    <a:pt x="480" y="854"/>
                  </a:lnTo>
                  <a:lnTo>
                    <a:pt x="484" y="833"/>
                  </a:lnTo>
                  <a:lnTo>
                    <a:pt x="489" y="811"/>
                  </a:lnTo>
                  <a:lnTo>
                    <a:pt x="494" y="801"/>
                  </a:lnTo>
                  <a:lnTo>
                    <a:pt x="499" y="789"/>
                  </a:lnTo>
                  <a:lnTo>
                    <a:pt x="504" y="779"/>
                  </a:lnTo>
                  <a:lnTo>
                    <a:pt x="509" y="769"/>
                  </a:lnTo>
                  <a:lnTo>
                    <a:pt x="514" y="758"/>
                  </a:lnTo>
                  <a:lnTo>
                    <a:pt x="519" y="748"/>
                  </a:lnTo>
                  <a:lnTo>
                    <a:pt x="524" y="736"/>
                  </a:lnTo>
                  <a:lnTo>
                    <a:pt x="528" y="726"/>
                  </a:lnTo>
                  <a:lnTo>
                    <a:pt x="549" y="688"/>
                  </a:lnTo>
                  <a:lnTo>
                    <a:pt x="570" y="644"/>
                  </a:lnTo>
                  <a:lnTo>
                    <a:pt x="590" y="594"/>
                  </a:lnTo>
                  <a:lnTo>
                    <a:pt x="609" y="536"/>
                  </a:lnTo>
                  <a:lnTo>
                    <a:pt x="623" y="473"/>
                  </a:lnTo>
                  <a:lnTo>
                    <a:pt x="633" y="402"/>
                  </a:lnTo>
                  <a:lnTo>
                    <a:pt x="635" y="324"/>
                  </a:lnTo>
                  <a:lnTo>
                    <a:pt x="631" y="240"/>
                  </a:lnTo>
                  <a:lnTo>
                    <a:pt x="623" y="202"/>
                  </a:lnTo>
                  <a:lnTo>
                    <a:pt x="611" y="167"/>
                  </a:lnTo>
                  <a:lnTo>
                    <a:pt x="595" y="136"/>
                  </a:lnTo>
                  <a:lnTo>
                    <a:pt x="575" y="110"/>
                  </a:lnTo>
                  <a:lnTo>
                    <a:pt x="552" y="86"/>
                  </a:lnTo>
                  <a:lnTo>
                    <a:pt x="527" y="64"/>
                  </a:lnTo>
                  <a:lnTo>
                    <a:pt x="499" y="47"/>
                  </a:lnTo>
                  <a:lnTo>
                    <a:pt x="471" y="32"/>
                  </a:lnTo>
                  <a:lnTo>
                    <a:pt x="440" y="20"/>
                  </a:lnTo>
                  <a:lnTo>
                    <a:pt x="407" y="11"/>
                  </a:lnTo>
                  <a:lnTo>
                    <a:pt x="374" y="5"/>
                  </a:lnTo>
                  <a:lnTo>
                    <a:pt x="341" y="2"/>
                  </a:lnTo>
                  <a:lnTo>
                    <a:pt x="307" y="0"/>
                  </a:lnTo>
                  <a:lnTo>
                    <a:pt x="275" y="3"/>
                  </a:lnTo>
                  <a:lnTo>
                    <a:pt x="243" y="6"/>
                  </a:lnTo>
                  <a:lnTo>
                    <a:pt x="212" y="13"/>
                  </a:lnTo>
                  <a:close/>
                </a:path>
              </a:pathLst>
            </a:custGeom>
            <a:solidFill>
              <a:srgbClr val="ffd6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5095080" y="1244880"/>
              <a:ext cx="292320" cy="510840"/>
            </a:xfrm>
            <a:custGeom>
              <a:avLst/>
              <a:gdLst/>
              <a:ahLst/>
              <a:rect l="l" t="t" r="r" b="b"/>
              <a:pathLst>
                <a:path w="589" h="1116">
                  <a:moveTo>
                    <a:pt x="203" y="12"/>
                  </a:moveTo>
                  <a:lnTo>
                    <a:pt x="165" y="29"/>
                  </a:lnTo>
                  <a:lnTo>
                    <a:pt x="131" y="50"/>
                  </a:lnTo>
                  <a:lnTo>
                    <a:pt x="100" y="73"/>
                  </a:lnTo>
                  <a:lnTo>
                    <a:pt x="72" y="98"/>
                  </a:lnTo>
                  <a:lnTo>
                    <a:pt x="49" y="126"/>
                  </a:lnTo>
                  <a:lnTo>
                    <a:pt x="31" y="156"/>
                  </a:lnTo>
                  <a:lnTo>
                    <a:pt x="16" y="187"/>
                  </a:lnTo>
                  <a:lnTo>
                    <a:pt x="5" y="220"/>
                  </a:lnTo>
                  <a:lnTo>
                    <a:pt x="0" y="255"/>
                  </a:lnTo>
                  <a:lnTo>
                    <a:pt x="0" y="291"/>
                  </a:lnTo>
                  <a:lnTo>
                    <a:pt x="3" y="329"/>
                  </a:lnTo>
                  <a:lnTo>
                    <a:pt x="12" y="367"/>
                  </a:lnTo>
                  <a:lnTo>
                    <a:pt x="26" y="406"/>
                  </a:lnTo>
                  <a:lnTo>
                    <a:pt x="46" y="446"/>
                  </a:lnTo>
                  <a:lnTo>
                    <a:pt x="71" y="486"/>
                  </a:lnTo>
                  <a:lnTo>
                    <a:pt x="102" y="527"/>
                  </a:lnTo>
                  <a:lnTo>
                    <a:pt x="112" y="557"/>
                  </a:lnTo>
                  <a:lnTo>
                    <a:pt x="122" y="588"/>
                  </a:lnTo>
                  <a:lnTo>
                    <a:pt x="132" y="618"/>
                  </a:lnTo>
                  <a:lnTo>
                    <a:pt x="142" y="648"/>
                  </a:lnTo>
                  <a:lnTo>
                    <a:pt x="152" y="679"/>
                  </a:lnTo>
                  <a:lnTo>
                    <a:pt x="162" y="709"/>
                  </a:lnTo>
                  <a:lnTo>
                    <a:pt x="172" y="739"/>
                  </a:lnTo>
                  <a:lnTo>
                    <a:pt x="183" y="768"/>
                  </a:lnTo>
                  <a:lnTo>
                    <a:pt x="187" y="788"/>
                  </a:lnTo>
                  <a:lnTo>
                    <a:pt x="192" y="808"/>
                  </a:lnTo>
                  <a:lnTo>
                    <a:pt x="195" y="827"/>
                  </a:lnTo>
                  <a:lnTo>
                    <a:pt x="200" y="847"/>
                  </a:lnTo>
                  <a:lnTo>
                    <a:pt x="203" y="901"/>
                  </a:lnTo>
                  <a:lnTo>
                    <a:pt x="207" y="954"/>
                  </a:lnTo>
                  <a:lnTo>
                    <a:pt x="209" y="1008"/>
                  </a:lnTo>
                  <a:lnTo>
                    <a:pt x="213" y="1062"/>
                  </a:lnTo>
                  <a:lnTo>
                    <a:pt x="217" y="1069"/>
                  </a:lnTo>
                  <a:lnTo>
                    <a:pt x="222" y="1075"/>
                  </a:lnTo>
                  <a:lnTo>
                    <a:pt x="225" y="1082"/>
                  </a:lnTo>
                  <a:lnTo>
                    <a:pt x="230" y="1089"/>
                  </a:lnTo>
                  <a:lnTo>
                    <a:pt x="234" y="1096"/>
                  </a:lnTo>
                  <a:lnTo>
                    <a:pt x="239" y="1102"/>
                  </a:lnTo>
                  <a:lnTo>
                    <a:pt x="244" y="1109"/>
                  </a:lnTo>
                  <a:lnTo>
                    <a:pt x="248" y="1116"/>
                  </a:lnTo>
                  <a:lnTo>
                    <a:pt x="268" y="1116"/>
                  </a:lnTo>
                  <a:lnTo>
                    <a:pt x="286" y="1116"/>
                  </a:lnTo>
                  <a:lnTo>
                    <a:pt x="306" y="1116"/>
                  </a:lnTo>
                  <a:lnTo>
                    <a:pt x="325" y="1116"/>
                  </a:lnTo>
                  <a:lnTo>
                    <a:pt x="344" y="1116"/>
                  </a:lnTo>
                  <a:lnTo>
                    <a:pt x="363" y="1116"/>
                  </a:lnTo>
                  <a:lnTo>
                    <a:pt x="383" y="1116"/>
                  </a:lnTo>
                  <a:lnTo>
                    <a:pt x="403" y="1116"/>
                  </a:lnTo>
                  <a:lnTo>
                    <a:pt x="409" y="1105"/>
                  </a:lnTo>
                  <a:lnTo>
                    <a:pt x="418" y="1093"/>
                  </a:lnTo>
                  <a:lnTo>
                    <a:pt x="424" y="1082"/>
                  </a:lnTo>
                  <a:lnTo>
                    <a:pt x="433" y="1070"/>
                  </a:lnTo>
                  <a:lnTo>
                    <a:pt x="434" y="1023"/>
                  </a:lnTo>
                  <a:lnTo>
                    <a:pt x="435" y="977"/>
                  </a:lnTo>
                  <a:lnTo>
                    <a:pt x="437" y="931"/>
                  </a:lnTo>
                  <a:lnTo>
                    <a:pt x="438" y="885"/>
                  </a:lnTo>
                  <a:lnTo>
                    <a:pt x="443" y="864"/>
                  </a:lnTo>
                  <a:lnTo>
                    <a:pt x="447" y="842"/>
                  </a:lnTo>
                  <a:lnTo>
                    <a:pt x="451" y="821"/>
                  </a:lnTo>
                  <a:lnTo>
                    <a:pt x="456" y="800"/>
                  </a:lnTo>
                  <a:lnTo>
                    <a:pt x="460" y="789"/>
                  </a:lnTo>
                  <a:lnTo>
                    <a:pt x="465" y="779"/>
                  </a:lnTo>
                  <a:lnTo>
                    <a:pt x="469" y="768"/>
                  </a:lnTo>
                  <a:lnTo>
                    <a:pt x="474" y="757"/>
                  </a:lnTo>
                  <a:lnTo>
                    <a:pt x="477" y="747"/>
                  </a:lnTo>
                  <a:lnTo>
                    <a:pt x="482" y="736"/>
                  </a:lnTo>
                  <a:lnTo>
                    <a:pt x="487" y="726"/>
                  </a:lnTo>
                  <a:lnTo>
                    <a:pt x="491" y="716"/>
                  </a:lnTo>
                  <a:lnTo>
                    <a:pt x="510" y="677"/>
                  </a:lnTo>
                  <a:lnTo>
                    <a:pt x="528" y="634"/>
                  </a:lnTo>
                  <a:lnTo>
                    <a:pt x="547" y="584"/>
                  </a:lnTo>
                  <a:lnTo>
                    <a:pt x="563" y="528"/>
                  </a:lnTo>
                  <a:lnTo>
                    <a:pt x="576" y="464"/>
                  </a:lnTo>
                  <a:lnTo>
                    <a:pt x="586" y="395"/>
                  </a:lnTo>
                  <a:lnTo>
                    <a:pt x="589" y="318"/>
                  </a:lnTo>
                  <a:lnTo>
                    <a:pt x="586" y="234"/>
                  </a:lnTo>
                  <a:lnTo>
                    <a:pt x="581" y="198"/>
                  </a:lnTo>
                  <a:lnTo>
                    <a:pt x="571" y="166"/>
                  </a:lnTo>
                  <a:lnTo>
                    <a:pt x="558" y="136"/>
                  </a:lnTo>
                  <a:lnTo>
                    <a:pt x="541" y="110"/>
                  </a:lnTo>
                  <a:lnTo>
                    <a:pt x="521" y="87"/>
                  </a:lnTo>
                  <a:lnTo>
                    <a:pt x="498" y="66"/>
                  </a:lnTo>
                  <a:lnTo>
                    <a:pt x="474" y="49"/>
                  </a:lnTo>
                  <a:lnTo>
                    <a:pt x="446" y="34"/>
                  </a:lnTo>
                  <a:lnTo>
                    <a:pt x="418" y="22"/>
                  </a:lnTo>
                  <a:lnTo>
                    <a:pt x="388" y="13"/>
                  </a:lnTo>
                  <a:lnTo>
                    <a:pt x="357" y="6"/>
                  </a:lnTo>
                  <a:lnTo>
                    <a:pt x="325" y="3"/>
                  </a:lnTo>
                  <a:lnTo>
                    <a:pt x="294" y="0"/>
                  </a:lnTo>
                  <a:lnTo>
                    <a:pt x="263" y="1"/>
                  </a:lnTo>
                  <a:lnTo>
                    <a:pt x="233" y="6"/>
                  </a:lnTo>
                  <a:lnTo>
                    <a:pt x="203" y="12"/>
                  </a:lnTo>
                  <a:close/>
                </a:path>
              </a:pathLst>
            </a:custGeom>
            <a:solidFill>
              <a:srgbClr val="ffdb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5105160" y="1252080"/>
              <a:ext cx="269640" cy="503640"/>
            </a:xfrm>
            <a:custGeom>
              <a:avLst/>
              <a:gdLst/>
              <a:ahLst/>
              <a:rect l="l" t="t" r="r" b="b"/>
              <a:pathLst>
                <a:path w="544" h="1101">
                  <a:moveTo>
                    <a:pt x="197" y="8"/>
                  </a:moveTo>
                  <a:lnTo>
                    <a:pt x="159" y="26"/>
                  </a:lnTo>
                  <a:lnTo>
                    <a:pt x="125" y="45"/>
                  </a:lnTo>
                  <a:lnTo>
                    <a:pt x="95" y="67"/>
                  </a:lnTo>
                  <a:lnTo>
                    <a:pt x="68" y="91"/>
                  </a:lnTo>
                  <a:lnTo>
                    <a:pt x="46" y="118"/>
                  </a:lnTo>
                  <a:lnTo>
                    <a:pt x="28" y="147"/>
                  </a:lnTo>
                  <a:lnTo>
                    <a:pt x="14" y="176"/>
                  </a:lnTo>
                  <a:lnTo>
                    <a:pt x="5" y="208"/>
                  </a:lnTo>
                  <a:lnTo>
                    <a:pt x="0" y="240"/>
                  </a:lnTo>
                  <a:lnTo>
                    <a:pt x="0" y="273"/>
                  </a:lnTo>
                  <a:lnTo>
                    <a:pt x="5" y="308"/>
                  </a:lnTo>
                  <a:lnTo>
                    <a:pt x="14" y="342"/>
                  </a:lnTo>
                  <a:lnTo>
                    <a:pt x="28" y="378"/>
                  </a:lnTo>
                  <a:lnTo>
                    <a:pt x="47" y="414"/>
                  </a:lnTo>
                  <a:lnTo>
                    <a:pt x="72" y="449"/>
                  </a:lnTo>
                  <a:lnTo>
                    <a:pt x="102" y="485"/>
                  </a:lnTo>
                  <a:lnTo>
                    <a:pt x="111" y="520"/>
                  </a:lnTo>
                  <a:lnTo>
                    <a:pt x="120" y="553"/>
                  </a:lnTo>
                  <a:lnTo>
                    <a:pt x="129" y="588"/>
                  </a:lnTo>
                  <a:lnTo>
                    <a:pt x="138" y="621"/>
                  </a:lnTo>
                  <a:lnTo>
                    <a:pt x="148" y="654"/>
                  </a:lnTo>
                  <a:lnTo>
                    <a:pt x="157" y="689"/>
                  </a:lnTo>
                  <a:lnTo>
                    <a:pt x="166" y="722"/>
                  </a:lnTo>
                  <a:lnTo>
                    <a:pt x="175" y="757"/>
                  </a:lnTo>
                  <a:lnTo>
                    <a:pt x="179" y="775"/>
                  </a:lnTo>
                  <a:lnTo>
                    <a:pt x="183" y="795"/>
                  </a:lnTo>
                  <a:lnTo>
                    <a:pt x="187" y="813"/>
                  </a:lnTo>
                  <a:lnTo>
                    <a:pt x="191" y="833"/>
                  </a:lnTo>
                  <a:lnTo>
                    <a:pt x="194" y="886"/>
                  </a:lnTo>
                  <a:lnTo>
                    <a:pt x="197" y="940"/>
                  </a:lnTo>
                  <a:lnTo>
                    <a:pt x="199" y="993"/>
                  </a:lnTo>
                  <a:lnTo>
                    <a:pt x="202" y="1047"/>
                  </a:lnTo>
                  <a:lnTo>
                    <a:pt x="210" y="1061"/>
                  </a:lnTo>
                  <a:lnTo>
                    <a:pt x="218" y="1074"/>
                  </a:lnTo>
                  <a:lnTo>
                    <a:pt x="226" y="1087"/>
                  </a:lnTo>
                  <a:lnTo>
                    <a:pt x="234" y="1101"/>
                  </a:lnTo>
                  <a:lnTo>
                    <a:pt x="251" y="1101"/>
                  </a:lnTo>
                  <a:lnTo>
                    <a:pt x="270" y="1101"/>
                  </a:lnTo>
                  <a:lnTo>
                    <a:pt x="287" y="1101"/>
                  </a:lnTo>
                  <a:lnTo>
                    <a:pt x="305" y="1101"/>
                  </a:lnTo>
                  <a:lnTo>
                    <a:pt x="323" y="1101"/>
                  </a:lnTo>
                  <a:lnTo>
                    <a:pt x="340" y="1101"/>
                  </a:lnTo>
                  <a:lnTo>
                    <a:pt x="358" y="1101"/>
                  </a:lnTo>
                  <a:lnTo>
                    <a:pt x="376" y="1101"/>
                  </a:lnTo>
                  <a:lnTo>
                    <a:pt x="381" y="1090"/>
                  </a:lnTo>
                  <a:lnTo>
                    <a:pt x="388" y="1078"/>
                  </a:lnTo>
                  <a:lnTo>
                    <a:pt x="395" y="1067"/>
                  </a:lnTo>
                  <a:lnTo>
                    <a:pt x="402" y="1055"/>
                  </a:lnTo>
                  <a:lnTo>
                    <a:pt x="403" y="1009"/>
                  </a:lnTo>
                  <a:lnTo>
                    <a:pt x="406" y="963"/>
                  </a:lnTo>
                  <a:lnTo>
                    <a:pt x="407" y="918"/>
                  </a:lnTo>
                  <a:lnTo>
                    <a:pt x="408" y="872"/>
                  </a:lnTo>
                  <a:lnTo>
                    <a:pt x="413" y="850"/>
                  </a:lnTo>
                  <a:lnTo>
                    <a:pt x="416" y="829"/>
                  </a:lnTo>
                  <a:lnTo>
                    <a:pt x="419" y="809"/>
                  </a:lnTo>
                  <a:lnTo>
                    <a:pt x="424" y="788"/>
                  </a:lnTo>
                  <a:lnTo>
                    <a:pt x="432" y="766"/>
                  </a:lnTo>
                  <a:lnTo>
                    <a:pt x="440" y="745"/>
                  </a:lnTo>
                  <a:lnTo>
                    <a:pt x="448" y="725"/>
                  </a:lnTo>
                  <a:lnTo>
                    <a:pt x="456" y="704"/>
                  </a:lnTo>
                  <a:lnTo>
                    <a:pt x="472" y="667"/>
                  </a:lnTo>
                  <a:lnTo>
                    <a:pt x="490" y="623"/>
                  </a:lnTo>
                  <a:lnTo>
                    <a:pt x="506" y="574"/>
                  </a:lnTo>
                  <a:lnTo>
                    <a:pt x="520" y="519"/>
                  </a:lnTo>
                  <a:lnTo>
                    <a:pt x="532" y="456"/>
                  </a:lnTo>
                  <a:lnTo>
                    <a:pt x="540" y="386"/>
                  </a:lnTo>
                  <a:lnTo>
                    <a:pt x="544" y="310"/>
                  </a:lnTo>
                  <a:lnTo>
                    <a:pt x="541" y="226"/>
                  </a:lnTo>
                  <a:lnTo>
                    <a:pt x="539" y="194"/>
                  </a:lnTo>
                  <a:lnTo>
                    <a:pt x="533" y="163"/>
                  </a:lnTo>
                  <a:lnTo>
                    <a:pt x="523" y="135"/>
                  </a:lnTo>
                  <a:lnTo>
                    <a:pt x="508" y="111"/>
                  </a:lnTo>
                  <a:lnTo>
                    <a:pt x="491" y="88"/>
                  </a:lnTo>
                  <a:lnTo>
                    <a:pt x="471" y="68"/>
                  </a:lnTo>
                  <a:lnTo>
                    <a:pt x="448" y="51"/>
                  </a:lnTo>
                  <a:lnTo>
                    <a:pt x="424" y="36"/>
                  </a:lnTo>
                  <a:lnTo>
                    <a:pt x="398" y="23"/>
                  </a:lnTo>
                  <a:lnTo>
                    <a:pt x="370" y="14"/>
                  </a:lnTo>
                  <a:lnTo>
                    <a:pt x="341" y="7"/>
                  </a:lnTo>
                  <a:lnTo>
                    <a:pt x="312" y="3"/>
                  </a:lnTo>
                  <a:lnTo>
                    <a:pt x="282" y="0"/>
                  </a:lnTo>
                  <a:lnTo>
                    <a:pt x="254" y="0"/>
                  </a:lnTo>
                  <a:lnTo>
                    <a:pt x="225" y="3"/>
                  </a:lnTo>
                  <a:lnTo>
                    <a:pt x="197" y="8"/>
                  </a:lnTo>
                  <a:close/>
                </a:path>
              </a:pathLst>
            </a:custGeom>
            <a:solidFill>
              <a:srgbClr val="ffe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5114880" y="1258560"/>
              <a:ext cx="247680" cy="497160"/>
            </a:xfrm>
            <a:custGeom>
              <a:avLst/>
              <a:gdLst/>
              <a:ahLst/>
              <a:rect l="l" t="t" r="r" b="b"/>
              <a:pathLst>
                <a:path w="499" h="1086">
                  <a:moveTo>
                    <a:pt x="189" y="6"/>
                  </a:moveTo>
                  <a:lnTo>
                    <a:pt x="151" y="22"/>
                  </a:lnTo>
                  <a:lnTo>
                    <a:pt x="117" y="42"/>
                  </a:lnTo>
                  <a:lnTo>
                    <a:pt x="88" y="62"/>
                  </a:lnTo>
                  <a:lnTo>
                    <a:pt x="62" y="86"/>
                  </a:lnTo>
                  <a:lnTo>
                    <a:pt x="41" y="111"/>
                  </a:lnTo>
                  <a:lnTo>
                    <a:pt x="24" y="138"/>
                  </a:lnTo>
                  <a:lnTo>
                    <a:pt x="12" y="166"/>
                  </a:lnTo>
                  <a:lnTo>
                    <a:pt x="3" y="196"/>
                  </a:lnTo>
                  <a:lnTo>
                    <a:pt x="0" y="226"/>
                  </a:lnTo>
                  <a:lnTo>
                    <a:pt x="1" y="257"/>
                  </a:lnTo>
                  <a:lnTo>
                    <a:pt x="6" y="288"/>
                  </a:lnTo>
                  <a:lnTo>
                    <a:pt x="16" y="320"/>
                  </a:lnTo>
                  <a:lnTo>
                    <a:pt x="30" y="352"/>
                  </a:lnTo>
                  <a:lnTo>
                    <a:pt x="50" y="384"/>
                  </a:lnTo>
                  <a:lnTo>
                    <a:pt x="73" y="415"/>
                  </a:lnTo>
                  <a:lnTo>
                    <a:pt x="101" y="446"/>
                  </a:lnTo>
                  <a:lnTo>
                    <a:pt x="109" y="484"/>
                  </a:lnTo>
                  <a:lnTo>
                    <a:pt x="117" y="521"/>
                  </a:lnTo>
                  <a:lnTo>
                    <a:pt x="126" y="558"/>
                  </a:lnTo>
                  <a:lnTo>
                    <a:pt x="134" y="596"/>
                  </a:lnTo>
                  <a:lnTo>
                    <a:pt x="142" y="632"/>
                  </a:lnTo>
                  <a:lnTo>
                    <a:pt x="150" y="669"/>
                  </a:lnTo>
                  <a:lnTo>
                    <a:pt x="158" y="707"/>
                  </a:lnTo>
                  <a:lnTo>
                    <a:pt x="166" y="745"/>
                  </a:lnTo>
                  <a:lnTo>
                    <a:pt x="170" y="764"/>
                  </a:lnTo>
                  <a:lnTo>
                    <a:pt x="174" y="783"/>
                  </a:lnTo>
                  <a:lnTo>
                    <a:pt x="177" y="802"/>
                  </a:lnTo>
                  <a:lnTo>
                    <a:pt x="181" y="821"/>
                  </a:lnTo>
                  <a:lnTo>
                    <a:pt x="183" y="874"/>
                  </a:lnTo>
                  <a:lnTo>
                    <a:pt x="187" y="927"/>
                  </a:lnTo>
                  <a:lnTo>
                    <a:pt x="189" y="980"/>
                  </a:lnTo>
                  <a:lnTo>
                    <a:pt x="191" y="1033"/>
                  </a:lnTo>
                  <a:lnTo>
                    <a:pt x="198" y="1047"/>
                  </a:lnTo>
                  <a:lnTo>
                    <a:pt x="206" y="1060"/>
                  </a:lnTo>
                  <a:lnTo>
                    <a:pt x="213" y="1073"/>
                  </a:lnTo>
                  <a:lnTo>
                    <a:pt x="220" y="1086"/>
                  </a:lnTo>
                  <a:lnTo>
                    <a:pt x="236" y="1086"/>
                  </a:lnTo>
                  <a:lnTo>
                    <a:pt x="252" y="1086"/>
                  </a:lnTo>
                  <a:lnTo>
                    <a:pt x="268" y="1086"/>
                  </a:lnTo>
                  <a:lnTo>
                    <a:pt x="284" y="1086"/>
                  </a:lnTo>
                  <a:lnTo>
                    <a:pt x="299" y="1086"/>
                  </a:lnTo>
                  <a:lnTo>
                    <a:pt x="316" y="1086"/>
                  </a:lnTo>
                  <a:lnTo>
                    <a:pt x="332" y="1086"/>
                  </a:lnTo>
                  <a:lnTo>
                    <a:pt x="348" y="1086"/>
                  </a:lnTo>
                  <a:lnTo>
                    <a:pt x="354" y="1075"/>
                  </a:lnTo>
                  <a:lnTo>
                    <a:pt x="360" y="1063"/>
                  </a:lnTo>
                  <a:lnTo>
                    <a:pt x="366" y="1053"/>
                  </a:lnTo>
                  <a:lnTo>
                    <a:pt x="372" y="1041"/>
                  </a:lnTo>
                  <a:lnTo>
                    <a:pt x="373" y="995"/>
                  </a:lnTo>
                  <a:lnTo>
                    <a:pt x="374" y="950"/>
                  </a:lnTo>
                  <a:lnTo>
                    <a:pt x="375" y="905"/>
                  </a:lnTo>
                  <a:lnTo>
                    <a:pt x="377" y="859"/>
                  </a:lnTo>
                  <a:lnTo>
                    <a:pt x="380" y="839"/>
                  </a:lnTo>
                  <a:lnTo>
                    <a:pt x="383" y="818"/>
                  </a:lnTo>
                  <a:lnTo>
                    <a:pt x="387" y="797"/>
                  </a:lnTo>
                  <a:lnTo>
                    <a:pt x="392" y="776"/>
                  </a:lnTo>
                  <a:lnTo>
                    <a:pt x="398" y="754"/>
                  </a:lnTo>
                  <a:lnTo>
                    <a:pt x="406" y="734"/>
                  </a:lnTo>
                  <a:lnTo>
                    <a:pt x="413" y="713"/>
                  </a:lnTo>
                  <a:lnTo>
                    <a:pt x="420" y="692"/>
                  </a:lnTo>
                  <a:lnTo>
                    <a:pt x="434" y="655"/>
                  </a:lnTo>
                  <a:lnTo>
                    <a:pt x="449" y="613"/>
                  </a:lnTo>
                  <a:lnTo>
                    <a:pt x="464" y="564"/>
                  </a:lnTo>
                  <a:lnTo>
                    <a:pt x="477" y="509"/>
                  </a:lnTo>
                  <a:lnTo>
                    <a:pt x="487" y="448"/>
                  </a:lnTo>
                  <a:lnTo>
                    <a:pt x="495" y="379"/>
                  </a:lnTo>
                  <a:lnTo>
                    <a:pt x="499" y="304"/>
                  </a:lnTo>
                  <a:lnTo>
                    <a:pt x="497" y="221"/>
                  </a:lnTo>
                  <a:lnTo>
                    <a:pt x="497" y="190"/>
                  </a:lnTo>
                  <a:lnTo>
                    <a:pt x="494" y="162"/>
                  </a:lnTo>
                  <a:lnTo>
                    <a:pt x="486" y="136"/>
                  </a:lnTo>
                  <a:lnTo>
                    <a:pt x="474" y="112"/>
                  </a:lnTo>
                  <a:lnTo>
                    <a:pt x="461" y="90"/>
                  </a:lnTo>
                  <a:lnTo>
                    <a:pt x="442" y="70"/>
                  </a:lnTo>
                  <a:lnTo>
                    <a:pt x="423" y="53"/>
                  </a:lnTo>
                  <a:lnTo>
                    <a:pt x="401" y="39"/>
                  </a:lnTo>
                  <a:lnTo>
                    <a:pt x="377" y="27"/>
                  </a:lnTo>
                  <a:lnTo>
                    <a:pt x="351" y="16"/>
                  </a:lnTo>
                  <a:lnTo>
                    <a:pt x="325" y="8"/>
                  </a:lnTo>
                  <a:lnTo>
                    <a:pt x="297" y="4"/>
                  </a:lnTo>
                  <a:lnTo>
                    <a:pt x="269" y="0"/>
                  </a:lnTo>
                  <a:lnTo>
                    <a:pt x="242" y="0"/>
                  </a:lnTo>
                  <a:lnTo>
                    <a:pt x="215" y="1"/>
                  </a:lnTo>
                  <a:lnTo>
                    <a:pt x="189" y="6"/>
                  </a:lnTo>
                  <a:close/>
                </a:path>
              </a:pathLst>
            </a:custGeom>
            <a:solidFill>
              <a:srgbClr val="ffe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5126040" y="1264320"/>
              <a:ext cx="225720" cy="491400"/>
            </a:xfrm>
            <a:custGeom>
              <a:avLst/>
              <a:gdLst/>
              <a:ahLst/>
              <a:rect l="l" t="t" r="r" b="b"/>
              <a:pathLst>
                <a:path w="456" h="1073">
                  <a:moveTo>
                    <a:pt x="182" y="5"/>
                  </a:moveTo>
                  <a:lnTo>
                    <a:pt x="144" y="22"/>
                  </a:lnTo>
                  <a:lnTo>
                    <a:pt x="111" y="39"/>
                  </a:lnTo>
                  <a:lnTo>
                    <a:pt x="81" y="60"/>
                  </a:lnTo>
                  <a:lnTo>
                    <a:pt x="57" y="82"/>
                  </a:lnTo>
                  <a:lnTo>
                    <a:pt x="37" y="106"/>
                  </a:lnTo>
                  <a:lnTo>
                    <a:pt x="22" y="131"/>
                  </a:lnTo>
                  <a:lnTo>
                    <a:pt x="10" y="156"/>
                  </a:lnTo>
                  <a:lnTo>
                    <a:pt x="2" y="184"/>
                  </a:lnTo>
                  <a:lnTo>
                    <a:pt x="0" y="213"/>
                  </a:lnTo>
                  <a:lnTo>
                    <a:pt x="1" y="240"/>
                  </a:lnTo>
                  <a:lnTo>
                    <a:pt x="7" y="269"/>
                  </a:lnTo>
                  <a:lnTo>
                    <a:pt x="17" y="298"/>
                  </a:lnTo>
                  <a:lnTo>
                    <a:pt x="31" y="326"/>
                  </a:lnTo>
                  <a:lnTo>
                    <a:pt x="50" y="353"/>
                  </a:lnTo>
                  <a:lnTo>
                    <a:pt x="73" y="381"/>
                  </a:lnTo>
                  <a:lnTo>
                    <a:pt x="101" y="406"/>
                  </a:lnTo>
                  <a:lnTo>
                    <a:pt x="108" y="448"/>
                  </a:lnTo>
                  <a:lnTo>
                    <a:pt x="115" y="488"/>
                  </a:lnTo>
                  <a:lnTo>
                    <a:pt x="122" y="530"/>
                  </a:lnTo>
                  <a:lnTo>
                    <a:pt x="130" y="571"/>
                  </a:lnTo>
                  <a:lnTo>
                    <a:pt x="137" y="611"/>
                  </a:lnTo>
                  <a:lnTo>
                    <a:pt x="144" y="653"/>
                  </a:lnTo>
                  <a:lnTo>
                    <a:pt x="151" y="694"/>
                  </a:lnTo>
                  <a:lnTo>
                    <a:pt x="157" y="736"/>
                  </a:lnTo>
                  <a:lnTo>
                    <a:pt x="161" y="754"/>
                  </a:lnTo>
                  <a:lnTo>
                    <a:pt x="164" y="773"/>
                  </a:lnTo>
                  <a:lnTo>
                    <a:pt x="168" y="792"/>
                  </a:lnTo>
                  <a:lnTo>
                    <a:pt x="171" y="811"/>
                  </a:lnTo>
                  <a:lnTo>
                    <a:pt x="174" y="864"/>
                  </a:lnTo>
                  <a:lnTo>
                    <a:pt x="176" y="915"/>
                  </a:lnTo>
                  <a:lnTo>
                    <a:pt x="177" y="968"/>
                  </a:lnTo>
                  <a:lnTo>
                    <a:pt x="179" y="1021"/>
                  </a:lnTo>
                  <a:lnTo>
                    <a:pt x="186" y="1034"/>
                  </a:lnTo>
                  <a:lnTo>
                    <a:pt x="193" y="1047"/>
                  </a:lnTo>
                  <a:lnTo>
                    <a:pt x="199" y="1060"/>
                  </a:lnTo>
                  <a:lnTo>
                    <a:pt x="206" y="1073"/>
                  </a:lnTo>
                  <a:lnTo>
                    <a:pt x="220" y="1073"/>
                  </a:lnTo>
                  <a:lnTo>
                    <a:pt x="235" y="1073"/>
                  </a:lnTo>
                  <a:lnTo>
                    <a:pt x="248" y="1073"/>
                  </a:lnTo>
                  <a:lnTo>
                    <a:pt x="262" y="1073"/>
                  </a:lnTo>
                  <a:lnTo>
                    <a:pt x="277" y="1073"/>
                  </a:lnTo>
                  <a:lnTo>
                    <a:pt x="291" y="1073"/>
                  </a:lnTo>
                  <a:lnTo>
                    <a:pt x="305" y="1073"/>
                  </a:lnTo>
                  <a:lnTo>
                    <a:pt x="319" y="1073"/>
                  </a:lnTo>
                  <a:lnTo>
                    <a:pt x="324" y="1062"/>
                  </a:lnTo>
                  <a:lnTo>
                    <a:pt x="330" y="1050"/>
                  </a:lnTo>
                  <a:lnTo>
                    <a:pt x="335" y="1040"/>
                  </a:lnTo>
                  <a:lnTo>
                    <a:pt x="341" y="1028"/>
                  </a:lnTo>
                  <a:lnTo>
                    <a:pt x="342" y="983"/>
                  </a:lnTo>
                  <a:lnTo>
                    <a:pt x="343" y="938"/>
                  </a:lnTo>
                  <a:lnTo>
                    <a:pt x="344" y="893"/>
                  </a:lnTo>
                  <a:lnTo>
                    <a:pt x="345" y="847"/>
                  </a:lnTo>
                  <a:lnTo>
                    <a:pt x="349" y="827"/>
                  </a:lnTo>
                  <a:lnTo>
                    <a:pt x="352" y="806"/>
                  </a:lnTo>
                  <a:lnTo>
                    <a:pt x="356" y="786"/>
                  </a:lnTo>
                  <a:lnTo>
                    <a:pt x="358" y="766"/>
                  </a:lnTo>
                  <a:lnTo>
                    <a:pt x="365" y="745"/>
                  </a:lnTo>
                  <a:lnTo>
                    <a:pt x="372" y="724"/>
                  </a:lnTo>
                  <a:lnTo>
                    <a:pt x="379" y="703"/>
                  </a:lnTo>
                  <a:lnTo>
                    <a:pt x="384" y="683"/>
                  </a:lnTo>
                  <a:lnTo>
                    <a:pt x="396" y="647"/>
                  </a:lnTo>
                  <a:lnTo>
                    <a:pt x="409" y="604"/>
                  </a:lnTo>
                  <a:lnTo>
                    <a:pt x="421" y="556"/>
                  </a:lnTo>
                  <a:lnTo>
                    <a:pt x="433" y="502"/>
                  </a:lnTo>
                  <a:lnTo>
                    <a:pt x="442" y="441"/>
                  </a:lnTo>
                  <a:lnTo>
                    <a:pt x="449" y="373"/>
                  </a:lnTo>
                  <a:lnTo>
                    <a:pt x="452" y="298"/>
                  </a:lnTo>
                  <a:lnTo>
                    <a:pt x="452" y="215"/>
                  </a:lnTo>
                  <a:lnTo>
                    <a:pt x="456" y="187"/>
                  </a:lnTo>
                  <a:lnTo>
                    <a:pt x="455" y="161"/>
                  </a:lnTo>
                  <a:lnTo>
                    <a:pt x="450" y="137"/>
                  </a:lnTo>
                  <a:lnTo>
                    <a:pt x="441" y="114"/>
                  </a:lnTo>
                  <a:lnTo>
                    <a:pt x="429" y="93"/>
                  </a:lnTo>
                  <a:lnTo>
                    <a:pt x="414" y="75"/>
                  </a:lnTo>
                  <a:lnTo>
                    <a:pt x="397" y="57"/>
                  </a:lnTo>
                  <a:lnTo>
                    <a:pt x="377" y="42"/>
                  </a:lnTo>
                  <a:lnTo>
                    <a:pt x="356" y="30"/>
                  </a:lnTo>
                  <a:lnTo>
                    <a:pt x="333" y="19"/>
                  </a:lnTo>
                  <a:lnTo>
                    <a:pt x="308" y="11"/>
                  </a:lnTo>
                  <a:lnTo>
                    <a:pt x="283" y="5"/>
                  </a:lnTo>
                  <a:lnTo>
                    <a:pt x="258" y="1"/>
                  </a:lnTo>
                  <a:lnTo>
                    <a:pt x="231" y="0"/>
                  </a:lnTo>
                  <a:lnTo>
                    <a:pt x="206" y="2"/>
                  </a:lnTo>
                  <a:lnTo>
                    <a:pt x="182" y="5"/>
                  </a:lnTo>
                  <a:close/>
                </a:path>
              </a:pathLst>
            </a:custGeom>
            <a:solidFill>
              <a:srgbClr val="ffe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5135760" y="1270800"/>
              <a:ext cx="207000" cy="484920"/>
            </a:xfrm>
            <a:custGeom>
              <a:avLst/>
              <a:gdLst/>
              <a:ahLst/>
              <a:rect l="l" t="t" r="r" b="b"/>
              <a:pathLst>
                <a:path w="418" h="1059">
                  <a:moveTo>
                    <a:pt x="176" y="3"/>
                  </a:moveTo>
                  <a:lnTo>
                    <a:pt x="138" y="18"/>
                  </a:lnTo>
                  <a:lnTo>
                    <a:pt x="106" y="35"/>
                  </a:lnTo>
                  <a:lnTo>
                    <a:pt x="77" y="55"/>
                  </a:lnTo>
                  <a:lnTo>
                    <a:pt x="53" y="76"/>
                  </a:lnTo>
                  <a:lnTo>
                    <a:pt x="35" y="99"/>
                  </a:lnTo>
                  <a:lnTo>
                    <a:pt x="20" y="122"/>
                  </a:lnTo>
                  <a:lnTo>
                    <a:pt x="8" y="147"/>
                  </a:lnTo>
                  <a:lnTo>
                    <a:pt x="3" y="172"/>
                  </a:lnTo>
                  <a:lnTo>
                    <a:pt x="0" y="198"/>
                  </a:lnTo>
                  <a:lnTo>
                    <a:pt x="3" y="224"/>
                  </a:lnTo>
                  <a:lnTo>
                    <a:pt x="10" y="249"/>
                  </a:lnTo>
                  <a:lnTo>
                    <a:pt x="20" y="275"/>
                  </a:lnTo>
                  <a:lnTo>
                    <a:pt x="35" y="300"/>
                  </a:lnTo>
                  <a:lnTo>
                    <a:pt x="53" y="323"/>
                  </a:lnTo>
                  <a:lnTo>
                    <a:pt x="75" y="345"/>
                  </a:lnTo>
                  <a:lnTo>
                    <a:pt x="102" y="366"/>
                  </a:lnTo>
                  <a:lnTo>
                    <a:pt x="109" y="411"/>
                  </a:lnTo>
                  <a:lnTo>
                    <a:pt x="114" y="456"/>
                  </a:lnTo>
                  <a:lnTo>
                    <a:pt x="121" y="501"/>
                  </a:lnTo>
                  <a:lnTo>
                    <a:pt x="127" y="544"/>
                  </a:lnTo>
                  <a:lnTo>
                    <a:pt x="133" y="589"/>
                  </a:lnTo>
                  <a:lnTo>
                    <a:pt x="138" y="634"/>
                  </a:lnTo>
                  <a:lnTo>
                    <a:pt x="145" y="679"/>
                  </a:lnTo>
                  <a:lnTo>
                    <a:pt x="151" y="724"/>
                  </a:lnTo>
                  <a:lnTo>
                    <a:pt x="153" y="742"/>
                  </a:lnTo>
                  <a:lnTo>
                    <a:pt x="157" y="761"/>
                  </a:lnTo>
                  <a:lnTo>
                    <a:pt x="160" y="780"/>
                  </a:lnTo>
                  <a:lnTo>
                    <a:pt x="163" y="799"/>
                  </a:lnTo>
                  <a:lnTo>
                    <a:pt x="165" y="851"/>
                  </a:lnTo>
                  <a:lnTo>
                    <a:pt x="166" y="903"/>
                  </a:lnTo>
                  <a:lnTo>
                    <a:pt x="168" y="954"/>
                  </a:lnTo>
                  <a:lnTo>
                    <a:pt x="171" y="1007"/>
                  </a:lnTo>
                  <a:lnTo>
                    <a:pt x="176" y="1020"/>
                  </a:lnTo>
                  <a:lnTo>
                    <a:pt x="182" y="1033"/>
                  </a:lnTo>
                  <a:lnTo>
                    <a:pt x="188" y="1046"/>
                  </a:lnTo>
                  <a:lnTo>
                    <a:pt x="194" y="1059"/>
                  </a:lnTo>
                  <a:lnTo>
                    <a:pt x="206" y="1059"/>
                  </a:lnTo>
                  <a:lnTo>
                    <a:pt x="219" y="1059"/>
                  </a:lnTo>
                  <a:lnTo>
                    <a:pt x="231" y="1059"/>
                  </a:lnTo>
                  <a:lnTo>
                    <a:pt x="243" y="1059"/>
                  </a:lnTo>
                  <a:lnTo>
                    <a:pt x="256" y="1059"/>
                  </a:lnTo>
                  <a:lnTo>
                    <a:pt x="267" y="1059"/>
                  </a:lnTo>
                  <a:lnTo>
                    <a:pt x="280" y="1059"/>
                  </a:lnTo>
                  <a:lnTo>
                    <a:pt x="293" y="1059"/>
                  </a:lnTo>
                  <a:lnTo>
                    <a:pt x="297" y="1048"/>
                  </a:lnTo>
                  <a:lnTo>
                    <a:pt x="303" y="1036"/>
                  </a:lnTo>
                  <a:lnTo>
                    <a:pt x="308" y="1026"/>
                  </a:lnTo>
                  <a:lnTo>
                    <a:pt x="312" y="1014"/>
                  </a:lnTo>
                  <a:lnTo>
                    <a:pt x="314" y="969"/>
                  </a:lnTo>
                  <a:lnTo>
                    <a:pt x="315" y="924"/>
                  </a:lnTo>
                  <a:lnTo>
                    <a:pt x="315" y="881"/>
                  </a:lnTo>
                  <a:lnTo>
                    <a:pt x="316" y="836"/>
                  </a:lnTo>
                  <a:lnTo>
                    <a:pt x="319" y="815"/>
                  </a:lnTo>
                  <a:lnTo>
                    <a:pt x="322" y="794"/>
                  </a:lnTo>
                  <a:lnTo>
                    <a:pt x="325" y="774"/>
                  </a:lnTo>
                  <a:lnTo>
                    <a:pt x="327" y="754"/>
                  </a:lnTo>
                  <a:lnTo>
                    <a:pt x="333" y="733"/>
                  </a:lnTo>
                  <a:lnTo>
                    <a:pt x="339" y="712"/>
                  </a:lnTo>
                  <a:lnTo>
                    <a:pt x="345" y="692"/>
                  </a:lnTo>
                  <a:lnTo>
                    <a:pt x="350" y="672"/>
                  </a:lnTo>
                  <a:lnTo>
                    <a:pt x="361" y="636"/>
                  </a:lnTo>
                  <a:lnTo>
                    <a:pt x="371" y="595"/>
                  </a:lnTo>
                  <a:lnTo>
                    <a:pt x="381" y="547"/>
                  </a:lnTo>
                  <a:lnTo>
                    <a:pt x="391" y="494"/>
                  </a:lnTo>
                  <a:lnTo>
                    <a:pt x="399" y="433"/>
                  </a:lnTo>
                  <a:lnTo>
                    <a:pt x="406" y="366"/>
                  </a:lnTo>
                  <a:lnTo>
                    <a:pt x="409" y="291"/>
                  </a:lnTo>
                  <a:lnTo>
                    <a:pt x="410" y="209"/>
                  </a:lnTo>
                  <a:lnTo>
                    <a:pt x="416" y="184"/>
                  </a:lnTo>
                  <a:lnTo>
                    <a:pt x="418" y="160"/>
                  </a:lnTo>
                  <a:lnTo>
                    <a:pt x="416" y="137"/>
                  </a:lnTo>
                  <a:lnTo>
                    <a:pt x="410" y="115"/>
                  </a:lnTo>
                  <a:lnTo>
                    <a:pt x="401" y="95"/>
                  </a:lnTo>
                  <a:lnTo>
                    <a:pt x="388" y="77"/>
                  </a:lnTo>
                  <a:lnTo>
                    <a:pt x="373" y="59"/>
                  </a:lnTo>
                  <a:lnTo>
                    <a:pt x="356" y="46"/>
                  </a:lnTo>
                  <a:lnTo>
                    <a:pt x="337" y="32"/>
                  </a:lnTo>
                  <a:lnTo>
                    <a:pt x="316" y="21"/>
                  </a:lnTo>
                  <a:lnTo>
                    <a:pt x="294" y="12"/>
                  </a:lnTo>
                  <a:lnTo>
                    <a:pt x="271" y="6"/>
                  </a:lnTo>
                  <a:lnTo>
                    <a:pt x="247" y="2"/>
                  </a:lnTo>
                  <a:lnTo>
                    <a:pt x="224" y="0"/>
                  </a:lnTo>
                  <a:lnTo>
                    <a:pt x="200" y="0"/>
                  </a:lnTo>
                  <a:lnTo>
                    <a:pt x="176" y="3"/>
                  </a:lnTo>
                  <a:close/>
                </a:path>
              </a:pathLst>
            </a:custGeom>
            <a:solidFill>
              <a:srgbClr val="ffe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5145840" y="1276200"/>
              <a:ext cx="188280" cy="479520"/>
            </a:xfrm>
            <a:custGeom>
              <a:avLst/>
              <a:gdLst/>
              <a:ahLst/>
              <a:rect l="l" t="t" r="r" b="b"/>
              <a:pathLst>
                <a:path w="380" h="1047">
                  <a:moveTo>
                    <a:pt x="169" y="3"/>
                  </a:moveTo>
                  <a:lnTo>
                    <a:pt x="131" y="16"/>
                  </a:lnTo>
                  <a:lnTo>
                    <a:pt x="99" y="32"/>
                  </a:lnTo>
                  <a:lnTo>
                    <a:pt x="71" y="51"/>
                  </a:lnTo>
                  <a:lnTo>
                    <a:pt x="48" y="72"/>
                  </a:lnTo>
                  <a:lnTo>
                    <a:pt x="30" y="92"/>
                  </a:lnTo>
                  <a:lnTo>
                    <a:pt x="16" y="115"/>
                  </a:lnTo>
                  <a:lnTo>
                    <a:pt x="7" y="138"/>
                  </a:lnTo>
                  <a:lnTo>
                    <a:pt x="1" y="161"/>
                  </a:lnTo>
                  <a:lnTo>
                    <a:pt x="0" y="186"/>
                  </a:lnTo>
                  <a:lnTo>
                    <a:pt x="3" y="209"/>
                  </a:lnTo>
                  <a:lnTo>
                    <a:pt x="10" y="232"/>
                  </a:lnTo>
                  <a:lnTo>
                    <a:pt x="21" y="254"/>
                  </a:lnTo>
                  <a:lnTo>
                    <a:pt x="36" y="275"/>
                  </a:lnTo>
                  <a:lnTo>
                    <a:pt x="54" y="295"/>
                  </a:lnTo>
                  <a:lnTo>
                    <a:pt x="76" y="312"/>
                  </a:lnTo>
                  <a:lnTo>
                    <a:pt x="101" y="328"/>
                  </a:lnTo>
                  <a:lnTo>
                    <a:pt x="107" y="377"/>
                  </a:lnTo>
                  <a:lnTo>
                    <a:pt x="112" y="424"/>
                  </a:lnTo>
                  <a:lnTo>
                    <a:pt x="117" y="472"/>
                  </a:lnTo>
                  <a:lnTo>
                    <a:pt x="122" y="521"/>
                  </a:lnTo>
                  <a:lnTo>
                    <a:pt x="128" y="569"/>
                  </a:lnTo>
                  <a:lnTo>
                    <a:pt x="132" y="618"/>
                  </a:lnTo>
                  <a:lnTo>
                    <a:pt x="138" y="666"/>
                  </a:lnTo>
                  <a:lnTo>
                    <a:pt x="143" y="714"/>
                  </a:lnTo>
                  <a:lnTo>
                    <a:pt x="145" y="733"/>
                  </a:lnTo>
                  <a:lnTo>
                    <a:pt x="147" y="751"/>
                  </a:lnTo>
                  <a:lnTo>
                    <a:pt x="150" y="770"/>
                  </a:lnTo>
                  <a:lnTo>
                    <a:pt x="152" y="788"/>
                  </a:lnTo>
                  <a:lnTo>
                    <a:pt x="154" y="840"/>
                  </a:lnTo>
                  <a:lnTo>
                    <a:pt x="155" y="892"/>
                  </a:lnTo>
                  <a:lnTo>
                    <a:pt x="158" y="943"/>
                  </a:lnTo>
                  <a:lnTo>
                    <a:pt x="159" y="995"/>
                  </a:lnTo>
                  <a:lnTo>
                    <a:pt x="164" y="1008"/>
                  </a:lnTo>
                  <a:lnTo>
                    <a:pt x="169" y="1021"/>
                  </a:lnTo>
                  <a:lnTo>
                    <a:pt x="174" y="1034"/>
                  </a:lnTo>
                  <a:lnTo>
                    <a:pt x="179" y="1047"/>
                  </a:lnTo>
                  <a:lnTo>
                    <a:pt x="189" y="1047"/>
                  </a:lnTo>
                  <a:lnTo>
                    <a:pt x="200" y="1047"/>
                  </a:lnTo>
                  <a:lnTo>
                    <a:pt x="211" y="1047"/>
                  </a:lnTo>
                  <a:lnTo>
                    <a:pt x="222" y="1047"/>
                  </a:lnTo>
                  <a:lnTo>
                    <a:pt x="233" y="1047"/>
                  </a:lnTo>
                  <a:lnTo>
                    <a:pt x="243" y="1047"/>
                  </a:lnTo>
                  <a:lnTo>
                    <a:pt x="255" y="1047"/>
                  </a:lnTo>
                  <a:lnTo>
                    <a:pt x="265" y="1047"/>
                  </a:lnTo>
                  <a:lnTo>
                    <a:pt x="269" y="1036"/>
                  </a:lnTo>
                  <a:lnTo>
                    <a:pt x="274" y="1024"/>
                  </a:lnTo>
                  <a:lnTo>
                    <a:pt x="278" y="1014"/>
                  </a:lnTo>
                  <a:lnTo>
                    <a:pt x="282" y="1002"/>
                  </a:lnTo>
                  <a:lnTo>
                    <a:pt x="283" y="958"/>
                  </a:lnTo>
                  <a:lnTo>
                    <a:pt x="283" y="914"/>
                  </a:lnTo>
                  <a:lnTo>
                    <a:pt x="283" y="870"/>
                  </a:lnTo>
                  <a:lnTo>
                    <a:pt x="284" y="825"/>
                  </a:lnTo>
                  <a:lnTo>
                    <a:pt x="287" y="805"/>
                  </a:lnTo>
                  <a:lnTo>
                    <a:pt x="290" y="785"/>
                  </a:lnTo>
                  <a:lnTo>
                    <a:pt x="293" y="764"/>
                  </a:lnTo>
                  <a:lnTo>
                    <a:pt x="295" y="744"/>
                  </a:lnTo>
                  <a:lnTo>
                    <a:pt x="299" y="724"/>
                  </a:lnTo>
                  <a:lnTo>
                    <a:pt x="305" y="703"/>
                  </a:lnTo>
                  <a:lnTo>
                    <a:pt x="310" y="683"/>
                  </a:lnTo>
                  <a:lnTo>
                    <a:pt x="314" y="662"/>
                  </a:lnTo>
                  <a:lnTo>
                    <a:pt x="322" y="627"/>
                  </a:lnTo>
                  <a:lnTo>
                    <a:pt x="331" y="586"/>
                  </a:lnTo>
                  <a:lnTo>
                    <a:pt x="339" y="539"/>
                  </a:lnTo>
                  <a:lnTo>
                    <a:pt x="347" y="486"/>
                  </a:lnTo>
                  <a:lnTo>
                    <a:pt x="354" y="428"/>
                  </a:lnTo>
                  <a:lnTo>
                    <a:pt x="358" y="361"/>
                  </a:lnTo>
                  <a:lnTo>
                    <a:pt x="363" y="287"/>
                  </a:lnTo>
                  <a:lnTo>
                    <a:pt x="365" y="205"/>
                  </a:lnTo>
                  <a:lnTo>
                    <a:pt x="374" y="182"/>
                  </a:lnTo>
                  <a:lnTo>
                    <a:pt x="379" y="160"/>
                  </a:lnTo>
                  <a:lnTo>
                    <a:pt x="380" y="138"/>
                  </a:lnTo>
                  <a:lnTo>
                    <a:pt x="377" y="119"/>
                  </a:lnTo>
                  <a:lnTo>
                    <a:pt x="370" y="99"/>
                  </a:lnTo>
                  <a:lnTo>
                    <a:pt x="360" y="82"/>
                  </a:lnTo>
                  <a:lnTo>
                    <a:pt x="348" y="65"/>
                  </a:lnTo>
                  <a:lnTo>
                    <a:pt x="333" y="50"/>
                  </a:lnTo>
                  <a:lnTo>
                    <a:pt x="316" y="37"/>
                  </a:lnTo>
                  <a:lnTo>
                    <a:pt x="297" y="26"/>
                  </a:lnTo>
                  <a:lnTo>
                    <a:pt x="276" y="16"/>
                  </a:lnTo>
                  <a:lnTo>
                    <a:pt x="256" y="9"/>
                  </a:lnTo>
                  <a:lnTo>
                    <a:pt x="234" y="4"/>
                  </a:lnTo>
                  <a:lnTo>
                    <a:pt x="212" y="1"/>
                  </a:lnTo>
                  <a:lnTo>
                    <a:pt x="190" y="0"/>
                  </a:lnTo>
                  <a:lnTo>
                    <a:pt x="169" y="3"/>
                  </a:lnTo>
                  <a:close/>
                </a:path>
              </a:pathLst>
            </a:custGeom>
            <a:solidFill>
              <a:srgbClr val="fff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155560" y="1282320"/>
              <a:ext cx="170280" cy="473040"/>
            </a:xfrm>
            <a:custGeom>
              <a:avLst/>
              <a:gdLst/>
              <a:ahLst/>
              <a:rect l="l" t="t" r="r" b="b"/>
              <a:pathLst>
                <a:path w="343" h="1033">
                  <a:moveTo>
                    <a:pt x="162" y="1"/>
                  </a:moveTo>
                  <a:lnTo>
                    <a:pt x="125" y="14"/>
                  </a:lnTo>
                  <a:lnTo>
                    <a:pt x="93" y="30"/>
                  </a:lnTo>
                  <a:lnTo>
                    <a:pt x="65" y="47"/>
                  </a:lnTo>
                  <a:lnTo>
                    <a:pt x="44" y="66"/>
                  </a:lnTo>
                  <a:lnTo>
                    <a:pt x="26" y="85"/>
                  </a:lnTo>
                  <a:lnTo>
                    <a:pt x="12" y="107"/>
                  </a:lnTo>
                  <a:lnTo>
                    <a:pt x="4" y="128"/>
                  </a:lnTo>
                  <a:lnTo>
                    <a:pt x="0" y="150"/>
                  </a:lnTo>
                  <a:lnTo>
                    <a:pt x="0" y="172"/>
                  </a:lnTo>
                  <a:lnTo>
                    <a:pt x="3" y="192"/>
                  </a:lnTo>
                  <a:lnTo>
                    <a:pt x="11" y="212"/>
                  </a:lnTo>
                  <a:lnTo>
                    <a:pt x="23" y="232"/>
                  </a:lnTo>
                  <a:lnTo>
                    <a:pt x="37" y="249"/>
                  </a:lnTo>
                  <a:lnTo>
                    <a:pt x="55" y="264"/>
                  </a:lnTo>
                  <a:lnTo>
                    <a:pt x="77" y="278"/>
                  </a:lnTo>
                  <a:lnTo>
                    <a:pt x="101" y="288"/>
                  </a:lnTo>
                  <a:lnTo>
                    <a:pt x="109" y="392"/>
                  </a:lnTo>
                  <a:lnTo>
                    <a:pt x="117" y="495"/>
                  </a:lnTo>
                  <a:lnTo>
                    <a:pt x="126" y="599"/>
                  </a:lnTo>
                  <a:lnTo>
                    <a:pt x="134" y="703"/>
                  </a:lnTo>
                  <a:lnTo>
                    <a:pt x="137" y="721"/>
                  </a:lnTo>
                  <a:lnTo>
                    <a:pt x="138" y="739"/>
                  </a:lnTo>
                  <a:lnTo>
                    <a:pt x="140" y="758"/>
                  </a:lnTo>
                  <a:lnTo>
                    <a:pt x="143" y="776"/>
                  </a:lnTo>
                  <a:lnTo>
                    <a:pt x="144" y="827"/>
                  </a:lnTo>
                  <a:lnTo>
                    <a:pt x="145" y="879"/>
                  </a:lnTo>
                  <a:lnTo>
                    <a:pt x="147" y="931"/>
                  </a:lnTo>
                  <a:lnTo>
                    <a:pt x="148" y="981"/>
                  </a:lnTo>
                  <a:lnTo>
                    <a:pt x="152" y="994"/>
                  </a:lnTo>
                  <a:lnTo>
                    <a:pt x="156" y="1007"/>
                  </a:lnTo>
                  <a:lnTo>
                    <a:pt x="160" y="1020"/>
                  </a:lnTo>
                  <a:lnTo>
                    <a:pt x="164" y="1033"/>
                  </a:lnTo>
                  <a:lnTo>
                    <a:pt x="174" y="1033"/>
                  </a:lnTo>
                  <a:lnTo>
                    <a:pt x="183" y="1033"/>
                  </a:lnTo>
                  <a:lnTo>
                    <a:pt x="192" y="1033"/>
                  </a:lnTo>
                  <a:lnTo>
                    <a:pt x="201" y="1033"/>
                  </a:lnTo>
                  <a:lnTo>
                    <a:pt x="209" y="1033"/>
                  </a:lnTo>
                  <a:lnTo>
                    <a:pt x="219" y="1033"/>
                  </a:lnTo>
                  <a:lnTo>
                    <a:pt x="228" y="1033"/>
                  </a:lnTo>
                  <a:lnTo>
                    <a:pt x="237" y="1033"/>
                  </a:lnTo>
                  <a:lnTo>
                    <a:pt x="240" y="1022"/>
                  </a:lnTo>
                  <a:lnTo>
                    <a:pt x="244" y="1010"/>
                  </a:lnTo>
                  <a:lnTo>
                    <a:pt x="247" y="1000"/>
                  </a:lnTo>
                  <a:lnTo>
                    <a:pt x="251" y="988"/>
                  </a:lnTo>
                  <a:lnTo>
                    <a:pt x="252" y="944"/>
                  </a:lnTo>
                  <a:lnTo>
                    <a:pt x="253" y="901"/>
                  </a:lnTo>
                  <a:lnTo>
                    <a:pt x="253" y="857"/>
                  </a:lnTo>
                  <a:lnTo>
                    <a:pt x="254" y="813"/>
                  </a:lnTo>
                  <a:lnTo>
                    <a:pt x="257" y="792"/>
                  </a:lnTo>
                  <a:lnTo>
                    <a:pt x="258" y="772"/>
                  </a:lnTo>
                  <a:lnTo>
                    <a:pt x="260" y="752"/>
                  </a:lnTo>
                  <a:lnTo>
                    <a:pt x="262" y="731"/>
                  </a:lnTo>
                  <a:lnTo>
                    <a:pt x="267" y="712"/>
                  </a:lnTo>
                  <a:lnTo>
                    <a:pt x="270" y="691"/>
                  </a:lnTo>
                  <a:lnTo>
                    <a:pt x="275" y="672"/>
                  </a:lnTo>
                  <a:lnTo>
                    <a:pt x="278" y="652"/>
                  </a:lnTo>
                  <a:lnTo>
                    <a:pt x="284" y="616"/>
                  </a:lnTo>
                  <a:lnTo>
                    <a:pt x="291" y="576"/>
                  </a:lnTo>
                  <a:lnTo>
                    <a:pt x="297" y="530"/>
                  </a:lnTo>
                  <a:lnTo>
                    <a:pt x="303" y="478"/>
                  </a:lnTo>
                  <a:lnTo>
                    <a:pt x="307" y="419"/>
                  </a:lnTo>
                  <a:lnTo>
                    <a:pt x="313" y="354"/>
                  </a:lnTo>
                  <a:lnTo>
                    <a:pt x="318" y="280"/>
                  </a:lnTo>
                  <a:lnTo>
                    <a:pt x="321" y="199"/>
                  </a:lnTo>
                  <a:lnTo>
                    <a:pt x="333" y="179"/>
                  </a:lnTo>
                  <a:lnTo>
                    <a:pt x="341" y="158"/>
                  </a:lnTo>
                  <a:lnTo>
                    <a:pt x="343" y="138"/>
                  </a:lnTo>
                  <a:lnTo>
                    <a:pt x="343" y="120"/>
                  </a:lnTo>
                  <a:lnTo>
                    <a:pt x="338" y="101"/>
                  </a:lnTo>
                  <a:lnTo>
                    <a:pt x="331" y="84"/>
                  </a:lnTo>
                  <a:lnTo>
                    <a:pt x="321" y="68"/>
                  </a:lnTo>
                  <a:lnTo>
                    <a:pt x="310" y="53"/>
                  </a:lnTo>
                  <a:lnTo>
                    <a:pt x="295" y="39"/>
                  </a:lnTo>
                  <a:lnTo>
                    <a:pt x="278" y="28"/>
                  </a:lnTo>
                  <a:lnTo>
                    <a:pt x="260" y="17"/>
                  </a:lnTo>
                  <a:lnTo>
                    <a:pt x="242" y="9"/>
                  </a:lnTo>
                  <a:lnTo>
                    <a:pt x="222" y="4"/>
                  </a:lnTo>
                  <a:lnTo>
                    <a:pt x="201" y="0"/>
                  </a:lnTo>
                  <a:lnTo>
                    <a:pt x="182" y="0"/>
                  </a:lnTo>
                  <a:lnTo>
                    <a:pt x="162" y="1"/>
                  </a:lnTo>
                  <a:close/>
                </a:path>
              </a:pathLst>
            </a:custGeom>
            <a:solidFill>
              <a:srgbClr val="fff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5165640" y="1287720"/>
              <a:ext cx="154440" cy="466560"/>
            </a:xfrm>
            <a:custGeom>
              <a:avLst/>
              <a:gdLst/>
              <a:ahLst/>
              <a:rect l="l" t="t" r="r" b="b"/>
              <a:pathLst>
                <a:path w="311" h="1020">
                  <a:moveTo>
                    <a:pt x="156" y="1"/>
                  </a:moveTo>
                  <a:lnTo>
                    <a:pt x="119" y="13"/>
                  </a:lnTo>
                  <a:lnTo>
                    <a:pt x="88" y="27"/>
                  </a:lnTo>
                  <a:lnTo>
                    <a:pt x="61" y="44"/>
                  </a:lnTo>
                  <a:lnTo>
                    <a:pt x="39" y="62"/>
                  </a:lnTo>
                  <a:lnTo>
                    <a:pt x="23" y="81"/>
                  </a:lnTo>
                  <a:lnTo>
                    <a:pt x="11" y="100"/>
                  </a:lnTo>
                  <a:lnTo>
                    <a:pt x="4" y="120"/>
                  </a:lnTo>
                  <a:lnTo>
                    <a:pt x="0" y="140"/>
                  </a:lnTo>
                  <a:lnTo>
                    <a:pt x="1" y="159"/>
                  </a:lnTo>
                  <a:lnTo>
                    <a:pt x="6" y="177"/>
                  </a:lnTo>
                  <a:lnTo>
                    <a:pt x="14" y="194"/>
                  </a:lnTo>
                  <a:lnTo>
                    <a:pt x="26" y="210"/>
                  </a:lnTo>
                  <a:lnTo>
                    <a:pt x="41" y="224"/>
                  </a:lnTo>
                  <a:lnTo>
                    <a:pt x="58" y="236"/>
                  </a:lnTo>
                  <a:lnTo>
                    <a:pt x="79" y="244"/>
                  </a:lnTo>
                  <a:lnTo>
                    <a:pt x="102" y="249"/>
                  </a:lnTo>
                  <a:lnTo>
                    <a:pt x="109" y="361"/>
                  </a:lnTo>
                  <a:lnTo>
                    <a:pt x="114" y="472"/>
                  </a:lnTo>
                  <a:lnTo>
                    <a:pt x="121" y="582"/>
                  </a:lnTo>
                  <a:lnTo>
                    <a:pt x="127" y="694"/>
                  </a:lnTo>
                  <a:lnTo>
                    <a:pt x="129" y="712"/>
                  </a:lnTo>
                  <a:lnTo>
                    <a:pt x="130" y="730"/>
                  </a:lnTo>
                  <a:lnTo>
                    <a:pt x="133" y="748"/>
                  </a:lnTo>
                  <a:lnTo>
                    <a:pt x="134" y="767"/>
                  </a:lnTo>
                  <a:lnTo>
                    <a:pt x="135" y="817"/>
                  </a:lnTo>
                  <a:lnTo>
                    <a:pt x="136" y="868"/>
                  </a:lnTo>
                  <a:lnTo>
                    <a:pt x="137" y="919"/>
                  </a:lnTo>
                  <a:lnTo>
                    <a:pt x="139" y="969"/>
                  </a:lnTo>
                  <a:lnTo>
                    <a:pt x="142" y="982"/>
                  </a:lnTo>
                  <a:lnTo>
                    <a:pt x="145" y="995"/>
                  </a:lnTo>
                  <a:lnTo>
                    <a:pt x="149" y="1007"/>
                  </a:lnTo>
                  <a:lnTo>
                    <a:pt x="152" y="1020"/>
                  </a:lnTo>
                  <a:lnTo>
                    <a:pt x="159" y="1020"/>
                  </a:lnTo>
                  <a:lnTo>
                    <a:pt x="167" y="1020"/>
                  </a:lnTo>
                  <a:lnTo>
                    <a:pt x="174" y="1020"/>
                  </a:lnTo>
                  <a:lnTo>
                    <a:pt x="182" y="1020"/>
                  </a:lnTo>
                  <a:lnTo>
                    <a:pt x="189" y="1020"/>
                  </a:lnTo>
                  <a:lnTo>
                    <a:pt x="196" y="1020"/>
                  </a:lnTo>
                  <a:lnTo>
                    <a:pt x="204" y="1020"/>
                  </a:lnTo>
                  <a:lnTo>
                    <a:pt x="211" y="1020"/>
                  </a:lnTo>
                  <a:lnTo>
                    <a:pt x="213" y="1010"/>
                  </a:lnTo>
                  <a:lnTo>
                    <a:pt x="217" y="998"/>
                  </a:lnTo>
                  <a:lnTo>
                    <a:pt x="220" y="988"/>
                  </a:lnTo>
                  <a:lnTo>
                    <a:pt x="223" y="977"/>
                  </a:lnTo>
                  <a:lnTo>
                    <a:pt x="223" y="934"/>
                  </a:lnTo>
                  <a:lnTo>
                    <a:pt x="224" y="890"/>
                  </a:lnTo>
                  <a:lnTo>
                    <a:pt x="224" y="846"/>
                  </a:lnTo>
                  <a:lnTo>
                    <a:pt x="225" y="802"/>
                  </a:lnTo>
                  <a:lnTo>
                    <a:pt x="227" y="783"/>
                  </a:lnTo>
                  <a:lnTo>
                    <a:pt x="228" y="762"/>
                  </a:lnTo>
                  <a:lnTo>
                    <a:pt x="231" y="742"/>
                  </a:lnTo>
                  <a:lnTo>
                    <a:pt x="232" y="723"/>
                  </a:lnTo>
                  <a:lnTo>
                    <a:pt x="235" y="703"/>
                  </a:lnTo>
                  <a:lnTo>
                    <a:pt x="239" y="683"/>
                  </a:lnTo>
                  <a:lnTo>
                    <a:pt x="241" y="663"/>
                  </a:lnTo>
                  <a:lnTo>
                    <a:pt x="244" y="642"/>
                  </a:lnTo>
                  <a:lnTo>
                    <a:pt x="253" y="569"/>
                  </a:lnTo>
                  <a:lnTo>
                    <a:pt x="261" y="472"/>
                  </a:lnTo>
                  <a:lnTo>
                    <a:pt x="269" y="349"/>
                  </a:lnTo>
                  <a:lnTo>
                    <a:pt x="278" y="195"/>
                  </a:lnTo>
                  <a:lnTo>
                    <a:pt x="293" y="177"/>
                  </a:lnTo>
                  <a:lnTo>
                    <a:pt x="303" y="159"/>
                  </a:lnTo>
                  <a:lnTo>
                    <a:pt x="309" y="140"/>
                  </a:lnTo>
                  <a:lnTo>
                    <a:pt x="311" y="123"/>
                  </a:lnTo>
                  <a:lnTo>
                    <a:pt x="310" y="106"/>
                  </a:lnTo>
                  <a:lnTo>
                    <a:pt x="305" y="88"/>
                  </a:lnTo>
                  <a:lnTo>
                    <a:pt x="297" y="72"/>
                  </a:lnTo>
                  <a:lnTo>
                    <a:pt x="288" y="57"/>
                  </a:lnTo>
                  <a:lnTo>
                    <a:pt x="276" y="43"/>
                  </a:lnTo>
                  <a:lnTo>
                    <a:pt x="262" y="32"/>
                  </a:lnTo>
                  <a:lnTo>
                    <a:pt x="246" y="21"/>
                  </a:lnTo>
                  <a:lnTo>
                    <a:pt x="228" y="12"/>
                  </a:lnTo>
                  <a:lnTo>
                    <a:pt x="211" y="6"/>
                  </a:lnTo>
                  <a:lnTo>
                    <a:pt x="193" y="2"/>
                  </a:lnTo>
                  <a:lnTo>
                    <a:pt x="174" y="0"/>
                  </a:lnTo>
                  <a:lnTo>
                    <a:pt x="156" y="1"/>
                  </a:lnTo>
                  <a:close/>
                </a:path>
              </a:pathLst>
            </a:custGeom>
            <a:solidFill>
              <a:srgbClr val="fff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5175360" y="1293480"/>
              <a:ext cx="138600" cy="461160"/>
            </a:xfrm>
            <a:custGeom>
              <a:avLst/>
              <a:gdLst/>
              <a:ahLst/>
              <a:rect l="l" t="t" r="r" b="b"/>
              <a:pathLst>
                <a:path w="280" h="1008">
                  <a:moveTo>
                    <a:pt x="150" y="0"/>
                  </a:moveTo>
                  <a:lnTo>
                    <a:pt x="113" y="12"/>
                  </a:lnTo>
                  <a:lnTo>
                    <a:pt x="82" y="26"/>
                  </a:lnTo>
                  <a:lnTo>
                    <a:pt x="55" y="42"/>
                  </a:lnTo>
                  <a:lnTo>
                    <a:pt x="36" y="58"/>
                  </a:lnTo>
                  <a:lnTo>
                    <a:pt x="19" y="75"/>
                  </a:lnTo>
                  <a:lnTo>
                    <a:pt x="9" y="94"/>
                  </a:lnTo>
                  <a:lnTo>
                    <a:pt x="2" y="112"/>
                  </a:lnTo>
                  <a:lnTo>
                    <a:pt x="0" y="129"/>
                  </a:lnTo>
                  <a:lnTo>
                    <a:pt x="1" y="147"/>
                  </a:lnTo>
                  <a:lnTo>
                    <a:pt x="7" y="163"/>
                  </a:lnTo>
                  <a:lnTo>
                    <a:pt x="16" y="176"/>
                  </a:lnTo>
                  <a:lnTo>
                    <a:pt x="28" y="189"/>
                  </a:lnTo>
                  <a:lnTo>
                    <a:pt x="43" y="199"/>
                  </a:lnTo>
                  <a:lnTo>
                    <a:pt x="60" y="206"/>
                  </a:lnTo>
                  <a:lnTo>
                    <a:pt x="81" y="210"/>
                  </a:lnTo>
                  <a:lnTo>
                    <a:pt x="102" y="211"/>
                  </a:lnTo>
                  <a:lnTo>
                    <a:pt x="120" y="684"/>
                  </a:lnTo>
                  <a:lnTo>
                    <a:pt x="125" y="756"/>
                  </a:lnTo>
                  <a:lnTo>
                    <a:pt x="129" y="958"/>
                  </a:lnTo>
                  <a:lnTo>
                    <a:pt x="139" y="1008"/>
                  </a:lnTo>
                  <a:lnTo>
                    <a:pt x="184" y="1008"/>
                  </a:lnTo>
                  <a:lnTo>
                    <a:pt x="192" y="965"/>
                  </a:lnTo>
                  <a:lnTo>
                    <a:pt x="195" y="793"/>
                  </a:lnTo>
                  <a:lnTo>
                    <a:pt x="199" y="712"/>
                  </a:lnTo>
                  <a:lnTo>
                    <a:pt x="209" y="634"/>
                  </a:lnTo>
                  <a:lnTo>
                    <a:pt x="213" y="560"/>
                  </a:lnTo>
                  <a:lnTo>
                    <a:pt x="218" y="464"/>
                  </a:lnTo>
                  <a:lnTo>
                    <a:pt x="224" y="343"/>
                  </a:lnTo>
                  <a:lnTo>
                    <a:pt x="235" y="191"/>
                  </a:lnTo>
                  <a:lnTo>
                    <a:pt x="252" y="175"/>
                  </a:lnTo>
                  <a:lnTo>
                    <a:pt x="266" y="159"/>
                  </a:lnTo>
                  <a:lnTo>
                    <a:pt x="274" y="143"/>
                  </a:lnTo>
                  <a:lnTo>
                    <a:pt x="279" y="126"/>
                  </a:lnTo>
                  <a:lnTo>
                    <a:pt x="280" y="108"/>
                  </a:lnTo>
                  <a:lnTo>
                    <a:pt x="277" y="92"/>
                  </a:lnTo>
                  <a:lnTo>
                    <a:pt x="273" y="76"/>
                  </a:lnTo>
                  <a:lnTo>
                    <a:pt x="265" y="61"/>
                  </a:lnTo>
                  <a:lnTo>
                    <a:pt x="256" y="47"/>
                  </a:lnTo>
                  <a:lnTo>
                    <a:pt x="243" y="35"/>
                  </a:lnTo>
                  <a:lnTo>
                    <a:pt x="230" y="24"/>
                  </a:lnTo>
                  <a:lnTo>
                    <a:pt x="215" y="15"/>
                  </a:lnTo>
                  <a:lnTo>
                    <a:pt x="199" y="7"/>
                  </a:lnTo>
                  <a:lnTo>
                    <a:pt x="183" y="3"/>
                  </a:lnTo>
                  <a:lnTo>
                    <a:pt x="16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040360" y="1217520"/>
              <a:ext cx="146520" cy="260640"/>
            </a:xfrm>
            <a:custGeom>
              <a:avLst/>
              <a:gdLst/>
              <a:ahLst/>
              <a:rect l="l" t="t" r="r" b="b"/>
              <a:pathLst>
                <a:path w="296" h="570">
                  <a:moveTo>
                    <a:pt x="218" y="4"/>
                  </a:moveTo>
                  <a:lnTo>
                    <a:pt x="189" y="20"/>
                  </a:lnTo>
                  <a:lnTo>
                    <a:pt x="161" y="41"/>
                  </a:lnTo>
                  <a:lnTo>
                    <a:pt x="135" y="64"/>
                  </a:lnTo>
                  <a:lnTo>
                    <a:pt x="110" y="91"/>
                  </a:lnTo>
                  <a:lnTo>
                    <a:pt x="85" y="121"/>
                  </a:lnTo>
                  <a:lnTo>
                    <a:pt x="63" y="154"/>
                  </a:lnTo>
                  <a:lnTo>
                    <a:pt x="45" y="188"/>
                  </a:lnTo>
                  <a:lnTo>
                    <a:pt x="28" y="225"/>
                  </a:lnTo>
                  <a:lnTo>
                    <a:pt x="15" y="264"/>
                  </a:lnTo>
                  <a:lnTo>
                    <a:pt x="6" y="304"/>
                  </a:lnTo>
                  <a:lnTo>
                    <a:pt x="0" y="347"/>
                  </a:lnTo>
                  <a:lnTo>
                    <a:pt x="0" y="390"/>
                  </a:lnTo>
                  <a:lnTo>
                    <a:pt x="4" y="435"/>
                  </a:lnTo>
                  <a:lnTo>
                    <a:pt x="13" y="480"/>
                  </a:lnTo>
                  <a:lnTo>
                    <a:pt x="28" y="524"/>
                  </a:lnTo>
                  <a:lnTo>
                    <a:pt x="49" y="570"/>
                  </a:lnTo>
                  <a:lnTo>
                    <a:pt x="50" y="529"/>
                  </a:lnTo>
                  <a:lnTo>
                    <a:pt x="52" y="489"/>
                  </a:lnTo>
                  <a:lnTo>
                    <a:pt x="57" y="447"/>
                  </a:lnTo>
                  <a:lnTo>
                    <a:pt x="62" y="407"/>
                  </a:lnTo>
                  <a:lnTo>
                    <a:pt x="70" y="367"/>
                  </a:lnTo>
                  <a:lnTo>
                    <a:pt x="81" y="327"/>
                  </a:lnTo>
                  <a:lnTo>
                    <a:pt x="92" y="288"/>
                  </a:lnTo>
                  <a:lnTo>
                    <a:pt x="107" y="250"/>
                  </a:lnTo>
                  <a:lnTo>
                    <a:pt x="122" y="213"/>
                  </a:lnTo>
                  <a:lnTo>
                    <a:pt x="141" y="178"/>
                  </a:lnTo>
                  <a:lnTo>
                    <a:pt x="161" y="144"/>
                  </a:lnTo>
                  <a:lnTo>
                    <a:pt x="183" y="111"/>
                  </a:lnTo>
                  <a:lnTo>
                    <a:pt x="209" y="81"/>
                  </a:lnTo>
                  <a:lnTo>
                    <a:pt x="235" y="52"/>
                  </a:lnTo>
                  <a:lnTo>
                    <a:pt x="265" y="25"/>
                  </a:lnTo>
                  <a:lnTo>
                    <a:pt x="296" y="0"/>
                  </a:lnTo>
                  <a:lnTo>
                    <a:pt x="218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5041800" y="1218240"/>
              <a:ext cx="143640" cy="256320"/>
            </a:xfrm>
            <a:custGeom>
              <a:avLst/>
              <a:gdLst/>
              <a:ahLst/>
              <a:rect l="l" t="t" r="r" b="b"/>
              <a:pathLst>
                <a:path w="289" h="559">
                  <a:moveTo>
                    <a:pt x="212" y="5"/>
                  </a:moveTo>
                  <a:lnTo>
                    <a:pt x="185" y="23"/>
                  </a:lnTo>
                  <a:lnTo>
                    <a:pt x="158" y="42"/>
                  </a:lnTo>
                  <a:lnTo>
                    <a:pt x="132" y="65"/>
                  </a:lnTo>
                  <a:lnTo>
                    <a:pt x="108" y="92"/>
                  </a:lnTo>
                  <a:lnTo>
                    <a:pt x="85" y="121"/>
                  </a:lnTo>
                  <a:lnTo>
                    <a:pt x="64" y="153"/>
                  </a:lnTo>
                  <a:lnTo>
                    <a:pt x="44" y="186"/>
                  </a:lnTo>
                  <a:lnTo>
                    <a:pt x="29" y="222"/>
                  </a:lnTo>
                  <a:lnTo>
                    <a:pt x="17" y="260"/>
                  </a:lnTo>
                  <a:lnTo>
                    <a:pt x="6" y="299"/>
                  </a:lnTo>
                  <a:lnTo>
                    <a:pt x="2" y="339"/>
                  </a:lnTo>
                  <a:lnTo>
                    <a:pt x="0" y="382"/>
                  </a:lnTo>
                  <a:lnTo>
                    <a:pt x="4" y="426"/>
                  </a:lnTo>
                  <a:lnTo>
                    <a:pt x="13" y="470"/>
                  </a:lnTo>
                  <a:lnTo>
                    <a:pt x="27" y="515"/>
                  </a:lnTo>
                  <a:lnTo>
                    <a:pt x="47" y="559"/>
                  </a:lnTo>
                  <a:lnTo>
                    <a:pt x="48" y="518"/>
                  </a:lnTo>
                  <a:lnTo>
                    <a:pt x="50" y="478"/>
                  </a:lnTo>
                  <a:lnTo>
                    <a:pt x="53" y="437"/>
                  </a:lnTo>
                  <a:lnTo>
                    <a:pt x="60" y="397"/>
                  </a:lnTo>
                  <a:lnTo>
                    <a:pt x="67" y="357"/>
                  </a:lnTo>
                  <a:lnTo>
                    <a:pt x="78" y="318"/>
                  </a:lnTo>
                  <a:lnTo>
                    <a:pt x="89" y="280"/>
                  </a:lnTo>
                  <a:lnTo>
                    <a:pt x="103" y="243"/>
                  </a:lnTo>
                  <a:lnTo>
                    <a:pt x="118" y="207"/>
                  </a:lnTo>
                  <a:lnTo>
                    <a:pt x="135" y="172"/>
                  </a:lnTo>
                  <a:lnTo>
                    <a:pt x="156" y="139"/>
                  </a:lnTo>
                  <a:lnTo>
                    <a:pt x="178" y="108"/>
                  </a:lnTo>
                  <a:lnTo>
                    <a:pt x="202" y="78"/>
                  </a:lnTo>
                  <a:lnTo>
                    <a:pt x="228" y="49"/>
                  </a:lnTo>
                  <a:lnTo>
                    <a:pt x="258" y="24"/>
                  </a:lnTo>
                  <a:lnTo>
                    <a:pt x="289" y="0"/>
                  </a:lnTo>
                  <a:lnTo>
                    <a:pt x="280" y="0"/>
                  </a:lnTo>
                  <a:lnTo>
                    <a:pt x="270" y="1"/>
                  </a:lnTo>
                  <a:lnTo>
                    <a:pt x="261" y="1"/>
                  </a:lnTo>
                  <a:lnTo>
                    <a:pt x="251" y="2"/>
                  </a:lnTo>
                  <a:lnTo>
                    <a:pt x="241" y="3"/>
                  </a:lnTo>
                  <a:lnTo>
                    <a:pt x="232" y="4"/>
                  </a:lnTo>
                  <a:lnTo>
                    <a:pt x="222" y="4"/>
                  </a:lnTo>
                  <a:lnTo>
                    <a:pt x="212" y="5"/>
                  </a:lnTo>
                  <a:close/>
                </a:path>
              </a:pathLst>
            </a:custGeom>
            <a:solidFill>
              <a:srgbClr val="ffc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5042520" y="1219320"/>
              <a:ext cx="140400" cy="252360"/>
            </a:xfrm>
            <a:custGeom>
              <a:avLst/>
              <a:gdLst/>
              <a:ahLst/>
              <a:rect l="l" t="t" r="r" b="b"/>
              <a:pathLst>
                <a:path w="283" h="551">
                  <a:moveTo>
                    <a:pt x="206" y="7"/>
                  </a:moveTo>
                  <a:lnTo>
                    <a:pt x="179" y="24"/>
                  </a:lnTo>
                  <a:lnTo>
                    <a:pt x="154" y="45"/>
                  </a:lnTo>
                  <a:lnTo>
                    <a:pt x="129" y="68"/>
                  </a:lnTo>
                  <a:lnTo>
                    <a:pt x="105" y="93"/>
                  </a:lnTo>
                  <a:lnTo>
                    <a:pt x="83" y="122"/>
                  </a:lnTo>
                  <a:lnTo>
                    <a:pt x="62" y="152"/>
                  </a:lnTo>
                  <a:lnTo>
                    <a:pt x="44" y="184"/>
                  </a:lnTo>
                  <a:lnTo>
                    <a:pt x="29" y="220"/>
                  </a:lnTo>
                  <a:lnTo>
                    <a:pt x="16" y="256"/>
                  </a:lnTo>
                  <a:lnTo>
                    <a:pt x="7" y="295"/>
                  </a:lnTo>
                  <a:lnTo>
                    <a:pt x="1" y="334"/>
                  </a:lnTo>
                  <a:lnTo>
                    <a:pt x="0" y="375"/>
                  </a:lnTo>
                  <a:lnTo>
                    <a:pt x="3" y="418"/>
                  </a:lnTo>
                  <a:lnTo>
                    <a:pt x="11" y="461"/>
                  </a:lnTo>
                  <a:lnTo>
                    <a:pt x="24" y="506"/>
                  </a:lnTo>
                  <a:lnTo>
                    <a:pt x="44" y="551"/>
                  </a:lnTo>
                  <a:lnTo>
                    <a:pt x="45" y="509"/>
                  </a:lnTo>
                  <a:lnTo>
                    <a:pt x="47" y="469"/>
                  </a:lnTo>
                  <a:lnTo>
                    <a:pt x="50" y="427"/>
                  </a:lnTo>
                  <a:lnTo>
                    <a:pt x="56" y="388"/>
                  </a:lnTo>
                  <a:lnTo>
                    <a:pt x="63" y="349"/>
                  </a:lnTo>
                  <a:lnTo>
                    <a:pt x="72" y="311"/>
                  </a:lnTo>
                  <a:lnTo>
                    <a:pt x="84" y="273"/>
                  </a:lnTo>
                  <a:lnTo>
                    <a:pt x="98" y="237"/>
                  </a:lnTo>
                  <a:lnTo>
                    <a:pt x="113" y="202"/>
                  </a:lnTo>
                  <a:lnTo>
                    <a:pt x="130" y="168"/>
                  </a:lnTo>
                  <a:lnTo>
                    <a:pt x="149" y="136"/>
                  </a:lnTo>
                  <a:lnTo>
                    <a:pt x="171" y="105"/>
                  </a:lnTo>
                  <a:lnTo>
                    <a:pt x="196" y="76"/>
                  </a:lnTo>
                  <a:lnTo>
                    <a:pt x="222" y="48"/>
                  </a:lnTo>
                  <a:lnTo>
                    <a:pt x="251" y="23"/>
                  </a:lnTo>
                  <a:lnTo>
                    <a:pt x="283" y="0"/>
                  </a:lnTo>
                  <a:lnTo>
                    <a:pt x="274" y="1"/>
                  </a:lnTo>
                  <a:lnTo>
                    <a:pt x="263" y="1"/>
                  </a:lnTo>
                  <a:lnTo>
                    <a:pt x="254" y="2"/>
                  </a:lnTo>
                  <a:lnTo>
                    <a:pt x="245" y="3"/>
                  </a:lnTo>
                  <a:lnTo>
                    <a:pt x="235" y="5"/>
                  </a:lnTo>
                  <a:lnTo>
                    <a:pt x="225" y="5"/>
                  </a:lnTo>
                  <a:lnTo>
                    <a:pt x="215" y="6"/>
                  </a:lnTo>
                  <a:lnTo>
                    <a:pt x="206" y="7"/>
                  </a:lnTo>
                  <a:close/>
                </a:path>
              </a:pathLst>
            </a:custGeom>
            <a:solidFill>
              <a:srgbClr val="ffd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5044680" y="1221120"/>
              <a:ext cx="136800" cy="246960"/>
            </a:xfrm>
            <a:custGeom>
              <a:avLst/>
              <a:gdLst/>
              <a:ahLst/>
              <a:rect l="l" t="t" r="r" b="b"/>
              <a:pathLst>
                <a:path w="276" h="540">
                  <a:moveTo>
                    <a:pt x="202" y="10"/>
                  </a:moveTo>
                  <a:lnTo>
                    <a:pt x="176" y="27"/>
                  </a:lnTo>
                  <a:lnTo>
                    <a:pt x="151" y="48"/>
                  </a:lnTo>
                  <a:lnTo>
                    <a:pt x="127" y="71"/>
                  </a:lnTo>
                  <a:lnTo>
                    <a:pt x="104" y="95"/>
                  </a:lnTo>
                  <a:lnTo>
                    <a:pt x="82" y="122"/>
                  </a:lnTo>
                  <a:lnTo>
                    <a:pt x="61" y="152"/>
                  </a:lnTo>
                  <a:lnTo>
                    <a:pt x="44" y="183"/>
                  </a:lnTo>
                  <a:lnTo>
                    <a:pt x="29" y="218"/>
                  </a:lnTo>
                  <a:lnTo>
                    <a:pt x="16" y="253"/>
                  </a:lnTo>
                  <a:lnTo>
                    <a:pt x="7" y="291"/>
                  </a:lnTo>
                  <a:lnTo>
                    <a:pt x="1" y="329"/>
                  </a:lnTo>
                  <a:lnTo>
                    <a:pt x="0" y="369"/>
                  </a:lnTo>
                  <a:lnTo>
                    <a:pt x="2" y="410"/>
                  </a:lnTo>
                  <a:lnTo>
                    <a:pt x="10" y="453"/>
                  </a:lnTo>
                  <a:lnTo>
                    <a:pt x="23" y="496"/>
                  </a:lnTo>
                  <a:lnTo>
                    <a:pt x="42" y="540"/>
                  </a:lnTo>
                  <a:lnTo>
                    <a:pt x="43" y="499"/>
                  </a:lnTo>
                  <a:lnTo>
                    <a:pt x="44" y="459"/>
                  </a:lnTo>
                  <a:lnTo>
                    <a:pt x="48" y="418"/>
                  </a:lnTo>
                  <a:lnTo>
                    <a:pt x="53" y="378"/>
                  </a:lnTo>
                  <a:lnTo>
                    <a:pt x="60" y="340"/>
                  </a:lnTo>
                  <a:lnTo>
                    <a:pt x="69" y="302"/>
                  </a:lnTo>
                  <a:lnTo>
                    <a:pt x="81" y="265"/>
                  </a:lnTo>
                  <a:lnTo>
                    <a:pt x="93" y="231"/>
                  </a:lnTo>
                  <a:lnTo>
                    <a:pt x="107" y="196"/>
                  </a:lnTo>
                  <a:lnTo>
                    <a:pt x="124" y="163"/>
                  </a:lnTo>
                  <a:lnTo>
                    <a:pt x="144" y="132"/>
                  </a:lnTo>
                  <a:lnTo>
                    <a:pt x="166" y="102"/>
                  </a:lnTo>
                  <a:lnTo>
                    <a:pt x="189" y="74"/>
                  </a:lnTo>
                  <a:lnTo>
                    <a:pt x="215" y="48"/>
                  </a:lnTo>
                  <a:lnTo>
                    <a:pt x="244" y="23"/>
                  </a:lnTo>
                  <a:lnTo>
                    <a:pt x="276" y="0"/>
                  </a:lnTo>
                  <a:lnTo>
                    <a:pt x="267" y="1"/>
                  </a:lnTo>
                  <a:lnTo>
                    <a:pt x="258" y="3"/>
                  </a:lnTo>
                  <a:lnTo>
                    <a:pt x="249" y="4"/>
                  </a:lnTo>
                  <a:lnTo>
                    <a:pt x="240" y="5"/>
                  </a:lnTo>
                  <a:lnTo>
                    <a:pt x="229" y="6"/>
                  </a:lnTo>
                  <a:lnTo>
                    <a:pt x="220" y="7"/>
                  </a:lnTo>
                  <a:lnTo>
                    <a:pt x="211" y="8"/>
                  </a:lnTo>
                  <a:lnTo>
                    <a:pt x="202" y="10"/>
                  </a:lnTo>
                  <a:close/>
                </a:path>
              </a:pathLst>
            </a:custGeom>
            <a:solidFill>
              <a:srgbClr val="ffd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5045760" y="1222200"/>
              <a:ext cx="133560" cy="242280"/>
            </a:xfrm>
            <a:custGeom>
              <a:avLst/>
              <a:gdLst/>
              <a:ahLst/>
              <a:rect l="l" t="t" r="r" b="b"/>
              <a:pathLst>
                <a:path w="271" h="529">
                  <a:moveTo>
                    <a:pt x="196" y="10"/>
                  </a:moveTo>
                  <a:lnTo>
                    <a:pt x="172" y="27"/>
                  </a:lnTo>
                  <a:lnTo>
                    <a:pt x="148" y="48"/>
                  </a:lnTo>
                  <a:lnTo>
                    <a:pt x="125" y="70"/>
                  </a:lnTo>
                  <a:lnTo>
                    <a:pt x="102" y="95"/>
                  </a:lnTo>
                  <a:lnTo>
                    <a:pt x="81" y="122"/>
                  </a:lnTo>
                  <a:lnTo>
                    <a:pt x="61" y="150"/>
                  </a:lnTo>
                  <a:lnTo>
                    <a:pt x="44" y="182"/>
                  </a:lnTo>
                  <a:lnTo>
                    <a:pt x="29" y="214"/>
                  </a:lnTo>
                  <a:lnTo>
                    <a:pt x="16" y="247"/>
                  </a:lnTo>
                  <a:lnTo>
                    <a:pt x="7" y="284"/>
                  </a:lnTo>
                  <a:lnTo>
                    <a:pt x="3" y="321"/>
                  </a:lnTo>
                  <a:lnTo>
                    <a:pt x="0" y="360"/>
                  </a:lnTo>
                  <a:lnTo>
                    <a:pt x="3" y="400"/>
                  </a:lnTo>
                  <a:lnTo>
                    <a:pt x="11" y="442"/>
                  </a:lnTo>
                  <a:lnTo>
                    <a:pt x="22" y="486"/>
                  </a:lnTo>
                  <a:lnTo>
                    <a:pt x="40" y="529"/>
                  </a:lnTo>
                  <a:lnTo>
                    <a:pt x="41" y="488"/>
                  </a:lnTo>
                  <a:lnTo>
                    <a:pt x="42" y="448"/>
                  </a:lnTo>
                  <a:lnTo>
                    <a:pt x="45" y="407"/>
                  </a:lnTo>
                  <a:lnTo>
                    <a:pt x="51" y="368"/>
                  </a:lnTo>
                  <a:lnTo>
                    <a:pt x="58" y="330"/>
                  </a:lnTo>
                  <a:lnTo>
                    <a:pt x="66" y="293"/>
                  </a:lnTo>
                  <a:lnTo>
                    <a:pt x="76" y="258"/>
                  </a:lnTo>
                  <a:lnTo>
                    <a:pt x="89" y="223"/>
                  </a:lnTo>
                  <a:lnTo>
                    <a:pt x="103" y="190"/>
                  </a:lnTo>
                  <a:lnTo>
                    <a:pt x="120" y="157"/>
                  </a:lnTo>
                  <a:lnTo>
                    <a:pt x="139" y="127"/>
                  </a:lnTo>
                  <a:lnTo>
                    <a:pt x="160" y="99"/>
                  </a:lnTo>
                  <a:lnTo>
                    <a:pt x="183" y="71"/>
                  </a:lnTo>
                  <a:lnTo>
                    <a:pt x="210" y="46"/>
                  </a:lnTo>
                  <a:lnTo>
                    <a:pt x="239" y="21"/>
                  </a:lnTo>
                  <a:lnTo>
                    <a:pt x="271" y="0"/>
                  </a:lnTo>
                  <a:lnTo>
                    <a:pt x="262" y="1"/>
                  </a:lnTo>
                  <a:lnTo>
                    <a:pt x="253" y="2"/>
                  </a:lnTo>
                  <a:lnTo>
                    <a:pt x="243" y="3"/>
                  </a:lnTo>
                  <a:lnTo>
                    <a:pt x="234" y="4"/>
                  </a:lnTo>
                  <a:lnTo>
                    <a:pt x="224" y="7"/>
                  </a:lnTo>
                  <a:lnTo>
                    <a:pt x="215" y="8"/>
                  </a:lnTo>
                  <a:lnTo>
                    <a:pt x="205" y="9"/>
                  </a:lnTo>
                  <a:lnTo>
                    <a:pt x="196" y="10"/>
                  </a:lnTo>
                  <a:close/>
                </a:path>
              </a:pathLst>
            </a:custGeom>
            <a:solidFill>
              <a:srgbClr val="ffd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5046480" y="1222920"/>
              <a:ext cx="130680" cy="237960"/>
            </a:xfrm>
            <a:custGeom>
              <a:avLst/>
              <a:gdLst/>
              <a:ahLst/>
              <a:rect l="l" t="t" r="r" b="b"/>
              <a:pathLst>
                <a:path w="263" h="519">
                  <a:moveTo>
                    <a:pt x="190" y="11"/>
                  </a:moveTo>
                  <a:lnTo>
                    <a:pt x="167" y="30"/>
                  </a:lnTo>
                  <a:lnTo>
                    <a:pt x="144" y="51"/>
                  </a:lnTo>
                  <a:lnTo>
                    <a:pt x="121" y="72"/>
                  </a:lnTo>
                  <a:lnTo>
                    <a:pt x="99" y="97"/>
                  </a:lnTo>
                  <a:lnTo>
                    <a:pt x="78" y="123"/>
                  </a:lnTo>
                  <a:lnTo>
                    <a:pt x="60" y="151"/>
                  </a:lnTo>
                  <a:lnTo>
                    <a:pt x="42" y="180"/>
                  </a:lnTo>
                  <a:lnTo>
                    <a:pt x="28" y="212"/>
                  </a:lnTo>
                  <a:lnTo>
                    <a:pt x="16" y="244"/>
                  </a:lnTo>
                  <a:lnTo>
                    <a:pt x="7" y="279"/>
                  </a:lnTo>
                  <a:lnTo>
                    <a:pt x="2" y="315"/>
                  </a:lnTo>
                  <a:lnTo>
                    <a:pt x="0" y="353"/>
                  </a:lnTo>
                  <a:lnTo>
                    <a:pt x="2" y="393"/>
                  </a:lnTo>
                  <a:lnTo>
                    <a:pt x="9" y="433"/>
                  </a:lnTo>
                  <a:lnTo>
                    <a:pt x="20" y="476"/>
                  </a:lnTo>
                  <a:lnTo>
                    <a:pt x="37" y="519"/>
                  </a:lnTo>
                  <a:lnTo>
                    <a:pt x="38" y="478"/>
                  </a:lnTo>
                  <a:lnTo>
                    <a:pt x="39" y="438"/>
                  </a:lnTo>
                  <a:lnTo>
                    <a:pt x="42" y="397"/>
                  </a:lnTo>
                  <a:lnTo>
                    <a:pt x="47" y="359"/>
                  </a:lnTo>
                  <a:lnTo>
                    <a:pt x="54" y="322"/>
                  </a:lnTo>
                  <a:lnTo>
                    <a:pt x="62" y="286"/>
                  </a:lnTo>
                  <a:lnTo>
                    <a:pt x="71" y="251"/>
                  </a:lnTo>
                  <a:lnTo>
                    <a:pt x="84" y="216"/>
                  </a:lnTo>
                  <a:lnTo>
                    <a:pt x="98" y="184"/>
                  </a:lnTo>
                  <a:lnTo>
                    <a:pt x="114" y="153"/>
                  </a:lnTo>
                  <a:lnTo>
                    <a:pt x="132" y="124"/>
                  </a:lnTo>
                  <a:lnTo>
                    <a:pt x="153" y="95"/>
                  </a:lnTo>
                  <a:lnTo>
                    <a:pt x="177" y="69"/>
                  </a:lnTo>
                  <a:lnTo>
                    <a:pt x="202" y="45"/>
                  </a:lnTo>
                  <a:lnTo>
                    <a:pt x="231" y="22"/>
                  </a:lnTo>
                  <a:lnTo>
                    <a:pt x="263" y="0"/>
                  </a:lnTo>
                  <a:lnTo>
                    <a:pt x="254" y="1"/>
                  </a:lnTo>
                  <a:lnTo>
                    <a:pt x="245" y="2"/>
                  </a:lnTo>
                  <a:lnTo>
                    <a:pt x="236" y="3"/>
                  </a:lnTo>
                  <a:lnTo>
                    <a:pt x="227" y="6"/>
                  </a:lnTo>
                  <a:lnTo>
                    <a:pt x="217" y="7"/>
                  </a:lnTo>
                  <a:lnTo>
                    <a:pt x="208" y="8"/>
                  </a:lnTo>
                  <a:lnTo>
                    <a:pt x="199" y="10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ffd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5048640" y="1224000"/>
              <a:ext cx="125640" cy="233280"/>
            </a:xfrm>
            <a:custGeom>
              <a:avLst/>
              <a:gdLst/>
              <a:ahLst/>
              <a:rect l="l" t="t" r="r" b="b"/>
              <a:pathLst>
                <a:path w="256" h="511">
                  <a:moveTo>
                    <a:pt x="184" y="15"/>
                  </a:moveTo>
                  <a:lnTo>
                    <a:pt x="162" y="33"/>
                  </a:lnTo>
                  <a:lnTo>
                    <a:pt x="139" y="54"/>
                  </a:lnTo>
                  <a:lnTo>
                    <a:pt x="118" y="76"/>
                  </a:lnTo>
                  <a:lnTo>
                    <a:pt x="97" y="100"/>
                  </a:lnTo>
                  <a:lnTo>
                    <a:pt x="77" y="124"/>
                  </a:lnTo>
                  <a:lnTo>
                    <a:pt x="59" y="152"/>
                  </a:lnTo>
                  <a:lnTo>
                    <a:pt x="43" y="181"/>
                  </a:lnTo>
                  <a:lnTo>
                    <a:pt x="28" y="211"/>
                  </a:lnTo>
                  <a:lnTo>
                    <a:pt x="16" y="242"/>
                  </a:lnTo>
                  <a:lnTo>
                    <a:pt x="7" y="275"/>
                  </a:lnTo>
                  <a:lnTo>
                    <a:pt x="1" y="311"/>
                  </a:lnTo>
                  <a:lnTo>
                    <a:pt x="0" y="348"/>
                  </a:lnTo>
                  <a:lnTo>
                    <a:pt x="1" y="386"/>
                  </a:lnTo>
                  <a:lnTo>
                    <a:pt x="7" y="426"/>
                  </a:lnTo>
                  <a:lnTo>
                    <a:pt x="17" y="468"/>
                  </a:lnTo>
                  <a:lnTo>
                    <a:pt x="34" y="511"/>
                  </a:lnTo>
                  <a:lnTo>
                    <a:pt x="34" y="470"/>
                  </a:lnTo>
                  <a:lnTo>
                    <a:pt x="36" y="430"/>
                  </a:lnTo>
                  <a:lnTo>
                    <a:pt x="39" y="389"/>
                  </a:lnTo>
                  <a:lnTo>
                    <a:pt x="44" y="351"/>
                  </a:lnTo>
                  <a:lnTo>
                    <a:pt x="50" y="314"/>
                  </a:lnTo>
                  <a:lnTo>
                    <a:pt x="57" y="279"/>
                  </a:lnTo>
                  <a:lnTo>
                    <a:pt x="67" y="244"/>
                  </a:lnTo>
                  <a:lnTo>
                    <a:pt x="78" y="212"/>
                  </a:lnTo>
                  <a:lnTo>
                    <a:pt x="92" y="180"/>
                  </a:lnTo>
                  <a:lnTo>
                    <a:pt x="107" y="150"/>
                  </a:lnTo>
                  <a:lnTo>
                    <a:pt x="126" y="121"/>
                  </a:lnTo>
                  <a:lnTo>
                    <a:pt x="146" y="93"/>
                  </a:lnTo>
                  <a:lnTo>
                    <a:pt x="169" y="68"/>
                  </a:lnTo>
                  <a:lnTo>
                    <a:pt x="195" y="44"/>
                  </a:lnTo>
                  <a:lnTo>
                    <a:pt x="224" y="21"/>
                  </a:lnTo>
                  <a:lnTo>
                    <a:pt x="256" y="0"/>
                  </a:lnTo>
                  <a:lnTo>
                    <a:pt x="247" y="2"/>
                  </a:lnTo>
                  <a:lnTo>
                    <a:pt x="238" y="5"/>
                  </a:lnTo>
                  <a:lnTo>
                    <a:pt x="229" y="6"/>
                  </a:lnTo>
                  <a:lnTo>
                    <a:pt x="220" y="8"/>
                  </a:lnTo>
                  <a:lnTo>
                    <a:pt x="212" y="9"/>
                  </a:lnTo>
                  <a:lnTo>
                    <a:pt x="203" y="12"/>
                  </a:lnTo>
                  <a:lnTo>
                    <a:pt x="194" y="13"/>
                  </a:lnTo>
                  <a:lnTo>
                    <a:pt x="184" y="15"/>
                  </a:lnTo>
                  <a:close/>
                </a:path>
              </a:pathLst>
            </a:custGeom>
            <a:solidFill>
              <a:srgbClr val="ffe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5048640" y="1224720"/>
              <a:ext cx="124560" cy="228960"/>
            </a:xfrm>
            <a:custGeom>
              <a:avLst/>
              <a:gdLst/>
              <a:ahLst/>
              <a:rect l="l" t="t" r="r" b="b"/>
              <a:pathLst>
                <a:path w="251" h="499">
                  <a:moveTo>
                    <a:pt x="180" y="14"/>
                  </a:moveTo>
                  <a:lnTo>
                    <a:pt x="159" y="33"/>
                  </a:lnTo>
                  <a:lnTo>
                    <a:pt x="137" y="54"/>
                  </a:lnTo>
                  <a:lnTo>
                    <a:pt x="117" y="76"/>
                  </a:lnTo>
                  <a:lnTo>
                    <a:pt x="96" y="99"/>
                  </a:lnTo>
                  <a:lnTo>
                    <a:pt x="77" y="123"/>
                  </a:lnTo>
                  <a:lnTo>
                    <a:pt x="59" y="149"/>
                  </a:lnTo>
                  <a:lnTo>
                    <a:pt x="43" y="177"/>
                  </a:lnTo>
                  <a:lnTo>
                    <a:pt x="29" y="206"/>
                  </a:lnTo>
                  <a:lnTo>
                    <a:pt x="18" y="237"/>
                  </a:lnTo>
                  <a:lnTo>
                    <a:pt x="9" y="269"/>
                  </a:lnTo>
                  <a:lnTo>
                    <a:pt x="3" y="302"/>
                  </a:lnTo>
                  <a:lnTo>
                    <a:pt x="0" y="338"/>
                  </a:lnTo>
                  <a:lnTo>
                    <a:pt x="3" y="376"/>
                  </a:lnTo>
                  <a:lnTo>
                    <a:pt x="8" y="415"/>
                  </a:lnTo>
                  <a:lnTo>
                    <a:pt x="18" y="457"/>
                  </a:lnTo>
                  <a:lnTo>
                    <a:pt x="33" y="499"/>
                  </a:lnTo>
                  <a:lnTo>
                    <a:pt x="33" y="458"/>
                  </a:lnTo>
                  <a:lnTo>
                    <a:pt x="35" y="416"/>
                  </a:lnTo>
                  <a:lnTo>
                    <a:pt x="37" y="378"/>
                  </a:lnTo>
                  <a:lnTo>
                    <a:pt x="42" y="340"/>
                  </a:lnTo>
                  <a:lnTo>
                    <a:pt x="47" y="304"/>
                  </a:lnTo>
                  <a:lnTo>
                    <a:pt x="54" y="269"/>
                  </a:lnTo>
                  <a:lnTo>
                    <a:pt x="64" y="236"/>
                  </a:lnTo>
                  <a:lnTo>
                    <a:pt x="75" y="203"/>
                  </a:lnTo>
                  <a:lnTo>
                    <a:pt x="88" y="172"/>
                  </a:lnTo>
                  <a:lnTo>
                    <a:pt x="104" y="143"/>
                  </a:lnTo>
                  <a:lnTo>
                    <a:pt x="121" y="116"/>
                  </a:lnTo>
                  <a:lnTo>
                    <a:pt x="142" y="89"/>
                  </a:lnTo>
                  <a:lnTo>
                    <a:pt x="165" y="65"/>
                  </a:lnTo>
                  <a:lnTo>
                    <a:pt x="190" y="41"/>
                  </a:lnTo>
                  <a:lnTo>
                    <a:pt x="219" y="20"/>
                  </a:lnTo>
                  <a:lnTo>
                    <a:pt x="251" y="0"/>
                  </a:lnTo>
                  <a:lnTo>
                    <a:pt x="242" y="2"/>
                  </a:lnTo>
                  <a:lnTo>
                    <a:pt x="233" y="3"/>
                  </a:lnTo>
                  <a:lnTo>
                    <a:pt x="225" y="5"/>
                  </a:lnTo>
                  <a:lnTo>
                    <a:pt x="216" y="6"/>
                  </a:lnTo>
                  <a:lnTo>
                    <a:pt x="206" y="9"/>
                  </a:lnTo>
                  <a:lnTo>
                    <a:pt x="198" y="11"/>
                  </a:lnTo>
                  <a:lnTo>
                    <a:pt x="189" y="12"/>
                  </a:lnTo>
                  <a:lnTo>
                    <a:pt x="180" y="14"/>
                  </a:lnTo>
                  <a:close/>
                </a:path>
              </a:pathLst>
            </a:custGeom>
            <a:solidFill>
              <a:srgbClr val="ffe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5049360" y="1225800"/>
              <a:ext cx="120600" cy="223920"/>
            </a:xfrm>
            <a:custGeom>
              <a:avLst/>
              <a:gdLst/>
              <a:ahLst/>
              <a:rect l="l" t="t" r="r" b="b"/>
              <a:pathLst>
                <a:path w="244" h="489">
                  <a:moveTo>
                    <a:pt x="175" y="16"/>
                  </a:moveTo>
                  <a:lnTo>
                    <a:pt x="154" y="36"/>
                  </a:lnTo>
                  <a:lnTo>
                    <a:pt x="133" y="56"/>
                  </a:lnTo>
                  <a:lnTo>
                    <a:pt x="114" y="77"/>
                  </a:lnTo>
                  <a:lnTo>
                    <a:pt x="94" y="100"/>
                  </a:lnTo>
                  <a:lnTo>
                    <a:pt x="76" y="124"/>
                  </a:lnTo>
                  <a:lnTo>
                    <a:pt x="58" y="148"/>
                  </a:lnTo>
                  <a:lnTo>
                    <a:pt x="42" y="175"/>
                  </a:lnTo>
                  <a:lnTo>
                    <a:pt x="28" y="204"/>
                  </a:lnTo>
                  <a:lnTo>
                    <a:pt x="17" y="232"/>
                  </a:lnTo>
                  <a:lnTo>
                    <a:pt x="9" y="264"/>
                  </a:lnTo>
                  <a:lnTo>
                    <a:pt x="3" y="297"/>
                  </a:lnTo>
                  <a:lnTo>
                    <a:pt x="0" y="332"/>
                  </a:lnTo>
                  <a:lnTo>
                    <a:pt x="1" y="368"/>
                  </a:lnTo>
                  <a:lnTo>
                    <a:pt x="6" y="406"/>
                  </a:lnTo>
                  <a:lnTo>
                    <a:pt x="16" y="447"/>
                  </a:lnTo>
                  <a:lnTo>
                    <a:pt x="30" y="489"/>
                  </a:lnTo>
                  <a:lnTo>
                    <a:pt x="30" y="448"/>
                  </a:lnTo>
                  <a:lnTo>
                    <a:pt x="32" y="406"/>
                  </a:lnTo>
                  <a:lnTo>
                    <a:pt x="34" y="368"/>
                  </a:lnTo>
                  <a:lnTo>
                    <a:pt x="38" y="330"/>
                  </a:lnTo>
                  <a:lnTo>
                    <a:pt x="43" y="295"/>
                  </a:lnTo>
                  <a:lnTo>
                    <a:pt x="50" y="261"/>
                  </a:lnTo>
                  <a:lnTo>
                    <a:pt x="59" y="228"/>
                  </a:lnTo>
                  <a:lnTo>
                    <a:pt x="70" y="197"/>
                  </a:lnTo>
                  <a:lnTo>
                    <a:pt x="82" y="167"/>
                  </a:lnTo>
                  <a:lnTo>
                    <a:pt x="97" y="139"/>
                  </a:lnTo>
                  <a:lnTo>
                    <a:pt x="115" y="113"/>
                  </a:lnTo>
                  <a:lnTo>
                    <a:pt x="135" y="87"/>
                  </a:lnTo>
                  <a:lnTo>
                    <a:pt x="157" y="63"/>
                  </a:lnTo>
                  <a:lnTo>
                    <a:pt x="184" y="40"/>
                  </a:lnTo>
                  <a:lnTo>
                    <a:pt x="211" y="19"/>
                  </a:lnTo>
                  <a:lnTo>
                    <a:pt x="244" y="0"/>
                  </a:lnTo>
                  <a:lnTo>
                    <a:pt x="236" y="2"/>
                  </a:lnTo>
                  <a:lnTo>
                    <a:pt x="226" y="4"/>
                  </a:lnTo>
                  <a:lnTo>
                    <a:pt x="218" y="7"/>
                  </a:lnTo>
                  <a:lnTo>
                    <a:pt x="209" y="8"/>
                  </a:lnTo>
                  <a:lnTo>
                    <a:pt x="201" y="10"/>
                  </a:lnTo>
                  <a:lnTo>
                    <a:pt x="192" y="12"/>
                  </a:lnTo>
                  <a:lnTo>
                    <a:pt x="184" y="14"/>
                  </a:lnTo>
                  <a:lnTo>
                    <a:pt x="175" y="16"/>
                  </a:lnTo>
                  <a:close/>
                </a:path>
              </a:pathLst>
            </a:custGeom>
            <a:solidFill>
              <a:srgbClr val="ffed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5051520" y="1227600"/>
              <a:ext cx="116640" cy="219600"/>
            </a:xfrm>
            <a:custGeom>
              <a:avLst/>
              <a:gdLst/>
              <a:ahLst/>
              <a:rect l="l" t="t" r="r" b="b"/>
              <a:pathLst>
                <a:path w="236" h="480">
                  <a:moveTo>
                    <a:pt x="168" y="19"/>
                  </a:moveTo>
                  <a:lnTo>
                    <a:pt x="149" y="38"/>
                  </a:lnTo>
                  <a:lnTo>
                    <a:pt x="129" y="59"/>
                  </a:lnTo>
                  <a:lnTo>
                    <a:pt x="111" y="80"/>
                  </a:lnTo>
                  <a:lnTo>
                    <a:pt x="91" y="101"/>
                  </a:lnTo>
                  <a:lnTo>
                    <a:pt x="74" y="125"/>
                  </a:lnTo>
                  <a:lnTo>
                    <a:pt x="56" y="149"/>
                  </a:lnTo>
                  <a:lnTo>
                    <a:pt x="41" y="174"/>
                  </a:lnTo>
                  <a:lnTo>
                    <a:pt x="29" y="201"/>
                  </a:lnTo>
                  <a:lnTo>
                    <a:pt x="17" y="229"/>
                  </a:lnTo>
                  <a:lnTo>
                    <a:pt x="8" y="259"/>
                  </a:lnTo>
                  <a:lnTo>
                    <a:pt x="2" y="292"/>
                  </a:lnTo>
                  <a:lnTo>
                    <a:pt x="0" y="325"/>
                  </a:lnTo>
                  <a:lnTo>
                    <a:pt x="0" y="361"/>
                  </a:lnTo>
                  <a:lnTo>
                    <a:pt x="5" y="397"/>
                  </a:lnTo>
                  <a:lnTo>
                    <a:pt x="14" y="438"/>
                  </a:lnTo>
                  <a:lnTo>
                    <a:pt x="27" y="480"/>
                  </a:lnTo>
                  <a:lnTo>
                    <a:pt x="27" y="438"/>
                  </a:lnTo>
                  <a:lnTo>
                    <a:pt x="28" y="397"/>
                  </a:lnTo>
                  <a:lnTo>
                    <a:pt x="31" y="359"/>
                  </a:lnTo>
                  <a:lnTo>
                    <a:pt x="35" y="321"/>
                  </a:lnTo>
                  <a:lnTo>
                    <a:pt x="39" y="287"/>
                  </a:lnTo>
                  <a:lnTo>
                    <a:pt x="46" y="253"/>
                  </a:lnTo>
                  <a:lnTo>
                    <a:pt x="54" y="221"/>
                  </a:lnTo>
                  <a:lnTo>
                    <a:pt x="65" y="190"/>
                  </a:lnTo>
                  <a:lnTo>
                    <a:pt x="77" y="161"/>
                  </a:lnTo>
                  <a:lnTo>
                    <a:pt x="91" y="135"/>
                  </a:lnTo>
                  <a:lnTo>
                    <a:pt x="108" y="108"/>
                  </a:lnTo>
                  <a:lnTo>
                    <a:pt x="128" y="84"/>
                  </a:lnTo>
                  <a:lnTo>
                    <a:pt x="151" y="61"/>
                  </a:lnTo>
                  <a:lnTo>
                    <a:pt x="176" y="39"/>
                  </a:lnTo>
                  <a:lnTo>
                    <a:pt x="204" y="19"/>
                  </a:lnTo>
                  <a:lnTo>
                    <a:pt x="236" y="0"/>
                  </a:lnTo>
                  <a:lnTo>
                    <a:pt x="228" y="2"/>
                  </a:lnTo>
                  <a:lnTo>
                    <a:pt x="220" y="5"/>
                  </a:lnTo>
                  <a:lnTo>
                    <a:pt x="211" y="7"/>
                  </a:lnTo>
                  <a:lnTo>
                    <a:pt x="203" y="9"/>
                  </a:lnTo>
                  <a:lnTo>
                    <a:pt x="193" y="12"/>
                  </a:lnTo>
                  <a:lnTo>
                    <a:pt x="185" y="14"/>
                  </a:lnTo>
                  <a:lnTo>
                    <a:pt x="176" y="16"/>
                  </a:lnTo>
                  <a:lnTo>
                    <a:pt x="168" y="19"/>
                  </a:lnTo>
                  <a:close/>
                </a:path>
              </a:pathLst>
            </a:custGeom>
            <a:solidFill>
              <a:srgbClr val="fff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5052600" y="1228680"/>
              <a:ext cx="114120" cy="214920"/>
            </a:xfrm>
            <a:custGeom>
              <a:avLst/>
              <a:gdLst/>
              <a:ahLst/>
              <a:rect l="l" t="t" r="r" b="b"/>
              <a:pathLst>
                <a:path w="231" h="470">
                  <a:moveTo>
                    <a:pt x="163" y="20"/>
                  </a:moveTo>
                  <a:lnTo>
                    <a:pt x="144" y="41"/>
                  </a:lnTo>
                  <a:lnTo>
                    <a:pt x="126" y="60"/>
                  </a:lnTo>
                  <a:lnTo>
                    <a:pt x="107" y="81"/>
                  </a:lnTo>
                  <a:lnTo>
                    <a:pt x="89" y="103"/>
                  </a:lnTo>
                  <a:lnTo>
                    <a:pt x="72" y="125"/>
                  </a:lnTo>
                  <a:lnTo>
                    <a:pt x="56" y="149"/>
                  </a:lnTo>
                  <a:lnTo>
                    <a:pt x="42" y="173"/>
                  </a:lnTo>
                  <a:lnTo>
                    <a:pt x="28" y="199"/>
                  </a:lnTo>
                  <a:lnTo>
                    <a:pt x="18" y="226"/>
                  </a:lnTo>
                  <a:lnTo>
                    <a:pt x="8" y="254"/>
                  </a:lnTo>
                  <a:lnTo>
                    <a:pt x="3" y="285"/>
                  </a:lnTo>
                  <a:lnTo>
                    <a:pt x="0" y="317"/>
                  </a:lnTo>
                  <a:lnTo>
                    <a:pt x="0" y="352"/>
                  </a:lnTo>
                  <a:lnTo>
                    <a:pt x="4" y="389"/>
                  </a:lnTo>
                  <a:lnTo>
                    <a:pt x="12" y="429"/>
                  </a:lnTo>
                  <a:lnTo>
                    <a:pt x="25" y="470"/>
                  </a:lnTo>
                  <a:lnTo>
                    <a:pt x="25" y="428"/>
                  </a:lnTo>
                  <a:lnTo>
                    <a:pt x="26" y="387"/>
                  </a:lnTo>
                  <a:lnTo>
                    <a:pt x="28" y="349"/>
                  </a:lnTo>
                  <a:lnTo>
                    <a:pt x="31" y="313"/>
                  </a:lnTo>
                  <a:lnTo>
                    <a:pt x="36" y="278"/>
                  </a:lnTo>
                  <a:lnTo>
                    <a:pt x="43" y="245"/>
                  </a:lnTo>
                  <a:lnTo>
                    <a:pt x="50" y="213"/>
                  </a:lnTo>
                  <a:lnTo>
                    <a:pt x="60" y="184"/>
                  </a:lnTo>
                  <a:lnTo>
                    <a:pt x="72" y="156"/>
                  </a:lnTo>
                  <a:lnTo>
                    <a:pt x="87" y="129"/>
                  </a:lnTo>
                  <a:lnTo>
                    <a:pt x="103" y="104"/>
                  </a:lnTo>
                  <a:lnTo>
                    <a:pt x="122" y="81"/>
                  </a:lnTo>
                  <a:lnTo>
                    <a:pt x="145" y="59"/>
                  </a:lnTo>
                  <a:lnTo>
                    <a:pt x="171" y="38"/>
                  </a:lnTo>
                  <a:lnTo>
                    <a:pt x="198" y="19"/>
                  </a:lnTo>
                  <a:lnTo>
                    <a:pt x="231" y="0"/>
                  </a:lnTo>
                  <a:lnTo>
                    <a:pt x="223" y="3"/>
                  </a:lnTo>
                  <a:lnTo>
                    <a:pt x="213" y="5"/>
                  </a:lnTo>
                  <a:lnTo>
                    <a:pt x="205" y="8"/>
                  </a:lnTo>
                  <a:lnTo>
                    <a:pt x="197" y="11"/>
                  </a:lnTo>
                  <a:lnTo>
                    <a:pt x="188" y="13"/>
                  </a:lnTo>
                  <a:lnTo>
                    <a:pt x="180" y="15"/>
                  </a:lnTo>
                  <a:lnTo>
                    <a:pt x="171" y="18"/>
                  </a:lnTo>
                  <a:lnTo>
                    <a:pt x="163" y="20"/>
                  </a:lnTo>
                  <a:close/>
                </a:path>
              </a:pathLst>
            </a:custGeom>
            <a:solidFill>
              <a:srgbClr val="ff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53680" y="1229400"/>
              <a:ext cx="110880" cy="210240"/>
            </a:xfrm>
            <a:custGeom>
              <a:avLst/>
              <a:gdLst/>
              <a:ahLst/>
              <a:rect l="l" t="t" r="r" b="b"/>
              <a:pathLst>
                <a:path w="223" h="459">
                  <a:moveTo>
                    <a:pt x="157" y="22"/>
                  </a:moveTo>
                  <a:lnTo>
                    <a:pt x="140" y="42"/>
                  </a:lnTo>
                  <a:lnTo>
                    <a:pt x="122" y="62"/>
                  </a:lnTo>
                  <a:lnTo>
                    <a:pt x="104" y="83"/>
                  </a:lnTo>
                  <a:lnTo>
                    <a:pt x="87" y="103"/>
                  </a:lnTo>
                  <a:lnTo>
                    <a:pt x="70" y="125"/>
                  </a:lnTo>
                  <a:lnTo>
                    <a:pt x="55" y="148"/>
                  </a:lnTo>
                  <a:lnTo>
                    <a:pt x="40" y="171"/>
                  </a:lnTo>
                  <a:lnTo>
                    <a:pt x="27" y="196"/>
                  </a:lnTo>
                  <a:lnTo>
                    <a:pt x="17" y="221"/>
                  </a:lnTo>
                  <a:lnTo>
                    <a:pt x="9" y="248"/>
                  </a:lnTo>
                  <a:lnTo>
                    <a:pt x="2" y="278"/>
                  </a:lnTo>
                  <a:lnTo>
                    <a:pt x="0" y="310"/>
                  </a:lnTo>
                  <a:lnTo>
                    <a:pt x="0" y="343"/>
                  </a:lnTo>
                  <a:lnTo>
                    <a:pt x="3" y="379"/>
                  </a:lnTo>
                  <a:lnTo>
                    <a:pt x="10" y="418"/>
                  </a:lnTo>
                  <a:lnTo>
                    <a:pt x="22" y="459"/>
                  </a:lnTo>
                  <a:lnTo>
                    <a:pt x="22" y="417"/>
                  </a:lnTo>
                  <a:lnTo>
                    <a:pt x="23" y="376"/>
                  </a:lnTo>
                  <a:lnTo>
                    <a:pt x="25" y="338"/>
                  </a:lnTo>
                  <a:lnTo>
                    <a:pt x="27" y="301"/>
                  </a:lnTo>
                  <a:lnTo>
                    <a:pt x="32" y="268"/>
                  </a:lnTo>
                  <a:lnTo>
                    <a:pt x="38" y="236"/>
                  </a:lnTo>
                  <a:lnTo>
                    <a:pt x="46" y="205"/>
                  </a:lnTo>
                  <a:lnTo>
                    <a:pt x="55" y="176"/>
                  </a:lnTo>
                  <a:lnTo>
                    <a:pt x="66" y="149"/>
                  </a:lnTo>
                  <a:lnTo>
                    <a:pt x="80" y="124"/>
                  </a:lnTo>
                  <a:lnTo>
                    <a:pt x="96" y="100"/>
                  </a:lnTo>
                  <a:lnTo>
                    <a:pt x="116" y="78"/>
                  </a:lnTo>
                  <a:lnTo>
                    <a:pt x="138" y="56"/>
                  </a:lnTo>
                  <a:lnTo>
                    <a:pt x="163" y="37"/>
                  </a:lnTo>
                  <a:lnTo>
                    <a:pt x="191" y="17"/>
                  </a:lnTo>
                  <a:lnTo>
                    <a:pt x="223" y="0"/>
                  </a:lnTo>
                  <a:lnTo>
                    <a:pt x="215" y="2"/>
                  </a:lnTo>
                  <a:lnTo>
                    <a:pt x="207" y="5"/>
                  </a:lnTo>
                  <a:lnTo>
                    <a:pt x="199" y="8"/>
                  </a:lnTo>
                  <a:lnTo>
                    <a:pt x="191" y="10"/>
                  </a:lnTo>
                  <a:lnTo>
                    <a:pt x="182" y="12"/>
                  </a:lnTo>
                  <a:lnTo>
                    <a:pt x="174" y="16"/>
                  </a:lnTo>
                  <a:lnTo>
                    <a:pt x="165" y="18"/>
                  </a:lnTo>
                  <a:lnTo>
                    <a:pt x="157" y="22"/>
                  </a:lnTo>
                  <a:close/>
                </a:path>
              </a:pathLst>
            </a:custGeom>
            <a:solidFill>
              <a:srgbClr val="fff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5054400" y="1230480"/>
              <a:ext cx="108000" cy="205920"/>
            </a:xfrm>
            <a:custGeom>
              <a:avLst/>
              <a:gdLst/>
              <a:ahLst/>
              <a:rect l="l" t="t" r="r" b="b"/>
              <a:pathLst>
                <a:path w="218" h="450">
                  <a:moveTo>
                    <a:pt x="152" y="23"/>
                  </a:moveTo>
                  <a:lnTo>
                    <a:pt x="136" y="44"/>
                  </a:lnTo>
                  <a:lnTo>
                    <a:pt x="119" y="65"/>
                  </a:lnTo>
                  <a:lnTo>
                    <a:pt x="102" y="85"/>
                  </a:lnTo>
                  <a:lnTo>
                    <a:pt x="86" y="105"/>
                  </a:lnTo>
                  <a:lnTo>
                    <a:pt x="70" y="126"/>
                  </a:lnTo>
                  <a:lnTo>
                    <a:pt x="55" y="147"/>
                  </a:lnTo>
                  <a:lnTo>
                    <a:pt x="41" y="169"/>
                  </a:lnTo>
                  <a:lnTo>
                    <a:pt x="29" y="194"/>
                  </a:lnTo>
                  <a:lnTo>
                    <a:pt x="18" y="218"/>
                  </a:lnTo>
                  <a:lnTo>
                    <a:pt x="9" y="244"/>
                  </a:lnTo>
                  <a:lnTo>
                    <a:pt x="3" y="273"/>
                  </a:lnTo>
                  <a:lnTo>
                    <a:pt x="0" y="303"/>
                  </a:lnTo>
                  <a:lnTo>
                    <a:pt x="0" y="335"/>
                  </a:lnTo>
                  <a:lnTo>
                    <a:pt x="2" y="371"/>
                  </a:lnTo>
                  <a:lnTo>
                    <a:pt x="9" y="409"/>
                  </a:lnTo>
                  <a:lnTo>
                    <a:pt x="20" y="450"/>
                  </a:lnTo>
                  <a:lnTo>
                    <a:pt x="20" y="408"/>
                  </a:lnTo>
                  <a:lnTo>
                    <a:pt x="21" y="367"/>
                  </a:lnTo>
                  <a:lnTo>
                    <a:pt x="22" y="329"/>
                  </a:lnTo>
                  <a:lnTo>
                    <a:pt x="25" y="294"/>
                  </a:lnTo>
                  <a:lnTo>
                    <a:pt x="29" y="259"/>
                  </a:lnTo>
                  <a:lnTo>
                    <a:pt x="34" y="228"/>
                  </a:lnTo>
                  <a:lnTo>
                    <a:pt x="41" y="198"/>
                  </a:lnTo>
                  <a:lnTo>
                    <a:pt x="51" y="170"/>
                  </a:lnTo>
                  <a:lnTo>
                    <a:pt x="62" y="144"/>
                  </a:lnTo>
                  <a:lnTo>
                    <a:pt x="76" y="120"/>
                  </a:lnTo>
                  <a:lnTo>
                    <a:pt x="92" y="97"/>
                  </a:lnTo>
                  <a:lnTo>
                    <a:pt x="110" y="75"/>
                  </a:lnTo>
                  <a:lnTo>
                    <a:pt x="132" y="54"/>
                  </a:lnTo>
                  <a:lnTo>
                    <a:pt x="158" y="36"/>
                  </a:lnTo>
                  <a:lnTo>
                    <a:pt x="185" y="17"/>
                  </a:lnTo>
                  <a:lnTo>
                    <a:pt x="218" y="0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5369760" y="1350000"/>
              <a:ext cx="75240" cy="221400"/>
            </a:xfrm>
            <a:custGeom>
              <a:avLst/>
              <a:gdLst/>
              <a:ahLst/>
              <a:rect l="l" t="t" r="r" b="b"/>
              <a:pathLst>
                <a:path w="152" h="484">
                  <a:moveTo>
                    <a:pt x="144" y="75"/>
                  </a:moveTo>
                  <a:lnTo>
                    <a:pt x="149" y="118"/>
                  </a:lnTo>
                  <a:lnTo>
                    <a:pt x="152" y="163"/>
                  </a:lnTo>
                  <a:lnTo>
                    <a:pt x="149" y="210"/>
                  </a:lnTo>
                  <a:lnTo>
                    <a:pt x="141" y="260"/>
                  </a:lnTo>
                  <a:lnTo>
                    <a:pt x="123" y="311"/>
                  </a:lnTo>
                  <a:lnTo>
                    <a:pt x="95" y="367"/>
                  </a:lnTo>
                  <a:lnTo>
                    <a:pt x="54" y="424"/>
                  </a:lnTo>
                  <a:lnTo>
                    <a:pt x="0" y="484"/>
                  </a:lnTo>
                  <a:lnTo>
                    <a:pt x="19" y="431"/>
                  </a:lnTo>
                  <a:lnTo>
                    <a:pt x="39" y="372"/>
                  </a:lnTo>
                  <a:lnTo>
                    <a:pt x="57" y="309"/>
                  </a:lnTo>
                  <a:lnTo>
                    <a:pt x="73" y="242"/>
                  </a:lnTo>
                  <a:lnTo>
                    <a:pt x="88" y="177"/>
                  </a:lnTo>
                  <a:lnTo>
                    <a:pt x="101" y="113"/>
                  </a:lnTo>
                  <a:lnTo>
                    <a:pt x="111" y="53"/>
                  </a:lnTo>
                  <a:lnTo>
                    <a:pt x="119" y="0"/>
                  </a:lnTo>
                  <a:lnTo>
                    <a:pt x="144" y="7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372640" y="1353960"/>
              <a:ext cx="72360" cy="214200"/>
            </a:xfrm>
            <a:custGeom>
              <a:avLst/>
              <a:gdLst/>
              <a:ahLst/>
              <a:rect l="l" t="t" r="r" b="b"/>
              <a:pathLst>
                <a:path w="146" h="466">
                  <a:moveTo>
                    <a:pt x="138" y="71"/>
                  </a:moveTo>
                  <a:lnTo>
                    <a:pt x="144" y="113"/>
                  </a:lnTo>
                  <a:lnTo>
                    <a:pt x="146" y="156"/>
                  </a:lnTo>
                  <a:lnTo>
                    <a:pt x="144" y="201"/>
                  </a:lnTo>
                  <a:lnTo>
                    <a:pt x="135" y="250"/>
                  </a:lnTo>
                  <a:lnTo>
                    <a:pt x="118" y="300"/>
                  </a:lnTo>
                  <a:lnTo>
                    <a:pt x="91" y="353"/>
                  </a:lnTo>
                  <a:lnTo>
                    <a:pt x="52" y="409"/>
                  </a:lnTo>
                  <a:lnTo>
                    <a:pt x="0" y="466"/>
                  </a:lnTo>
                  <a:lnTo>
                    <a:pt x="20" y="415"/>
                  </a:lnTo>
                  <a:lnTo>
                    <a:pt x="38" y="358"/>
                  </a:lnTo>
                  <a:lnTo>
                    <a:pt x="54" y="298"/>
                  </a:lnTo>
                  <a:lnTo>
                    <a:pt x="70" y="235"/>
                  </a:lnTo>
                  <a:lnTo>
                    <a:pt x="85" y="171"/>
                  </a:lnTo>
                  <a:lnTo>
                    <a:pt x="97" y="110"/>
                  </a:lnTo>
                  <a:lnTo>
                    <a:pt x="107" y="53"/>
                  </a:lnTo>
                  <a:lnTo>
                    <a:pt x="115" y="0"/>
                  </a:lnTo>
                  <a:lnTo>
                    <a:pt x="121" y="18"/>
                  </a:lnTo>
                  <a:lnTo>
                    <a:pt x="127" y="35"/>
                  </a:lnTo>
                  <a:lnTo>
                    <a:pt x="133" y="53"/>
                  </a:lnTo>
                  <a:lnTo>
                    <a:pt x="138" y="71"/>
                  </a:lnTo>
                  <a:close/>
                </a:path>
              </a:pathLst>
            </a:custGeom>
            <a:solidFill>
              <a:srgbClr val="ffcc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5374800" y="1359360"/>
              <a:ext cx="69120" cy="204840"/>
            </a:xfrm>
            <a:custGeom>
              <a:avLst/>
              <a:gdLst/>
              <a:ahLst/>
              <a:rect l="l" t="t" r="r" b="b"/>
              <a:pathLst>
                <a:path w="138" h="448">
                  <a:moveTo>
                    <a:pt x="132" y="67"/>
                  </a:moveTo>
                  <a:lnTo>
                    <a:pt x="137" y="107"/>
                  </a:lnTo>
                  <a:lnTo>
                    <a:pt x="138" y="149"/>
                  </a:lnTo>
                  <a:lnTo>
                    <a:pt x="136" y="194"/>
                  </a:lnTo>
                  <a:lnTo>
                    <a:pt x="127" y="240"/>
                  </a:lnTo>
                  <a:lnTo>
                    <a:pt x="110" y="289"/>
                  </a:lnTo>
                  <a:lnTo>
                    <a:pt x="85" y="340"/>
                  </a:lnTo>
                  <a:lnTo>
                    <a:pt x="48" y="393"/>
                  </a:lnTo>
                  <a:lnTo>
                    <a:pt x="0" y="448"/>
                  </a:lnTo>
                  <a:lnTo>
                    <a:pt x="18" y="399"/>
                  </a:lnTo>
                  <a:lnTo>
                    <a:pt x="36" y="344"/>
                  </a:lnTo>
                  <a:lnTo>
                    <a:pt x="52" y="286"/>
                  </a:lnTo>
                  <a:lnTo>
                    <a:pt x="67" y="226"/>
                  </a:lnTo>
                  <a:lnTo>
                    <a:pt x="81" y="166"/>
                  </a:lnTo>
                  <a:lnTo>
                    <a:pt x="92" y="107"/>
                  </a:lnTo>
                  <a:lnTo>
                    <a:pt x="102" y="51"/>
                  </a:lnTo>
                  <a:lnTo>
                    <a:pt x="109" y="0"/>
                  </a:lnTo>
                  <a:lnTo>
                    <a:pt x="115" y="16"/>
                  </a:lnTo>
                  <a:lnTo>
                    <a:pt x="121" y="33"/>
                  </a:lnTo>
                  <a:lnTo>
                    <a:pt x="127" y="51"/>
                  </a:lnTo>
                  <a:lnTo>
                    <a:pt x="132" y="67"/>
                  </a:lnTo>
                  <a:close/>
                </a:path>
              </a:pathLst>
            </a:custGeom>
            <a:solidFill>
              <a:srgbClr val="ffd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5377680" y="1364040"/>
              <a:ext cx="64080" cy="195840"/>
            </a:xfrm>
            <a:custGeom>
              <a:avLst/>
              <a:gdLst/>
              <a:ahLst/>
              <a:rect l="l" t="t" r="r" b="b"/>
              <a:pathLst>
                <a:path w="131" h="429">
                  <a:moveTo>
                    <a:pt x="126" y="63"/>
                  </a:moveTo>
                  <a:lnTo>
                    <a:pt x="130" y="102"/>
                  </a:lnTo>
                  <a:lnTo>
                    <a:pt x="131" y="142"/>
                  </a:lnTo>
                  <a:lnTo>
                    <a:pt x="129" y="185"/>
                  </a:lnTo>
                  <a:lnTo>
                    <a:pt x="120" y="230"/>
                  </a:lnTo>
                  <a:lnTo>
                    <a:pt x="104" y="277"/>
                  </a:lnTo>
                  <a:lnTo>
                    <a:pt x="80" y="326"/>
                  </a:lnTo>
                  <a:lnTo>
                    <a:pt x="46" y="377"/>
                  </a:lnTo>
                  <a:lnTo>
                    <a:pt x="0" y="429"/>
                  </a:lnTo>
                  <a:lnTo>
                    <a:pt x="17" y="382"/>
                  </a:lnTo>
                  <a:lnTo>
                    <a:pt x="34" y="329"/>
                  </a:lnTo>
                  <a:lnTo>
                    <a:pt x="49" y="273"/>
                  </a:lnTo>
                  <a:lnTo>
                    <a:pt x="64" y="217"/>
                  </a:lnTo>
                  <a:lnTo>
                    <a:pt x="77" y="159"/>
                  </a:lnTo>
                  <a:lnTo>
                    <a:pt x="88" y="103"/>
                  </a:lnTo>
                  <a:lnTo>
                    <a:pt x="97" y="50"/>
                  </a:lnTo>
                  <a:lnTo>
                    <a:pt x="104" y="0"/>
                  </a:lnTo>
                  <a:lnTo>
                    <a:pt x="110" y="15"/>
                  </a:lnTo>
                  <a:lnTo>
                    <a:pt x="116" y="32"/>
                  </a:lnTo>
                  <a:lnTo>
                    <a:pt x="120" y="46"/>
                  </a:lnTo>
                  <a:lnTo>
                    <a:pt x="126" y="63"/>
                  </a:lnTo>
                  <a:close/>
                </a:path>
              </a:pathLst>
            </a:custGeom>
            <a:solidFill>
              <a:srgbClr val="ffd6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5379840" y="1367640"/>
              <a:ext cx="61200" cy="188280"/>
            </a:xfrm>
            <a:custGeom>
              <a:avLst/>
              <a:gdLst/>
              <a:ahLst/>
              <a:rect l="l" t="t" r="r" b="b"/>
              <a:pathLst>
                <a:path w="125" h="411">
                  <a:moveTo>
                    <a:pt x="121" y="58"/>
                  </a:moveTo>
                  <a:lnTo>
                    <a:pt x="125" y="96"/>
                  </a:lnTo>
                  <a:lnTo>
                    <a:pt x="125" y="136"/>
                  </a:lnTo>
                  <a:lnTo>
                    <a:pt x="122" y="177"/>
                  </a:lnTo>
                  <a:lnTo>
                    <a:pt x="114" y="221"/>
                  </a:lnTo>
                  <a:lnTo>
                    <a:pt x="99" y="266"/>
                  </a:lnTo>
                  <a:lnTo>
                    <a:pt x="76" y="313"/>
                  </a:lnTo>
                  <a:lnTo>
                    <a:pt x="44" y="361"/>
                  </a:lnTo>
                  <a:lnTo>
                    <a:pt x="0" y="411"/>
                  </a:lnTo>
                  <a:lnTo>
                    <a:pt x="16" y="365"/>
                  </a:lnTo>
                  <a:lnTo>
                    <a:pt x="32" y="315"/>
                  </a:lnTo>
                  <a:lnTo>
                    <a:pt x="49" y="262"/>
                  </a:lnTo>
                  <a:lnTo>
                    <a:pt x="62" y="208"/>
                  </a:lnTo>
                  <a:lnTo>
                    <a:pt x="74" y="154"/>
                  </a:lnTo>
                  <a:lnTo>
                    <a:pt x="85" y="101"/>
                  </a:lnTo>
                  <a:lnTo>
                    <a:pt x="93" y="48"/>
                  </a:lnTo>
                  <a:lnTo>
                    <a:pt x="100" y="0"/>
                  </a:lnTo>
                  <a:lnTo>
                    <a:pt x="106" y="13"/>
                  </a:lnTo>
                  <a:lnTo>
                    <a:pt x="111" y="28"/>
                  </a:lnTo>
                  <a:lnTo>
                    <a:pt x="116" y="43"/>
                  </a:lnTo>
                  <a:lnTo>
                    <a:pt x="121" y="58"/>
                  </a:lnTo>
                  <a:close/>
                </a:path>
              </a:pathLst>
            </a:custGeom>
            <a:solidFill>
              <a:srgbClr val="ffd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5381640" y="1372320"/>
              <a:ext cx="59400" cy="179280"/>
            </a:xfrm>
            <a:custGeom>
              <a:avLst/>
              <a:gdLst/>
              <a:ahLst/>
              <a:rect l="l" t="t" r="r" b="b"/>
              <a:pathLst>
                <a:path w="118" h="393">
                  <a:moveTo>
                    <a:pt x="116" y="55"/>
                  </a:moveTo>
                  <a:lnTo>
                    <a:pt x="118" y="91"/>
                  </a:lnTo>
                  <a:lnTo>
                    <a:pt x="118" y="130"/>
                  </a:lnTo>
                  <a:lnTo>
                    <a:pt x="115" y="170"/>
                  </a:lnTo>
                  <a:lnTo>
                    <a:pt x="107" y="212"/>
                  </a:lnTo>
                  <a:lnTo>
                    <a:pt x="93" y="256"/>
                  </a:lnTo>
                  <a:lnTo>
                    <a:pt x="71" y="300"/>
                  </a:lnTo>
                  <a:lnTo>
                    <a:pt x="40" y="345"/>
                  </a:lnTo>
                  <a:lnTo>
                    <a:pt x="0" y="393"/>
                  </a:lnTo>
                  <a:lnTo>
                    <a:pt x="16" y="349"/>
                  </a:lnTo>
                  <a:lnTo>
                    <a:pt x="31" y="302"/>
                  </a:lnTo>
                  <a:lnTo>
                    <a:pt x="46" y="252"/>
                  </a:lnTo>
                  <a:lnTo>
                    <a:pt x="58" y="200"/>
                  </a:lnTo>
                  <a:lnTo>
                    <a:pt x="71" y="150"/>
                  </a:lnTo>
                  <a:lnTo>
                    <a:pt x="82" y="98"/>
                  </a:lnTo>
                  <a:lnTo>
                    <a:pt x="90" y="48"/>
                  </a:lnTo>
                  <a:lnTo>
                    <a:pt x="96" y="0"/>
                  </a:lnTo>
                  <a:lnTo>
                    <a:pt x="101" y="14"/>
                  </a:lnTo>
                  <a:lnTo>
                    <a:pt x="106" y="27"/>
                  </a:lnTo>
                  <a:lnTo>
                    <a:pt x="111" y="41"/>
                  </a:lnTo>
                  <a:lnTo>
                    <a:pt x="116" y="55"/>
                  </a:lnTo>
                  <a:close/>
                </a:path>
              </a:pathLst>
            </a:custGeom>
            <a:solidFill>
              <a:srgbClr val="ffdd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5384520" y="1376640"/>
              <a:ext cx="55440" cy="172080"/>
            </a:xfrm>
            <a:custGeom>
              <a:avLst/>
              <a:gdLst/>
              <a:ahLst/>
              <a:rect l="l" t="t" r="r" b="b"/>
              <a:pathLst>
                <a:path w="112" h="377">
                  <a:moveTo>
                    <a:pt x="111" y="52"/>
                  </a:moveTo>
                  <a:lnTo>
                    <a:pt x="112" y="86"/>
                  </a:lnTo>
                  <a:lnTo>
                    <a:pt x="112" y="123"/>
                  </a:lnTo>
                  <a:lnTo>
                    <a:pt x="109" y="162"/>
                  </a:lnTo>
                  <a:lnTo>
                    <a:pt x="101" y="204"/>
                  </a:lnTo>
                  <a:lnTo>
                    <a:pt x="88" y="245"/>
                  </a:lnTo>
                  <a:lnTo>
                    <a:pt x="67" y="288"/>
                  </a:lnTo>
                  <a:lnTo>
                    <a:pt x="38" y="333"/>
                  </a:lnTo>
                  <a:lnTo>
                    <a:pt x="0" y="377"/>
                  </a:lnTo>
                  <a:lnTo>
                    <a:pt x="15" y="334"/>
                  </a:lnTo>
                  <a:lnTo>
                    <a:pt x="30" y="288"/>
                  </a:lnTo>
                  <a:lnTo>
                    <a:pt x="44" y="242"/>
                  </a:lnTo>
                  <a:lnTo>
                    <a:pt x="57" y="194"/>
                  </a:lnTo>
                  <a:lnTo>
                    <a:pt x="68" y="144"/>
                  </a:lnTo>
                  <a:lnTo>
                    <a:pt x="78" y="96"/>
                  </a:lnTo>
                  <a:lnTo>
                    <a:pt x="87" y="47"/>
                  </a:lnTo>
                  <a:lnTo>
                    <a:pt x="92" y="0"/>
                  </a:lnTo>
                  <a:lnTo>
                    <a:pt x="97" y="13"/>
                  </a:lnTo>
                  <a:lnTo>
                    <a:pt x="102" y="25"/>
                  </a:lnTo>
                  <a:lnTo>
                    <a:pt x="106" y="39"/>
                  </a:lnTo>
                  <a:lnTo>
                    <a:pt x="111" y="52"/>
                  </a:lnTo>
                  <a:close/>
                </a:path>
              </a:pathLst>
            </a:custGeom>
            <a:solidFill>
              <a:srgbClr val="ffe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5386320" y="1381320"/>
              <a:ext cx="52560" cy="163800"/>
            </a:xfrm>
            <a:custGeom>
              <a:avLst/>
              <a:gdLst/>
              <a:ahLst/>
              <a:rect l="l" t="t" r="r" b="b"/>
              <a:pathLst>
                <a:path w="106" h="359">
                  <a:moveTo>
                    <a:pt x="106" y="48"/>
                  </a:moveTo>
                  <a:lnTo>
                    <a:pt x="106" y="81"/>
                  </a:lnTo>
                  <a:lnTo>
                    <a:pt x="106" y="117"/>
                  </a:lnTo>
                  <a:lnTo>
                    <a:pt x="101" y="155"/>
                  </a:lnTo>
                  <a:lnTo>
                    <a:pt x="94" y="194"/>
                  </a:lnTo>
                  <a:lnTo>
                    <a:pt x="82" y="234"/>
                  </a:lnTo>
                  <a:lnTo>
                    <a:pt x="62" y="275"/>
                  </a:lnTo>
                  <a:lnTo>
                    <a:pt x="36" y="317"/>
                  </a:lnTo>
                  <a:lnTo>
                    <a:pt x="0" y="359"/>
                  </a:lnTo>
                  <a:lnTo>
                    <a:pt x="15" y="317"/>
                  </a:lnTo>
                  <a:lnTo>
                    <a:pt x="29" y="275"/>
                  </a:lnTo>
                  <a:lnTo>
                    <a:pt x="41" y="230"/>
                  </a:lnTo>
                  <a:lnTo>
                    <a:pt x="54" y="185"/>
                  </a:lnTo>
                  <a:lnTo>
                    <a:pt x="64" y="139"/>
                  </a:lnTo>
                  <a:lnTo>
                    <a:pt x="74" y="93"/>
                  </a:lnTo>
                  <a:lnTo>
                    <a:pt x="82" y="46"/>
                  </a:lnTo>
                  <a:lnTo>
                    <a:pt x="87" y="0"/>
                  </a:lnTo>
                  <a:lnTo>
                    <a:pt x="92" y="12"/>
                  </a:lnTo>
                  <a:lnTo>
                    <a:pt x="97" y="23"/>
                  </a:lnTo>
                  <a:lnTo>
                    <a:pt x="101" y="36"/>
                  </a:lnTo>
                  <a:lnTo>
                    <a:pt x="106" y="48"/>
                  </a:lnTo>
                  <a:close/>
                </a:path>
              </a:pathLst>
            </a:custGeom>
            <a:solidFill>
              <a:srgbClr val="ffe8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5389560" y="1386000"/>
              <a:ext cx="48240" cy="155520"/>
            </a:xfrm>
            <a:custGeom>
              <a:avLst/>
              <a:gdLst/>
              <a:ahLst/>
              <a:rect l="l" t="t" r="r" b="b"/>
              <a:pathLst>
                <a:path w="99" h="340">
                  <a:moveTo>
                    <a:pt x="99" y="42"/>
                  </a:moveTo>
                  <a:lnTo>
                    <a:pt x="99" y="75"/>
                  </a:lnTo>
                  <a:lnTo>
                    <a:pt x="98" y="109"/>
                  </a:lnTo>
                  <a:lnTo>
                    <a:pt x="94" y="146"/>
                  </a:lnTo>
                  <a:lnTo>
                    <a:pt x="86" y="183"/>
                  </a:lnTo>
                  <a:lnTo>
                    <a:pt x="75" y="222"/>
                  </a:lnTo>
                  <a:lnTo>
                    <a:pt x="56" y="261"/>
                  </a:lnTo>
                  <a:lnTo>
                    <a:pt x="32" y="300"/>
                  </a:lnTo>
                  <a:lnTo>
                    <a:pt x="0" y="340"/>
                  </a:lnTo>
                  <a:lnTo>
                    <a:pt x="14" y="299"/>
                  </a:lnTo>
                  <a:lnTo>
                    <a:pt x="26" y="259"/>
                  </a:lnTo>
                  <a:lnTo>
                    <a:pt x="38" y="217"/>
                  </a:lnTo>
                  <a:lnTo>
                    <a:pt x="49" y="175"/>
                  </a:lnTo>
                  <a:lnTo>
                    <a:pt x="60" y="132"/>
                  </a:lnTo>
                  <a:lnTo>
                    <a:pt x="69" y="88"/>
                  </a:lnTo>
                  <a:lnTo>
                    <a:pt x="76" y="45"/>
                  </a:lnTo>
                  <a:lnTo>
                    <a:pt x="81" y="0"/>
                  </a:lnTo>
                  <a:lnTo>
                    <a:pt x="86" y="10"/>
                  </a:lnTo>
                  <a:lnTo>
                    <a:pt x="91" y="21"/>
                  </a:lnTo>
                  <a:lnTo>
                    <a:pt x="94" y="31"/>
                  </a:lnTo>
                  <a:lnTo>
                    <a:pt x="99" y="42"/>
                  </a:lnTo>
                  <a:close/>
                </a:path>
              </a:pathLst>
            </a:custGeom>
            <a:solidFill>
              <a:srgbClr val="ffed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5391720" y="1390320"/>
              <a:ext cx="46440" cy="147240"/>
            </a:xfrm>
            <a:custGeom>
              <a:avLst/>
              <a:gdLst/>
              <a:ahLst/>
              <a:rect l="l" t="t" r="r" b="b"/>
              <a:pathLst>
                <a:path w="94" h="322">
                  <a:moveTo>
                    <a:pt x="94" y="39"/>
                  </a:moveTo>
                  <a:lnTo>
                    <a:pt x="92" y="70"/>
                  </a:lnTo>
                  <a:lnTo>
                    <a:pt x="91" y="103"/>
                  </a:lnTo>
                  <a:lnTo>
                    <a:pt x="87" y="138"/>
                  </a:lnTo>
                  <a:lnTo>
                    <a:pt x="80" y="174"/>
                  </a:lnTo>
                  <a:lnTo>
                    <a:pt x="68" y="211"/>
                  </a:lnTo>
                  <a:lnTo>
                    <a:pt x="52" y="249"/>
                  </a:lnTo>
                  <a:lnTo>
                    <a:pt x="30" y="286"/>
                  </a:lnTo>
                  <a:lnTo>
                    <a:pt x="0" y="322"/>
                  </a:lnTo>
                  <a:lnTo>
                    <a:pt x="13" y="284"/>
                  </a:lnTo>
                  <a:lnTo>
                    <a:pt x="25" y="245"/>
                  </a:lnTo>
                  <a:lnTo>
                    <a:pt x="37" y="207"/>
                  </a:lnTo>
                  <a:lnTo>
                    <a:pt x="48" y="167"/>
                  </a:lnTo>
                  <a:lnTo>
                    <a:pt x="57" y="127"/>
                  </a:lnTo>
                  <a:lnTo>
                    <a:pt x="66" y="85"/>
                  </a:lnTo>
                  <a:lnTo>
                    <a:pt x="73" y="44"/>
                  </a:lnTo>
                  <a:lnTo>
                    <a:pt x="77" y="0"/>
                  </a:lnTo>
                  <a:lnTo>
                    <a:pt x="82" y="9"/>
                  </a:lnTo>
                  <a:lnTo>
                    <a:pt x="86" y="20"/>
                  </a:lnTo>
                  <a:lnTo>
                    <a:pt x="90" y="29"/>
                  </a:lnTo>
                  <a:lnTo>
                    <a:pt x="94" y="39"/>
                  </a:lnTo>
                  <a:close/>
                </a:path>
              </a:pathLst>
            </a:custGeom>
            <a:solidFill>
              <a:srgbClr val="fff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5393520" y="1395000"/>
              <a:ext cx="44640" cy="138960"/>
            </a:xfrm>
            <a:custGeom>
              <a:avLst/>
              <a:gdLst/>
              <a:ahLst/>
              <a:rect l="l" t="t" r="r" b="b"/>
              <a:pathLst>
                <a:path w="89" h="304">
                  <a:moveTo>
                    <a:pt x="89" y="35"/>
                  </a:moveTo>
                  <a:lnTo>
                    <a:pt x="87" y="65"/>
                  </a:lnTo>
                  <a:lnTo>
                    <a:pt x="85" y="96"/>
                  </a:lnTo>
                  <a:lnTo>
                    <a:pt x="81" y="129"/>
                  </a:lnTo>
                  <a:lnTo>
                    <a:pt x="74" y="164"/>
                  </a:lnTo>
                  <a:lnTo>
                    <a:pt x="62" y="200"/>
                  </a:lnTo>
                  <a:lnTo>
                    <a:pt x="47" y="235"/>
                  </a:lnTo>
                  <a:lnTo>
                    <a:pt x="26" y="271"/>
                  </a:lnTo>
                  <a:lnTo>
                    <a:pt x="0" y="304"/>
                  </a:lnTo>
                  <a:lnTo>
                    <a:pt x="11" y="268"/>
                  </a:lnTo>
                  <a:lnTo>
                    <a:pt x="23" y="232"/>
                  </a:lnTo>
                  <a:lnTo>
                    <a:pt x="34" y="195"/>
                  </a:lnTo>
                  <a:lnTo>
                    <a:pt x="45" y="158"/>
                  </a:lnTo>
                  <a:lnTo>
                    <a:pt x="54" y="121"/>
                  </a:lnTo>
                  <a:lnTo>
                    <a:pt x="62" y="82"/>
                  </a:lnTo>
                  <a:lnTo>
                    <a:pt x="68" y="43"/>
                  </a:lnTo>
                  <a:lnTo>
                    <a:pt x="72" y="0"/>
                  </a:lnTo>
                  <a:lnTo>
                    <a:pt x="77" y="8"/>
                  </a:lnTo>
                  <a:lnTo>
                    <a:pt x="81" y="18"/>
                  </a:lnTo>
                  <a:lnTo>
                    <a:pt x="84" y="26"/>
                  </a:lnTo>
                  <a:lnTo>
                    <a:pt x="89" y="35"/>
                  </a:lnTo>
                  <a:close/>
                </a:path>
              </a:pathLst>
            </a:custGeom>
            <a:solidFill>
              <a:srgbClr val="fff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5396760" y="1398600"/>
              <a:ext cx="40320" cy="131760"/>
            </a:xfrm>
            <a:custGeom>
              <a:avLst/>
              <a:gdLst/>
              <a:ahLst/>
              <a:rect l="l" t="t" r="r" b="b"/>
              <a:pathLst>
                <a:path w="82" h="288">
                  <a:moveTo>
                    <a:pt x="82" y="33"/>
                  </a:moveTo>
                  <a:lnTo>
                    <a:pt x="80" y="60"/>
                  </a:lnTo>
                  <a:lnTo>
                    <a:pt x="78" y="91"/>
                  </a:lnTo>
                  <a:lnTo>
                    <a:pt x="73" y="124"/>
                  </a:lnTo>
                  <a:lnTo>
                    <a:pt x="66" y="157"/>
                  </a:lnTo>
                  <a:lnTo>
                    <a:pt x="56" y="190"/>
                  </a:lnTo>
                  <a:lnTo>
                    <a:pt x="42" y="224"/>
                  </a:lnTo>
                  <a:lnTo>
                    <a:pt x="24" y="257"/>
                  </a:lnTo>
                  <a:lnTo>
                    <a:pt x="0" y="288"/>
                  </a:lnTo>
                  <a:lnTo>
                    <a:pt x="11" y="253"/>
                  </a:lnTo>
                  <a:lnTo>
                    <a:pt x="21" y="219"/>
                  </a:lnTo>
                  <a:lnTo>
                    <a:pt x="32" y="185"/>
                  </a:lnTo>
                  <a:lnTo>
                    <a:pt x="42" y="151"/>
                  </a:lnTo>
                  <a:lnTo>
                    <a:pt x="50" y="117"/>
                  </a:lnTo>
                  <a:lnTo>
                    <a:pt x="57" y="80"/>
                  </a:lnTo>
                  <a:lnTo>
                    <a:pt x="64" y="42"/>
                  </a:lnTo>
                  <a:lnTo>
                    <a:pt x="67" y="0"/>
                  </a:lnTo>
                  <a:lnTo>
                    <a:pt x="72" y="8"/>
                  </a:lnTo>
                  <a:lnTo>
                    <a:pt x="76" y="17"/>
                  </a:lnTo>
                  <a:lnTo>
                    <a:pt x="79" y="25"/>
                  </a:lnTo>
                  <a:lnTo>
                    <a:pt x="82" y="33"/>
                  </a:lnTo>
                  <a:close/>
                </a:path>
              </a:pathLst>
            </a:custGeom>
            <a:solidFill>
              <a:srgbClr val="fff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5398560" y="1403280"/>
              <a:ext cx="38520" cy="12348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77" y="27"/>
                  </a:moveTo>
                  <a:lnTo>
                    <a:pt x="75" y="54"/>
                  </a:lnTo>
                  <a:lnTo>
                    <a:pt x="72" y="84"/>
                  </a:lnTo>
                  <a:lnTo>
                    <a:pt x="67" y="114"/>
                  </a:lnTo>
                  <a:lnTo>
                    <a:pt x="60" y="146"/>
                  </a:lnTo>
                  <a:lnTo>
                    <a:pt x="51" y="178"/>
                  </a:lnTo>
                  <a:lnTo>
                    <a:pt x="38" y="209"/>
                  </a:lnTo>
                  <a:lnTo>
                    <a:pt x="22" y="241"/>
                  </a:lnTo>
                  <a:lnTo>
                    <a:pt x="0" y="269"/>
                  </a:lnTo>
                  <a:lnTo>
                    <a:pt x="11" y="236"/>
                  </a:lnTo>
                  <a:lnTo>
                    <a:pt x="21" y="204"/>
                  </a:lnTo>
                  <a:lnTo>
                    <a:pt x="30" y="173"/>
                  </a:lnTo>
                  <a:lnTo>
                    <a:pt x="39" y="141"/>
                  </a:lnTo>
                  <a:lnTo>
                    <a:pt x="47" y="110"/>
                  </a:lnTo>
                  <a:lnTo>
                    <a:pt x="54" y="77"/>
                  </a:lnTo>
                  <a:lnTo>
                    <a:pt x="60" y="40"/>
                  </a:lnTo>
                  <a:lnTo>
                    <a:pt x="63" y="0"/>
                  </a:lnTo>
                  <a:lnTo>
                    <a:pt x="77" y="2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5218920" y="1434600"/>
              <a:ext cx="42480" cy="322200"/>
            </a:xfrm>
            <a:custGeom>
              <a:avLst/>
              <a:gdLst/>
              <a:ahLst/>
              <a:rect l="l" t="t" r="r" b="b"/>
              <a:pathLst>
                <a:path w="88" h="704">
                  <a:moveTo>
                    <a:pt x="64" y="143"/>
                  </a:moveTo>
                  <a:lnTo>
                    <a:pt x="56" y="10"/>
                  </a:lnTo>
                  <a:lnTo>
                    <a:pt x="88" y="0"/>
                  </a:lnTo>
                  <a:lnTo>
                    <a:pt x="88" y="57"/>
                  </a:lnTo>
                  <a:lnTo>
                    <a:pt x="71" y="704"/>
                  </a:lnTo>
                  <a:lnTo>
                    <a:pt x="0" y="704"/>
                  </a:lnTo>
                  <a:lnTo>
                    <a:pt x="3" y="700"/>
                  </a:lnTo>
                  <a:lnTo>
                    <a:pt x="8" y="691"/>
                  </a:lnTo>
                  <a:lnTo>
                    <a:pt x="17" y="677"/>
                  </a:lnTo>
                  <a:lnTo>
                    <a:pt x="27" y="659"/>
                  </a:lnTo>
                  <a:lnTo>
                    <a:pt x="36" y="640"/>
                  </a:lnTo>
                  <a:lnTo>
                    <a:pt x="44" y="620"/>
                  </a:lnTo>
                  <a:lnTo>
                    <a:pt x="50" y="601"/>
                  </a:lnTo>
                  <a:lnTo>
                    <a:pt x="52" y="584"/>
                  </a:lnTo>
                  <a:lnTo>
                    <a:pt x="51" y="455"/>
                  </a:lnTo>
                  <a:lnTo>
                    <a:pt x="52" y="313"/>
                  </a:lnTo>
                  <a:lnTo>
                    <a:pt x="56" y="197"/>
                  </a:lnTo>
                  <a:lnTo>
                    <a:pt x="64" y="143"/>
                  </a:lnTo>
                  <a:close/>
                </a:path>
              </a:pathLst>
            </a:custGeom>
            <a:solidFill>
              <a:srgbClr val="ffe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5263920" y="1434600"/>
              <a:ext cx="31680" cy="321120"/>
            </a:xfrm>
            <a:custGeom>
              <a:avLst/>
              <a:gdLst/>
              <a:ahLst/>
              <a:rect l="l" t="t" r="r" b="b"/>
              <a:pathLst>
                <a:path w="65" h="701">
                  <a:moveTo>
                    <a:pt x="8" y="143"/>
                  </a:moveTo>
                  <a:lnTo>
                    <a:pt x="4" y="10"/>
                  </a:lnTo>
                  <a:lnTo>
                    <a:pt x="23" y="0"/>
                  </a:lnTo>
                  <a:lnTo>
                    <a:pt x="23" y="56"/>
                  </a:lnTo>
                  <a:lnTo>
                    <a:pt x="27" y="626"/>
                  </a:lnTo>
                  <a:lnTo>
                    <a:pt x="65" y="701"/>
                  </a:lnTo>
                  <a:lnTo>
                    <a:pt x="2" y="701"/>
                  </a:lnTo>
                  <a:lnTo>
                    <a:pt x="2" y="616"/>
                  </a:lnTo>
                  <a:lnTo>
                    <a:pt x="0" y="428"/>
                  </a:lnTo>
                  <a:lnTo>
                    <a:pt x="3" y="237"/>
                  </a:lnTo>
                  <a:lnTo>
                    <a:pt x="8" y="143"/>
                  </a:lnTo>
                  <a:close/>
                </a:path>
              </a:pathLst>
            </a:custGeom>
            <a:solidFill>
              <a:srgbClr val="ffe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5157720" y="1761120"/>
              <a:ext cx="182160" cy="119880"/>
            </a:xfrm>
            <a:custGeom>
              <a:avLst/>
              <a:gdLst/>
              <a:ahLst/>
              <a:rect l="l" t="t" r="r" b="b"/>
              <a:pathLst>
                <a:path w="368" h="262">
                  <a:moveTo>
                    <a:pt x="0" y="0"/>
                  </a:moveTo>
                  <a:lnTo>
                    <a:pt x="368" y="1"/>
                  </a:lnTo>
                  <a:lnTo>
                    <a:pt x="356" y="19"/>
                  </a:lnTo>
                  <a:lnTo>
                    <a:pt x="353" y="57"/>
                  </a:lnTo>
                  <a:lnTo>
                    <a:pt x="334" y="67"/>
                  </a:lnTo>
                  <a:lnTo>
                    <a:pt x="334" y="82"/>
                  </a:lnTo>
                  <a:lnTo>
                    <a:pt x="354" y="82"/>
                  </a:lnTo>
                  <a:lnTo>
                    <a:pt x="353" y="108"/>
                  </a:lnTo>
                  <a:lnTo>
                    <a:pt x="338" y="114"/>
                  </a:lnTo>
                  <a:lnTo>
                    <a:pt x="350" y="129"/>
                  </a:lnTo>
                  <a:lnTo>
                    <a:pt x="350" y="148"/>
                  </a:lnTo>
                  <a:lnTo>
                    <a:pt x="340" y="159"/>
                  </a:lnTo>
                  <a:lnTo>
                    <a:pt x="355" y="174"/>
                  </a:lnTo>
                  <a:lnTo>
                    <a:pt x="351" y="191"/>
                  </a:lnTo>
                  <a:lnTo>
                    <a:pt x="343" y="205"/>
                  </a:lnTo>
                  <a:lnTo>
                    <a:pt x="335" y="228"/>
                  </a:lnTo>
                  <a:lnTo>
                    <a:pt x="320" y="244"/>
                  </a:lnTo>
                  <a:lnTo>
                    <a:pt x="311" y="249"/>
                  </a:lnTo>
                  <a:lnTo>
                    <a:pt x="298" y="252"/>
                  </a:lnTo>
                  <a:lnTo>
                    <a:pt x="283" y="256"/>
                  </a:lnTo>
                  <a:lnTo>
                    <a:pt x="266" y="258"/>
                  </a:lnTo>
                  <a:lnTo>
                    <a:pt x="249" y="260"/>
                  </a:lnTo>
                  <a:lnTo>
                    <a:pt x="229" y="261"/>
                  </a:lnTo>
                  <a:lnTo>
                    <a:pt x="209" y="262"/>
                  </a:lnTo>
                  <a:lnTo>
                    <a:pt x="188" y="262"/>
                  </a:lnTo>
                  <a:lnTo>
                    <a:pt x="167" y="262"/>
                  </a:lnTo>
                  <a:lnTo>
                    <a:pt x="146" y="261"/>
                  </a:lnTo>
                  <a:lnTo>
                    <a:pt x="127" y="260"/>
                  </a:lnTo>
                  <a:lnTo>
                    <a:pt x="108" y="258"/>
                  </a:lnTo>
                  <a:lnTo>
                    <a:pt x="91" y="256"/>
                  </a:lnTo>
                  <a:lnTo>
                    <a:pt x="76" y="252"/>
                  </a:lnTo>
                  <a:lnTo>
                    <a:pt x="62" y="249"/>
                  </a:lnTo>
                  <a:lnTo>
                    <a:pt x="52" y="244"/>
                  </a:lnTo>
                  <a:lnTo>
                    <a:pt x="45" y="232"/>
                  </a:lnTo>
                  <a:lnTo>
                    <a:pt x="41" y="221"/>
                  </a:lnTo>
                  <a:lnTo>
                    <a:pt x="37" y="209"/>
                  </a:lnTo>
                  <a:lnTo>
                    <a:pt x="36" y="197"/>
                  </a:lnTo>
                  <a:lnTo>
                    <a:pt x="23" y="189"/>
                  </a:lnTo>
                  <a:lnTo>
                    <a:pt x="20" y="171"/>
                  </a:lnTo>
                  <a:lnTo>
                    <a:pt x="39" y="160"/>
                  </a:lnTo>
                  <a:lnTo>
                    <a:pt x="14" y="160"/>
                  </a:lnTo>
                  <a:lnTo>
                    <a:pt x="15" y="133"/>
                  </a:lnTo>
                  <a:lnTo>
                    <a:pt x="35" y="125"/>
                  </a:lnTo>
                  <a:lnTo>
                    <a:pt x="16" y="109"/>
                  </a:lnTo>
                  <a:lnTo>
                    <a:pt x="12" y="94"/>
                  </a:lnTo>
                  <a:lnTo>
                    <a:pt x="34" y="83"/>
                  </a:lnTo>
                  <a:lnTo>
                    <a:pt x="32" y="69"/>
                  </a:lnTo>
                  <a:lnTo>
                    <a:pt x="13" y="60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5163480" y="1762200"/>
              <a:ext cx="169200" cy="119520"/>
            </a:xfrm>
            <a:custGeom>
              <a:avLst/>
              <a:gdLst/>
              <a:ahLst/>
              <a:rect l="l" t="t" r="r" b="b"/>
              <a:pathLst>
                <a:path w="343" h="262">
                  <a:moveTo>
                    <a:pt x="0" y="0"/>
                  </a:moveTo>
                  <a:lnTo>
                    <a:pt x="22" y="0"/>
                  </a:lnTo>
                  <a:lnTo>
                    <a:pt x="42" y="0"/>
                  </a:lnTo>
                  <a:lnTo>
                    <a:pt x="64" y="0"/>
                  </a:lnTo>
                  <a:lnTo>
                    <a:pt x="85" y="0"/>
                  </a:lnTo>
                  <a:lnTo>
                    <a:pt x="107" y="0"/>
                  </a:lnTo>
                  <a:lnTo>
                    <a:pt x="129" y="0"/>
                  </a:lnTo>
                  <a:lnTo>
                    <a:pt x="149" y="0"/>
                  </a:lnTo>
                  <a:lnTo>
                    <a:pt x="171" y="0"/>
                  </a:lnTo>
                  <a:lnTo>
                    <a:pt x="193" y="0"/>
                  </a:lnTo>
                  <a:lnTo>
                    <a:pt x="214" y="0"/>
                  </a:lnTo>
                  <a:lnTo>
                    <a:pt x="236" y="0"/>
                  </a:lnTo>
                  <a:lnTo>
                    <a:pt x="258" y="0"/>
                  </a:lnTo>
                  <a:lnTo>
                    <a:pt x="278" y="0"/>
                  </a:lnTo>
                  <a:lnTo>
                    <a:pt x="300" y="0"/>
                  </a:lnTo>
                  <a:lnTo>
                    <a:pt x="321" y="0"/>
                  </a:lnTo>
                  <a:lnTo>
                    <a:pt x="343" y="0"/>
                  </a:lnTo>
                  <a:lnTo>
                    <a:pt x="341" y="5"/>
                  </a:lnTo>
                  <a:lnTo>
                    <a:pt x="338" y="9"/>
                  </a:lnTo>
                  <a:lnTo>
                    <a:pt x="335" y="14"/>
                  </a:lnTo>
                  <a:lnTo>
                    <a:pt x="333" y="19"/>
                  </a:lnTo>
                  <a:lnTo>
                    <a:pt x="331" y="28"/>
                  </a:lnTo>
                  <a:lnTo>
                    <a:pt x="331" y="37"/>
                  </a:lnTo>
                  <a:lnTo>
                    <a:pt x="330" y="47"/>
                  </a:lnTo>
                  <a:lnTo>
                    <a:pt x="329" y="57"/>
                  </a:lnTo>
                  <a:lnTo>
                    <a:pt x="324" y="59"/>
                  </a:lnTo>
                  <a:lnTo>
                    <a:pt x="321" y="61"/>
                  </a:lnTo>
                  <a:lnTo>
                    <a:pt x="316" y="63"/>
                  </a:lnTo>
                  <a:lnTo>
                    <a:pt x="313" y="66"/>
                  </a:lnTo>
                  <a:lnTo>
                    <a:pt x="313" y="69"/>
                  </a:lnTo>
                  <a:lnTo>
                    <a:pt x="313" y="73"/>
                  </a:lnTo>
                  <a:lnTo>
                    <a:pt x="313" y="77"/>
                  </a:lnTo>
                  <a:lnTo>
                    <a:pt x="313" y="81"/>
                  </a:lnTo>
                  <a:lnTo>
                    <a:pt x="318" y="81"/>
                  </a:lnTo>
                  <a:lnTo>
                    <a:pt x="322" y="81"/>
                  </a:lnTo>
                  <a:lnTo>
                    <a:pt x="327" y="81"/>
                  </a:lnTo>
                  <a:lnTo>
                    <a:pt x="331" y="81"/>
                  </a:lnTo>
                  <a:lnTo>
                    <a:pt x="331" y="88"/>
                  </a:lnTo>
                  <a:lnTo>
                    <a:pt x="331" y="95"/>
                  </a:lnTo>
                  <a:lnTo>
                    <a:pt x="330" y="101"/>
                  </a:lnTo>
                  <a:lnTo>
                    <a:pt x="330" y="107"/>
                  </a:lnTo>
                  <a:lnTo>
                    <a:pt x="327" y="108"/>
                  </a:lnTo>
                  <a:lnTo>
                    <a:pt x="323" y="110"/>
                  </a:lnTo>
                  <a:lnTo>
                    <a:pt x="320" y="112"/>
                  </a:lnTo>
                  <a:lnTo>
                    <a:pt x="315" y="113"/>
                  </a:lnTo>
                  <a:lnTo>
                    <a:pt x="319" y="116"/>
                  </a:lnTo>
                  <a:lnTo>
                    <a:pt x="322" y="120"/>
                  </a:lnTo>
                  <a:lnTo>
                    <a:pt x="326" y="125"/>
                  </a:lnTo>
                  <a:lnTo>
                    <a:pt x="328" y="128"/>
                  </a:lnTo>
                  <a:lnTo>
                    <a:pt x="328" y="133"/>
                  </a:lnTo>
                  <a:lnTo>
                    <a:pt x="328" y="137"/>
                  </a:lnTo>
                  <a:lnTo>
                    <a:pt x="328" y="142"/>
                  </a:lnTo>
                  <a:lnTo>
                    <a:pt x="328" y="146"/>
                  </a:lnTo>
                  <a:lnTo>
                    <a:pt x="326" y="150"/>
                  </a:lnTo>
                  <a:lnTo>
                    <a:pt x="323" y="152"/>
                  </a:lnTo>
                  <a:lnTo>
                    <a:pt x="320" y="156"/>
                  </a:lnTo>
                  <a:lnTo>
                    <a:pt x="318" y="158"/>
                  </a:lnTo>
                  <a:lnTo>
                    <a:pt x="321" y="161"/>
                  </a:lnTo>
                  <a:lnTo>
                    <a:pt x="324" y="165"/>
                  </a:lnTo>
                  <a:lnTo>
                    <a:pt x="328" y="168"/>
                  </a:lnTo>
                  <a:lnTo>
                    <a:pt x="331" y="172"/>
                  </a:lnTo>
                  <a:lnTo>
                    <a:pt x="330" y="176"/>
                  </a:lnTo>
                  <a:lnTo>
                    <a:pt x="330" y="180"/>
                  </a:lnTo>
                  <a:lnTo>
                    <a:pt x="329" y="184"/>
                  </a:lnTo>
                  <a:lnTo>
                    <a:pt x="328" y="189"/>
                  </a:lnTo>
                  <a:lnTo>
                    <a:pt x="327" y="192"/>
                  </a:lnTo>
                  <a:lnTo>
                    <a:pt x="324" y="196"/>
                  </a:lnTo>
                  <a:lnTo>
                    <a:pt x="323" y="199"/>
                  </a:lnTo>
                  <a:lnTo>
                    <a:pt x="321" y="203"/>
                  </a:lnTo>
                  <a:lnTo>
                    <a:pt x="319" y="209"/>
                  </a:lnTo>
                  <a:lnTo>
                    <a:pt x="318" y="214"/>
                  </a:lnTo>
                  <a:lnTo>
                    <a:pt x="315" y="221"/>
                  </a:lnTo>
                  <a:lnTo>
                    <a:pt x="313" y="227"/>
                  </a:lnTo>
                  <a:lnTo>
                    <a:pt x="309" y="230"/>
                  </a:lnTo>
                  <a:lnTo>
                    <a:pt x="307" y="234"/>
                  </a:lnTo>
                  <a:lnTo>
                    <a:pt x="304" y="239"/>
                  </a:lnTo>
                  <a:lnTo>
                    <a:pt x="300" y="242"/>
                  </a:lnTo>
                  <a:lnTo>
                    <a:pt x="291" y="247"/>
                  </a:lnTo>
                  <a:lnTo>
                    <a:pt x="280" y="250"/>
                  </a:lnTo>
                  <a:lnTo>
                    <a:pt x="266" y="254"/>
                  </a:lnTo>
                  <a:lnTo>
                    <a:pt x="250" y="256"/>
                  </a:lnTo>
                  <a:lnTo>
                    <a:pt x="232" y="258"/>
                  </a:lnTo>
                  <a:lnTo>
                    <a:pt x="214" y="260"/>
                  </a:lnTo>
                  <a:lnTo>
                    <a:pt x="195" y="260"/>
                  </a:lnTo>
                  <a:lnTo>
                    <a:pt x="176" y="262"/>
                  </a:lnTo>
                  <a:lnTo>
                    <a:pt x="156" y="260"/>
                  </a:lnTo>
                  <a:lnTo>
                    <a:pt x="137" y="260"/>
                  </a:lnTo>
                  <a:lnTo>
                    <a:pt x="118" y="259"/>
                  </a:lnTo>
                  <a:lnTo>
                    <a:pt x="101" y="257"/>
                  </a:lnTo>
                  <a:lnTo>
                    <a:pt x="85" y="255"/>
                  </a:lnTo>
                  <a:lnTo>
                    <a:pt x="70" y="251"/>
                  </a:lnTo>
                  <a:lnTo>
                    <a:pt x="57" y="248"/>
                  </a:lnTo>
                  <a:lnTo>
                    <a:pt x="48" y="243"/>
                  </a:lnTo>
                  <a:lnTo>
                    <a:pt x="42" y="232"/>
                  </a:lnTo>
                  <a:lnTo>
                    <a:pt x="38" y="219"/>
                  </a:lnTo>
                  <a:lnTo>
                    <a:pt x="35" y="207"/>
                  </a:lnTo>
                  <a:lnTo>
                    <a:pt x="34" y="195"/>
                  </a:lnTo>
                  <a:lnTo>
                    <a:pt x="31" y="192"/>
                  </a:lnTo>
                  <a:lnTo>
                    <a:pt x="27" y="190"/>
                  </a:lnTo>
                  <a:lnTo>
                    <a:pt x="24" y="189"/>
                  </a:lnTo>
                  <a:lnTo>
                    <a:pt x="22" y="187"/>
                  </a:lnTo>
                  <a:lnTo>
                    <a:pt x="20" y="182"/>
                  </a:lnTo>
                  <a:lnTo>
                    <a:pt x="20" y="177"/>
                  </a:lnTo>
                  <a:lnTo>
                    <a:pt x="19" y="174"/>
                  </a:lnTo>
                  <a:lnTo>
                    <a:pt x="18" y="169"/>
                  </a:lnTo>
                  <a:lnTo>
                    <a:pt x="23" y="166"/>
                  </a:lnTo>
                  <a:lnTo>
                    <a:pt x="27" y="164"/>
                  </a:lnTo>
                  <a:lnTo>
                    <a:pt x="32" y="161"/>
                  </a:lnTo>
                  <a:lnTo>
                    <a:pt x="37" y="158"/>
                  </a:lnTo>
                  <a:lnTo>
                    <a:pt x="31" y="158"/>
                  </a:lnTo>
                  <a:lnTo>
                    <a:pt x="25" y="158"/>
                  </a:lnTo>
                  <a:lnTo>
                    <a:pt x="19" y="158"/>
                  </a:lnTo>
                  <a:lnTo>
                    <a:pt x="14" y="158"/>
                  </a:lnTo>
                  <a:lnTo>
                    <a:pt x="14" y="152"/>
                  </a:lnTo>
                  <a:lnTo>
                    <a:pt x="14" y="145"/>
                  </a:lnTo>
                  <a:lnTo>
                    <a:pt x="14" y="138"/>
                  </a:lnTo>
                  <a:lnTo>
                    <a:pt x="14" y="131"/>
                  </a:lnTo>
                  <a:lnTo>
                    <a:pt x="18" y="129"/>
                  </a:lnTo>
                  <a:lnTo>
                    <a:pt x="23" y="128"/>
                  </a:lnTo>
                  <a:lnTo>
                    <a:pt x="27" y="126"/>
                  </a:lnTo>
                  <a:lnTo>
                    <a:pt x="32" y="125"/>
                  </a:lnTo>
                  <a:lnTo>
                    <a:pt x="27" y="120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5" y="108"/>
                  </a:lnTo>
                  <a:lnTo>
                    <a:pt x="14" y="105"/>
                  </a:lnTo>
                  <a:lnTo>
                    <a:pt x="14" y="100"/>
                  </a:lnTo>
                  <a:lnTo>
                    <a:pt x="12" y="97"/>
                  </a:lnTo>
                  <a:lnTo>
                    <a:pt x="11" y="93"/>
                  </a:lnTo>
                  <a:lnTo>
                    <a:pt x="17" y="91"/>
                  </a:lnTo>
                  <a:lnTo>
                    <a:pt x="22" y="88"/>
                  </a:lnTo>
                  <a:lnTo>
                    <a:pt x="27" y="84"/>
                  </a:lnTo>
                  <a:lnTo>
                    <a:pt x="32" y="82"/>
                  </a:lnTo>
                  <a:lnTo>
                    <a:pt x="31" y="78"/>
                  </a:lnTo>
                  <a:lnTo>
                    <a:pt x="31" y="75"/>
                  </a:lnTo>
                  <a:lnTo>
                    <a:pt x="31" y="72"/>
                  </a:lnTo>
                  <a:lnTo>
                    <a:pt x="30" y="67"/>
                  </a:lnTo>
                  <a:lnTo>
                    <a:pt x="25" y="65"/>
                  </a:lnTo>
                  <a:lnTo>
                    <a:pt x="20" y="62"/>
                  </a:lnTo>
                  <a:lnTo>
                    <a:pt x="16" y="61"/>
                  </a:lnTo>
                  <a:lnTo>
                    <a:pt x="11" y="59"/>
                  </a:lnTo>
                  <a:lnTo>
                    <a:pt x="11" y="51"/>
                  </a:lnTo>
                  <a:lnTo>
                    <a:pt x="11" y="42"/>
                  </a:lnTo>
                  <a:lnTo>
                    <a:pt x="11" y="34"/>
                  </a:lnTo>
                  <a:lnTo>
                    <a:pt x="11" y="25"/>
                  </a:lnTo>
                  <a:lnTo>
                    <a:pt x="9" y="20"/>
                  </a:lnTo>
                  <a:lnTo>
                    <a:pt x="5" y="13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3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5169600" y="1763280"/>
              <a:ext cx="158400" cy="118800"/>
            </a:xfrm>
            <a:custGeom>
              <a:avLst/>
              <a:gdLst/>
              <a:ahLst/>
              <a:rect l="l" t="t" r="r" b="b"/>
              <a:pathLst>
                <a:path w="320" h="261">
                  <a:moveTo>
                    <a:pt x="0" y="0"/>
                  </a:moveTo>
                  <a:lnTo>
                    <a:pt x="20" y="0"/>
                  </a:lnTo>
                  <a:lnTo>
                    <a:pt x="41" y="0"/>
                  </a:lnTo>
                  <a:lnTo>
                    <a:pt x="60" y="0"/>
                  </a:lnTo>
                  <a:lnTo>
                    <a:pt x="81" y="0"/>
                  </a:lnTo>
                  <a:lnTo>
                    <a:pt x="100" y="0"/>
                  </a:lnTo>
                  <a:lnTo>
                    <a:pt x="121" y="0"/>
                  </a:lnTo>
                  <a:lnTo>
                    <a:pt x="141" y="0"/>
                  </a:lnTo>
                  <a:lnTo>
                    <a:pt x="160" y="0"/>
                  </a:lnTo>
                  <a:lnTo>
                    <a:pt x="181" y="0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41" y="0"/>
                  </a:lnTo>
                  <a:lnTo>
                    <a:pt x="260" y="0"/>
                  </a:lnTo>
                  <a:lnTo>
                    <a:pt x="280" y="0"/>
                  </a:lnTo>
                  <a:lnTo>
                    <a:pt x="301" y="0"/>
                  </a:lnTo>
                  <a:lnTo>
                    <a:pt x="320" y="0"/>
                  </a:lnTo>
                  <a:lnTo>
                    <a:pt x="318" y="5"/>
                  </a:lnTo>
                  <a:lnTo>
                    <a:pt x="316" y="9"/>
                  </a:lnTo>
                  <a:lnTo>
                    <a:pt x="313" y="14"/>
                  </a:lnTo>
                  <a:lnTo>
                    <a:pt x="311" y="19"/>
                  </a:lnTo>
                  <a:lnTo>
                    <a:pt x="310" y="28"/>
                  </a:lnTo>
                  <a:lnTo>
                    <a:pt x="310" y="37"/>
                  </a:lnTo>
                  <a:lnTo>
                    <a:pt x="309" y="47"/>
                  </a:lnTo>
                  <a:lnTo>
                    <a:pt x="308" y="57"/>
                  </a:lnTo>
                  <a:lnTo>
                    <a:pt x="303" y="59"/>
                  </a:lnTo>
                  <a:lnTo>
                    <a:pt x="300" y="61"/>
                  </a:lnTo>
                  <a:lnTo>
                    <a:pt x="296" y="64"/>
                  </a:lnTo>
                  <a:lnTo>
                    <a:pt x="292" y="66"/>
                  </a:lnTo>
                  <a:lnTo>
                    <a:pt x="292" y="69"/>
                  </a:lnTo>
                  <a:lnTo>
                    <a:pt x="292" y="73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6" y="81"/>
                  </a:lnTo>
                  <a:lnTo>
                    <a:pt x="301" y="81"/>
                  </a:lnTo>
                  <a:lnTo>
                    <a:pt x="304" y="81"/>
                  </a:lnTo>
                  <a:lnTo>
                    <a:pt x="309" y="81"/>
                  </a:lnTo>
                  <a:lnTo>
                    <a:pt x="309" y="88"/>
                  </a:lnTo>
                  <a:lnTo>
                    <a:pt x="309" y="94"/>
                  </a:lnTo>
                  <a:lnTo>
                    <a:pt x="309" y="100"/>
                  </a:lnTo>
                  <a:lnTo>
                    <a:pt x="308" y="107"/>
                  </a:lnTo>
                  <a:lnTo>
                    <a:pt x="304" y="109"/>
                  </a:lnTo>
                  <a:lnTo>
                    <a:pt x="302" y="110"/>
                  </a:lnTo>
                  <a:lnTo>
                    <a:pt x="298" y="111"/>
                  </a:lnTo>
                  <a:lnTo>
                    <a:pt x="295" y="112"/>
                  </a:lnTo>
                  <a:lnTo>
                    <a:pt x="297" y="117"/>
                  </a:lnTo>
                  <a:lnTo>
                    <a:pt x="301" y="120"/>
                  </a:lnTo>
                  <a:lnTo>
                    <a:pt x="304" y="124"/>
                  </a:lnTo>
                  <a:lnTo>
                    <a:pt x="307" y="128"/>
                  </a:lnTo>
                  <a:lnTo>
                    <a:pt x="307" y="133"/>
                  </a:lnTo>
                  <a:lnTo>
                    <a:pt x="307" y="137"/>
                  </a:lnTo>
                  <a:lnTo>
                    <a:pt x="307" y="142"/>
                  </a:lnTo>
                  <a:lnTo>
                    <a:pt x="307" y="147"/>
                  </a:lnTo>
                  <a:lnTo>
                    <a:pt x="304" y="149"/>
                  </a:lnTo>
                  <a:lnTo>
                    <a:pt x="302" y="151"/>
                  </a:lnTo>
                  <a:lnTo>
                    <a:pt x="298" y="155"/>
                  </a:lnTo>
                  <a:lnTo>
                    <a:pt x="296" y="157"/>
                  </a:lnTo>
                  <a:lnTo>
                    <a:pt x="300" y="160"/>
                  </a:lnTo>
                  <a:lnTo>
                    <a:pt x="303" y="164"/>
                  </a:lnTo>
                  <a:lnTo>
                    <a:pt x="307" y="168"/>
                  </a:lnTo>
                  <a:lnTo>
                    <a:pt x="310" y="172"/>
                  </a:lnTo>
                  <a:lnTo>
                    <a:pt x="309" y="176"/>
                  </a:lnTo>
                  <a:lnTo>
                    <a:pt x="309" y="180"/>
                  </a:lnTo>
                  <a:lnTo>
                    <a:pt x="308" y="183"/>
                  </a:lnTo>
                  <a:lnTo>
                    <a:pt x="307" y="188"/>
                  </a:lnTo>
                  <a:lnTo>
                    <a:pt x="305" y="191"/>
                  </a:lnTo>
                  <a:lnTo>
                    <a:pt x="303" y="195"/>
                  </a:lnTo>
                  <a:lnTo>
                    <a:pt x="302" y="200"/>
                  </a:lnTo>
                  <a:lnTo>
                    <a:pt x="300" y="203"/>
                  </a:lnTo>
                  <a:lnTo>
                    <a:pt x="298" y="209"/>
                  </a:lnTo>
                  <a:lnTo>
                    <a:pt x="296" y="214"/>
                  </a:lnTo>
                  <a:lnTo>
                    <a:pt x="295" y="220"/>
                  </a:lnTo>
                  <a:lnTo>
                    <a:pt x="293" y="226"/>
                  </a:lnTo>
                  <a:lnTo>
                    <a:pt x="290" y="231"/>
                  </a:lnTo>
                  <a:lnTo>
                    <a:pt x="287" y="234"/>
                  </a:lnTo>
                  <a:lnTo>
                    <a:pt x="284" y="238"/>
                  </a:lnTo>
                  <a:lnTo>
                    <a:pt x="280" y="242"/>
                  </a:lnTo>
                  <a:lnTo>
                    <a:pt x="272" y="247"/>
                  </a:lnTo>
                  <a:lnTo>
                    <a:pt x="260" y="250"/>
                  </a:lnTo>
                  <a:lnTo>
                    <a:pt x="248" y="254"/>
                  </a:lnTo>
                  <a:lnTo>
                    <a:pt x="233" y="256"/>
                  </a:lnTo>
                  <a:lnTo>
                    <a:pt x="217" y="258"/>
                  </a:lnTo>
                  <a:lnTo>
                    <a:pt x="199" y="259"/>
                  </a:lnTo>
                  <a:lnTo>
                    <a:pt x="182" y="261"/>
                  </a:lnTo>
                  <a:lnTo>
                    <a:pt x="164" y="261"/>
                  </a:lnTo>
                  <a:lnTo>
                    <a:pt x="145" y="261"/>
                  </a:lnTo>
                  <a:lnTo>
                    <a:pt x="128" y="259"/>
                  </a:lnTo>
                  <a:lnTo>
                    <a:pt x="111" y="258"/>
                  </a:lnTo>
                  <a:lnTo>
                    <a:pt x="94" y="256"/>
                  </a:lnTo>
                  <a:lnTo>
                    <a:pt x="79" y="254"/>
                  </a:lnTo>
                  <a:lnTo>
                    <a:pt x="66" y="250"/>
                  </a:lnTo>
                  <a:lnTo>
                    <a:pt x="54" y="247"/>
                  </a:lnTo>
                  <a:lnTo>
                    <a:pt x="45" y="242"/>
                  </a:lnTo>
                  <a:lnTo>
                    <a:pt x="41" y="231"/>
                  </a:lnTo>
                  <a:lnTo>
                    <a:pt x="36" y="218"/>
                  </a:lnTo>
                  <a:lnTo>
                    <a:pt x="34" y="206"/>
                  </a:lnTo>
                  <a:lnTo>
                    <a:pt x="32" y="194"/>
                  </a:lnTo>
                  <a:lnTo>
                    <a:pt x="30" y="191"/>
                  </a:lnTo>
                  <a:lnTo>
                    <a:pt x="27" y="190"/>
                  </a:lnTo>
                  <a:lnTo>
                    <a:pt x="23" y="188"/>
                  </a:lnTo>
                  <a:lnTo>
                    <a:pt x="21" y="186"/>
                  </a:lnTo>
                  <a:lnTo>
                    <a:pt x="20" y="181"/>
                  </a:lnTo>
                  <a:lnTo>
                    <a:pt x="20" y="178"/>
                  </a:lnTo>
                  <a:lnTo>
                    <a:pt x="19" y="174"/>
                  </a:lnTo>
                  <a:lnTo>
                    <a:pt x="19" y="170"/>
                  </a:lnTo>
                  <a:lnTo>
                    <a:pt x="23" y="166"/>
                  </a:lnTo>
                  <a:lnTo>
                    <a:pt x="27" y="163"/>
                  </a:lnTo>
                  <a:lnTo>
                    <a:pt x="30" y="160"/>
                  </a:lnTo>
                  <a:lnTo>
                    <a:pt x="35" y="158"/>
                  </a:lnTo>
                  <a:lnTo>
                    <a:pt x="29" y="158"/>
                  </a:lnTo>
                  <a:lnTo>
                    <a:pt x="24" y="158"/>
                  </a:lnTo>
                  <a:lnTo>
                    <a:pt x="19" y="158"/>
                  </a:lnTo>
                  <a:lnTo>
                    <a:pt x="13" y="158"/>
                  </a:lnTo>
                  <a:lnTo>
                    <a:pt x="13" y="151"/>
                  </a:lnTo>
                  <a:lnTo>
                    <a:pt x="13" y="144"/>
                  </a:lnTo>
                  <a:lnTo>
                    <a:pt x="13" y="137"/>
                  </a:lnTo>
                  <a:lnTo>
                    <a:pt x="14" y="132"/>
                  </a:lnTo>
                  <a:lnTo>
                    <a:pt x="18" y="129"/>
                  </a:lnTo>
                  <a:lnTo>
                    <a:pt x="22" y="127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27" y="119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4" y="105"/>
                  </a:lnTo>
                  <a:lnTo>
                    <a:pt x="14" y="100"/>
                  </a:lnTo>
                  <a:lnTo>
                    <a:pt x="13" y="97"/>
                  </a:lnTo>
                  <a:lnTo>
                    <a:pt x="12" y="94"/>
                  </a:lnTo>
                  <a:lnTo>
                    <a:pt x="16" y="91"/>
                  </a:lnTo>
                  <a:lnTo>
                    <a:pt x="21" y="88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30" y="79"/>
                  </a:lnTo>
                  <a:lnTo>
                    <a:pt x="30" y="75"/>
                  </a:lnTo>
                  <a:lnTo>
                    <a:pt x="29" y="72"/>
                  </a:lnTo>
                  <a:lnTo>
                    <a:pt x="29" y="68"/>
                  </a:lnTo>
                  <a:lnTo>
                    <a:pt x="24" y="66"/>
                  </a:lnTo>
                  <a:lnTo>
                    <a:pt x="21" y="64"/>
                  </a:lnTo>
                  <a:lnTo>
                    <a:pt x="16" y="61"/>
                  </a:lnTo>
                  <a:lnTo>
                    <a:pt x="12" y="59"/>
                  </a:lnTo>
                  <a:lnTo>
                    <a:pt x="12" y="51"/>
                  </a:lnTo>
                  <a:lnTo>
                    <a:pt x="12" y="42"/>
                  </a:lnTo>
                  <a:lnTo>
                    <a:pt x="12" y="34"/>
                  </a:lnTo>
                  <a:lnTo>
                    <a:pt x="12" y="26"/>
                  </a:lnTo>
                  <a:lnTo>
                    <a:pt x="9" y="20"/>
                  </a:lnTo>
                  <a:lnTo>
                    <a:pt x="6" y="13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47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5175360" y="1763280"/>
              <a:ext cx="146520" cy="118800"/>
            </a:xfrm>
            <a:custGeom>
              <a:avLst/>
              <a:gdLst/>
              <a:ahLst/>
              <a:rect l="l" t="t" r="r" b="b"/>
              <a:pathLst>
                <a:path w="296" h="260">
                  <a:moveTo>
                    <a:pt x="0" y="0"/>
                  </a:moveTo>
                  <a:lnTo>
                    <a:pt x="18" y="0"/>
                  </a:lnTo>
                  <a:lnTo>
                    <a:pt x="37" y="0"/>
                  </a:lnTo>
                  <a:lnTo>
                    <a:pt x="55" y="0"/>
                  </a:lnTo>
                  <a:lnTo>
                    <a:pt x="74" y="0"/>
                  </a:lnTo>
                  <a:lnTo>
                    <a:pt x="92" y="0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7" y="0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203" y="0"/>
                  </a:lnTo>
                  <a:lnTo>
                    <a:pt x="222" y="0"/>
                  </a:lnTo>
                  <a:lnTo>
                    <a:pt x="241" y="2"/>
                  </a:lnTo>
                  <a:lnTo>
                    <a:pt x="259" y="2"/>
                  </a:lnTo>
                  <a:lnTo>
                    <a:pt x="277" y="2"/>
                  </a:lnTo>
                  <a:lnTo>
                    <a:pt x="296" y="2"/>
                  </a:lnTo>
                  <a:lnTo>
                    <a:pt x="294" y="6"/>
                  </a:lnTo>
                  <a:lnTo>
                    <a:pt x="291" y="10"/>
                  </a:lnTo>
                  <a:lnTo>
                    <a:pt x="289" y="14"/>
                  </a:lnTo>
                  <a:lnTo>
                    <a:pt x="287" y="19"/>
                  </a:lnTo>
                  <a:lnTo>
                    <a:pt x="285" y="28"/>
                  </a:lnTo>
                  <a:lnTo>
                    <a:pt x="285" y="37"/>
                  </a:lnTo>
                  <a:lnTo>
                    <a:pt x="284" y="48"/>
                  </a:lnTo>
                  <a:lnTo>
                    <a:pt x="284" y="57"/>
                  </a:lnTo>
                  <a:lnTo>
                    <a:pt x="280" y="59"/>
                  </a:lnTo>
                  <a:lnTo>
                    <a:pt x="276" y="60"/>
                  </a:lnTo>
                  <a:lnTo>
                    <a:pt x="273" y="63"/>
                  </a:lnTo>
                  <a:lnTo>
                    <a:pt x="269" y="65"/>
                  </a:lnTo>
                  <a:lnTo>
                    <a:pt x="269" y="70"/>
                  </a:lnTo>
                  <a:lnTo>
                    <a:pt x="269" y="73"/>
                  </a:lnTo>
                  <a:lnTo>
                    <a:pt x="269" y="78"/>
                  </a:lnTo>
                  <a:lnTo>
                    <a:pt x="269" y="81"/>
                  </a:lnTo>
                  <a:lnTo>
                    <a:pt x="274" y="81"/>
                  </a:lnTo>
                  <a:lnTo>
                    <a:pt x="277" y="81"/>
                  </a:lnTo>
                  <a:lnTo>
                    <a:pt x="281" y="81"/>
                  </a:lnTo>
                  <a:lnTo>
                    <a:pt x="285" y="81"/>
                  </a:lnTo>
                  <a:lnTo>
                    <a:pt x="285" y="88"/>
                  </a:lnTo>
                  <a:lnTo>
                    <a:pt x="285" y="94"/>
                  </a:lnTo>
                  <a:lnTo>
                    <a:pt x="284" y="101"/>
                  </a:lnTo>
                  <a:lnTo>
                    <a:pt x="284" y="108"/>
                  </a:lnTo>
                  <a:lnTo>
                    <a:pt x="281" y="109"/>
                  </a:lnTo>
                  <a:lnTo>
                    <a:pt x="279" y="110"/>
                  </a:lnTo>
                  <a:lnTo>
                    <a:pt x="275" y="111"/>
                  </a:lnTo>
                  <a:lnTo>
                    <a:pt x="272" y="112"/>
                  </a:lnTo>
                  <a:lnTo>
                    <a:pt x="274" y="116"/>
                  </a:lnTo>
                  <a:lnTo>
                    <a:pt x="277" y="119"/>
                  </a:lnTo>
                  <a:lnTo>
                    <a:pt x="280" y="124"/>
                  </a:lnTo>
                  <a:lnTo>
                    <a:pt x="283" y="127"/>
                  </a:lnTo>
                  <a:lnTo>
                    <a:pt x="283" y="132"/>
                  </a:lnTo>
                  <a:lnTo>
                    <a:pt x="283" y="136"/>
                  </a:lnTo>
                  <a:lnTo>
                    <a:pt x="283" y="142"/>
                  </a:lnTo>
                  <a:lnTo>
                    <a:pt x="283" y="147"/>
                  </a:lnTo>
                  <a:lnTo>
                    <a:pt x="281" y="149"/>
                  </a:lnTo>
                  <a:lnTo>
                    <a:pt x="279" y="151"/>
                  </a:lnTo>
                  <a:lnTo>
                    <a:pt x="276" y="155"/>
                  </a:lnTo>
                  <a:lnTo>
                    <a:pt x="274" y="157"/>
                  </a:lnTo>
                  <a:lnTo>
                    <a:pt x="276" y="161"/>
                  </a:lnTo>
                  <a:lnTo>
                    <a:pt x="280" y="164"/>
                  </a:lnTo>
                  <a:lnTo>
                    <a:pt x="283" y="167"/>
                  </a:lnTo>
                  <a:lnTo>
                    <a:pt x="285" y="171"/>
                  </a:lnTo>
                  <a:lnTo>
                    <a:pt x="284" y="175"/>
                  </a:lnTo>
                  <a:lnTo>
                    <a:pt x="284" y="179"/>
                  </a:lnTo>
                  <a:lnTo>
                    <a:pt x="283" y="184"/>
                  </a:lnTo>
                  <a:lnTo>
                    <a:pt x="283" y="188"/>
                  </a:lnTo>
                  <a:lnTo>
                    <a:pt x="282" y="192"/>
                  </a:lnTo>
                  <a:lnTo>
                    <a:pt x="280" y="195"/>
                  </a:lnTo>
                  <a:lnTo>
                    <a:pt x="279" y="199"/>
                  </a:lnTo>
                  <a:lnTo>
                    <a:pt x="276" y="202"/>
                  </a:lnTo>
                  <a:lnTo>
                    <a:pt x="275" y="208"/>
                  </a:lnTo>
                  <a:lnTo>
                    <a:pt x="274" y="213"/>
                  </a:lnTo>
                  <a:lnTo>
                    <a:pt x="272" y="220"/>
                  </a:lnTo>
                  <a:lnTo>
                    <a:pt x="271" y="226"/>
                  </a:lnTo>
                  <a:lnTo>
                    <a:pt x="268" y="230"/>
                  </a:lnTo>
                  <a:lnTo>
                    <a:pt x="265" y="233"/>
                  </a:lnTo>
                  <a:lnTo>
                    <a:pt x="261" y="238"/>
                  </a:lnTo>
                  <a:lnTo>
                    <a:pt x="259" y="241"/>
                  </a:lnTo>
                  <a:lnTo>
                    <a:pt x="251" y="246"/>
                  </a:lnTo>
                  <a:lnTo>
                    <a:pt x="241" y="249"/>
                  </a:lnTo>
                  <a:lnTo>
                    <a:pt x="229" y="253"/>
                  </a:lnTo>
                  <a:lnTo>
                    <a:pt x="215" y="255"/>
                  </a:lnTo>
                  <a:lnTo>
                    <a:pt x="200" y="257"/>
                  </a:lnTo>
                  <a:lnTo>
                    <a:pt x="184" y="258"/>
                  </a:lnTo>
                  <a:lnTo>
                    <a:pt x="168" y="260"/>
                  </a:lnTo>
                  <a:lnTo>
                    <a:pt x="151" y="260"/>
                  </a:lnTo>
                  <a:lnTo>
                    <a:pt x="133" y="260"/>
                  </a:lnTo>
                  <a:lnTo>
                    <a:pt x="117" y="258"/>
                  </a:lnTo>
                  <a:lnTo>
                    <a:pt x="101" y="257"/>
                  </a:lnTo>
                  <a:lnTo>
                    <a:pt x="86" y="255"/>
                  </a:lnTo>
                  <a:lnTo>
                    <a:pt x="72" y="253"/>
                  </a:lnTo>
                  <a:lnTo>
                    <a:pt x="60" y="249"/>
                  </a:lnTo>
                  <a:lnTo>
                    <a:pt x="48" y="246"/>
                  </a:lnTo>
                  <a:lnTo>
                    <a:pt x="40" y="241"/>
                  </a:lnTo>
                  <a:lnTo>
                    <a:pt x="36" y="230"/>
                  </a:lnTo>
                  <a:lnTo>
                    <a:pt x="32" y="218"/>
                  </a:lnTo>
                  <a:lnTo>
                    <a:pt x="30" y="205"/>
                  </a:lnTo>
                  <a:lnTo>
                    <a:pt x="29" y="194"/>
                  </a:lnTo>
                  <a:lnTo>
                    <a:pt x="26" y="192"/>
                  </a:lnTo>
                  <a:lnTo>
                    <a:pt x="24" y="189"/>
                  </a:lnTo>
                  <a:lnTo>
                    <a:pt x="21" y="188"/>
                  </a:lnTo>
                  <a:lnTo>
                    <a:pt x="18" y="186"/>
                  </a:lnTo>
                  <a:lnTo>
                    <a:pt x="17" y="181"/>
                  </a:lnTo>
                  <a:lnTo>
                    <a:pt x="17" y="177"/>
                  </a:lnTo>
                  <a:lnTo>
                    <a:pt x="16" y="173"/>
                  </a:lnTo>
                  <a:lnTo>
                    <a:pt x="16" y="169"/>
                  </a:lnTo>
                  <a:lnTo>
                    <a:pt x="19" y="166"/>
                  </a:lnTo>
                  <a:lnTo>
                    <a:pt x="24" y="163"/>
                  </a:lnTo>
                  <a:lnTo>
                    <a:pt x="28" y="161"/>
                  </a:lnTo>
                  <a:lnTo>
                    <a:pt x="32" y="157"/>
                  </a:lnTo>
                  <a:lnTo>
                    <a:pt x="28" y="157"/>
                  </a:lnTo>
                  <a:lnTo>
                    <a:pt x="22" y="157"/>
                  </a:lnTo>
                  <a:lnTo>
                    <a:pt x="17" y="157"/>
                  </a:lnTo>
                  <a:lnTo>
                    <a:pt x="11" y="157"/>
                  </a:lnTo>
                  <a:lnTo>
                    <a:pt x="11" y="151"/>
                  </a:lnTo>
                  <a:lnTo>
                    <a:pt x="11" y="144"/>
                  </a:lnTo>
                  <a:lnTo>
                    <a:pt x="11" y="137"/>
                  </a:lnTo>
                  <a:lnTo>
                    <a:pt x="11" y="131"/>
                  </a:lnTo>
                  <a:lnTo>
                    <a:pt x="16" y="128"/>
                  </a:lnTo>
                  <a:lnTo>
                    <a:pt x="19" y="127"/>
                  </a:lnTo>
                  <a:lnTo>
                    <a:pt x="23" y="125"/>
                  </a:lnTo>
                  <a:lnTo>
                    <a:pt x="28" y="124"/>
                  </a:lnTo>
                  <a:lnTo>
                    <a:pt x="23" y="119"/>
                  </a:lnTo>
                  <a:lnTo>
                    <a:pt x="19" y="116"/>
                  </a:lnTo>
                  <a:lnTo>
                    <a:pt x="16" y="112"/>
                  </a:lnTo>
                  <a:lnTo>
                    <a:pt x="13" y="109"/>
                  </a:lnTo>
                  <a:lnTo>
                    <a:pt x="11" y="104"/>
                  </a:lnTo>
                  <a:lnTo>
                    <a:pt x="11" y="101"/>
                  </a:lnTo>
                  <a:lnTo>
                    <a:pt x="10" y="97"/>
                  </a:lnTo>
                  <a:lnTo>
                    <a:pt x="9" y="94"/>
                  </a:lnTo>
                  <a:lnTo>
                    <a:pt x="14" y="91"/>
                  </a:lnTo>
                  <a:lnTo>
                    <a:pt x="18" y="88"/>
                  </a:lnTo>
                  <a:lnTo>
                    <a:pt x="23" y="85"/>
                  </a:lnTo>
                  <a:lnTo>
                    <a:pt x="28" y="82"/>
                  </a:lnTo>
                  <a:lnTo>
                    <a:pt x="26" y="79"/>
                  </a:lnTo>
                  <a:lnTo>
                    <a:pt x="26" y="75"/>
                  </a:lnTo>
                  <a:lnTo>
                    <a:pt x="26" y="72"/>
                  </a:lnTo>
                  <a:lnTo>
                    <a:pt x="25" y="67"/>
                  </a:lnTo>
                  <a:lnTo>
                    <a:pt x="22" y="65"/>
                  </a:lnTo>
                  <a:lnTo>
                    <a:pt x="17" y="63"/>
                  </a:lnTo>
                  <a:lnTo>
                    <a:pt x="14" y="61"/>
                  </a:lnTo>
                  <a:lnTo>
                    <a:pt x="9" y="59"/>
                  </a:lnTo>
                  <a:lnTo>
                    <a:pt x="9" y="51"/>
                  </a:lnTo>
                  <a:lnTo>
                    <a:pt x="9" y="42"/>
                  </a:lnTo>
                  <a:lnTo>
                    <a:pt x="9" y="34"/>
                  </a:lnTo>
                  <a:lnTo>
                    <a:pt x="9" y="26"/>
                  </a:lnTo>
                  <a:lnTo>
                    <a:pt x="7" y="20"/>
                  </a:lnTo>
                  <a:lnTo>
                    <a:pt x="5" y="13"/>
                  </a:lnTo>
                  <a:lnTo>
                    <a:pt x="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51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5181480" y="1764000"/>
              <a:ext cx="134640" cy="118080"/>
            </a:xfrm>
            <a:custGeom>
              <a:avLst/>
              <a:gdLst/>
              <a:ahLst/>
              <a:rect l="l" t="t" r="r" b="b"/>
              <a:pathLst>
                <a:path w="273" h="257">
                  <a:moveTo>
                    <a:pt x="0" y="0"/>
                  </a:moveTo>
                  <a:lnTo>
                    <a:pt x="18" y="0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68" y="0"/>
                  </a:lnTo>
                  <a:lnTo>
                    <a:pt x="86" y="0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37" y="0"/>
                  </a:lnTo>
                  <a:lnTo>
                    <a:pt x="154" y="0"/>
                  </a:lnTo>
                  <a:lnTo>
                    <a:pt x="171" y="0"/>
                  </a:lnTo>
                  <a:lnTo>
                    <a:pt x="188" y="0"/>
                  </a:lnTo>
                  <a:lnTo>
                    <a:pt x="205" y="0"/>
                  </a:lnTo>
                  <a:lnTo>
                    <a:pt x="223" y="0"/>
                  </a:lnTo>
                  <a:lnTo>
                    <a:pt x="239" y="0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71" y="4"/>
                  </a:lnTo>
                  <a:lnTo>
                    <a:pt x="269" y="9"/>
                  </a:lnTo>
                  <a:lnTo>
                    <a:pt x="266" y="14"/>
                  </a:lnTo>
                  <a:lnTo>
                    <a:pt x="264" y="18"/>
                  </a:lnTo>
                  <a:lnTo>
                    <a:pt x="264" y="27"/>
                  </a:lnTo>
                  <a:lnTo>
                    <a:pt x="263" y="37"/>
                  </a:lnTo>
                  <a:lnTo>
                    <a:pt x="263" y="46"/>
                  </a:lnTo>
                  <a:lnTo>
                    <a:pt x="262" y="55"/>
                  </a:lnTo>
                  <a:lnTo>
                    <a:pt x="258" y="57"/>
                  </a:lnTo>
                  <a:lnTo>
                    <a:pt x="255" y="60"/>
                  </a:lnTo>
                  <a:lnTo>
                    <a:pt x="251" y="62"/>
                  </a:lnTo>
                  <a:lnTo>
                    <a:pt x="248" y="64"/>
                  </a:lnTo>
                  <a:lnTo>
                    <a:pt x="248" y="68"/>
                  </a:lnTo>
                  <a:lnTo>
                    <a:pt x="248" y="71"/>
                  </a:lnTo>
                  <a:lnTo>
                    <a:pt x="248" y="76"/>
                  </a:lnTo>
                  <a:lnTo>
                    <a:pt x="248" y="79"/>
                  </a:lnTo>
                  <a:lnTo>
                    <a:pt x="253" y="79"/>
                  </a:lnTo>
                  <a:lnTo>
                    <a:pt x="256" y="79"/>
                  </a:lnTo>
                  <a:lnTo>
                    <a:pt x="260" y="79"/>
                  </a:lnTo>
                  <a:lnTo>
                    <a:pt x="263" y="79"/>
                  </a:lnTo>
                  <a:lnTo>
                    <a:pt x="263" y="86"/>
                  </a:lnTo>
                  <a:lnTo>
                    <a:pt x="263" y="92"/>
                  </a:lnTo>
                  <a:lnTo>
                    <a:pt x="263" y="99"/>
                  </a:lnTo>
                  <a:lnTo>
                    <a:pt x="262" y="106"/>
                  </a:lnTo>
                  <a:lnTo>
                    <a:pt x="260" y="107"/>
                  </a:lnTo>
                  <a:lnTo>
                    <a:pt x="257" y="108"/>
                  </a:lnTo>
                  <a:lnTo>
                    <a:pt x="254" y="109"/>
                  </a:lnTo>
                  <a:lnTo>
                    <a:pt x="251" y="110"/>
                  </a:lnTo>
                  <a:lnTo>
                    <a:pt x="254" y="114"/>
                  </a:lnTo>
                  <a:lnTo>
                    <a:pt x="256" y="117"/>
                  </a:lnTo>
                  <a:lnTo>
                    <a:pt x="258" y="122"/>
                  </a:lnTo>
                  <a:lnTo>
                    <a:pt x="261" y="125"/>
                  </a:lnTo>
                  <a:lnTo>
                    <a:pt x="261" y="130"/>
                  </a:lnTo>
                  <a:lnTo>
                    <a:pt x="261" y="134"/>
                  </a:lnTo>
                  <a:lnTo>
                    <a:pt x="261" y="139"/>
                  </a:lnTo>
                  <a:lnTo>
                    <a:pt x="261" y="144"/>
                  </a:lnTo>
                  <a:lnTo>
                    <a:pt x="258" y="146"/>
                  </a:lnTo>
                  <a:lnTo>
                    <a:pt x="257" y="148"/>
                  </a:lnTo>
                  <a:lnTo>
                    <a:pt x="255" y="152"/>
                  </a:lnTo>
                  <a:lnTo>
                    <a:pt x="253" y="154"/>
                  </a:lnTo>
                  <a:lnTo>
                    <a:pt x="255" y="158"/>
                  </a:lnTo>
                  <a:lnTo>
                    <a:pt x="258" y="161"/>
                  </a:lnTo>
                  <a:lnTo>
                    <a:pt x="261" y="166"/>
                  </a:lnTo>
                  <a:lnTo>
                    <a:pt x="264" y="169"/>
                  </a:lnTo>
                  <a:lnTo>
                    <a:pt x="263" y="172"/>
                  </a:lnTo>
                  <a:lnTo>
                    <a:pt x="263" y="177"/>
                  </a:lnTo>
                  <a:lnTo>
                    <a:pt x="262" y="181"/>
                  </a:lnTo>
                  <a:lnTo>
                    <a:pt x="261" y="185"/>
                  </a:lnTo>
                  <a:lnTo>
                    <a:pt x="260" y="189"/>
                  </a:lnTo>
                  <a:lnTo>
                    <a:pt x="258" y="192"/>
                  </a:lnTo>
                  <a:lnTo>
                    <a:pt x="256" y="196"/>
                  </a:lnTo>
                  <a:lnTo>
                    <a:pt x="255" y="199"/>
                  </a:lnTo>
                  <a:lnTo>
                    <a:pt x="254" y="205"/>
                  </a:lnTo>
                  <a:lnTo>
                    <a:pt x="253" y="210"/>
                  </a:lnTo>
                  <a:lnTo>
                    <a:pt x="251" y="217"/>
                  </a:lnTo>
                  <a:lnTo>
                    <a:pt x="250" y="223"/>
                  </a:lnTo>
                  <a:lnTo>
                    <a:pt x="248" y="227"/>
                  </a:lnTo>
                  <a:lnTo>
                    <a:pt x="246" y="230"/>
                  </a:lnTo>
                  <a:lnTo>
                    <a:pt x="242" y="235"/>
                  </a:lnTo>
                  <a:lnTo>
                    <a:pt x="240" y="238"/>
                  </a:lnTo>
                  <a:lnTo>
                    <a:pt x="233" y="243"/>
                  </a:lnTo>
                  <a:lnTo>
                    <a:pt x="223" y="246"/>
                  </a:lnTo>
                  <a:lnTo>
                    <a:pt x="212" y="250"/>
                  </a:lnTo>
                  <a:lnTo>
                    <a:pt x="200" y="252"/>
                  </a:lnTo>
                  <a:lnTo>
                    <a:pt x="186" y="254"/>
                  </a:lnTo>
                  <a:lnTo>
                    <a:pt x="171" y="255"/>
                  </a:lnTo>
                  <a:lnTo>
                    <a:pt x="155" y="257"/>
                  </a:lnTo>
                  <a:lnTo>
                    <a:pt x="140" y="257"/>
                  </a:lnTo>
                  <a:lnTo>
                    <a:pt x="124" y="257"/>
                  </a:lnTo>
                  <a:lnTo>
                    <a:pt x="109" y="255"/>
                  </a:lnTo>
                  <a:lnTo>
                    <a:pt x="94" y="254"/>
                  </a:lnTo>
                  <a:lnTo>
                    <a:pt x="80" y="253"/>
                  </a:lnTo>
                  <a:lnTo>
                    <a:pt x="66" y="251"/>
                  </a:lnTo>
                  <a:lnTo>
                    <a:pt x="55" y="247"/>
                  </a:lnTo>
                  <a:lnTo>
                    <a:pt x="45" y="244"/>
                  </a:lnTo>
                  <a:lnTo>
                    <a:pt x="37" y="239"/>
                  </a:lnTo>
                  <a:lnTo>
                    <a:pt x="33" y="228"/>
                  </a:lnTo>
                  <a:lnTo>
                    <a:pt x="30" y="215"/>
                  </a:lnTo>
                  <a:lnTo>
                    <a:pt x="28" y="202"/>
                  </a:lnTo>
                  <a:lnTo>
                    <a:pt x="27" y="191"/>
                  </a:lnTo>
                  <a:lnTo>
                    <a:pt x="25" y="189"/>
                  </a:lnTo>
                  <a:lnTo>
                    <a:pt x="22" y="187"/>
                  </a:lnTo>
                  <a:lnTo>
                    <a:pt x="20" y="185"/>
                  </a:lnTo>
                  <a:lnTo>
                    <a:pt x="18" y="183"/>
                  </a:lnTo>
                  <a:lnTo>
                    <a:pt x="17" y="178"/>
                  </a:lnTo>
                  <a:lnTo>
                    <a:pt x="17" y="175"/>
                  </a:lnTo>
                  <a:lnTo>
                    <a:pt x="17" y="170"/>
                  </a:lnTo>
                  <a:lnTo>
                    <a:pt x="15" y="167"/>
                  </a:lnTo>
                  <a:lnTo>
                    <a:pt x="19" y="163"/>
                  </a:lnTo>
                  <a:lnTo>
                    <a:pt x="22" y="161"/>
                  </a:lnTo>
                  <a:lnTo>
                    <a:pt x="26" y="158"/>
                  </a:lnTo>
                  <a:lnTo>
                    <a:pt x="30" y="155"/>
                  </a:lnTo>
                  <a:lnTo>
                    <a:pt x="26" y="155"/>
                  </a:lnTo>
                  <a:lnTo>
                    <a:pt x="21" y="155"/>
                  </a:lnTo>
                  <a:lnTo>
                    <a:pt x="15" y="155"/>
                  </a:lnTo>
                  <a:lnTo>
                    <a:pt x="11" y="155"/>
                  </a:lnTo>
                  <a:lnTo>
                    <a:pt x="11" y="148"/>
                  </a:lnTo>
                  <a:lnTo>
                    <a:pt x="11" y="141"/>
                  </a:lnTo>
                  <a:lnTo>
                    <a:pt x="11" y="134"/>
                  </a:lnTo>
                  <a:lnTo>
                    <a:pt x="11" y="128"/>
                  </a:lnTo>
                  <a:lnTo>
                    <a:pt x="15" y="126"/>
                  </a:lnTo>
                  <a:lnTo>
                    <a:pt x="19" y="125"/>
                  </a:lnTo>
                  <a:lnTo>
                    <a:pt x="22" y="123"/>
                  </a:lnTo>
                  <a:lnTo>
                    <a:pt x="26" y="122"/>
                  </a:lnTo>
                  <a:lnTo>
                    <a:pt x="22" y="117"/>
                  </a:lnTo>
                  <a:lnTo>
                    <a:pt x="19" y="113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2" y="102"/>
                  </a:lnTo>
                  <a:lnTo>
                    <a:pt x="11" y="99"/>
                  </a:lnTo>
                  <a:lnTo>
                    <a:pt x="11" y="95"/>
                  </a:lnTo>
                  <a:lnTo>
                    <a:pt x="10" y="92"/>
                  </a:lnTo>
                  <a:lnTo>
                    <a:pt x="14" y="88"/>
                  </a:lnTo>
                  <a:lnTo>
                    <a:pt x="18" y="86"/>
                  </a:lnTo>
                  <a:lnTo>
                    <a:pt x="21" y="83"/>
                  </a:lnTo>
                  <a:lnTo>
                    <a:pt x="26" y="80"/>
                  </a:lnTo>
                  <a:lnTo>
                    <a:pt x="26" y="77"/>
                  </a:lnTo>
                  <a:lnTo>
                    <a:pt x="26" y="73"/>
                  </a:lnTo>
                  <a:lnTo>
                    <a:pt x="25" y="70"/>
                  </a:lnTo>
                  <a:lnTo>
                    <a:pt x="25" y="65"/>
                  </a:lnTo>
                  <a:lnTo>
                    <a:pt x="21" y="63"/>
                  </a:lnTo>
                  <a:lnTo>
                    <a:pt x="18" y="61"/>
                  </a:lnTo>
                  <a:lnTo>
                    <a:pt x="13" y="60"/>
                  </a:lnTo>
                  <a:lnTo>
                    <a:pt x="10" y="57"/>
                  </a:lnTo>
                  <a:lnTo>
                    <a:pt x="10" y="49"/>
                  </a:lnTo>
                  <a:lnTo>
                    <a:pt x="10" y="40"/>
                  </a:lnTo>
                  <a:lnTo>
                    <a:pt x="10" y="32"/>
                  </a:lnTo>
                  <a:lnTo>
                    <a:pt x="10" y="24"/>
                  </a:lnTo>
                  <a:lnTo>
                    <a:pt x="7" y="18"/>
                  </a:lnTo>
                  <a:lnTo>
                    <a:pt x="5" y="1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5186520" y="1765080"/>
              <a:ext cx="123840" cy="117000"/>
            </a:xfrm>
            <a:custGeom>
              <a:avLst/>
              <a:gdLst/>
              <a:ahLst/>
              <a:rect l="l" t="t" r="r" b="b"/>
              <a:pathLst>
                <a:path w="249" h="257">
                  <a:moveTo>
                    <a:pt x="0" y="0"/>
                  </a:moveTo>
                  <a:lnTo>
                    <a:pt x="16" y="0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09" y="0"/>
                  </a:lnTo>
                  <a:lnTo>
                    <a:pt x="124" y="0"/>
                  </a:lnTo>
                  <a:lnTo>
                    <a:pt x="140" y="0"/>
                  </a:lnTo>
                  <a:lnTo>
                    <a:pt x="155" y="0"/>
                  </a:lnTo>
                  <a:lnTo>
                    <a:pt x="172" y="0"/>
                  </a:lnTo>
                  <a:lnTo>
                    <a:pt x="186" y="0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34" y="0"/>
                  </a:lnTo>
                  <a:lnTo>
                    <a:pt x="249" y="0"/>
                  </a:lnTo>
                  <a:lnTo>
                    <a:pt x="248" y="4"/>
                  </a:lnTo>
                  <a:lnTo>
                    <a:pt x="245" y="9"/>
                  </a:lnTo>
                  <a:lnTo>
                    <a:pt x="244" y="14"/>
                  </a:lnTo>
                  <a:lnTo>
                    <a:pt x="242" y="18"/>
                  </a:lnTo>
                  <a:lnTo>
                    <a:pt x="241" y="28"/>
                  </a:lnTo>
                  <a:lnTo>
                    <a:pt x="241" y="37"/>
                  </a:lnTo>
                  <a:lnTo>
                    <a:pt x="239" y="46"/>
                  </a:lnTo>
                  <a:lnTo>
                    <a:pt x="239" y="55"/>
                  </a:lnTo>
                  <a:lnTo>
                    <a:pt x="236" y="57"/>
                  </a:lnTo>
                  <a:lnTo>
                    <a:pt x="234" y="59"/>
                  </a:lnTo>
                  <a:lnTo>
                    <a:pt x="230" y="61"/>
                  </a:lnTo>
                  <a:lnTo>
                    <a:pt x="227" y="63"/>
                  </a:lnTo>
                  <a:lnTo>
                    <a:pt x="227" y="68"/>
                  </a:lnTo>
                  <a:lnTo>
                    <a:pt x="227" y="71"/>
                  </a:lnTo>
                  <a:lnTo>
                    <a:pt x="227" y="76"/>
                  </a:lnTo>
                  <a:lnTo>
                    <a:pt x="227" y="79"/>
                  </a:lnTo>
                  <a:lnTo>
                    <a:pt x="230" y="79"/>
                  </a:lnTo>
                  <a:lnTo>
                    <a:pt x="234" y="79"/>
                  </a:lnTo>
                  <a:lnTo>
                    <a:pt x="237" y="79"/>
                  </a:lnTo>
                  <a:lnTo>
                    <a:pt x="241" y="79"/>
                  </a:lnTo>
                  <a:lnTo>
                    <a:pt x="241" y="85"/>
                  </a:lnTo>
                  <a:lnTo>
                    <a:pt x="241" y="92"/>
                  </a:lnTo>
                  <a:lnTo>
                    <a:pt x="239" y="99"/>
                  </a:lnTo>
                  <a:lnTo>
                    <a:pt x="239" y="105"/>
                  </a:lnTo>
                  <a:lnTo>
                    <a:pt x="237" y="106"/>
                  </a:lnTo>
                  <a:lnTo>
                    <a:pt x="235" y="107"/>
                  </a:lnTo>
                  <a:lnTo>
                    <a:pt x="231" y="108"/>
                  </a:lnTo>
                  <a:lnTo>
                    <a:pt x="229" y="109"/>
                  </a:lnTo>
                  <a:lnTo>
                    <a:pt x="231" y="113"/>
                  </a:lnTo>
                  <a:lnTo>
                    <a:pt x="234" y="117"/>
                  </a:lnTo>
                  <a:lnTo>
                    <a:pt x="236" y="121"/>
                  </a:lnTo>
                  <a:lnTo>
                    <a:pt x="238" y="125"/>
                  </a:lnTo>
                  <a:lnTo>
                    <a:pt x="238" y="130"/>
                  </a:lnTo>
                  <a:lnTo>
                    <a:pt x="238" y="135"/>
                  </a:lnTo>
                  <a:lnTo>
                    <a:pt x="238" y="139"/>
                  </a:lnTo>
                  <a:lnTo>
                    <a:pt x="238" y="144"/>
                  </a:lnTo>
                  <a:lnTo>
                    <a:pt x="236" y="146"/>
                  </a:lnTo>
                  <a:lnTo>
                    <a:pt x="235" y="148"/>
                  </a:lnTo>
                  <a:lnTo>
                    <a:pt x="233" y="152"/>
                  </a:lnTo>
                  <a:lnTo>
                    <a:pt x="230" y="154"/>
                  </a:lnTo>
                  <a:lnTo>
                    <a:pt x="233" y="158"/>
                  </a:lnTo>
                  <a:lnTo>
                    <a:pt x="236" y="161"/>
                  </a:lnTo>
                  <a:lnTo>
                    <a:pt x="238" y="165"/>
                  </a:lnTo>
                  <a:lnTo>
                    <a:pt x="241" y="168"/>
                  </a:lnTo>
                  <a:lnTo>
                    <a:pt x="239" y="173"/>
                  </a:lnTo>
                  <a:lnTo>
                    <a:pt x="239" y="176"/>
                  </a:lnTo>
                  <a:lnTo>
                    <a:pt x="239" y="181"/>
                  </a:lnTo>
                  <a:lnTo>
                    <a:pt x="238" y="185"/>
                  </a:lnTo>
                  <a:lnTo>
                    <a:pt x="237" y="189"/>
                  </a:lnTo>
                  <a:lnTo>
                    <a:pt x="236" y="192"/>
                  </a:lnTo>
                  <a:lnTo>
                    <a:pt x="235" y="196"/>
                  </a:lnTo>
                  <a:lnTo>
                    <a:pt x="234" y="199"/>
                  </a:lnTo>
                  <a:lnTo>
                    <a:pt x="233" y="205"/>
                  </a:lnTo>
                  <a:lnTo>
                    <a:pt x="231" y="211"/>
                  </a:lnTo>
                  <a:lnTo>
                    <a:pt x="229" y="216"/>
                  </a:lnTo>
                  <a:lnTo>
                    <a:pt x="228" y="222"/>
                  </a:lnTo>
                  <a:lnTo>
                    <a:pt x="226" y="227"/>
                  </a:lnTo>
                  <a:lnTo>
                    <a:pt x="223" y="230"/>
                  </a:lnTo>
                  <a:lnTo>
                    <a:pt x="221" y="234"/>
                  </a:lnTo>
                  <a:lnTo>
                    <a:pt x="219" y="238"/>
                  </a:lnTo>
                  <a:lnTo>
                    <a:pt x="212" y="243"/>
                  </a:lnTo>
                  <a:lnTo>
                    <a:pt x="204" y="246"/>
                  </a:lnTo>
                  <a:lnTo>
                    <a:pt x="193" y="250"/>
                  </a:lnTo>
                  <a:lnTo>
                    <a:pt x="182" y="252"/>
                  </a:lnTo>
                  <a:lnTo>
                    <a:pt x="169" y="254"/>
                  </a:lnTo>
                  <a:lnTo>
                    <a:pt x="155" y="256"/>
                  </a:lnTo>
                  <a:lnTo>
                    <a:pt x="142" y="257"/>
                  </a:lnTo>
                  <a:lnTo>
                    <a:pt x="128" y="257"/>
                  </a:lnTo>
                  <a:lnTo>
                    <a:pt x="113" y="257"/>
                  </a:lnTo>
                  <a:lnTo>
                    <a:pt x="99" y="256"/>
                  </a:lnTo>
                  <a:lnTo>
                    <a:pt x="85" y="254"/>
                  </a:lnTo>
                  <a:lnTo>
                    <a:pt x="72" y="252"/>
                  </a:lnTo>
                  <a:lnTo>
                    <a:pt x="61" y="250"/>
                  </a:lnTo>
                  <a:lnTo>
                    <a:pt x="51" y="246"/>
                  </a:lnTo>
                  <a:lnTo>
                    <a:pt x="41" y="243"/>
                  </a:lnTo>
                  <a:lnTo>
                    <a:pt x="34" y="238"/>
                  </a:lnTo>
                  <a:lnTo>
                    <a:pt x="31" y="227"/>
                  </a:lnTo>
                  <a:lnTo>
                    <a:pt x="28" y="214"/>
                  </a:lnTo>
                  <a:lnTo>
                    <a:pt x="26" y="203"/>
                  </a:lnTo>
                  <a:lnTo>
                    <a:pt x="25" y="191"/>
                  </a:lnTo>
                  <a:lnTo>
                    <a:pt x="23" y="189"/>
                  </a:lnTo>
                  <a:lnTo>
                    <a:pt x="21" y="186"/>
                  </a:lnTo>
                  <a:lnTo>
                    <a:pt x="18" y="185"/>
                  </a:lnTo>
                  <a:lnTo>
                    <a:pt x="16" y="183"/>
                  </a:lnTo>
                  <a:lnTo>
                    <a:pt x="15" y="178"/>
                  </a:lnTo>
                  <a:lnTo>
                    <a:pt x="15" y="174"/>
                  </a:lnTo>
                  <a:lnTo>
                    <a:pt x="15" y="170"/>
                  </a:lnTo>
                  <a:lnTo>
                    <a:pt x="14" y="166"/>
                  </a:lnTo>
                  <a:lnTo>
                    <a:pt x="17" y="163"/>
                  </a:lnTo>
                  <a:lnTo>
                    <a:pt x="21" y="160"/>
                  </a:lnTo>
                  <a:lnTo>
                    <a:pt x="24" y="158"/>
                  </a:lnTo>
                  <a:lnTo>
                    <a:pt x="28" y="154"/>
                  </a:lnTo>
                  <a:lnTo>
                    <a:pt x="23" y="154"/>
                  </a:lnTo>
                  <a:lnTo>
                    <a:pt x="20" y="154"/>
                  </a:lnTo>
                  <a:lnTo>
                    <a:pt x="15" y="154"/>
                  </a:lnTo>
                  <a:lnTo>
                    <a:pt x="10" y="154"/>
                  </a:lnTo>
                  <a:lnTo>
                    <a:pt x="10" y="148"/>
                  </a:lnTo>
                  <a:lnTo>
                    <a:pt x="10" y="142"/>
                  </a:lnTo>
                  <a:lnTo>
                    <a:pt x="10" y="135"/>
                  </a:lnTo>
                  <a:lnTo>
                    <a:pt x="10" y="128"/>
                  </a:lnTo>
                  <a:lnTo>
                    <a:pt x="14" y="125"/>
                  </a:lnTo>
                  <a:lnTo>
                    <a:pt x="17" y="124"/>
                  </a:lnTo>
                  <a:lnTo>
                    <a:pt x="21" y="122"/>
                  </a:lnTo>
                  <a:lnTo>
                    <a:pt x="23" y="121"/>
                  </a:lnTo>
                  <a:lnTo>
                    <a:pt x="21" y="117"/>
                  </a:lnTo>
                  <a:lnTo>
                    <a:pt x="17" y="113"/>
                  </a:lnTo>
                  <a:lnTo>
                    <a:pt x="14" y="109"/>
                  </a:lnTo>
                  <a:lnTo>
                    <a:pt x="11" y="106"/>
                  </a:lnTo>
                  <a:lnTo>
                    <a:pt x="10" y="102"/>
                  </a:lnTo>
                  <a:lnTo>
                    <a:pt x="10" y="99"/>
                  </a:lnTo>
                  <a:lnTo>
                    <a:pt x="9" y="95"/>
                  </a:lnTo>
                  <a:lnTo>
                    <a:pt x="8" y="92"/>
                  </a:lnTo>
                  <a:lnTo>
                    <a:pt x="13" y="89"/>
                  </a:lnTo>
                  <a:lnTo>
                    <a:pt x="16" y="86"/>
                  </a:lnTo>
                  <a:lnTo>
                    <a:pt x="20" y="83"/>
                  </a:lnTo>
                  <a:lnTo>
                    <a:pt x="23" y="81"/>
                  </a:lnTo>
                  <a:lnTo>
                    <a:pt x="23" y="77"/>
                  </a:lnTo>
                  <a:lnTo>
                    <a:pt x="23" y="74"/>
                  </a:lnTo>
                  <a:lnTo>
                    <a:pt x="23" y="70"/>
                  </a:lnTo>
                  <a:lnTo>
                    <a:pt x="22" y="67"/>
                  </a:lnTo>
                  <a:lnTo>
                    <a:pt x="18" y="64"/>
                  </a:lnTo>
                  <a:lnTo>
                    <a:pt x="16" y="62"/>
                  </a:lnTo>
                  <a:lnTo>
                    <a:pt x="13" y="60"/>
                  </a:lnTo>
                  <a:lnTo>
                    <a:pt x="9" y="57"/>
                  </a:lnTo>
                  <a:lnTo>
                    <a:pt x="9" y="49"/>
                  </a:lnTo>
                  <a:lnTo>
                    <a:pt x="9" y="41"/>
                  </a:lnTo>
                  <a:lnTo>
                    <a:pt x="9" y="33"/>
                  </a:lnTo>
                  <a:lnTo>
                    <a:pt x="9" y="25"/>
                  </a:lnTo>
                  <a:lnTo>
                    <a:pt x="7" y="18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6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5193360" y="1765800"/>
              <a:ext cx="110520" cy="115920"/>
            </a:xfrm>
            <a:custGeom>
              <a:avLst/>
              <a:gdLst/>
              <a:ahLst/>
              <a:rect l="l" t="t" r="r" b="b"/>
              <a:pathLst>
                <a:path w="224" h="256">
                  <a:moveTo>
                    <a:pt x="0" y="0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0"/>
                  </a:lnTo>
                  <a:lnTo>
                    <a:pt x="182" y="0"/>
                  </a:lnTo>
                  <a:lnTo>
                    <a:pt x="197" y="0"/>
                  </a:lnTo>
                  <a:lnTo>
                    <a:pt x="210" y="0"/>
                  </a:lnTo>
                  <a:lnTo>
                    <a:pt x="224" y="0"/>
                  </a:lnTo>
                  <a:lnTo>
                    <a:pt x="223" y="5"/>
                  </a:lnTo>
                  <a:lnTo>
                    <a:pt x="221" y="9"/>
                  </a:lnTo>
                  <a:lnTo>
                    <a:pt x="220" y="14"/>
                  </a:lnTo>
                  <a:lnTo>
                    <a:pt x="217" y="18"/>
                  </a:lnTo>
                  <a:lnTo>
                    <a:pt x="217" y="28"/>
                  </a:lnTo>
                  <a:lnTo>
                    <a:pt x="216" y="37"/>
                  </a:lnTo>
                  <a:lnTo>
                    <a:pt x="216" y="46"/>
                  </a:lnTo>
                  <a:lnTo>
                    <a:pt x="215" y="55"/>
                  </a:lnTo>
                  <a:lnTo>
                    <a:pt x="213" y="58"/>
                  </a:lnTo>
                  <a:lnTo>
                    <a:pt x="210" y="59"/>
                  </a:lnTo>
                  <a:lnTo>
                    <a:pt x="207" y="61"/>
                  </a:lnTo>
                  <a:lnTo>
                    <a:pt x="205" y="63"/>
                  </a:lnTo>
                  <a:lnTo>
                    <a:pt x="205" y="68"/>
                  </a:lnTo>
                  <a:lnTo>
                    <a:pt x="205" y="71"/>
                  </a:lnTo>
                  <a:lnTo>
                    <a:pt x="205" y="76"/>
                  </a:lnTo>
                  <a:lnTo>
                    <a:pt x="205" y="80"/>
                  </a:lnTo>
                  <a:lnTo>
                    <a:pt x="207" y="80"/>
                  </a:lnTo>
                  <a:lnTo>
                    <a:pt x="210" y="80"/>
                  </a:lnTo>
                  <a:lnTo>
                    <a:pt x="214" y="80"/>
                  </a:lnTo>
                  <a:lnTo>
                    <a:pt x="216" y="80"/>
                  </a:lnTo>
                  <a:lnTo>
                    <a:pt x="216" y="85"/>
                  </a:lnTo>
                  <a:lnTo>
                    <a:pt x="216" y="92"/>
                  </a:lnTo>
                  <a:lnTo>
                    <a:pt x="216" y="99"/>
                  </a:lnTo>
                  <a:lnTo>
                    <a:pt x="216" y="105"/>
                  </a:lnTo>
                  <a:lnTo>
                    <a:pt x="214" y="106"/>
                  </a:lnTo>
                  <a:lnTo>
                    <a:pt x="211" y="107"/>
                  </a:lnTo>
                  <a:lnTo>
                    <a:pt x="209" y="108"/>
                  </a:lnTo>
                  <a:lnTo>
                    <a:pt x="207" y="108"/>
                  </a:lnTo>
                  <a:lnTo>
                    <a:pt x="209" y="113"/>
                  </a:lnTo>
                  <a:lnTo>
                    <a:pt x="210" y="118"/>
                  </a:lnTo>
                  <a:lnTo>
                    <a:pt x="213" y="121"/>
                  </a:lnTo>
                  <a:lnTo>
                    <a:pt x="215" y="126"/>
                  </a:lnTo>
                  <a:lnTo>
                    <a:pt x="215" y="130"/>
                  </a:lnTo>
                  <a:lnTo>
                    <a:pt x="215" y="134"/>
                  </a:lnTo>
                  <a:lnTo>
                    <a:pt x="215" y="138"/>
                  </a:lnTo>
                  <a:lnTo>
                    <a:pt x="215" y="143"/>
                  </a:lnTo>
                  <a:lnTo>
                    <a:pt x="214" y="145"/>
                  </a:lnTo>
                  <a:lnTo>
                    <a:pt x="211" y="149"/>
                  </a:lnTo>
                  <a:lnTo>
                    <a:pt x="210" y="151"/>
                  </a:lnTo>
                  <a:lnTo>
                    <a:pt x="208" y="154"/>
                  </a:lnTo>
                  <a:lnTo>
                    <a:pt x="210" y="157"/>
                  </a:lnTo>
                  <a:lnTo>
                    <a:pt x="213" y="160"/>
                  </a:lnTo>
                  <a:lnTo>
                    <a:pt x="215" y="164"/>
                  </a:lnTo>
                  <a:lnTo>
                    <a:pt x="217" y="167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5" y="180"/>
                  </a:lnTo>
                  <a:lnTo>
                    <a:pt x="215" y="184"/>
                  </a:lnTo>
                  <a:lnTo>
                    <a:pt x="214" y="188"/>
                  </a:lnTo>
                  <a:lnTo>
                    <a:pt x="213" y="191"/>
                  </a:lnTo>
                  <a:lnTo>
                    <a:pt x="211" y="195"/>
                  </a:lnTo>
                  <a:lnTo>
                    <a:pt x="210" y="198"/>
                  </a:lnTo>
                  <a:lnTo>
                    <a:pt x="209" y="204"/>
                  </a:lnTo>
                  <a:lnTo>
                    <a:pt x="208" y="210"/>
                  </a:lnTo>
                  <a:lnTo>
                    <a:pt x="207" y="217"/>
                  </a:lnTo>
                  <a:lnTo>
                    <a:pt x="206" y="222"/>
                  </a:lnTo>
                  <a:lnTo>
                    <a:pt x="203" y="226"/>
                  </a:lnTo>
                  <a:lnTo>
                    <a:pt x="202" y="229"/>
                  </a:lnTo>
                  <a:lnTo>
                    <a:pt x="200" y="234"/>
                  </a:lnTo>
                  <a:lnTo>
                    <a:pt x="198" y="237"/>
                  </a:lnTo>
                  <a:lnTo>
                    <a:pt x="184" y="245"/>
                  </a:lnTo>
                  <a:lnTo>
                    <a:pt x="164" y="251"/>
                  </a:lnTo>
                  <a:lnTo>
                    <a:pt x="140" y="255"/>
                  </a:lnTo>
                  <a:lnTo>
                    <a:pt x="114" y="256"/>
                  </a:lnTo>
                  <a:lnTo>
                    <a:pt x="88" y="255"/>
                  </a:lnTo>
                  <a:lnTo>
                    <a:pt x="64" y="251"/>
                  </a:lnTo>
                  <a:lnTo>
                    <a:pt x="43" y="245"/>
                  </a:lnTo>
                  <a:lnTo>
                    <a:pt x="30" y="237"/>
                  </a:lnTo>
                  <a:lnTo>
                    <a:pt x="26" y="226"/>
                  </a:lnTo>
                  <a:lnTo>
                    <a:pt x="24" y="214"/>
                  </a:lnTo>
                  <a:lnTo>
                    <a:pt x="23" y="202"/>
                  </a:lnTo>
                  <a:lnTo>
                    <a:pt x="21" y="190"/>
                  </a:lnTo>
                  <a:lnTo>
                    <a:pt x="19" y="188"/>
                  </a:lnTo>
                  <a:lnTo>
                    <a:pt x="18" y="185"/>
                  </a:lnTo>
                  <a:lnTo>
                    <a:pt x="16" y="184"/>
                  </a:lnTo>
                  <a:lnTo>
                    <a:pt x="13" y="182"/>
                  </a:lnTo>
                  <a:lnTo>
                    <a:pt x="12" y="177"/>
                  </a:lnTo>
                  <a:lnTo>
                    <a:pt x="12" y="174"/>
                  </a:lnTo>
                  <a:lnTo>
                    <a:pt x="12" y="169"/>
                  </a:lnTo>
                  <a:lnTo>
                    <a:pt x="11" y="166"/>
                  </a:lnTo>
                  <a:lnTo>
                    <a:pt x="15" y="162"/>
                  </a:lnTo>
                  <a:lnTo>
                    <a:pt x="18" y="160"/>
                  </a:lnTo>
                  <a:lnTo>
                    <a:pt x="20" y="157"/>
                  </a:lnTo>
                  <a:lnTo>
                    <a:pt x="24" y="154"/>
                  </a:lnTo>
                  <a:lnTo>
                    <a:pt x="19" y="154"/>
                  </a:lnTo>
                  <a:lnTo>
                    <a:pt x="16" y="154"/>
                  </a:lnTo>
                  <a:lnTo>
                    <a:pt x="12" y="154"/>
                  </a:lnTo>
                  <a:lnTo>
                    <a:pt x="8" y="154"/>
                  </a:lnTo>
                  <a:lnTo>
                    <a:pt x="8" y="147"/>
                  </a:lnTo>
                  <a:lnTo>
                    <a:pt x="8" y="141"/>
                  </a:lnTo>
                  <a:lnTo>
                    <a:pt x="8" y="134"/>
                  </a:lnTo>
                  <a:lnTo>
                    <a:pt x="8" y="127"/>
                  </a:lnTo>
                  <a:lnTo>
                    <a:pt x="11" y="126"/>
                  </a:lnTo>
                  <a:lnTo>
                    <a:pt x="15" y="123"/>
                  </a:lnTo>
                  <a:lnTo>
                    <a:pt x="17" y="122"/>
                  </a:lnTo>
                  <a:lnTo>
                    <a:pt x="20" y="121"/>
                  </a:lnTo>
                  <a:lnTo>
                    <a:pt x="18" y="118"/>
                  </a:lnTo>
                  <a:lnTo>
                    <a:pt x="15" y="113"/>
                  </a:lnTo>
                  <a:lnTo>
                    <a:pt x="11" y="109"/>
                  </a:lnTo>
                  <a:lnTo>
                    <a:pt x="9" y="106"/>
                  </a:lnTo>
                  <a:lnTo>
                    <a:pt x="8" y="103"/>
                  </a:lnTo>
                  <a:lnTo>
                    <a:pt x="8" y="99"/>
                  </a:lnTo>
                  <a:lnTo>
                    <a:pt x="8" y="96"/>
                  </a:lnTo>
                  <a:lnTo>
                    <a:pt x="7" y="91"/>
                  </a:lnTo>
                  <a:lnTo>
                    <a:pt x="10" y="89"/>
                  </a:lnTo>
                  <a:lnTo>
                    <a:pt x="13" y="85"/>
                  </a:lnTo>
                  <a:lnTo>
                    <a:pt x="17" y="83"/>
                  </a:lnTo>
                  <a:lnTo>
                    <a:pt x="20" y="81"/>
                  </a:lnTo>
                  <a:lnTo>
                    <a:pt x="19" y="77"/>
                  </a:lnTo>
                  <a:lnTo>
                    <a:pt x="19" y="74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16" y="63"/>
                  </a:lnTo>
                  <a:lnTo>
                    <a:pt x="13" y="61"/>
                  </a:lnTo>
                  <a:lnTo>
                    <a:pt x="10" y="60"/>
                  </a:lnTo>
                  <a:lnTo>
                    <a:pt x="7" y="58"/>
                  </a:lnTo>
                  <a:lnTo>
                    <a:pt x="7" y="50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7" y="25"/>
                  </a:lnTo>
                  <a:lnTo>
                    <a:pt x="5" y="20"/>
                  </a:lnTo>
                  <a:lnTo>
                    <a:pt x="3" y="13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6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5199120" y="1766880"/>
              <a:ext cx="99000" cy="115200"/>
            </a:xfrm>
            <a:custGeom>
              <a:avLst/>
              <a:gdLst/>
              <a:ahLst/>
              <a:rect l="l" t="t" r="r" b="b"/>
              <a:pathLst>
                <a:path w="202" h="254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13" y="0"/>
                  </a:lnTo>
                  <a:lnTo>
                    <a:pt x="126" y="0"/>
                  </a:lnTo>
                  <a:lnTo>
                    <a:pt x="138" y="0"/>
                  </a:lnTo>
                  <a:lnTo>
                    <a:pt x="151" y="0"/>
                  </a:lnTo>
                  <a:lnTo>
                    <a:pt x="164" y="0"/>
                  </a:lnTo>
                  <a:lnTo>
                    <a:pt x="176" y="0"/>
                  </a:lnTo>
                  <a:lnTo>
                    <a:pt x="189" y="0"/>
                  </a:lnTo>
                  <a:lnTo>
                    <a:pt x="202" y="0"/>
                  </a:lnTo>
                  <a:lnTo>
                    <a:pt x="200" y="5"/>
                  </a:lnTo>
                  <a:lnTo>
                    <a:pt x="198" y="8"/>
                  </a:lnTo>
                  <a:lnTo>
                    <a:pt x="197" y="13"/>
                  </a:lnTo>
                  <a:lnTo>
                    <a:pt x="196" y="18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95" y="45"/>
                  </a:lnTo>
                  <a:lnTo>
                    <a:pt x="194" y="54"/>
                  </a:lnTo>
                  <a:lnTo>
                    <a:pt x="191" y="57"/>
                  </a:lnTo>
                  <a:lnTo>
                    <a:pt x="189" y="59"/>
                  </a:lnTo>
                  <a:lnTo>
                    <a:pt x="186" y="61"/>
                  </a:lnTo>
                  <a:lnTo>
                    <a:pt x="183" y="64"/>
                  </a:lnTo>
                  <a:lnTo>
                    <a:pt x="183" y="67"/>
                  </a:lnTo>
                  <a:lnTo>
                    <a:pt x="183" y="71"/>
                  </a:lnTo>
                  <a:lnTo>
                    <a:pt x="183" y="74"/>
                  </a:lnTo>
                  <a:lnTo>
                    <a:pt x="183" y="79"/>
                  </a:lnTo>
                  <a:lnTo>
                    <a:pt x="187" y="79"/>
                  </a:lnTo>
                  <a:lnTo>
                    <a:pt x="189" y="79"/>
                  </a:lnTo>
                  <a:lnTo>
                    <a:pt x="192" y="79"/>
                  </a:lnTo>
                  <a:lnTo>
                    <a:pt x="195" y="79"/>
                  </a:lnTo>
                  <a:lnTo>
                    <a:pt x="195" y="84"/>
                  </a:lnTo>
                  <a:lnTo>
                    <a:pt x="195" y="91"/>
                  </a:lnTo>
                  <a:lnTo>
                    <a:pt x="194" y="98"/>
                  </a:lnTo>
                  <a:lnTo>
                    <a:pt x="194" y="104"/>
                  </a:lnTo>
                  <a:lnTo>
                    <a:pt x="191" y="105"/>
                  </a:lnTo>
                  <a:lnTo>
                    <a:pt x="190" y="105"/>
                  </a:lnTo>
                  <a:lnTo>
                    <a:pt x="188" y="106"/>
                  </a:lnTo>
                  <a:lnTo>
                    <a:pt x="186" y="107"/>
                  </a:lnTo>
                  <a:lnTo>
                    <a:pt x="188" y="112"/>
                  </a:lnTo>
                  <a:lnTo>
                    <a:pt x="189" y="116"/>
                  </a:lnTo>
                  <a:lnTo>
                    <a:pt x="191" y="120"/>
                  </a:lnTo>
                  <a:lnTo>
                    <a:pt x="192" y="124"/>
                  </a:lnTo>
                  <a:lnTo>
                    <a:pt x="192" y="128"/>
                  </a:lnTo>
                  <a:lnTo>
                    <a:pt x="192" y="133"/>
                  </a:lnTo>
                  <a:lnTo>
                    <a:pt x="192" y="137"/>
                  </a:lnTo>
                  <a:lnTo>
                    <a:pt x="192" y="142"/>
                  </a:lnTo>
                  <a:lnTo>
                    <a:pt x="191" y="144"/>
                  </a:lnTo>
                  <a:lnTo>
                    <a:pt x="190" y="147"/>
                  </a:lnTo>
                  <a:lnTo>
                    <a:pt x="188" y="150"/>
                  </a:lnTo>
                  <a:lnTo>
                    <a:pt x="187" y="152"/>
                  </a:lnTo>
                  <a:lnTo>
                    <a:pt x="189" y="156"/>
                  </a:lnTo>
                  <a:lnTo>
                    <a:pt x="191" y="159"/>
                  </a:lnTo>
                  <a:lnTo>
                    <a:pt x="192" y="163"/>
                  </a:lnTo>
                  <a:lnTo>
                    <a:pt x="195" y="166"/>
                  </a:lnTo>
                  <a:lnTo>
                    <a:pt x="195" y="171"/>
                  </a:lnTo>
                  <a:lnTo>
                    <a:pt x="194" y="174"/>
                  </a:lnTo>
                  <a:lnTo>
                    <a:pt x="194" y="179"/>
                  </a:lnTo>
                  <a:lnTo>
                    <a:pt x="192" y="182"/>
                  </a:lnTo>
                  <a:lnTo>
                    <a:pt x="191" y="186"/>
                  </a:lnTo>
                  <a:lnTo>
                    <a:pt x="191" y="189"/>
                  </a:lnTo>
                  <a:lnTo>
                    <a:pt x="190" y="193"/>
                  </a:lnTo>
                  <a:lnTo>
                    <a:pt x="189" y="196"/>
                  </a:lnTo>
                  <a:lnTo>
                    <a:pt x="188" y="202"/>
                  </a:lnTo>
                  <a:lnTo>
                    <a:pt x="188" y="208"/>
                  </a:lnTo>
                  <a:lnTo>
                    <a:pt x="187" y="215"/>
                  </a:lnTo>
                  <a:lnTo>
                    <a:pt x="186" y="220"/>
                  </a:lnTo>
                  <a:lnTo>
                    <a:pt x="183" y="225"/>
                  </a:lnTo>
                  <a:lnTo>
                    <a:pt x="182" y="228"/>
                  </a:lnTo>
                  <a:lnTo>
                    <a:pt x="180" y="232"/>
                  </a:lnTo>
                  <a:lnTo>
                    <a:pt x="177" y="236"/>
                  </a:lnTo>
                  <a:lnTo>
                    <a:pt x="165" y="245"/>
                  </a:lnTo>
                  <a:lnTo>
                    <a:pt x="148" y="249"/>
                  </a:lnTo>
                  <a:lnTo>
                    <a:pt x="126" y="253"/>
                  </a:lnTo>
                  <a:lnTo>
                    <a:pt x="103" y="254"/>
                  </a:lnTo>
                  <a:lnTo>
                    <a:pt x="80" y="254"/>
                  </a:lnTo>
                  <a:lnTo>
                    <a:pt x="58" y="250"/>
                  </a:lnTo>
                  <a:lnTo>
                    <a:pt x="39" y="245"/>
                  </a:lnTo>
                  <a:lnTo>
                    <a:pt x="27" y="236"/>
                  </a:lnTo>
                  <a:lnTo>
                    <a:pt x="24" y="225"/>
                  </a:lnTo>
                  <a:lnTo>
                    <a:pt x="22" y="212"/>
                  </a:lnTo>
                  <a:lnTo>
                    <a:pt x="21" y="201"/>
                  </a:lnTo>
                  <a:lnTo>
                    <a:pt x="20" y="188"/>
                  </a:lnTo>
                  <a:lnTo>
                    <a:pt x="19" y="186"/>
                  </a:lnTo>
                  <a:lnTo>
                    <a:pt x="16" y="185"/>
                  </a:lnTo>
                  <a:lnTo>
                    <a:pt x="15" y="182"/>
                  </a:lnTo>
                  <a:lnTo>
                    <a:pt x="13" y="180"/>
                  </a:lnTo>
                  <a:lnTo>
                    <a:pt x="12" y="177"/>
                  </a:lnTo>
                  <a:lnTo>
                    <a:pt x="12" y="172"/>
                  </a:lnTo>
                  <a:lnTo>
                    <a:pt x="12" y="168"/>
                  </a:lnTo>
                  <a:lnTo>
                    <a:pt x="10" y="164"/>
                  </a:lnTo>
                  <a:lnTo>
                    <a:pt x="14" y="162"/>
                  </a:lnTo>
                  <a:lnTo>
                    <a:pt x="16" y="158"/>
                  </a:lnTo>
                  <a:lnTo>
                    <a:pt x="20" y="156"/>
                  </a:lnTo>
                  <a:lnTo>
                    <a:pt x="22" y="154"/>
                  </a:lnTo>
                  <a:lnTo>
                    <a:pt x="19" y="154"/>
                  </a:lnTo>
                  <a:lnTo>
                    <a:pt x="15" y="154"/>
                  </a:lnTo>
                  <a:lnTo>
                    <a:pt x="12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8" y="139"/>
                  </a:lnTo>
                  <a:lnTo>
                    <a:pt x="8" y="132"/>
                  </a:lnTo>
                  <a:lnTo>
                    <a:pt x="8" y="125"/>
                  </a:lnTo>
                  <a:lnTo>
                    <a:pt x="10" y="124"/>
                  </a:lnTo>
                  <a:lnTo>
                    <a:pt x="14" y="122"/>
                  </a:lnTo>
                  <a:lnTo>
                    <a:pt x="16" y="121"/>
                  </a:lnTo>
                  <a:lnTo>
                    <a:pt x="19" y="120"/>
                  </a:lnTo>
                  <a:lnTo>
                    <a:pt x="16" y="117"/>
                  </a:lnTo>
                  <a:lnTo>
                    <a:pt x="14" y="112"/>
                  </a:lnTo>
                  <a:lnTo>
                    <a:pt x="12" y="109"/>
                  </a:lnTo>
                  <a:lnTo>
                    <a:pt x="9" y="105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4"/>
                  </a:lnTo>
                  <a:lnTo>
                    <a:pt x="7" y="90"/>
                  </a:lnTo>
                  <a:lnTo>
                    <a:pt x="9" y="88"/>
                  </a:lnTo>
                  <a:lnTo>
                    <a:pt x="13" y="84"/>
                  </a:lnTo>
                  <a:lnTo>
                    <a:pt x="16" y="82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19" y="72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5" y="63"/>
                  </a:lnTo>
                  <a:lnTo>
                    <a:pt x="13" y="60"/>
                  </a:lnTo>
                  <a:lnTo>
                    <a:pt x="9" y="58"/>
                  </a:lnTo>
                  <a:lnTo>
                    <a:pt x="7" y="57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7" y="25"/>
                  </a:lnTo>
                  <a:lnTo>
                    <a:pt x="6" y="19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5204160" y="1766880"/>
              <a:ext cx="88920" cy="115200"/>
            </a:xfrm>
            <a:custGeom>
              <a:avLst/>
              <a:gdLst/>
              <a:ahLst/>
              <a:rect l="l" t="t" r="r" b="b"/>
              <a:pathLst>
                <a:path w="178" h="253">
                  <a:moveTo>
                    <a:pt x="0" y="0"/>
                  </a:moveTo>
                  <a:lnTo>
                    <a:pt x="22" y="0"/>
                  </a:lnTo>
                  <a:lnTo>
                    <a:pt x="45" y="0"/>
                  </a:lnTo>
                  <a:lnTo>
                    <a:pt x="66" y="0"/>
                  </a:lnTo>
                  <a:lnTo>
                    <a:pt x="89" y="0"/>
                  </a:lnTo>
                  <a:lnTo>
                    <a:pt x="111" y="0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78" y="0"/>
                  </a:lnTo>
                  <a:lnTo>
                    <a:pt x="177" y="5"/>
                  </a:lnTo>
                  <a:lnTo>
                    <a:pt x="176" y="9"/>
                  </a:lnTo>
                  <a:lnTo>
                    <a:pt x="174" y="13"/>
                  </a:lnTo>
                  <a:lnTo>
                    <a:pt x="172" y="19"/>
                  </a:lnTo>
                  <a:lnTo>
                    <a:pt x="172" y="28"/>
                  </a:lnTo>
                  <a:lnTo>
                    <a:pt x="172" y="36"/>
                  </a:lnTo>
                  <a:lnTo>
                    <a:pt x="171" y="45"/>
                  </a:lnTo>
                  <a:lnTo>
                    <a:pt x="171" y="55"/>
                  </a:lnTo>
                  <a:lnTo>
                    <a:pt x="169" y="57"/>
                  </a:lnTo>
                  <a:lnTo>
                    <a:pt x="167" y="58"/>
                  </a:lnTo>
                  <a:lnTo>
                    <a:pt x="164" y="60"/>
                  </a:lnTo>
                  <a:lnTo>
                    <a:pt x="162" y="64"/>
                  </a:lnTo>
                  <a:lnTo>
                    <a:pt x="162" y="67"/>
                  </a:lnTo>
                  <a:lnTo>
                    <a:pt x="162" y="71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4" y="79"/>
                  </a:lnTo>
                  <a:lnTo>
                    <a:pt x="167" y="79"/>
                  </a:lnTo>
                  <a:lnTo>
                    <a:pt x="169" y="79"/>
                  </a:lnTo>
                  <a:lnTo>
                    <a:pt x="171" y="79"/>
                  </a:lnTo>
                  <a:lnTo>
                    <a:pt x="171" y="85"/>
                  </a:lnTo>
                  <a:lnTo>
                    <a:pt x="171" y="91"/>
                  </a:lnTo>
                  <a:lnTo>
                    <a:pt x="171" y="97"/>
                  </a:lnTo>
                  <a:lnTo>
                    <a:pt x="171" y="104"/>
                  </a:lnTo>
                  <a:lnTo>
                    <a:pt x="169" y="105"/>
                  </a:lnTo>
                  <a:lnTo>
                    <a:pt x="168" y="105"/>
                  </a:lnTo>
                  <a:lnTo>
                    <a:pt x="165" y="106"/>
                  </a:lnTo>
                  <a:lnTo>
                    <a:pt x="163" y="109"/>
                  </a:lnTo>
                  <a:lnTo>
                    <a:pt x="165" y="112"/>
                  </a:lnTo>
                  <a:lnTo>
                    <a:pt x="167" y="116"/>
                  </a:lnTo>
                  <a:lnTo>
                    <a:pt x="169" y="120"/>
                  </a:lnTo>
                  <a:lnTo>
                    <a:pt x="170" y="124"/>
                  </a:lnTo>
                  <a:lnTo>
                    <a:pt x="170" y="128"/>
                  </a:lnTo>
                  <a:lnTo>
                    <a:pt x="170" y="133"/>
                  </a:lnTo>
                  <a:lnTo>
                    <a:pt x="170" y="138"/>
                  </a:lnTo>
                  <a:lnTo>
                    <a:pt x="170" y="142"/>
                  </a:lnTo>
                  <a:lnTo>
                    <a:pt x="169" y="144"/>
                  </a:lnTo>
                  <a:lnTo>
                    <a:pt x="168" y="147"/>
                  </a:lnTo>
                  <a:lnTo>
                    <a:pt x="165" y="150"/>
                  </a:lnTo>
                  <a:lnTo>
                    <a:pt x="164" y="153"/>
                  </a:lnTo>
                  <a:lnTo>
                    <a:pt x="167" y="156"/>
                  </a:lnTo>
                  <a:lnTo>
                    <a:pt x="168" y="158"/>
                  </a:lnTo>
                  <a:lnTo>
                    <a:pt x="170" y="162"/>
                  </a:lnTo>
                  <a:lnTo>
                    <a:pt x="172" y="165"/>
                  </a:lnTo>
                  <a:lnTo>
                    <a:pt x="171" y="170"/>
                  </a:lnTo>
                  <a:lnTo>
                    <a:pt x="171" y="173"/>
                  </a:lnTo>
                  <a:lnTo>
                    <a:pt x="171" y="178"/>
                  </a:lnTo>
                  <a:lnTo>
                    <a:pt x="170" y="182"/>
                  </a:lnTo>
                  <a:lnTo>
                    <a:pt x="169" y="186"/>
                  </a:lnTo>
                  <a:lnTo>
                    <a:pt x="169" y="189"/>
                  </a:lnTo>
                  <a:lnTo>
                    <a:pt x="168" y="193"/>
                  </a:lnTo>
                  <a:lnTo>
                    <a:pt x="167" y="196"/>
                  </a:lnTo>
                  <a:lnTo>
                    <a:pt x="165" y="202"/>
                  </a:lnTo>
                  <a:lnTo>
                    <a:pt x="165" y="208"/>
                  </a:lnTo>
                  <a:lnTo>
                    <a:pt x="164" y="215"/>
                  </a:lnTo>
                  <a:lnTo>
                    <a:pt x="164" y="220"/>
                  </a:lnTo>
                  <a:lnTo>
                    <a:pt x="163" y="224"/>
                  </a:lnTo>
                  <a:lnTo>
                    <a:pt x="161" y="227"/>
                  </a:lnTo>
                  <a:lnTo>
                    <a:pt x="160" y="232"/>
                  </a:lnTo>
                  <a:lnTo>
                    <a:pt x="157" y="235"/>
                  </a:lnTo>
                  <a:lnTo>
                    <a:pt x="147" y="244"/>
                  </a:lnTo>
                  <a:lnTo>
                    <a:pt x="131" y="248"/>
                  </a:lnTo>
                  <a:lnTo>
                    <a:pt x="111" y="252"/>
                  </a:lnTo>
                  <a:lnTo>
                    <a:pt x="91" y="253"/>
                  </a:lnTo>
                  <a:lnTo>
                    <a:pt x="70" y="253"/>
                  </a:lnTo>
                  <a:lnTo>
                    <a:pt x="50" y="249"/>
                  </a:lnTo>
                  <a:lnTo>
                    <a:pt x="34" y="244"/>
                  </a:lnTo>
                  <a:lnTo>
                    <a:pt x="23" y="235"/>
                  </a:lnTo>
                  <a:lnTo>
                    <a:pt x="20" y="224"/>
                  </a:lnTo>
                  <a:lnTo>
                    <a:pt x="18" y="211"/>
                  </a:lnTo>
                  <a:lnTo>
                    <a:pt x="17" y="200"/>
                  </a:lnTo>
                  <a:lnTo>
                    <a:pt x="17" y="188"/>
                  </a:lnTo>
                  <a:lnTo>
                    <a:pt x="16" y="186"/>
                  </a:lnTo>
                  <a:lnTo>
                    <a:pt x="15" y="184"/>
                  </a:lnTo>
                  <a:lnTo>
                    <a:pt x="12" y="182"/>
                  </a:lnTo>
                  <a:lnTo>
                    <a:pt x="11" y="180"/>
                  </a:lnTo>
                  <a:lnTo>
                    <a:pt x="10" y="176"/>
                  </a:lnTo>
                  <a:lnTo>
                    <a:pt x="10" y="171"/>
                  </a:lnTo>
                  <a:lnTo>
                    <a:pt x="10" y="167"/>
                  </a:lnTo>
                  <a:lnTo>
                    <a:pt x="10" y="163"/>
                  </a:lnTo>
                  <a:lnTo>
                    <a:pt x="12" y="161"/>
                  </a:lnTo>
                  <a:lnTo>
                    <a:pt x="15" y="157"/>
                  </a:lnTo>
                  <a:lnTo>
                    <a:pt x="17" y="155"/>
                  </a:lnTo>
                  <a:lnTo>
                    <a:pt x="19" y="153"/>
                  </a:lnTo>
                  <a:lnTo>
                    <a:pt x="16" y="153"/>
                  </a:lnTo>
                  <a:lnTo>
                    <a:pt x="13" y="153"/>
                  </a:lnTo>
                  <a:lnTo>
                    <a:pt x="10" y="153"/>
                  </a:lnTo>
                  <a:lnTo>
                    <a:pt x="7" y="153"/>
                  </a:lnTo>
                  <a:lnTo>
                    <a:pt x="7" y="146"/>
                  </a:lnTo>
                  <a:lnTo>
                    <a:pt x="7" y="139"/>
                  </a:lnTo>
                  <a:lnTo>
                    <a:pt x="7" y="132"/>
                  </a:lnTo>
                  <a:lnTo>
                    <a:pt x="7" y="125"/>
                  </a:lnTo>
                  <a:lnTo>
                    <a:pt x="9" y="124"/>
                  </a:lnTo>
                  <a:lnTo>
                    <a:pt x="12" y="123"/>
                  </a:lnTo>
                  <a:lnTo>
                    <a:pt x="15" y="121"/>
                  </a:lnTo>
                  <a:lnTo>
                    <a:pt x="17" y="120"/>
                  </a:lnTo>
                  <a:lnTo>
                    <a:pt x="15" y="116"/>
                  </a:lnTo>
                  <a:lnTo>
                    <a:pt x="12" y="112"/>
                  </a:lnTo>
                  <a:lnTo>
                    <a:pt x="10" y="109"/>
                  </a:lnTo>
                  <a:lnTo>
                    <a:pt x="8" y="105"/>
                  </a:lnTo>
                  <a:lnTo>
                    <a:pt x="7" y="101"/>
                  </a:lnTo>
                  <a:lnTo>
                    <a:pt x="7" y="97"/>
                  </a:lnTo>
                  <a:lnTo>
                    <a:pt x="7" y="94"/>
                  </a:lnTo>
                  <a:lnTo>
                    <a:pt x="5" y="90"/>
                  </a:lnTo>
                  <a:lnTo>
                    <a:pt x="8" y="88"/>
                  </a:lnTo>
                  <a:lnTo>
                    <a:pt x="11" y="85"/>
                  </a:lnTo>
                  <a:lnTo>
                    <a:pt x="13" y="82"/>
                  </a:lnTo>
                  <a:lnTo>
                    <a:pt x="17" y="79"/>
                  </a:lnTo>
                  <a:lnTo>
                    <a:pt x="16" y="75"/>
                  </a:lnTo>
                  <a:lnTo>
                    <a:pt x="16" y="72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3" y="64"/>
                  </a:lnTo>
                  <a:lnTo>
                    <a:pt x="11" y="62"/>
                  </a:lnTo>
                  <a:lnTo>
                    <a:pt x="8" y="59"/>
                  </a:lnTo>
                  <a:lnTo>
                    <a:pt x="5" y="57"/>
                  </a:lnTo>
                  <a:lnTo>
                    <a:pt x="5" y="49"/>
                  </a:lnTo>
                  <a:lnTo>
                    <a:pt x="5" y="41"/>
                  </a:lnTo>
                  <a:lnTo>
                    <a:pt x="5" y="33"/>
                  </a:lnTo>
                  <a:lnTo>
                    <a:pt x="5" y="25"/>
                  </a:lnTo>
                  <a:lnTo>
                    <a:pt x="4" y="19"/>
                  </a:lnTo>
                  <a:lnTo>
                    <a:pt x="3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5210280" y="1767600"/>
              <a:ext cx="77040" cy="115200"/>
            </a:xfrm>
            <a:custGeom>
              <a:avLst/>
              <a:gdLst/>
              <a:ahLst/>
              <a:rect l="l" t="t" r="r" b="b"/>
              <a:pathLst>
                <a:path w="156" h="252">
                  <a:moveTo>
                    <a:pt x="0" y="0"/>
                  </a:moveTo>
                  <a:lnTo>
                    <a:pt x="20" y="0"/>
                  </a:lnTo>
                  <a:lnTo>
                    <a:pt x="39" y="0"/>
                  </a:lnTo>
                  <a:lnTo>
                    <a:pt x="59" y="0"/>
                  </a:lnTo>
                  <a:lnTo>
                    <a:pt x="78" y="0"/>
                  </a:lnTo>
                  <a:lnTo>
                    <a:pt x="97" y="0"/>
                  </a:lnTo>
                  <a:lnTo>
                    <a:pt x="116" y="0"/>
                  </a:lnTo>
                  <a:lnTo>
                    <a:pt x="136" y="0"/>
                  </a:lnTo>
                  <a:lnTo>
                    <a:pt x="156" y="0"/>
                  </a:lnTo>
                  <a:lnTo>
                    <a:pt x="154" y="4"/>
                  </a:lnTo>
                  <a:lnTo>
                    <a:pt x="153" y="9"/>
                  </a:lnTo>
                  <a:lnTo>
                    <a:pt x="152" y="13"/>
                  </a:lnTo>
                  <a:lnTo>
                    <a:pt x="151" y="18"/>
                  </a:lnTo>
                  <a:lnTo>
                    <a:pt x="150" y="27"/>
                  </a:lnTo>
                  <a:lnTo>
                    <a:pt x="150" y="35"/>
                  </a:lnTo>
                  <a:lnTo>
                    <a:pt x="150" y="45"/>
                  </a:lnTo>
                  <a:lnTo>
                    <a:pt x="149" y="54"/>
                  </a:lnTo>
                  <a:lnTo>
                    <a:pt x="148" y="55"/>
                  </a:lnTo>
                  <a:lnTo>
                    <a:pt x="145" y="57"/>
                  </a:lnTo>
                  <a:lnTo>
                    <a:pt x="144" y="60"/>
                  </a:lnTo>
                  <a:lnTo>
                    <a:pt x="142" y="63"/>
                  </a:lnTo>
                  <a:lnTo>
                    <a:pt x="142" y="66"/>
                  </a:lnTo>
                  <a:lnTo>
                    <a:pt x="142" y="70"/>
                  </a:lnTo>
                  <a:lnTo>
                    <a:pt x="142" y="73"/>
                  </a:lnTo>
                  <a:lnTo>
                    <a:pt x="142" y="78"/>
                  </a:lnTo>
                  <a:lnTo>
                    <a:pt x="144" y="78"/>
                  </a:lnTo>
                  <a:lnTo>
                    <a:pt x="145" y="78"/>
                  </a:lnTo>
                  <a:lnTo>
                    <a:pt x="148" y="78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50" y="91"/>
                  </a:lnTo>
                  <a:lnTo>
                    <a:pt x="150" y="96"/>
                  </a:lnTo>
                  <a:lnTo>
                    <a:pt x="149" y="103"/>
                  </a:lnTo>
                  <a:lnTo>
                    <a:pt x="148" y="103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3" y="107"/>
                  </a:lnTo>
                  <a:lnTo>
                    <a:pt x="144" y="111"/>
                  </a:lnTo>
                  <a:lnTo>
                    <a:pt x="145" y="115"/>
                  </a:lnTo>
                  <a:lnTo>
                    <a:pt x="148" y="118"/>
                  </a:lnTo>
                  <a:lnTo>
                    <a:pt x="149" y="123"/>
                  </a:lnTo>
                  <a:lnTo>
                    <a:pt x="149" y="127"/>
                  </a:lnTo>
                  <a:lnTo>
                    <a:pt x="149" y="131"/>
                  </a:lnTo>
                  <a:lnTo>
                    <a:pt x="149" y="136"/>
                  </a:lnTo>
                  <a:lnTo>
                    <a:pt x="149" y="140"/>
                  </a:lnTo>
                  <a:lnTo>
                    <a:pt x="148" y="142"/>
                  </a:lnTo>
                  <a:lnTo>
                    <a:pt x="146" y="145"/>
                  </a:lnTo>
                  <a:lnTo>
                    <a:pt x="145" y="148"/>
                  </a:lnTo>
                  <a:lnTo>
                    <a:pt x="144" y="151"/>
                  </a:lnTo>
                  <a:lnTo>
                    <a:pt x="145" y="154"/>
                  </a:lnTo>
                  <a:lnTo>
                    <a:pt x="146" y="157"/>
                  </a:lnTo>
                  <a:lnTo>
                    <a:pt x="149" y="161"/>
                  </a:lnTo>
                  <a:lnTo>
                    <a:pt x="150" y="164"/>
                  </a:lnTo>
                  <a:lnTo>
                    <a:pt x="150" y="169"/>
                  </a:lnTo>
                  <a:lnTo>
                    <a:pt x="150" y="172"/>
                  </a:lnTo>
                  <a:lnTo>
                    <a:pt x="149" y="176"/>
                  </a:lnTo>
                  <a:lnTo>
                    <a:pt x="149" y="180"/>
                  </a:lnTo>
                  <a:lnTo>
                    <a:pt x="148" y="184"/>
                  </a:lnTo>
                  <a:lnTo>
                    <a:pt x="148" y="187"/>
                  </a:lnTo>
                  <a:lnTo>
                    <a:pt x="146" y="191"/>
                  </a:lnTo>
                  <a:lnTo>
                    <a:pt x="145" y="194"/>
                  </a:lnTo>
                  <a:lnTo>
                    <a:pt x="144" y="200"/>
                  </a:lnTo>
                  <a:lnTo>
                    <a:pt x="144" y="206"/>
                  </a:lnTo>
                  <a:lnTo>
                    <a:pt x="144" y="213"/>
                  </a:lnTo>
                  <a:lnTo>
                    <a:pt x="143" y="218"/>
                  </a:lnTo>
                  <a:lnTo>
                    <a:pt x="142" y="223"/>
                  </a:lnTo>
                  <a:lnTo>
                    <a:pt x="141" y="227"/>
                  </a:lnTo>
                  <a:lnTo>
                    <a:pt x="139" y="230"/>
                  </a:lnTo>
                  <a:lnTo>
                    <a:pt x="138" y="233"/>
                  </a:lnTo>
                  <a:lnTo>
                    <a:pt x="129" y="242"/>
                  </a:lnTo>
                  <a:lnTo>
                    <a:pt x="115" y="247"/>
                  </a:lnTo>
                  <a:lnTo>
                    <a:pt x="98" y="251"/>
                  </a:lnTo>
                  <a:lnTo>
                    <a:pt x="80" y="252"/>
                  </a:lnTo>
                  <a:lnTo>
                    <a:pt x="61" y="251"/>
                  </a:lnTo>
                  <a:lnTo>
                    <a:pt x="44" y="247"/>
                  </a:lnTo>
                  <a:lnTo>
                    <a:pt x="30" y="243"/>
                  </a:lnTo>
                  <a:lnTo>
                    <a:pt x="20" y="235"/>
                  </a:lnTo>
                  <a:lnTo>
                    <a:pt x="19" y="222"/>
                  </a:lnTo>
                  <a:lnTo>
                    <a:pt x="17" y="210"/>
                  </a:lnTo>
                  <a:lnTo>
                    <a:pt x="16" y="198"/>
                  </a:lnTo>
                  <a:lnTo>
                    <a:pt x="16" y="186"/>
                  </a:lnTo>
                  <a:lnTo>
                    <a:pt x="15" y="184"/>
                  </a:lnTo>
                  <a:lnTo>
                    <a:pt x="14" y="182"/>
                  </a:lnTo>
                  <a:lnTo>
                    <a:pt x="12" y="180"/>
                  </a:lnTo>
                  <a:lnTo>
                    <a:pt x="11" y="178"/>
                  </a:lnTo>
                  <a:lnTo>
                    <a:pt x="11" y="174"/>
                  </a:lnTo>
                  <a:lnTo>
                    <a:pt x="11" y="170"/>
                  </a:lnTo>
                  <a:lnTo>
                    <a:pt x="9" y="167"/>
                  </a:lnTo>
                  <a:lnTo>
                    <a:pt x="9" y="162"/>
                  </a:lnTo>
                  <a:lnTo>
                    <a:pt x="12" y="160"/>
                  </a:lnTo>
                  <a:lnTo>
                    <a:pt x="14" y="156"/>
                  </a:lnTo>
                  <a:lnTo>
                    <a:pt x="15" y="154"/>
                  </a:lnTo>
                  <a:lnTo>
                    <a:pt x="17" y="152"/>
                  </a:lnTo>
                  <a:lnTo>
                    <a:pt x="15" y="152"/>
                  </a:lnTo>
                  <a:lnTo>
                    <a:pt x="13" y="152"/>
                  </a:lnTo>
                  <a:lnTo>
                    <a:pt x="9" y="152"/>
                  </a:lnTo>
                  <a:lnTo>
                    <a:pt x="7" y="152"/>
                  </a:lnTo>
                  <a:lnTo>
                    <a:pt x="7" y="144"/>
                  </a:lnTo>
                  <a:lnTo>
                    <a:pt x="7" y="137"/>
                  </a:lnTo>
                  <a:lnTo>
                    <a:pt x="7" y="130"/>
                  </a:lnTo>
                  <a:lnTo>
                    <a:pt x="7" y="123"/>
                  </a:lnTo>
                  <a:lnTo>
                    <a:pt x="9" y="122"/>
                  </a:lnTo>
                  <a:lnTo>
                    <a:pt x="12" y="121"/>
                  </a:lnTo>
                  <a:lnTo>
                    <a:pt x="13" y="119"/>
                  </a:lnTo>
                  <a:lnTo>
                    <a:pt x="15" y="118"/>
                  </a:lnTo>
                  <a:lnTo>
                    <a:pt x="13" y="115"/>
                  </a:lnTo>
                  <a:lnTo>
                    <a:pt x="12" y="110"/>
                  </a:lnTo>
                  <a:lnTo>
                    <a:pt x="9" y="107"/>
                  </a:lnTo>
                  <a:lnTo>
                    <a:pt x="7" y="103"/>
                  </a:lnTo>
                  <a:lnTo>
                    <a:pt x="7" y="100"/>
                  </a:lnTo>
                  <a:lnTo>
                    <a:pt x="7" y="96"/>
                  </a:lnTo>
                  <a:lnTo>
                    <a:pt x="6" y="93"/>
                  </a:lnTo>
                  <a:lnTo>
                    <a:pt x="6" y="89"/>
                  </a:lnTo>
                  <a:lnTo>
                    <a:pt x="8" y="87"/>
                  </a:lnTo>
                  <a:lnTo>
                    <a:pt x="11" y="84"/>
                  </a:lnTo>
                  <a:lnTo>
                    <a:pt x="13" y="80"/>
                  </a:lnTo>
                  <a:lnTo>
                    <a:pt x="15" y="78"/>
                  </a:lnTo>
                  <a:lnTo>
                    <a:pt x="15" y="75"/>
                  </a:lnTo>
                  <a:lnTo>
                    <a:pt x="15" y="71"/>
                  </a:lnTo>
                  <a:lnTo>
                    <a:pt x="15" y="68"/>
                  </a:lnTo>
                  <a:lnTo>
                    <a:pt x="14" y="64"/>
                  </a:lnTo>
                  <a:lnTo>
                    <a:pt x="12" y="62"/>
                  </a:lnTo>
                  <a:lnTo>
                    <a:pt x="11" y="60"/>
                  </a:lnTo>
                  <a:lnTo>
                    <a:pt x="8" y="57"/>
                  </a:lnTo>
                  <a:lnTo>
                    <a:pt x="6" y="55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4" y="11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989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216040" y="1768680"/>
              <a:ext cx="64440" cy="114480"/>
            </a:xfrm>
            <a:custGeom>
              <a:avLst/>
              <a:gdLst/>
              <a:ahLst/>
              <a:rect l="l" t="t" r="r" b="b"/>
              <a:pathLst>
                <a:path w="130" h="250">
                  <a:moveTo>
                    <a:pt x="0" y="0"/>
                  </a:moveTo>
                  <a:lnTo>
                    <a:pt x="16" y="0"/>
                  </a:lnTo>
                  <a:lnTo>
                    <a:pt x="32" y="0"/>
                  </a:lnTo>
                  <a:lnTo>
                    <a:pt x="49" y="0"/>
                  </a:lnTo>
                  <a:lnTo>
                    <a:pt x="65" y="0"/>
                  </a:lnTo>
                  <a:lnTo>
                    <a:pt x="82" y="0"/>
                  </a:lnTo>
                  <a:lnTo>
                    <a:pt x="98" y="0"/>
                  </a:lnTo>
                  <a:lnTo>
                    <a:pt x="114" y="0"/>
                  </a:lnTo>
                  <a:lnTo>
                    <a:pt x="130" y="0"/>
                  </a:lnTo>
                  <a:lnTo>
                    <a:pt x="129" y="5"/>
                  </a:lnTo>
                  <a:lnTo>
                    <a:pt x="129" y="8"/>
                  </a:lnTo>
                  <a:lnTo>
                    <a:pt x="128" y="13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26" y="34"/>
                  </a:lnTo>
                  <a:lnTo>
                    <a:pt x="125" y="44"/>
                  </a:lnTo>
                  <a:lnTo>
                    <a:pt x="125" y="53"/>
                  </a:lnTo>
                  <a:lnTo>
                    <a:pt x="124" y="55"/>
                  </a:lnTo>
                  <a:lnTo>
                    <a:pt x="122" y="58"/>
                  </a:lnTo>
                  <a:lnTo>
                    <a:pt x="121" y="60"/>
                  </a:lnTo>
                  <a:lnTo>
                    <a:pt x="118" y="62"/>
                  </a:lnTo>
                  <a:lnTo>
                    <a:pt x="118" y="66"/>
                  </a:lnTo>
                  <a:lnTo>
                    <a:pt x="118" y="69"/>
                  </a:lnTo>
                  <a:lnTo>
                    <a:pt x="118" y="73"/>
                  </a:lnTo>
                  <a:lnTo>
                    <a:pt x="118" y="77"/>
                  </a:lnTo>
                  <a:lnTo>
                    <a:pt x="121" y="77"/>
                  </a:lnTo>
                  <a:lnTo>
                    <a:pt x="122" y="77"/>
                  </a:lnTo>
                  <a:lnTo>
                    <a:pt x="124" y="77"/>
                  </a:lnTo>
                  <a:lnTo>
                    <a:pt x="125" y="77"/>
                  </a:lnTo>
                  <a:lnTo>
                    <a:pt x="125" y="83"/>
                  </a:lnTo>
                  <a:lnTo>
                    <a:pt x="125" y="89"/>
                  </a:lnTo>
                  <a:lnTo>
                    <a:pt x="125" y="96"/>
                  </a:lnTo>
                  <a:lnTo>
                    <a:pt x="125" y="101"/>
                  </a:lnTo>
                  <a:lnTo>
                    <a:pt x="124" y="102"/>
                  </a:lnTo>
                  <a:lnTo>
                    <a:pt x="123" y="104"/>
                  </a:lnTo>
                  <a:lnTo>
                    <a:pt x="121" y="105"/>
                  </a:lnTo>
                  <a:lnTo>
                    <a:pt x="120" y="105"/>
                  </a:lnTo>
                  <a:lnTo>
                    <a:pt x="121" y="109"/>
                  </a:lnTo>
                  <a:lnTo>
                    <a:pt x="122" y="114"/>
                  </a:lnTo>
                  <a:lnTo>
                    <a:pt x="123" y="117"/>
                  </a:lnTo>
                  <a:lnTo>
                    <a:pt x="124" y="121"/>
                  </a:lnTo>
                  <a:lnTo>
                    <a:pt x="124" y="125"/>
                  </a:lnTo>
                  <a:lnTo>
                    <a:pt x="124" y="130"/>
                  </a:lnTo>
                  <a:lnTo>
                    <a:pt x="124" y="135"/>
                  </a:lnTo>
                  <a:lnTo>
                    <a:pt x="124" y="139"/>
                  </a:lnTo>
                  <a:lnTo>
                    <a:pt x="123" y="142"/>
                  </a:lnTo>
                  <a:lnTo>
                    <a:pt x="123" y="144"/>
                  </a:lnTo>
                  <a:lnTo>
                    <a:pt x="122" y="147"/>
                  </a:lnTo>
                  <a:lnTo>
                    <a:pt x="121" y="150"/>
                  </a:lnTo>
                  <a:lnTo>
                    <a:pt x="122" y="153"/>
                  </a:lnTo>
                  <a:lnTo>
                    <a:pt x="123" y="155"/>
                  </a:lnTo>
                  <a:lnTo>
                    <a:pt x="125" y="159"/>
                  </a:lnTo>
                  <a:lnTo>
                    <a:pt x="126" y="162"/>
                  </a:lnTo>
                  <a:lnTo>
                    <a:pt x="125" y="167"/>
                  </a:lnTo>
                  <a:lnTo>
                    <a:pt x="125" y="170"/>
                  </a:lnTo>
                  <a:lnTo>
                    <a:pt x="125" y="175"/>
                  </a:lnTo>
                  <a:lnTo>
                    <a:pt x="124" y="180"/>
                  </a:lnTo>
                  <a:lnTo>
                    <a:pt x="124" y="182"/>
                  </a:lnTo>
                  <a:lnTo>
                    <a:pt x="123" y="185"/>
                  </a:lnTo>
                  <a:lnTo>
                    <a:pt x="123" y="189"/>
                  </a:lnTo>
                  <a:lnTo>
                    <a:pt x="122" y="192"/>
                  </a:lnTo>
                  <a:lnTo>
                    <a:pt x="122" y="198"/>
                  </a:lnTo>
                  <a:lnTo>
                    <a:pt x="122" y="205"/>
                  </a:lnTo>
                  <a:lnTo>
                    <a:pt x="121" y="211"/>
                  </a:lnTo>
                  <a:lnTo>
                    <a:pt x="121" y="218"/>
                  </a:lnTo>
                  <a:lnTo>
                    <a:pt x="120" y="221"/>
                  </a:lnTo>
                  <a:lnTo>
                    <a:pt x="118" y="225"/>
                  </a:lnTo>
                  <a:lnTo>
                    <a:pt x="117" y="228"/>
                  </a:lnTo>
                  <a:lnTo>
                    <a:pt x="116" y="233"/>
                  </a:lnTo>
                  <a:lnTo>
                    <a:pt x="108" y="241"/>
                  </a:lnTo>
                  <a:lnTo>
                    <a:pt x="97" y="245"/>
                  </a:lnTo>
                  <a:lnTo>
                    <a:pt x="82" y="249"/>
                  </a:lnTo>
                  <a:lnTo>
                    <a:pt x="67" y="250"/>
                  </a:lnTo>
                  <a:lnTo>
                    <a:pt x="50" y="249"/>
                  </a:lnTo>
                  <a:lnTo>
                    <a:pt x="36" y="245"/>
                  </a:lnTo>
                  <a:lnTo>
                    <a:pt x="24" y="241"/>
                  </a:lnTo>
                  <a:lnTo>
                    <a:pt x="15" y="233"/>
                  </a:lnTo>
                  <a:lnTo>
                    <a:pt x="14" y="220"/>
                  </a:lnTo>
                  <a:lnTo>
                    <a:pt x="14" y="208"/>
                  </a:lnTo>
                  <a:lnTo>
                    <a:pt x="12" y="196"/>
                  </a:lnTo>
                  <a:lnTo>
                    <a:pt x="12" y="184"/>
                  </a:lnTo>
                  <a:lnTo>
                    <a:pt x="11" y="182"/>
                  </a:lnTo>
                  <a:lnTo>
                    <a:pt x="10" y="181"/>
                  </a:lnTo>
                  <a:lnTo>
                    <a:pt x="9" y="178"/>
                  </a:lnTo>
                  <a:lnTo>
                    <a:pt x="8" y="177"/>
                  </a:lnTo>
                  <a:lnTo>
                    <a:pt x="8" y="173"/>
                  </a:lnTo>
                  <a:lnTo>
                    <a:pt x="8" y="168"/>
                  </a:lnTo>
                  <a:lnTo>
                    <a:pt x="7" y="165"/>
                  </a:lnTo>
                  <a:lnTo>
                    <a:pt x="7" y="160"/>
                  </a:lnTo>
                  <a:lnTo>
                    <a:pt x="9" y="158"/>
                  </a:lnTo>
                  <a:lnTo>
                    <a:pt x="10" y="154"/>
                  </a:lnTo>
                  <a:lnTo>
                    <a:pt x="12" y="152"/>
                  </a:lnTo>
                  <a:lnTo>
                    <a:pt x="14" y="150"/>
                  </a:lnTo>
                  <a:lnTo>
                    <a:pt x="11" y="150"/>
                  </a:lnTo>
                  <a:lnTo>
                    <a:pt x="9" y="150"/>
                  </a:lnTo>
                  <a:lnTo>
                    <a:pt x="7" y="150"/>
                  </a:lnTo>
                  <a:lnTo>
                    <a:pt x="4" y="150"/>
                  </a:lnTo>
                  <a:lnTo>
                    <a:pt x="4" y="143"/>
                  </a:lnTo>
                  <a:lnTo>
                    <a:pt x="4" y="136"/>
                  </a:lnTo>
                  <a:lnTo>
                    <a:pt x="4" y="129"/>
                  </a:lnTo>
                  <a:lnTo>
                    <a:pt x="4" y="121"/>
                  </a:lnTo>
                  <a:lnTo>
                    <a:pt x="7" y="120"/>
                  </a:lnTo>
                  <a:lnTo>
                    <a:pt x="8" y="119"/>
                  </a:lnTo>
                  <a:lnTo>
                    <a:pt x="10" y="119"/>
                  </a:lnTo>
                  <a:lnTo>
                    <a:pt x="11" y="117"/>
                  </a:lnTo>
                  <a:lnTo>
                    <a:pt x="10" y="114"/>
                  </a:lnTo>
                  <a:lnTo>
                    <a:pt x="9" y="109"/>
                  </a:lnTo>
                  <a:lnTo>
                    <a:pt x="7" y="105"/>
                  </a:lnTo>
                  <a:lnTo>
                    <a:pt x="6" y="101"/>
                  </a:lnTo>
                  <a:lnTo>
                    <a:pt x="4" y="99"/>
                  </a:lnTo>
                  <a:lnTo>
                    <a:pt x="4" y="96"/>
                  </a:lnTo>
                  <a:lnTo>
                    <a:pt x="4" y="92"/>
                  </a:lnTo>
                  <a:lnTo>
                    <a:pt x="4" y="89"/>
                  </a:lnTo>
                  <a:lnTo>
                    <a:pt x="7" y="86"/>
                  </a:lnTo>
                  <a:lnTo>
                    <a:pt x="8" y="83"/>
                  </a:lnTo>
                  <a:lnTo>
                    <a:pt x="10" y="79"/>
                  </a:lnTo>
                  <a:lnTo>
                    <a:pt x="11" y="77"/>
                  </a:lnTo>
                  <a:lnTo>
                    <a:pt x="11" y="74"/>
                  </a:lnTo>
                  <a:lnTo>
                    <a:pt x="11" y="70"/>
                  </a:lnTo>
                  <a:lnTo>
                    <a:pt x="11" y="67"/>
                  </a:lnTo>
                  <a:lnTo>
                    <a:pt x="11" y="63"/>
                  </a:lnTo>
                  <a:lnTo>
                    <a:pt x="10" y="61"/>
                  </a:lnTo>
                  <a:lnTo>
                    <a:pt x="8" y="59"/>
                  </a:lnTo>
                  <a:lnTo>
                    <a:pt x="7" y="56"/>
                  </a:lnTo>
                  <a:lnTo>
                    <a:pt x="4" y="55"/>
                  </a:lnTo>
                  <a:lnTo>
                    <a:pt x="4" y="47"/>
                  </a:lnTo>
                  <a:lnTo>
                    <a:pt x="4" y="39"/>
                  </a:lnTo>
                  <a:lnTo>
                    <a:pt x="4" y="32"/>
                  </a:lnTo>
                  <a:lnTo>
                    <a:pt x="4" y="24"/>
                  </a:lnTo>
                  <a:lnTo>
                    <a:pt x="3" y="18"/>
                  </a:lnTo>
                  <a:lnTo>
                    <a:pt x="2" y="11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39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5221800" y="1769400"/>
              <a:ext cx="53640" cy="113400"/>
            </a:xfrm>
            <a:custGeom>
              <a:avLst/>
              <a:gdLst/>
              <a:ahLst/>
              <a:rect l="l" t="t" r="r" b="b"/>
              <a:pathLst>
                <a:path w="107" h="249">
                  <a:moveTo>
                    <a:pt x="0" y="0"/>
                  </a:moveTo>
                  <a:lnTo>
                    <a:pt x="14" y="0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107" y="0"/>
                  </a:lnTo>
                  <a:lnTo>
                    <a:pt x="106" y="5"/>
                  </a:lnTo>
                  <a:lnTo>
                    <a:pt x="106" y="8"/>
                  </a:lnTo>
                  <a:lnTo>
                    <a:pt x="105" y="13"/>
                  </a:lnTo>
                  <a:lnTo>
                    <a:pt x="104" y="17"/>
                  </a:lnTo>
                  <a:lnTo>
                    <a:pt x="104" y="27"/>
                  </a:lnTo>
                  <a:lnTo>
                    <a:pt x="104" y="35"/>
                  </a:lnTo>
                  <a:lnTo>
                    <a:pt x="104" y="44"/>
                  </a:lnTo>
                  <a:lnTo>
                    <a:pt x="103" y="52"/>
                  </a:lnTo>
                  <a:lnTo>
                    <a:pt x="102" y="54"/>
                  </a:lnTo>
                  <a:lnTo>
                    <a:pt x="101" y="57"/>
                  </a:lnTo>
                  <a:lnTo>
                    <a:pt x="99" y="60"/>
                  </a:lnTo>
                  <a:lnTo>
                    <a:pt x="98" y="62"/>
                  </a:lnTo>
                  <a:lnTo>
                    <a:pt x="98" y="66"/>
                  </a:lnTo>
                  <a:lnTo>
                    <a:pt x="98" y="69"/>
                  </a:lnTo>
                  <a:lnTo>
                    <a:pt x="98" y="73"/>
                  </a:lnTo>
                  <a:lnTo>
                    <a:pt x="98" y="76"/>
                  </a:lnTo>
                  <a:lnTo>
                    <a:pt x="99" y="76"/>
                  </a:lnTo>
                  <a:lnTo>
                    <a:pt x="102" y="76"/>
                  </a:lnTo>
                  <a:lnTo>
                    <a:pt x="103" y="76"/>
                  </a:lnTo>
                  <a:lnTo>
                    <a:pt x="104" y="76"/>
                  </a:lnTo>
                  <a:lnTo>
                    <a:pt x="104" y="83"/>
                  </a:lnTo>
                  <a:lnTo>
                    <a:pt x="104" y="89"/>
                  </a:lnTo>
                  <a:lnTo>
                    <a:pt x="104" y="95"/>
                  </a:lnTo>
                  <a:lnTo>
                    <a:pt x="103" y="100"/>
                  </a:lnTo>
                  <a:lnTo>
                    <a:pt x="102" y="101"/>
                  </a:lnTo>
                  <a:lnTo>
                    <a:pt x="102" y="103"/>
                  </a:lnTo>
                  <a:lnTo>
                    <a:pt x="101" y="104"/>
                  </a:lnTo>
                  <a:lnTo>
                    <a:pt x="99" y="105"/>
                  </a:lnTo>
                  <a:lnTo>
                    <a:pt x="101" y="110"/>
                  </a:lnTo>
                  <a:lnTo>
                    <a:pt x="102" y="113"/>
                  </a:lnTo>
                  <a:lnTo>
                    <a:pt x="102" y="118"/>
                  </a:lnTo>
                  <a:lnTo>
                    <a:pt x="103" y="121"/>
                  </a:lnTo>
                  <a:lnTo>
                    <a:pt x="103" y="126"/>
                  </a:lnTo>
                  <a:lnTo>
                    <a:pt x="103" y="129"/>
                  </a:lnTo>
                  <a:lnTo>
                    <a:pt x="103" y="134"/>
                  </a:lnTo>
                  <a:lnTo>
                    <a:pt x="103" y="138"/>
                  </a:lnTo>
                  <a:lnTo>
                    <a:pt x="102" y="141"/>
                  </a:lnTo>
                  <a:lnTo>
                    <a:pt x="102" y="143"/>
                  </a:lnTo>
                  <a:lnTo>
                    <a:pt x="101" y="146"/>
                  </a:lnTo>
                  <a:lnTo>
                    <a:pt x="99" y="149"/>
                  </a:lnTo>
                  <a:lnTo>
                    <a:pt x="101" y="152"/>
                  </a:lnTo>
                  <a:lnTo>
                    <a:pt x="102" y="156"/>
                  </a:lnTo>
                  <a:lnTo>
                    <a:pt x="103" y="159"/>
                  </a:lnTo>
                  <a:lnTo>
                    <a:pt x="104" y="162"/>
                  </a:lnTo>
                  <a:lnTo>
                    <a:pt x="104" y="167"/>
                  </a:lnTo>
                  <a:lnTo>
                    <a:pt x="104" y="171"/>
                  </a:lnTo>
                  <a:lnTo>
                    <a:pt x="103" y="174"/>
                  </a:lnTo>
                  <a:lnTo>
                    <a:pt x="103" y="179"/>
                  </a:lnTo>
                  <a:lnTo>
                    <a:pt x="102" y="182"/>
                  </a:lnTo>
                  <a:lnTo>
                    <a:pt x="102" y="186"/>
                  </a:lnTo>
                  <a:lnTo>
                    <a:pt x="102" y="189"/>
                  </a:lnTo>
                  <a:lnTo>
                    <a:pt x="101" y="192"/>
                  </a:lnTo>
                  <a:lnTo>
                    <a:pt x="101" y="198"/>
                  </a:lnTo>
                  <a:lnTo>
                    <a:pt x="101" y="204"/>
                  </a:lnTo>
                  <a:lnTo>
                    <a:pt x="101" y="211"/>
                  </a:lnTo>
                  <a:lnTo>
                    <a:pt x="101" y="217"/>
                  </a:lnTo>
                  <a:lnTo>
                    <a:pt x="99" y="220"/>
                  </a:lnTo>
                  <a:lnTo>
                    <a:pt x="99" y="224"/>
                  </a:lnTo>
                  <a:lnTo>
                    <a:pt x="98" y="228"/>
                  </a:lnTo>
                  <a:lnTo>
                    <a:pt x="97" y="232"/>
                  </a:lnTo>
                  <a:lnTo>
                    <a:pt x="90" y="240"/>
                  </a:lnTo>
                  <a:lnTo>
                    <a:pt x="81" y="244"/>
                  </a:lnTo>
                  <a:lnTo>
                    <a:pt x="68" y="248"/>
                  </a:lnTo>
                  <a:lnTo>
                    <a:pt x="56" y="249"/>
                  </a:lnTo>
                  <a:lnTo>
                    <a:pt x="42" y="249"/>
                  </a:lnTo>
                  <a:lnTo>
                    <a:pt x="30" y="245"/>
                  </a:lnTo>
                  <a:lnTo>
                    <a:pt x="19" y="240"/>
                  </a:lnTo>
                  <a:lnTo>
                    <a:pt x="12" y="232"/>
                  </a:lnTo>
                  <a:lnTo>
                    <a:pt x="12" y="220"/>
                  </a:lnTo>
                  <a:lnTo>
                    <a:pt x="12" y="207"/>
                  </a:lnTo>
                  <a:lnTo>
                    <a:pt x="11" y="196"/>
                  </a:lnTo>
                  <a:lnTo>
                    <a:pt x="11" y="184"/>
                  </a:lnTo>
                  <a:lnTo>
                    <a:pt x="10" y="182"/>
                  </a:lnTo>
                  <a:lnTo>
                    <a:pt x="10" y="180"/>
                  </a:lnTo>
                  <a:lnTo>
                    <a:pt x="8" y="179"/>
                  </a:lnTo>
                  <a:lnTo>
                    <a:pt x="7" y="176"/>
                  </a:lnTo>
                  <a:lnTo>
                    <a:pt x="7" y="172"/>
                  </a:lnTo>
                  <a:lnTo>
                    <a:pt x="7" y="168"/>
                  </a:lnTo>
                  <a:lnTo>
                    <a:pt x="6" y="165"/>
                  </a:lnTo>
                  <a:lnTo>
                    <a:pt x="6" y="160"/>
                  </a:lnTo>
                  <a:lnTo>
                    <a:pt x="7" y="158"/>
                  </a:lnTo>
                  <a:lnTo>
                    <a:pt x="10" y="154"/>
                  </a:lnTo>
                  <a:lnTo>
                    <a:pt x="11" y="152"/>
                  </a:lnTo>
                  <a:lnTo>
                    <a:pt x="12" y="150"/>
                  </a:lnTo>
                  <a:lnTo>
                    <a:pt x="11" y="150"/>
                  </a:lnTo>
                  <a:lnTo>
                    <a:pt x="8" y="150"/>
                  </a:lnTo>
                  <a:lnTo>
                    <a:pt x="7" y="150"/>
                  </a:lnTo>
                  <a:lnTo>
                    <a:pt x="5" y="150"/>
                  </a:lnTo>
                  <a:lnTo>
                    <a:pt x="5" y="142"/>
                  </a:lnTo>
                  <a:lnTo>
                    <a:pt x="5" y="135"/>
                  </a:lnTo>
                  <a:lnTo>
                    <a:pt x="5" y="128"/>
                  </a:lnTo>
                  <a:lnTo>
                    <a:pt x="4" y="121"/>
                  </a:lnTo>
                  <a:lnTo>
                    <a:pt x="6" y="120"/>
                  </a:lnTo>
                  <a:lnTo>
                    <a:pt x="7" y="119"/>
                  </a:lnTo>
                  <a:lnTo>
                    <a:pt x="10" y="119"/>
                  </a:lnTo>
                  <a:lnTo>
                    <a:pt x="11" y="118"/>
                  </a:lnTo>
                  <a:lnTo>
                    <a:pt x="10" y="113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1"/>
                  </a:lnTo>
                  <a:lnTo>
                    <a:pt x="5" y="99"/>
                  </a:lnTo>
                  <a:lnTo>
                    <a:pt x="5" y="96"/>
                  </a:lnTo>
                  <a:lnTo>
                    <a:pt x="5" y="92"/>
                  </a:lnTo>
                  <a:lnTo>
                    <a:pt x="4" y="89"/>
                  </a:lnTo>
                  <a:lnTo>
                    <a:pt x="6" y="85"/>
                  </a:lnTo>
                  <a:lnTo>
                    <a:pt x="7" y="83"/>
                  </a:lnTo>
                  <a:lnTo>
                    <a:pt x="10" y="80"/>
                  </a:lnTo>
                  <a:lnTo>
                    <a:pt x="11" y="77"/>
                  </a:lnTo>
                  <a:lnTo>
                    <a:pt x="11" y="74"/>
                  </a:lnTo>
                  <a:lnTo>
                    <a:pt x="11" y="70"/>
                  </a:lnTo>
                  <a:lnTo>
                    <a:pt x="10" y="67"/>
                  </a:lnTo>
                  <a:lnTo>
                    <a:pt x="10" y="63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5" y="57"/>
                  </a:lnTo>
                  <a:lnTo>
                    <a:pt x="4" y="54"/>
                  </a:lnTo>
                  <a:lnTo>
                    <a:pt x="4" y="47"/>
                  </a:lnTo>
                  <a:lnTo>
                    <a:pt x="4" y="39"/>
                  </a:lnTo>
                  <a:lnTo>
                    <a:pt x="4" y="32"/>
                  </a:lnTo>
                  <a:lnTo>
                    <a:pt x="4" y="24"/>
                  </a:lnTo>
                  <a:lnTo>
                    <a:pt x="3" y="19"/>
                  </a:lnTo>
                  <a:lnTo>
                    <a:pt x="3" y="12"/>
                  </a:lnTo>
                  <a:lnTo>
                    <a:pt x="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9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5227920" y="1769400"/>
              <a:ext cx="41400" cy="113400"/>
            </a:xfrm>
            <a:custGeom>
              <a:avLst/>
              <a:gdLst/>
              <a:ahLst/>
              <a:rect l="l" t="t" r="r" b="b"/>
              <a:pathLst>
                <a:path w="84" h="248">
                  <a:moveTo>
                    <a:pt x="0" y="0"/>
                  </a:moveTo>
                  <a:lnTo>
                    <a:pt x="84" y="0"/>
                  </a:lnTo>
                  <a:lnTo>
                    <a:pt x="82" y="18"/>
                  </a:lnTo>
                  <a:lnTo>
                    <a:pt x="80" y="53"/>
                  </a:lnTo>
                  <a:lnTo>
                    <a:pt x="76" y="62"/>
                  </a:lnTo>
                  <a:lnTo>
                    <a:pt x="76" y="76"/>
                  </a:lnTo>
                  <a:lnTo>
                    <a:pt x="80" y="76"/>
                  </a:lnTo>
                  <a:lnTo>
                    <a:pt x="80" y="100"/>
                  </a:lnTo>
                  <a:lnTo>
                    <a:pt x="77" y="106"/>
                  </a:lnTo>
                  <a:lnTo>
                    <a:pt x="80" y="121"/>
                  </a:lnTo>
                  <a:lnTo>
                    <a:pt x="80" y="138"/>
                  </a:lnTo>
                  <a:lnTo>
                    <a:pt x="78" y="149"/>
                  </a:lnTo>
                  <a:lnTo>
                    <a:pt x="80" y="161"/>
                  </a:lnTo>
                  <a:lnTo>
                    <a:pt x="80" y="178"/>
                  </a:lnTo>
                  <a:lnTo>
                    <a:pt x="78" y="191"/>
                  </a:lnTo>
                  <a:lnTo>
                    <a:pt x="79" y="217"/>
                  </a:lnTo>
                  <a:lnTo>
                    <a:pt x="77" y="231"/>
                  </a:lnTo>
                  <a:lnTo>
                    <a:pt x="71" y="239"/>
                  </a:lnTo>
                  <a:lnTo>
                    <a:pt x="63" y="243"/>
                  </a:lnTo>
                  <a:lnTo>
                    <a:pt x="54" y="247"/>
                  </a:lnTo>
                  <a:lnTo>
                    <a:pt x="44" y="248"/>
                  </a:lnTo>
                  <a:lnTo>
                    <a:pt x="32" y="248"/>
                  </a:lnTo>
                  <a:lnTo>
                    <a:pt x="23" y="244"/>
                  </a:lnTo>
                  <a:lnTo>
                    <a:pt x="15" y="240"/>
                  </a:lnTo>
                  <a:lnTo>
                    <a:pt x="9" y="232"/>
                  </a:lnTo>
                  <a:lnTo>
                    <a:pt x="9" y="183"/>
                  </a:lnTo>
                  <a:lnTo>
                    <a:pt x="6" y="175"/>
                  </a:lnTo>
                  <a:lnTo>
                    <a:pt x="4" y="159"/>
                  </a:lnTo>
                  <a:lnTo>
                    <a:pt x="9" y="149"/>
                  </a:lnTo>
                  <a:lnTo>
                    <a:pt x="3" y="149"/>
                  </a:lnTo>
                  <a:lnTo>
                    <a:pt x="3" y="120"/>
                  </a:lnTo>
                  <a:lnTo>
                    <a:pt x="8" y="117"/>
                  </a:lnTo>
                  <a:lnTo>
                    <a:pt x="4" y="103"/>
                  </a:lnTo>
                  <a:lnTo>
                    <a:pt x="3" y="89"/>
                  </a:lnTo>
                  <a:lnTo>
                    <a:pt x="8" y="77"/>
                  </a:lnTo>
                  <a:lnTo>
                    <a:pt x="8" y="64"/>
                  </a:lnTo>
                  <a:lnTo>
                    <a:pt x="3" y="54"/>
                  </a:lnTo>
                  <a:lnTo>
                    <a:pt x="3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171400" y="1809720"/>
              <a:ext cx="152640" cy="9720"/>
            </a:xfrm>
            <a:custGeom>
              <a:avLst/>
              <a:gdLst/>
              <a:ahLst/>
              <a:rect l="l" t="t" r="r" b="b"/>
              <a:pathLst>
                <a:path w="308" h="23">
                  <a:moveTo>
                    <a:pt x="0" y="4"/>
                  </a:moveTo>
                  <a:lnTo>
                    <a:pt x="19" y="6"/>
                  </a:lnTo>
                  <a:lnTo>
                    <a:pt x="39" y="7"/>
                  </a:lnTo>
                  <a:lnTo>
                    <a:pt x="57" y="7"/>
                  </a:lnTo>
                  <a:lnTo>
                    <a:pt x="77" y="7"/>
                  </a:lnTo>
                  <a:lnTo>
                    <a:pt x="97" y="8"/>
                  </a:lnTo>
                  <a:lnTo>
                    <a:pt x="116" y="8"/>
                  </a:lnTo>
                  <a:lnTo>
                    <a:pt x="135" y="8"/>
                  </a:lnTo>
                  <a:lnTo>
                    <a:pt x="154" y="7"/>
                  </a:lnTo>
                  <a:lnTo>
                    <a:pt x="174" y="7"/>
                  </a:lnTo>
                  <a:lnTo>
                    <a:pt x="192" y="7"/>
                  </a:lnTo>
                  <a:lnTo>
                    <a:pt x="212" y="6"/>
                  </a:lnTo>
                  <a:lnTo>
                    <a:pt x="231" y="4"/>
                  </a:lnTo>
                  <a:lnTo>
                    <a:pt x="251" y="3"/>
                  </a:lnTo>
                  <a:lnTo>
                    <a:pt x="269" y="2"/>
                  </a:lnTo>
                  <a:lnTo>
                    <a:pt x="289" y="1"/>
                  </a:lnTo>
                  <a:lnTo>
                    <a:pt x="308" y="0"/>
                  </a:lnTo>
                  <a:lnTo>
                    <a:pt x="293" y="6"/>
                  </a:lnTo>
                  <a:lnTo>
                    <a:pt x="279" y="10"/>
                  </a:lnTo>
                  <a:lnTo>
                    <a:pt x="261" y="14"/>
                  </a:lnTo>
                  <a:lnTo>
                    <a:pt x="243" y="17"/>
                  </a:lnTo>
                  <a:lnTo>
                    <a:pt x="224" y="19"/>
                  </a:lnTo>
                  <a:lnTo>
                    <a:pt x="205" y="21"/>
                  </a:lnTo>
                  <a:lnTo>
                    <a:pt x="185" y="22"/>
                  </a:lnTo>
                  <a:lnTo>
                    <a:pt x="166" y="23"/>
                  </a:lnTo>
                  <a:lnTo>
                    <a:pt x="145" y="23"/>
                  </a:lnTo>
                  <a:lnTo>
                    <a:pt x="125" y="23"/>
                  </a:lnTo>
                  <a:lnTo>
                    <a:pt x="106" y="23"/>
                  </a:lnTo>
                  <a:lnTo>
                    <a:pt x="86" y="22"/>
                  </a:lnTo>
                  <a:lnTo>
                    <a:pt x="67" y="22"/>
                  </a:lnTo>
                  <a:lnTo>
                    <a:pt x="48" y="21"/>
                  </a:lnTo>
                  <a:lnTo>
                    <a:pt x="31" y="21"/>
                  </a:lnTo>
                  <a:lnTo>
                    <a:pt x="15" y="2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1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5176440" y="1828080"/>
              <a:ext cx="147600" cy="12600"/>
            </a:xfrm>
            <a:custGeom>
              <a:avLst/>
              <a:gdLst/>
              <a:ahLst/>
              <a:rect l="l" t="t" r="r" b="b"/>
              <a:pathLst>
                <a:path w="298" h="29">
                  <a:moveTo>
                    <a:pt x="0" y="15"/>
                  </a:moveTo>
                  <a:lnTo>
                    <a:pt x="19" y="15"/>
                  </a:lnTo>
                  <a:lnTo>
                    <a:pt x="38" y="15"/>
                  </a:lnTo>
                  <a:lnTo>
                    <a:pt x="57" y="15"/>
                  </a:lnTo>
                  <a:lnTo>
                    <a:pt x="75" y="15"/>
                  </a:lnTo>
                  <a:lnTo>
                    <a:pt x="93" y="15"/>
                  </a:lnTo>
                  <a:lnTo>
                    <a:pt x="113" y="15"/>
                  </a:lnTo>
                  <a:lnTo>
                    <a:pt x="131" y="15"/>
                  </a:lnTo>
                  <a:lnTo>
                    <a:pt x="150" y="14"/>
                  </a:lnTo>
                  <a:lnTo>
                    <a:pt x="168" y="14"/>
                  </a:lnTo>
                  <a:lnTo>
                    <a:pt x="187" y="13"/>
                  </a:lnTo>
                  <a:lnTo>
                    <a:pt x="205" y="12"/>
                  </a:lnTo>
                  <a:lnTo>
                    <a:pt x="224" y="10"/>
                  </a:lnTo>
                  <a:lnTo>
                    <a:pt x="243" y="8"/>
                  </a:lnTo>
                  <a:lnTo>
                    <a:pt x="262" y="6"/>
                  </a:lnTo>
                  <a:lnTo>
                    <a:pt x="280" y="4"/>
                  </a:lnTo>
                  <a:lnTo>
                    <a:pt x="298" y="0"/>
                  </a:lnTo>
                  <a:lnTo>
                    <a:pt x="283" y="7"/>
                  </a:lnTo>
                  <a:lnTo>
                    <a:pt x="267" y="13"/>
                  </a:lnTo>
                  <a:lnTo>
                    <a:pt x="250" y="17"/>
                  </a:lnTo>
                  <a:lnTo>
                    <a:pt x="233" y="22"/>
                  </a:lnTo>
                  <a:lnTo>
                    <a:pt x="214" y="24"/>
                  </a:lnTo>
                  <a:lnTo>
                    <a:pt x="195" y="27"/>
                  </a:lnTo>
                  <a:lnTo>
                    <a:pt x="176" y="28"/>
                  </a:lnTo>
                  <a:lnTo>
                    <a:pt x="157" y="28"/>
                  </a:lnTo>
                  <a:lnTo>
                    <a:pt x="136" y="29"/>
                  </a:lnTo>
                  <a:lnTo>
                    <a:pt x="117" y="29"/>
                  </a:lnTo>
                  <a:lnTo>
                    <a:pt x="97" y="28"/>
                  </a:lnTo>
                  <a:lnTo>
                    <a:pt x="77" y="28"/>
                  </a:lnTo>
                  <a:lnTo>
                    <a:pt x="59" y="27"/>
                  </a:lnTo>
                  <a:lnTo>
                    <a:pt x="41" y="27"/>
                  </a:lnTo>
                  <a:lnTo>
                    <a:pt x="23" y="25"/>
                  </a:lnTo>
                  <a:lnTo>
                    <a:pt x="7" y="2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5177520" y="1847520"/>
              <a:ext cx="147600" cy="12600"/>
            </a:xfrm>
            <a:custGeom>
              <a:avLst/>
              <a:gdLst/>
              <a:ahLst/>
              <a:rect l="l" t="t" r="r" b="b"/>
              <a:pathLst>
                <a:path w="298" h="27">
                  <a:moveTo>
                    <a:pt x="6" y="15"/>
                  </a:moveTo>
                  <a:lnTo>
                    <a:pt x="25" y="16"/>
                  </a:lnTo>
                  <a:lnTo>
                    <a:pt x="44" y="16"/>
                  </a:lnTo>
                  <a:lnTo>
                    <a:pt x="63" y="17"/>
                  </a:lnTo>
                  <a:lnTo>
                    <a:pt x="81" y="17"/>
                  </a:lnTo>
                  <a:lnTo>
                    <a:pt x="99" y="18"/>
                  </a:lnTo>
                  <a:lnTo>
                    <a:pt x="117" y="18"/>
                  </a:lnTo>
                  <a:lnTo>
                    <a:pt x="135" y="18"/>
                  </a:lnTo>
                  <a:lnTo>
                    <a:pt x="153" y="17"/>
                  </a:lnTo>
                  <a:lnTo>
                    <a:pt x="171" y="16"/>
                  </a:lnTo>
                  <a:lnTo>
                    <a:pt x="188" y="16"/>
                  </a:lnTo>
                  <a:lnTo>
                    <a:pt x="207" y="14"/>
                  </a:lnTo>
                  <a:lnTo>
                    <a:pt x="225" y="12"/>
                  </a:lnTo>
                  <a:lnTo>
                    <a:pt x="242" y="10"/>
                  </a:lnTo>
                  <a:lnTo>
                    <a:pt x="261" y="7"/>
                  </a:lnTo>
                  <a:lnTo>
                    <a:pt x="279" y="3"/>
                  </a:lnTo>
                  <a:lnTo>
                    <a:pt x="298" y="0"/>
                  </a:lnTo>
                  <a:lnTo>
                    <a:pt x="280" y="17"/>
                  </a:lnTo>
                  <a:lnTo>
                    <a:pt x="263" y="19"/>
                  </a:lnTo>
                  <a:lnTo>
                    <a:pt x="246" y="22"/>
                  </a:lnTo>
                  <a:lnTo>
                    <a:pt x="229" y="24"/>
                  </a:lnTo>
                  <a:lnTo>
                    <a:pt x="211" y="25"/>
                  </a:lnTo>
                  <a:lnTo>
                    <a:pt x="194" y="26"/>
                  </a:lnTo>
                  <a:lnTo>
                    <a:pt x="176" y="27"/>
                  </a:lnTo>
                  <a:lnTo>
                    <a:pt x="158" y="27"/>
                  </a:lnTo>
                  <a:lnTo>
                    <a:pt x="141" y="27"/>
                  </a:lnTo>
                  <a:lnTo>
                    <a:pt x="123" y="27"/>
                  </a:lnTo>
                  <a:lnTo>
                    <a:pt x="105" y="27"/>
                  </a:lnTo>
                  <a:lnTo>
                    <a:pt x="88" y="27"/>
                  </a:lnTo>
                  <a:lnTo>
                    <a:pt x="70" y="27"/>
                  </a:lnTo>
                  <a:lnTo>
                    <a:pt x="52" y="26"/>
                  </a:lnTo>
                  <a:lnTo>
                    <a:pt x="35" y="26"/>
                  </a:lnTo>
                  <a:lnTo>
                    <a:pt x="17" y="26"/>
                  </a:lnTo>
                  <a:lnTo>
                    <a:pt x="0" y="26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5171400" y="1766880"/>
              <a:ext cx="160200" cy="4320"/>
            </a:xfrm>
            <a:custGeom>
              <a:avLst/>
              <a:gdLst/>
              <a:ahLst/>
              <a:rect l="l" t="t" r="r" b="b"/>
              <a:pathLst>
                <a:path w="323" h="11">
                  <a:moveTo>
                    <a:pt x="0" y="6"/>
                  </a:moveTo>
                  <a:lnTo>
                    <a:pt x="150" y="3"/>
                  </a:lnTo>
                  <a:lnTo>
                    <a:pt x="259" y="0"/>
                  </a:lnTo>
                  <a:lnTo>
                    <a:pt x="323" y="0"/>
                  </a:lnTo>
                  <a:lnTo>
                    <a:pt x="297" y="9"/>
                  </a:lnTo>
                  <a:lnTo>
                    <a:pt x="219" y="9"/>
                  </a:lnTo>
                  <a:lnTo>
                    <a:pt x="82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5176440" y="1788480"/>
              <a:ext cx="146520" cy="7200"/>
            </a:xfrm>
            <a:custGeom>
              <a:avLst/>
              <a:gdLst/>
              <a:ahLst/>
              <a:rect l="l" t="t" r="r" b="b"/>
              <a:pathLst>
                <a:path w="297" h="16">
                  <a:moveTo>
                    <a:pt x="17" y="6"/>
                  </a:moveTo>
                  <a:lnTo>
                    <a:pt x="168" y="8"/>
                  </a:lnTo>
                  <a:lnTo>
                    <a:pt x="297" y="0"/>
                  </a:lnTo>
                  <a:lnTo>
                    <a:pt x="283" y="8"/>
                  </a:lnTo>
                  <a:lnTo>
                    <a:pt x="120" y="16"/>
                  </a:lnTo>
                  <a:lnTo>
                    <a:pt x="0" y="16"/>
                  </a:lnTo>
                  <a:lnTo>
                    <a:pt x="0" y="7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5212080" y="1803240"/>
              <a:ext cx="53280" cy="5400"/>
            </a:xfrm>
            <a:custGeom>
              <a:avLst/>
              <a:gdLst/>
              <a:ahLst/>
              <a:rect l="l" t="t" r="r" b="b"/>
              <a:pathLst>
                <a:path w="108" h="11">
                  <a:moveTo>
                    <a:pt x="24" y="0"/>
                  </a:moveTo>
                  <a:lnTo>
                    <a:pt x="69" y="0"/>
                  </a:lnTo>
                  <a:lnTo>
                    <a:pt x="108" y="0"/>
                  </a:lnTo>
                  <a:lnTo>
                    <a:pt x="95" y="8"/>
                  </a:lnTo>
                  <a:lnTo>
                    <a:pt x="59" y="11"/>
                  </a:lnTo>
                  <a:lnTo>
                    <a:pt x="0" y="1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1e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5221080" y="1823400"/>
              <a:ext cx="38520" cy="4320"/>
            </a:xfrm>
            <a:custGeom>
              <a:avLst/>
              <a:gdLst/>
              <a:ahLst/>
              <a:rect l="l" t="t" r="r" b="b"/>
              <a:pathLst>
                <a:path w="78" h="9">
                  <a:moveTo>
                    <a:pt x="18" y="0"/>
                  </a:moveTo>
                  <a:lnTo>
                    <a:pt x="78" y="0"/>
                  </a:lnTo>
                  <a:lnTo>
                    <a:pt x="63" y="9"/>
                  </a:lnTo>
                  <a:lnTo>
                    <a:pt x="0" y="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d1e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5226120" y="1845360"/>
              <a:ext cx="38520" cy="5040"/>
            </a:xfrm>
            <a:custGeom>
              <a:avLst/>
              <a:gdLst/>
              <a:ahLst/>
              <a:rect l="l" t="t" r="r" b="b"/>
              <a:pathLst>
                <a:path w="79" h="12">
                  <a:moveTo>
                    <a:pt x="7" y="0"/>
                  </a:moveTo>
                  <a:lnTo>
                    <a:pt x="41" y="0"/>
                  </a:lnTo>
                  <a:lnTo>
                    <a:pt x="79" y="0"/>
                  </a:lnTo>
                  <a:lnTo>
                    <a:pt x="59" y="9"/>
                  </a:lnTo>
                  <a:lnTo>
                    <a:pt x="0" y="1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e2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5212080" y="1879200"/>
              <a:ext cx="76320" cy="15480"/>
            </a:xfrm>
            <a:custGeom>
              <a:avLst/>
              <a:gdLst/>
              <a:ahLst/>
              <a:rect l="l" t="t" r="r" b="b"/>
              <a:pathLst>
                <a:path w="154" h="33">
                  <a:moveTo>
                    <a:pt x="0" y="0"/>
                  </a:moveTo>
                  <a:lnTo>
                    <a:pt x="59" y="2"/>
                  </a:lnTo>
                  <a:lnTo>
                    <a:pt x="109" y="1"/>
                  </a:lnTo>
                  <a:lnTo>
                    <a:pt x="154" y="0"/>
                  </a:lnTo>
                  <a:lnTo>
                    <a:pt x="119" y="24"/>
                  </a:lnTo>
                  <a:lnTo>
                    <a:pt x="104" y="31"/>
                  </a:lnTo>
                  <a:lnTo>
                    <a:pt x="56" y="33"/>
                  </a:lnTo>
                  <a:lnTo>
                    <a:pt x="2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944640" y="3168360"/>
            <a:ext cx="1368360" cy="1030320"/>
            <a:chOff x="944640" y="3168360"/>
            <a:chExt cx="1368360" cy="1030320"/>
          </a:xfrm>
        </p:grpSpPr>
        <p:sp>
          <p:nvSpPr>
            <p:cNvPr id="259" name=""/>
            <p:cNvSpPr/>
            <p:nvPr/>
          </p:nvSpPr>
          <p:spPr>
            <a:xfrm>
              <a:off x="944640" y="3899520"/>
              <a:ext cx="1368360" cy="299160"/>
            </a:xfrm>
            <a:prstGeom prst="cube">
              <a:avLst>
                <a:gd name="adj" fmla="val 8843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30320" y="3984480"/>
              <a:ext cx="427680" cy="127800"/>
            </a:xfrm>
            <a:prstGeom prst="parallelogram">
              <a:avLst>
                <a:gd name="adj" fmla="val 1076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14680" y="3984480"/>
              <a:ext cx="470160" cy="127800"/>
            </a:xfrm>
            <a:prstGeom prst="parallelogram">
              <a:avLst>
                <a:gd name="adj" fmla="val 9878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86640" y="3686040"/>
              <a:ext cx="85680" cy="2984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206000" y="3168360"/>
              <a:ext cx="1078560" cy="654120"/>
              <a:chOff x="1206000" y="3168360"/>
              <a:chExt cx="1078560" cy="654120"/>
            </a:xfrm>
          </p:grpSpPr>
          <p:sp>
            <p:nvSpPr>
              <p:cNvPr id="264" name=""/>
              <p:cNvSpPr/>
              <p:nvPr/>
            </p:nvSpPr>
            <p:spPr>
              <a:xfrm rot="19921800">
                <a:off x="1173240" y="3531960"/>
                <a:ext cx="897120" cy="84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921800">
                <a:off x="2003040" y="3218400"/>
                <a:ext cx="256320" cy="17136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244160" y="3728160"/>
              <a:ext cx="85680" cy="341640"/>
              <a:chOff x="1244160" y="3728160"/>
              <a:chExt cx="85680" cy="341640"/>
            </a:xfrm>
          </p:grpSpPr>
          <p:sp>
            <p:nvSpPr>
              <p:cNvPr id="267" name=""/>
              <p:cNvSpPr/>
              <p:nvPr/>
            </p:nvSpPr>
            <p:spPr>
              <a:xfrm>
                <a:off x="1244160" y="3728160"/>
                <a:ext cx="85680" cy="34164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44160" y="3770280"/>
                <a:ext cx="85680" cy="85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884960" y="3686040"/>
              <a:ext cx="85680" cy="3416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42480" y="3728160"/>
              <a:ext cx="85680" cy="3416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116000" y="3942000"/>
              <a:ext cx="63720" cy="105840"/>
              <a:chOff x="1116000" y="3942000"/>
              <a:chExt cx="63720" cy="105840"/>
            </a:xfrm>
          </p:grpSpPr>
          <p:sp>
            <p:nvSpPr>
              <p:cNvPr id="272" name=""/>
              <p:cNvSpPr/>
              <p:nvPr/>
            </p:nvSpPr>
            <p:spPr>
              <a:xfrm>
                <a:off x="1126080" y="3984120"/>
                <a:ext cx="42120" cy="63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116000" y="3942000"/>
                <a:ext cx="63720" cy="421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014200" y="3942000"/>
              <a:ext cx="64080" cy="105840"/>
              <a:chOff x="2014200" y="3942000"/>
              <a:chExt cx="64080" cy="105840"/>
            </a:xfrm>
          </p:grpSpPr>
          <p:sp>
            <p:nvSpPr>
              <p:cNvPr id="275" name=""/>
              <p:cNvSpPr/>
              <p:nvPr/>
            </p:nvSpPr>
            <p:spPr>
              <a:xfrm>
                <a:off x="2024640" y="3984120"/>
                <a:ext cx="42120" cy="637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14200" y="3942000"/>
                <a:ext cx="64080" cy="421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未知"/>
          <p:cNvSpPr/>
          <p:nvPr/>
        </p:nvSpPr>
        <p:spPr>
          <a:xfrm>
            <a:off x="250920" y="2467080"/>
            <a:ext cx="3117600" cy="1562040"/>
          </a:xfrm>
          <a:custGeom>
            <a:avLst/>
            <a:gdLst/>
            <a:ahLst/>
            <a:rect l="l" t="t" r="r" b="b"/>
            <a:pathLst>
              <a:path w="8658" h="4342">
                <a:moveTo>
                  <a:pt x="2133" y="12650"/>
                </a:moveTo>
                <a:cubicBezTo>
                  <a:pt x="2022" y="12655"/>
                  <a:pt x="1859" y="12628"/>
                  <a:pt x="1761" y="12675"/>
                </a:cubicBezTo>
                <a:cubicBezTo>
                  <a:pt x="1754" y="12679"/>
                  <a:pt x="1656" y="12739"/>
                  <a:pt x="1637" y="12750"/>
                </a:cubicBezTo>
                <a:cubicBezTo>
                  <a:pt x="1565" y="12792"/>
                  <a:pt x="1508" y="12852"/>
                  <a:pt x="1439" y="12898"/>
                </a:cubicBezTo>
                <a:cubicBezTo>
                  <a:pt x="1391" y="12929"/>
                  <a:pt x="1301" y="12965"/>
                  <a:pt x="1265" y="12998"/>
                </a:cubicBezTo>
                <a:cubicBezTo>
                  <a:pt x="1233" y="13028"/>
                  <a:pt x="1171" y="13090"/>
                  <a:pt x="1141" y="13122"/>
                </a:cubicBezTo>
                <a:cubicBezTo>
                  <a:pt x="1093" y="13173"/>
                  <a:pt x="1052" y="13282"/>
                  <a:pt x="1017" y="13320"/>
                </a:cubicBezTo>
                <a:cubicBezTo>
                  <a:pt x="982" y="13358"/>
                  <a:pt x="945" y="13385"/>
                  <a:pt x="918" y="13419"/>
                </a:cubicBezTo>
                <a:cubicBezTo>
                  <a:pt x="876" y="13472"/>
                  <a:pt x="794" y="13522"/>
                  <a:pt x="769" y="13593"/>
                </a:cubicBezTo>
                <a:cubicBezTo>
                  <a:pt x="738" y="13681"/>
                  <a:pt x="732" y="13774"/>
                  <a:pt x="695" y="13866"/>
                </a:cubicBezTo>
                <a:cubicBezTo>
                  <a:pt x="664" y="13942"/>
                  <a:pt x="627" y="14014"/>
                  <a:pt x="595" y="14089"/>
                </a:cubicBezTo>
                <a:cubicBezTo>
                  <a:pt x="559" y="14174"/>
                  <a:pt x="526" y="14245"/>
                  <a:pt x="496" y="14337"/>
                </a:cubicBezTo>
                <a:cubicBezTo>
                  <a:pt x="472" y="14410"/>
                  <a:pt x="445" y="14484"/>
                  <a:pt x="422" y="14560"/>
                </a:cubicBezTo>
                <a:cubicBezTo>
                  <a:pt x="397" y="14641"/>
                  <a:pt x="379" y="14726"/>
                  <a:pt x="372" y="14808"/>
                </a:cubicBezTo>
                <a:cubicBezTo>
                  <a:pt x="350" y="15074"/>
                  <a:pt x="346" y="15394"/>
                  <a:pt x="397" y="15652"/>
                </a:cubicBezTo>
                <a:cubicBezTo>
                  <a:pt x="405" y="15692"/>
                  <a:pt x="403" y="15765"/>
                  <a:pt x="422" y="15801"/>
                </a:cubicBezTo>
                <a:cubicBezTo>
                  <a:pt x="456" y="15867"/>
                  <a:pt x="544" y="15927"/>
                  <a:pt x="571" y="15974"/>
                </a:cubicBezTo>
                <a:cubicBezTo>
                  <a:pt x="593" y="16011"/>
                  <a:pt x="586" y="16054"/>
                  <a:pt x="620" y="16098"/>
                </a:cubicBezTo>
                <a:cubicBezTo>
                  <a:pt x="673" y="16168"/>
                  <a:pt x="741" y="16228"/>
                  <a:pt x="794" y="16297"/>
                </a:cubicBezTo>
                <a:cubicBezTo>
                  <a:pt x="921" y="16462"/>
                  <a:pt x="720" y="16052"/>
                  <a:pt x="868" y="16396"/>
                </a:cubicBezTo>
                <a:cubicBezTo>
                  <a:pt x="1041" y="16396"/>
                  <a:pt x="923" y="16383"/>
                  <a:pt x="1017" y="16446"/>
                </a:cubicBezTo>
                <a:cubicBezTo>
                  <a:pt x="1089" y="16500"/>
                  <a:pt x="1092" y="16518"/>
                  <a:pt x="1166" y="16570"/>
                </a:cubicBezTo>
                <a:cubicBezTo>
                  <a:pt x="1205" y="16598"/>
                  <a:pt x="1293" y="16652"/>
                  <a:pt x="1339" y="16669"/>
                </a:cubicBezTo>
                <a:cubicBezTo>
                  <a:pt x="1524" y="16740"/>
                  <a:pt x="1904" y="16657"/>
                  <a:pt x="2084" y="16644"/>
                </a:cubicBezTo>
                <a:cubicBezTo>
                  <a:pt x="2275" y="16631"/>
                  <a:pt x="2664" y="16574"/>
                  <a:pt x="2828" y="16669"/>
                </a:cubicBezTo>
                <a:cubicBezTo>
                  <a:pt x="2861" y="16688"/>
                  <a:pt x="2888" y="16732"/>
                  <a:pt x="2902" y="16743"/>
                </a:cubicBezTo>
                <a:cubicBezTo>
                  <a:pt x="2858" y="16717"/>
                  <a:pt x="2858" y="16756"/>
                  <a:pt x="2828" y="16718"/>
                </a:cubicBezTo>
                <a:cubicBezTo>
                  <a:pt x="2805" y="16696"/>
                  <a:pt x="2797" y="16691"/>
                  <a:pt x="2803" y="16669"/>
                </a:cubicBezTo>
              </a:path>
              <a:path w="8658" h="4342">
                <a:moveTo>
                  <a:pt x="5432" y="16743"/>
                </a:moveTo>
                <a:cubicBezTo>
                  <a:pt x="5400" y="16736"/>
                  <a:pt x="5391" y="16723"/>
                  <a:pt x="5358" y="16718"/>
                </a:cubicBezTo>
                <a:cubicBezTo>
                  <a:pt x="5333" y="16718"/>
                  <a:pt x="5325" y="16718"/>
                  <a:pt x="5308" y="16718"/>
                </a:cubicBezTo>
                <a:cubicBezTo>
                  <a:pt x="5336" y="16736"/>
                  <a:pt x="5289" y="16782"/>
                  <a:pt x="5358" y="16793"/>
                </a:cubicBezTo>
                <a:cubicBezTo>
                  <a:pt x="5576" y="16828"/>
                  <a:pt x="5808" y="16765"/>
                  <a:pt x="6003" y="16743"/>
                </a:cubicBezTo>
                <a:cubicBezTo>
                  <a:pt x="6057" y="16737"/>
                  <a:pt x="6137" y="16721"/>
                  <a:pt x="6176" y="16718"/>
                </a:cubicBezTo>
                <a:cubicBezTo>
                  <a:pt x="6257" y="16711"/>
                  <a:pt x="6323" y="16708"/>
                  <a:pt x="6400" y="16694"/>
                </a:cubicBezTo>
                <a:cubicBezTo>
                  <a:pt x="6446" y="16686"/>
                  <a:pt x="6504" y="16683"/>
                  <a:pt x="6548" y="16669"/>
                </a:cubicBezTo>
                <a:cubicBezTo>
                  <a:pt x="6593" y="16655"/>
                  <a:pt x="6651" y="16607"/>
                  <a:pt x="6697" y="16594"/>
                </a:cubicBezTo>
                <a:cubicBezTo>
                  <a:pt x="6763" y="16575"/>
                  <a:pt x="6836" y="16572"/>
                  <a:pt x="6896" y="16545"/>
                </a:cubicBezTo>
                <a:cubicBezTo>
                  <a:pt x="6941" y="16524"/>
                  <a:pt x="6997" y="16497"/>
                  <a:pt x="7045" y="16470"/>
                </a:cubicBezTo>
                <a:cubicBezTo>
                  <a:pt x="7117" y="16429"/>
                  <a:pt x="7196" y="16387"/>
                  <a:pt x="7268" y="16346"/>
                </a:cubicBezTo>
                <a:cubicBezTo>
                  <a:pt x="7353" y="16298"/>
                  <a:pt x="7413" y="16231"/>
                  <a:pt x="7491" y="16173"/>
                </a:cubicBezTo>
                <a:cubicBezTo>
                  <a:pt x="7571" y="16113"/>
                  <a:pt x="7647" y="16061"/>
                  <a:pt x="7714" y="15999"/>
                </a:cubicBezTo>
                <a:cubicBezTo>
                  <a:pt x="7791" y="15928"/>
                  <a:pt x="7899" y="15842"/>
                  <a:pt x="7962" y="15776"/>
                </a:cubicBezTo>
                <a:cubicBezTo>
                  <a:pt x="8055" y="15679"/>
                  <a:pt x="8154" y="15555"/>
                  <a:pt x="8235" y="15453"/>
                </a:cubicBezTo>
                <a:cubicBezTo>
                  <a:pt x="8334" y="15328"/>
                  <a:pt x="8400" y="15188"/>
                  <a:pt x="8483" y="15056"/>
                </a:cubicBezTo>
                <a:cubicBezTo>
                  <a:pt x="8546" y="14956"/>
                  <a:pt x="8619" y="14842"/>
                  <a:pt x="8682" y="14734"/>
                </a:cubicBezTo>
                <a:cubicBezTo>
                  <a:pt x="8742" y="14631"/>
                  <a:pt x="8760" y="14568"/>
                  <a:pt x="8806" y="14461"/>
                </a:cubicBezTo>
                <a:cubicBezTo>
                  <a:pt x="8850" y="14359"/>
                  <a:pt x="8856" y="14290"/>
                  <a:pt x="8880" y="14188"/>
                </a:cubicBezTo>
                <a:cubicBezTo>
                  <a:pt x="8903" y="14088"/>
                  <a:pt x="8937" y="13988"/>
                  <a:pt x="8954" y="13891"/>
                </a:cubicBezTo>
                <a:cubicBezTo>
                  <a:pt x="8971" y="13792"/>
                  <a:pt x="8989" y="13689"/>
                  <a:pt x="9004" y="13593"/>
                </a:cubicBezTo>
                <a:cubicBezTo>
                  <a:pt x="9037" y="13386"/>
                  <a:pt x="9015" y="13197"/>
                  <a:pt x="9004" y="12998"/>
                </a:cubicBezTo>
                <a:cubicBezTo>
                  <a:pt x="8999" y="12916"/>
                  <a:pt x="9003" y="12875"/>
                  <a:pt x="8979" y="12799"/>
                </a:cubicBezTo>
                <a:cubicBezTo>
                  <a:pt x="8963" y="12747"/>
                  <a:pt x="8935" y="12682"/>
                  <a:pt x="8905" y="12626"/>
                </a:cubicBezTo>
                <a:cubicBezTo>
                  <a:pt x="8895" y="12607"/>
                  <a:pt x="8863" y="12536"/>
                  <a:pt x="8855" y="12526"/>
                </a:cubicBezTo>
                <a:cubicBezTo>
                  <a:pt x="8854" y="12525"/>
                  <a:pt x="8764" y="12455"/>
                  <a:pt x="8756" y="12452"/>
                </a:cubicBezTo>
                <a:cubicBezTo>
                  <a:pt x="8594" y="12391"/>
                  <a:pt x="8166" y="12437"/>
                  <a:pt x="8037" y="12477"/>
                </a:cubicBezTo>
                <a:cubicBezTo>
                  <a:pt x="7991" y="12491"/>
                  <a:pt x="7953" y="12511"/>
                  <a:pt x="7913" y="12526"/>
                </a:cubicBezTo>
              </a:path>
            </a:pathLst>
          </a:custGeom>
          <a:solidFill>
            <a:srgbClr val="ffffff"/>
          </a:solidFill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2189400">
            <a:off x="2820600" y="2631600"/>
            <a:ext cx="5745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60720" y="1197000"/>
            <a:ext cx="50328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08000" y="876240"/>
            <a:ext cx="4680000" cy="5256360"/>
          </a:xfrm>
          <a:prstGeom prst="rect">
            <a:avLst/>
          </a:pr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92360" y="4621320"/>
            <a:ext cx="1619280" cy="1007280"/>
            <a:chOff x="1692360" y="4621320"/>
            <a:chExt cx="1619280" cy="1007280"/>
          </a:xfrm>
        </p:grpSpPr>
        <p:grpSp>
          <p:nvGrpSpPr>
            <p:cNvPr id="282" name=""/>
            <p:cNvGrpSpPr/>
            <p:nvPr/>
          </p:nvGrpSpPr>
          <p:grpSpPr>
            <a:xfrm>
              <a:off x="2271240" y="4621320"/>
              <a:ext cx="462960" cy="583560"/>
              <a:chOff x="2271240" y="4621320"/>
              <a:chExt cx="462960" cy="583560"/>
            </a:xfrm>
          </p:grpSpPr>
          <p:sp>
            <p:nvSpPr>
              <p:cNvPr id="283" name=""/>
              <p:cNvSpPr/>
              <p:nvPr/>
            </p:nvSpPr>
            <p:spPr>
              <a:xfrm>
                <a:off x="2271240" y="4621320"/>
                <a:ext cx="462960" cy="477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b2b2b2">
                      <a:alpha val="8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42520" y="5046120"/>
                <a:ext cx="320040" cy="158760"/>
              </a:xfrm>
              <a:prstGeom prst="rect">
                <a:avLst/>
              </a:prstGeom>
              <a:blipFill rotWithShape="0">
                <a:blip r:embed="rId1">
                  <a:alphaModFix amt="43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692360" y="5115240"/>
              <a:ext cx="1619280" cy="513360"/>
              <a:chOff x="1692360" y="5115240"/>
              <a:chExt cx="1619280" cy="513360"/>
            </a:xfrm>
          </p:grpSpPr>
          <p:sp>
            <p:nvSpPr>
              <p:cNvPr id="286" name=""/>
              <p:cNvSpPr/>
              <p:nvPr/>
            </p:nvSpPr>
            <p:spPr>
              <a:xfrm>
                <a:off x="1692360" y="5203800"/>
                <a:ext cx="1619280" cy="424800"/>
              </a:xfrm>
              <a:prstGeom prst="cube">
                <a:avLst>
                  <a:gd name="adj" fmla="val 72611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314440" y="5153760"/>
                <a:ext cx="374760" cy="264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850120" y="5132520"/>
                <a:ext cx="172800" cy="285120"/>
                <a:chOff x="2850120" y="5132520"/>
                <a:chExt cx="172800" cy="285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78200" y="524592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50120" y="513252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1924560" y="5115240"/>
                <a:ext cx="172800" cy="285120"/>
                <a:chOff x="1924560" y="5115240"/>
                <a:chExt cx="172800" cy="285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1952640" y="522864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924560" y="511524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4" name=""/>
          <p:cNvGrpSpPr/>
          <p:nvPr/>
        </p:nvGrpSpPr>
        <p:grpSpPr>
          <a:xfrm>
            <a:off x="3059280" y="3035160"/>
            <a:ext cx="1618920" cy="1008000"/>
            <a:chOff x="3059280" y="3035160"/>
            <a:chExt cx="1618920" cy="1008000"/>
          </a:xfrm>
        </p:grpSpPr>
        <p:grpSp>
          <p:nvGrpSpPr>
            <p:cNvPr id="295" name=""/>
            <p:cNvGrpSpPr/>
            <p:nvPr/>
          </p:nvGrpSpPr>
          <p:grpSpPr>
            <a:xfrm>
              <a:off x="3637800" y="3035160"/>
              <a:ext cx="462600" cy="583920"/>
              <a:chOff x="3637800" y="3035160"/>
              <a:chExt cx="462600" cy="583920"/>
            </a:xfrm>
          </p:grpSpPr>
          <p:sp>
            <p:nvSpPr>
              <p:cNvPr id="296" name=""/>
              <p:cNvSpPr/>
              <p:nvPr/>
            </p:nvSpPr>
            <p:spPr>
              <a:xfrm>
                <a:off x="3637800" y="3035160"/>
                <a:ext cx="462600" cy="477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b2b2b2">
                      <a:alpha val="8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709080" y="3460320"/>
                <a:ext cx="319680" cy="158760"/>
              </a:xfrm>
              <a:prstGeom prst="rect">
                <a:avLst/>
              </a:prstGeom>
              <a:blipFill rotWithShape="0">
                <a:blip r:embed="rId5">
                  <a:alphaModFix amt="43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3059280" y="3529080"/>
              <a:ext cx="1618920" cy="514080"/>
              <a:chOff x="3059280" y="3529080"/>
              <a:chExt cx="1618920" cy="514080"/>
            </a:xfrm>
          </p:grpSpPr>
          <p:sp>
            <p:nvSpPr>
              <p:cNvPr id="299" name=""/>
              <p:cNvSpPr/>
              <p:nvPr/>
            </p:nvSpPr>
            <p:spPr>
              <a:xfrm>
                <a:off x="3059280" y="3618000"/>
                <a:ext cx="1618920" cy="425160"/>
              </a:xfrm>
              <a:prstGeom prst="cube">
                <a:avLst>
                  <a:gd name="adj" fmla="val 72611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81360" y="3567600"/>
                <a:ext cx="374400" cy="264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4216680" y="3546360"/>
                <a:ext cx="172800" cy="285120"/>
                <a:chOff x="4216680" y="3546360"/>
                <a:chExt cx="172800" cy="285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244760" y="365976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216680" y="354636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291120" y="3529080"/>
                <a:ext cx="172800" cy="285120"/>
                <a:chOff x="3291120" y="3529080"/>
                <a:chExt cx="172800" cy="285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319200" y="364248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291120" y="352908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"/>
          <p:cNvSpPr/>
          <p:nvPr/>
        </p:nvSpPr>
        <p:spPr>
          <a:xfrm>
            <a:off x="2930400" y="4332240"/>
            <a:ext cx="70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en-US" sz="4400" spc="-1" strike="noStrike" baseline="-8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52600" y="2674800"/>
            <a:ext cx="70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en-US" sz="4400" spc="-1" strike="noStrike" baseline="-8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52360" y="3648240"/>
            <a:ext cx="1944720" cy="729720"/>
            <a:chOff x="252360" y="3648240"/>
            <a:chExt cx="1944720" cy="729720"/>
          </a:xfrm>
        </p:grpSpPr>
        <p:sp>
          <p:nvSpPr>
            <p:cNvPr id="310" name=""/>
            <p:cNvSpPr/>
            <p:nvPr/>
          </p:nvSpPr>
          <p:spPr>
            <a:xfrm>
              <a:off x="252360" y="3952080"/>
              <a:ext cx="1944720" cy="425880"/>
            </a:xfrm>
            <a:prstGeom prst="cube">
              <a:avLst>
                <a:gd name="adj" fmla="val 88430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74040" y="3648240"/>
              <a:ext cx="608040" cy="606240"/>
              <a:chOff x="374040" y="3648240"/>
              <a:chExt cx="608040" cy="606240"/>
            </a:xfrm>
          </p:grpSpPr>
          <p:sp>
            <p:nvSpPr>
              <p:cNvPr id="312" name=""/>
              <p:cNvSpPr/>
              <p:nvPr/>
            </p:nvSpPr>
            <p:spPr>
              <a:xfrm>
                <a:off x="374040" y="4073040"/>
                <a:ext cx="608040" cy="181440"/>
              </a:xfrm>
              <a:prstGeom prst="parallelogram">
                <a:avLst>
                  <a:gd name="adj" fmla="val 10776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8000" y="3648240"/>
                <a:ext cx="122040" cy="42480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495720" y="3916440"/>
                <a:ext cx="148320" cy="246240"/>
                <a:chOff x="495720" y="3916440"/>
                <a:chExt cx="148320" cy="24624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19840" y="4014360"/>
                  <a:ext cx="97920" cy="1483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95720" y="3916440"/>
                  <a:ext cx="148320" cy="97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1346400" y="3648240"/>
              <a:ext cx="668160" cy="606240"/>
              <a:chOff x="1346400" y="3648240"/>
              <a:chExt cx="668160" cy="606240"/>
            </a:xfrm>
          </p:grpSpPr>
          <p:sp>
            <p:nvSpPr>
              <p:cNvPr id="318" name=""/>
              <p:cNvSpPr/>
              <p:nvPr/>
            </p:nvSpPr>
            <p:spPr>
              <a:xfrm>
                <a:off x="1346400" y="4073040"/>
                <a:ext cx="668160" cy="181440"/>
              </a:xfrm>
              <a:prstGeom prst="parallelogram">
                <a:avLst>
                  <a:gd name="adj" fmla="val 9888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588680" y="3648240"/>
                <a:ext cx="121680" cy="48600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1770840" y="3916440"/>
                <a:ext cx="147960" cy="246240"/>
                <a:chOff x="1770840" y="3916440"/>
                <a:chExt cx="147960" cy="2462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794960" y="4014360"/>
                  <a:ext cx="97560" cy="1483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770840" y="3916440"/>
                  <a:ext cx="147960" cy="97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3" name=""/>
          <p:cNvGrpSpPr/>
          <p:nvPr/>
        </p:nvGrpSpPr>
        <p:grpSpPr>
          <a:xfrm>
            <a:off x="-831240" y="2954520"/>
            <a:ext cx="2989080" cy="1680480"/>
            <a:chOff x="-831240" y="2954520"/>
            <a:chExt cx="2989080" cy="1680480"/>
          </a:xfrm>
        </p:grpSpPr>
        <p:grpSp>
          <p:nvGrpSpPr>
            <p:cNvPr id="324" name=""/>
            <p:cNvGrpSpPr/>
            <p:nvPr/>
          </p:nvGrpSpPr>
          <p:grpSpPr>
            <a:xfrm>
              <a:off x="625320" y="2954520"/>
              <a:ext cx="1532520" cy="929160"/>
              <a:chOff x="625320" y="2954520"/>
              <a:chExt cx="1532520" cy="929160"/>
            </a:xfrm>
          </p:grpSpPr>
          <p:sp>
            <p:nvSpPr>
              <p:cNvPr id="325" name=""/>
              <p:cNvSpPr/>
              <p:nvPr/>
            </p:nvSpPr>
            <p:spPr>
              <a:xfrm rot="19921800">
                <a:off x="578880" y="3471120"/>
                <a:ext cx="1274400" cy="120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9921800">
                <a:off x="1757880" y="3025440"/>
                <a:ext cx="363960" cy="2444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-831240" y="3705120"/>
              <a:ext cx="1532880" cy="929880"/>
              <a:chOff x="-831240" y="3705120"/>
              <a:chExt cx="1532880" cy="929880"/>
            </a:xfrm>
          </p:grpSpPr>
          <p:sp>
            <p:nvSpPr>
              <p:cNvPr id="328" name=""/>
              <p:cNvSpPr/>
              <p:nvPr/>
            </p:nvSpPr>
            <p:spPr>
              <a:xfrm rot="19921800">
                <a:off x="-877320" y="4222440"/>
                <a:ext cx="127440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9921800">
                <a:off x="300960" y="3776400"/>
                <a:ext cx="364320" cy="244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468360" y="1595520"/>
            <a:ext cx="3313080" cy="1007640"/>
            <a:chOff x="468360" y="1595520"/>
            <a:chExt cx="3313080" cy="1007640"/>
          </a:xfrm>
        </p:grpSpPr>
        <p:grpSp>
          <p:nvGrpSpPr>
            <p:cNvPr id="331" name=""/>
            <p:cNvGrpSpPr/>
            <p:nvPr/>
          </p:nvGrpSpPr>
          <p:grpSpPr>
            <a:xfrm>
              <a:off x="468360" y="1595520"/>
              <a:ext cx="3313080" cy="1007640"/>
              <a:chOff x="468360" y="1595520"/>
              <a:chExt cx="3313080" cy="1007640"/>
            </a:xfrm>
          </p:grpSpPr>
          <p:sp>
            <p:nvSpPr>
              <p:cNvPr id="332" name=""/>
              <p:cNvSpPr/>
              <p:nvPr/>
            </p:nvSpPr>
            <p:spPr>
              <a:xfrm>
                <a:off x="468360" y="2076840"/>
                <a:ext cx="3313080" cy="526320"/>
              </a:xfrm>
              <a:prstGeom prst="cube">
                <a:avLst>
                  <a:gd name="adj" fmla="val 91486"/>
                </a:avLst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561240" y="1595520"/>
                <a:ext cx="735120" cy="876960"/>
                <a:chOff x="561240" y="1595520"/>
                <a:chExt cx="735120" cy="8769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561240" y="2178720"/>
                  <a:ext cx="735120" cy="293400"/>
                </a:xfrm>
                <a:prstGeom prst="parallelogram">
                  <a:avLst>
                    <a:gd name="adj" fmla="val 9641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020600" y="1595520"/>
                  <a:ext cx="275400" cy="876960"/>
                </a:xfrm>
                <a:prstGeom prst="cube">
                  <a:avLst>
                    <a:gd name="adj" fmla="val 8958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744480" y="2076840"/>
                  <a:ext cx="137520" cy="253800"/>
                  <a:chOff x="744480" y="2076840"/>
                  <a:chExt cx="137520" cy="2538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766800" y="2177640"/>
                    <a:ext cx="90720" cy="15300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44480" y="2076840"/>
                    <a:ext cx="137520" cy="1008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"/>
              <p:cNvGrpSpPr/>
              <p:nvPr/>
            </p:nvGrpSpPr>
            <p:grpSpPr>
              <a:xfrm>
                <a:off x="1094760" y="1798200"/>
                <a:ext cx="983520" cy="558720"/>
                <a:chOff x="1094760" y="1798200"/>
                <a:chExt cx="983520" cy="55872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1094760" y="1798200"/>
                  <a:ext cx="983520" cy="558720"/>
                  <a:chOff x="1094760" y="1798200"/>
                  <a:chExt cx="983520" cy="55872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094760" y="1798200"/>
                    <a:ext cx="914400" cy="557280"/>
                    <a:chOff x="1094760" y="1798200"/>
                    <a:chExt cx="914400" cy="55728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5400000">
                      <a:off x="1273320" y="1619640"/>
                      <a:ext cx="557280" cy="91440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5400000">
                      <a:off x="1589760" y="1936080"/>
                      <a:ext cx="557280" cy="28116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1902960" y="1798200"/>
                    <a:ext cx="175320" cy="558720"/>
                    <a:chOff x="1902960" y="1798200"/>
                    <a:chExt cx="175320" cy="558720"/>
                  </a:xfrm>
                </p:grpSpPr>
                <p:grpSp>
                  <p:nvGrpSpPr>
                    <p:cNvPr id="345" name=""/>
                    <p:cNvGrpSpPr/>
                    <p:nvPr/>
                  </p:nvGrpSpPr>
                  <p:grpSpPr>
                    <a:xfrm>
                      <a:off x="1902960" y="1798200"/>
                      <a:ext cx="175320" cy="558720"/>
                      <a:chOff x="1902960" y="1798200"/>
                      <a:chExt cx="175320" cy="558720"/>
                    </a:xfrm>
                  </p:grpSpPr>
                  <p:grpSp>
                    <p:nvGrpSpPr>
                      <p:cNvPr id="346" name=""/>
                      <p:cNvGrpSpPr/>
                      <p:nvPr/>
                    </p:nvGrpSpPr>
                    <p:grpSpPr>
                      <a:xfrm>
                        <a:off x="1902960" y="1798200"/>
                        <a:ext cx="175320" cy="558720"/>
                        <a:chOff x="1902960" y="1798200"/>
                        <a:chExt cx="175320" cy="558720"/>
                      </a:xfrm>
                    </p:grpSpPr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rot="5400000">
                          <a:off x="1711080" y="1989720"/>
                          <a:ext cx="558720" cy="1753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ffcc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rot="5400000">
                          <a:off x="1776600" y="2023920"/>
                          <a:ext cx="428760" cy="10512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080" bIns="28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49" name=""/>
                      <p:cNvSpPr/>
                      <p:nvPr/>
                    </p:nvSpPr>
                    <p:spPr>
                      <a:xfrm rot="5400000">
                        <a:off x="1840320" y="2041560"/>
                        <a:ext cx="300240" cy="70200"/>
                      </a:xfrm>
                      <a:prstGeom prst="ellipse">
                        <a:avLst/>
                      </a:prstGeom>
                      <a:solidFill>
                        <a:srgbClr val="dddddd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" bIns="3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0" name=""/>
                    <p:cNvSpPr/>
                    <p:nvPr/>
                  </p:nvSpPr>
                  <p:spPr>
                    <a:xfrm rot="5400000">
                      <a:off x="1935720" y="2042640"/>
                      <a:ext cx="129960" cy="691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1166040" y="2012400"/>
                    <a:ext cx="667440" cy="257040"/>
                    <a:chOff x="1166040" y="2012400"/>
                    <a:chExt cx="667440" cy="2570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1166040" y="2012400"/>
                      <a:ext cx="667440" cy="2570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1271160" y="2098080"/>
                      <a:ext cx="386280" cy="128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54" name=""/>
                <p:cNvSpPr/>
                <p:nvPr/>
              </p:nvSpPr>
              <p:spPr>
                <a:xfrm>
                  <a:off x="1679760" y="1956600"/>
                  <a:ext cx="272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  <a:ea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096560" y="193788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  <a:ea typeface="宋体"/>
                    </a:rPr>
                    <a:t>—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945440" y="1798200"/>
                <a:ext cx="983520" cy="558720"/>
                <a:chOff x="1945440" y="1798200"/>
                <a:chExt cx="983520" cy="558720"/>
              </a:xfrm>
            </p:grpSpPr>
            <p:grpSp>
              <p:nvGrpSpPr>
                <p:cNvPr id="357" name=""/>
                <p:cNvGrpSpPr/>
                <p:nvPr/>
              </p:nvGrpSpPr>
              <p:grpSpPr>
                <a:xfrm>
                  <a:off x="1945440" y="1798200"/>
                  <a:ext cx="914400" cy="557280"/>
                  <a:chOff x="1945440" y="1798200"/>
                  <a:chExt cx="914400" cy="5572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rot="5400000">
                    <a:off x="2124000" y="1619640"/>
                    <a:ext cx="557280" cy="9144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5400000">
                    <a:off x="2440440" y="1936080"/>
                    <a:ext cx="557280" cy="2811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2753640" y="1798200"/>
                  <a:ext cx="175320" cy="558720"/>
                  <a:chOff x="2753640" y="1798200"/>
                  <a:chExt cx="175320" cy="558720"/>
                </a:xfrm>
              </p:grpSpPr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2753640" y="1798200"/>
                    <a:ext cx="175320" cy="558720"/>
                    <a:chOff x="2753640" y="1798200"/>
                    <a:chExt cx="175320" cy="558720"/>
                  </a:xfrm>
                </p:grpSpPr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2753640" y="1798200"/>
                      <a:ext cx="175320" cy="558720"/>
                      <a:chOff x="2753640" y="1798200"/>
                      <a:chExt cx="175320" cy="558720"/>
                    </a:xfrm>
                  </p:grpSpPr>
                  <p:sp>
                    <p:nvSpPr>
                      <p:cNvPr id="363" name=""/>
                      <p:cNvSpPr/>
                      <p:nvPr/>
                    </p:nvSpPr>
                    <p:spPr>
                      <a:xfrm rot="5400000">
                        <a:off x="2561760" y="1989720"/>
                        <a:ext cx="558720" cy="175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cc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 rot="5400000">
                        <a:off x="2627280" y="2023920"/>
                        <a:ext cx="428760" cy="1051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080" bIns="28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65" name=""/>
                    <p:cNvSpPr/>
                    <p:nvPr/>
                  </p:nvSpPr>
                  <p:spPr>
                    <a:xfrm rot="5400000">
                      <a:off x="2691000" y="2041560"/>
                      <a:ext cx="300240" cy="702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40" bIns="3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6" name=""/>
                  <p:cNvSpPr/>
                  <p:nvPr/>
                </p:nvSpPr>
                <p:spPr>
                  <a:xfrm rot="5400000">
                    <a:off x="2786400" y="2042640"/>
                    <a:ext cx="129960" cy="691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016720" y="2012400"/>
                  <a:ext cx="667440" cy="257040"/>
                  <a:chOff x="2016720" y="2012400"/>
                  <a:chExt cx="667440" cy="25704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2016720" y="2012400"/>
                    <a:ext cx="667440" cy="257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121840" y="2098080"/>
                    <a:ext cx="386280" cy="128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55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0" name=""/>
              <p:cNvGrpSpPr/>
              <p:nvPr/>
            </p:nvGrpSpPr>
            <p:grpSpPr>
              <a:xfrm>
                <a:off x="2885040" y="1595520"/>
                <a:ext cx="735120" cy="876960"/>
                <a:chOff x="2885040" y="1595520"/>
                <a:chExt cx="735120" cy="8769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2885040" y="2178720"/>
                  <a:ext cx="735120" cy="293400"/>
                </a:xfrm>
                <a:prstGeom prst="parallelogram">
                  <a:avLst>
                    <a:gd name="adj" fmla="val 9641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2" name=""/>
                <p:cNvGrpSpPr/>
                <p:nvPr/>
              </p:nvGrpSpPr>
              <p:grpSpPr>
                <a:xfrm>
                  <a:off x="3252960" y="2128320"/>
                  <a:ext cx="137160" cy="253800"/>
                  <a:chOff x="3252960" y="2128320"/>
                  <a:chExt cx="137160" cy="25380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>
                    <a:off x="3275280" y="2229120"/>
                    <a:ext cx="90360" cy="15300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252960" y="2128320"/>
                    <a:ext cx="137160" cy="1008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>
                  <a:off x="2885040" y="1595520"/>
                  <a:ext cx="275400" cy="876960"/>
                </a:xfrm>
                <a:prstGeom prst="cube">
                  <a:avLst>
                    <a:gd name="adj" fmla="val 8958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"/>
            <p:cNvSpPr/>
            <p:nvPr/>
          </p:nvSpPr>
          <p:spPr>
            <a:xfrm>
              <a:off x="2539800" y="19504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72080" y="1950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宋体"/>
                </a:rPr>
                <a:t>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51080" y="4587840"/>
            <a:ext cx="503280" cy="607680"/>
            <a:chOff x="2251080" y="4587840"/>
            <a:chExt cx="503280" cy="607680"/>
          </a:xfrm>
        </p:grpSpPr>
        <p:sp>
          <p:nvSpPr>
            <p:cNvPr id="379" name=""/>
            <p:cNvSpPr/>
            <p:nvPr/>
          </p:nvSpPr>
          <p:spPr>
            <a:xfrm>
              <a:off x="2251080" y="4587840"/>
              <a:ext cx="503280" cy="497160"/>
            </a:xfrm>
            <a:prstGeom prst="ellipse">
              <a:avLst/>
            </a:prstGeom>
            <a:gradFill rotWithShape="0">
              <a:gsLst>
                <a:gs pos="0">
                  <a:srgbClr val="ff6600">
                    <a:alpha val="81176"/>
                  </a:srgbClr>
                </a:gs>
                <a:gs pos="100000">
                  <a:srgbClr val="ffcc99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>
                  <a:alpha val="1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28480" y="5030280"/>
              <a:ext cx="347760" cy="165240"/>
            </a:xfrm>
            <a:prstGeom prst="rect">
              <a:avLst/>
            </a:prstGeom>
            <a:gradFill rotWithShape="0">
              <a:gsLst>
                <a:gs pos="0">
                  <a:srgbClr val="ff6600">
                    <a:alpha val="43137"/>
                  </a:srgbClr>
                </a:gs>
                <a:gs pos="100000">
                  <a:srgbClr val="000000">
                    <a:alpha val="43137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3618000" y="3003480"/>
            <a:ext cx="503280" cy="607680"/>
            <a:chOff x="3618000" y="3003480"/>
            <a:chExt cx="503280" cy="607680"/>
          </a:xfrm>
        </p:grpSpPr>
        <p:sp>
          <p:nvSpPr>
            <p:cNvPr id="382" name=""/>
            <p:cNvSpPr/>
            <p:nvPr/>
          </p:nvSpPr>
          <p:spPr>
            <a:xfrm>
              <a:off x="3618000" y="3003480"/>
              <a:ext cx="503280" cy="497160"/>
            </a:xfrm>
            <a:prstGeom prst="ellipse">
              <a:avLst/>
            </a:prstGeom>
            <a:gradFill rotWithShape="0">
              <a:gsLst>
                <a:gs pos="0">
                  <a:srgbClr val="ff6600">
                    <a:alpha val="81176"/>
                  </a:srgbClr>
                </a:gs>
                <a:gs pos="100000">
                  <a:srgbClr val="ffcc99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>
                  <a:alpha val="1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95400" y="3445920"/>
              <a:ext cx="347760" cy="165240"/>
            </a:xfrm>
            <a:prstGeom prst="rect">
              <a:avLst/>
            </a:prstGeom>
            <a:gradFill rotWithShape="0">
              <a:gsLst>
                <a:gs pos="0">
                  <a:srgbClr val="ff6600">
                    <a:alpha val="43137"/>
                  </a:srgbClr>
                </a:gs>
                <a:gs pos="100000">
                  <a:srgbClr val="000000">
                    <a:alpha val="43137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未知"/>
          <p:cNvSpPr/>
          <p:nvPr/>
        </p:nvSpPr>
        <p:spPr>
          <a:xfrm>
            <a:off x="155520" y="2171880"/>
            <a:ext cx="671400" cy="1873080"/>
          </a:xfrm>
          <a:custGeom>
            <a:avLst/>
            <a:gdLst/>
            <a:ahLst/>
            <a:rect l="l" t="t" r="r" b="b"/>
            <a:pathLst>
              <a:path w="423" h="1180">
                <a:moveTo>
                  <a:pt x="423" y="0"/>
                </a:moveTo>
                <a:cubicBezTo>
                  <a:pt x="271" y="27"/>
                  <a:pt x="120" y="54"/>
                  <a:pt x="60" y="182"/>
                </a:cubicBezTo>
                <a:cubicBezTo>
                  <a:pt x="0" y="310"/>
                  <a:pt x="30" y="605"/>
                  <a:pt x="60" y="771"/>
                </a:cubicBezTo>
                <a:cubicBezTo>
                  <a:pt x="90" y="937"/>
                  <a:pt x="166" y="1058"/>
                  <a:pt x="242" y="11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未知"/>
          <p:cNvSpPr/>
          <p:nvPr/>
        </p:nvSpPr>
        <p:spPr>
          <a:xfrm>
            <a:off x="1440000" y="4044960"/>
            <a:ext cx="539640" cy="1355760"/>
          </a:xfrm>
          <a:custGeom>
            <a:avLst/>
            <a:gdLst/>
            <a:ahLst/>
            <a:rect l="l" t="t" r="r" b="b"/>
            <a:pathLst>
              <a:path w="340" h="854">
                <a:moveTo>
                  <a:pt x="249" y="0"/>
                </a:moveTo>
                <a:cubicBezTo>
                  <a:pt x="177" y="45"/>
                  <a:pt x="106" y="90"/>
                  <a:pt x="68" y="181"/>
                </a:cubicBezTo>
                <a:cubicBezTo>
                  <a:pt x="30" y="272"/>
                  <a:pt x="0" y="438"/>
                  <a:pt x="23" y="544"/>
                </a:cubicBezTo>
                <a:cubicBezTo>
                  <a:pt x="46" y="650"/>
                  <a:pt x="151" y="778"/>
                  <a:pt x="204" y="816"/>
                </a:cubicBezTo>
                <a:cubicBezTo>
                  <a:pt x="257" y="854"/>
                  <a:pt x="298" y="812"/>
                  <a:pt x="340" y="77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未知"/>
          <p:cNvSpPr/>
          <p:nvPr/>
        </p:nvSpPr>
        <p:spPr>
          <a:xfrm>
            <a:off x="2916360" y="3684600"/>
            <a:ext cx="1763640" cy="1666800"/>
          </a:xfrm>
          <a:custGeom>
            <a:avLst/>
            <a:gdLst/>
            <a:ahLst/>
            <a:rect l="l" t="t" r="r" b="b"/>
            <a:pathLst>
              <a:path w="1111" h="1050">
                <a:moveTo>
                  <a:pt x="0" y="998"/>
                </a:moveTo>
                <a:cubicBezTo>
                  <a:pt x="295" y="1024"/>
                  <a:pt x="590" y="1050"/>
                  <a:pt x="771" y="952"/>
                </a:cubicBezTo>
                <a:cubicBezTo>
                  <a:pt x="952" y="854"/>
                  <a:pt x="1065" y="567"/>
                  <a:pt x="1088" y="408"/>
                </a:cubicBezTo>
                <a:cubicBezTo>
                  <a:pt x="1111" y="249"/>
                  <a:pt x="1009" y="124"/>
                  <a:pt x="90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未知"/>
          <p:cNvSpPr/>
          <p:nvPr/>
        </p:nvSpPr>
        <p:spPr>
          <a:xfrm>
            <a:off x="2916360" y="2244600"/>
            <a:ext cx="923760" cy="1440000"/>
          </a:xfrm>
          <a:custGeom>
            <a:avLst/>
            <a:gdLst/>
            <a:ahLst/>
            <a:rect l="l" t="t" r="r" b="b"/>
            <a:pathLst>
              <a:path w="582" h="907">
                <a:moveTo>
                  <a:pt x="272" y="907"/>
                </a:moveTo>
                <a:cubicBezTo>
                  <a:pt x="136" y="827"/>
                  <a:pt x="0" y="748"/>
                  <a:pt x="45" y="635"/>
                </a:cubicBezTo>
                <a:cubicBezTo>
                  <a:pt x="90" y="522"/>
                  <a:pt x="506" y="332"/>
                  <a:pt x="544" y="226"/>
                </a:cubicBezTo>
                <a:cubicBezTo>
                  <a:pt x="582" y="120"/>
                  <a:pt x="427" y="60"/>
                  <a:pt x="2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84360" y="3684600"/>
            <a:ext cx="972720" cy="487440"/>
            <a:chOff x="684360" y="3684600"/>
            <a:chExt cx="972720" cy="487440"/>
          </a:xfrm>
        </p:grpSpPr>
        <p:grpSp>
          <p:nvGrpSpPr>
            <p:cNvPr id="389" name=""/>
            <p:cNvGrpSpPr/>
            <p:nvPr/>
          </p:nvGrpSpPr>
          <p:grpSpPr>
            <a:xfrm>
              <a:off x="684360" y="3684600"/>
              <a:ext cx="121680" cy="487440"/>
              <a:chOff x="684360" y="3684600"/>
              <a:chExt cx="121680" cy="487440"/>
            </a:xfrm>
          </p:grpSpPr>
          <p:sp>
            <p:nvSpPr>
              <p:cNvPr id="390" name=""/>
              <p:cNvSpPr/>
              <p:nvPr/>
            </p:nvSpPr>
            <p:spPr>
              <a:xfrm>
                <a:off x="684360" y="3684600"/>
                <a:ext cx="121680" cy="48744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84360" y="3744720"/>
                <a:ext cx="1216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535400" y="3684600"/>
              <a:ext cx="121680" cy="4874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859280" y="876240"/>
            <a:ext cx="4176720" cy="5256360"/>
          </a:xfrm>
          <a:prstGeom prst="rect">
            <a:avLst/>
          </a:pr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029280" y="981000"/>
            <a:ext cx="1619280" cy="1007280"/>
            <a:chOff x="6029280" y="981000"/>
            <a:chExt cx="1619280" cy="1007280"/>
          </a:xfrm>
        </p:grpSpPr>
        <p:grpSp>
          <p:nvGrpSpPr>
            <p:cNvPr id="395" name=""/>
            <p:cNvGrpSpPr/>
            <p:nvPr/>
          </p:nvGrpSpPr>
          <p:grpSpPr>
            <a:xfrm>
              <a:off x="6608160" y="981000"/>
              <a:ext cx="462960" cy="583560"/>
              <a:chOff x="6608160" y="981000"/>
              <a:chExt cx="462960" cy="583560"/>
            </a:xfrm>
          </p:grpSpPr>
          <p:sp>
            <p:nvSpPr>
              <p:cNvPr id="396" name=""/>
              <p:cNvSpPr/>
              <p:nvPr/>
            </p:nvSpPr>
            <p:spPr>
              <a:xfrm>
                <a:off x="6608160" y="981000"/>
                <a:ext cx="462960" cy="477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b2b2b2">
                      <a:alpha val="8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79440" y="1405800"/>
                <a:ext cx="320040" cy="158760"/>
              </a:xfrm>
              <a:prstGeom prst="rect">
                <a:avLst/>
              </a:prstGeom>
              <a:blipFill rotWithShape="0">
                <a:blip r:embed="rId15">
                  <a:alphaModFix amt="43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029280" y="1474920"/>
              <a:ext cx="1619280" cy="513360"/>
              <a:chOff x="6029280" y="1474920"/>
              <a:chExt cx="1619280" cy="513360"/>
            </a:xfrm>
          </p:grpSpPr>
          <p:sp>
            <p:nvSpPr>
              <p:cNvPr id="399" name=""/>
              <p:cNvSpPr/>
              <p:nvPr/>
            </p:nvSpPr>
            <p:spPr>
              <a:xfrm>
                <a:off x="6029280" y="1563480"/>
                <a:ext cx="1619280" cy="424800"/>
              </a:xfrm>
              <a:prstGeom prst="cube">
                <a:avLst>
                  <a:gd name="adj" fmla="val 72611"/>
                </a:avLst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651360" y="1513440"/>
                <a:ext cx="374760" cy="264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7187040" y="1492200"/>
                <a:ext cx="172800" cy="285120"/>
                <a:chOff x="7187040" y="1492200"/>
                <a:chExt cx="172800" cy="2851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215120" y="160560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187040" y="149220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261480" y="1474920"/>
                <a:ext cx="172800" cy="285120"/>
                <a:chOff x="6261480" y="1474920"/>
                <a:chExt cx="172800" cy="28512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289560" y="158832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261480" y="147492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7" name=""/>
          <p:cNvGrpSpPr/>
          <p:nvPr/>
        </p:nvGrpSpPr>
        <p:grpSpPr>
          <a:xfrm>
            <a:off x="5742000" y="2492280"/>
            <a:ext cx="1619280" cy="1007280"/>
            <a:chOff x="5742000" y="2492280"/>
            <a:chExt cx="1619280" cy="1007280"/>
          </a:xfrm>
        </p:grpSpPr>
        <p:grpSp>
          <p:nvGrpSpPr>
            <p:cNvPr id="408" name=""/>
            <p:cNvGrpSpPr/>
            <p:nvPr/>
          </p:nvGrpSpPr>
          <p:grpSpPr>
            <a:xfrm>
              <a:off x="6320880" y="2492280"/>
              <a:ext cx="462960" cy="583560"/>
              <a:chOff x="6320880" y="2492280"/>
              <a:chExt cx="462960" cy="583560"/>
            </a:xfrm>
          </p:grpSpPr>
          <p:sp>
            <p:nvSpPr>
              <p:cNvPr id="409" name=""/>
              <p:cNvSpPr/>
              <p:nvPr/>
            </p:nvSpPr>
            <p:spPr>
              <a:xfrm>
                <a:off x="6320880" y="2492280"/>
                <a:ext cx="462960" cy="477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b2b2b2">
                      <a:alpha val="8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92160" y="2917080"/>
                <a:ext cx="320040" cy="158760"/>
              </a:xfrm>
              <a:prstGeom prst="rect">
                <a:avLst/>
              </a:prstGeom>
              <a:blipFill rotWithShape="0">
                <a:blip r:embed="rId19">
                  <a:alphaModFix amt="43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42000" y="2986200"/>
              <a:ext cx="1619280" cy="513360"/>
              <a:chOff x="5742000" y="2986200"/>
              <a:chExt cx="1619280" cy="513360"/>
            </a:xfrm>
          </p:grpSpPr>
          <p:sp>
            <p:nvSpPr>
              <p:cNvPr id="412" name=""/>
              <p:cNvSpPr/>
              <p:nvPr/>
            </p:nvSpPr>
            <p:spPr>
              <a:xfrm>
                <a:off x="5742000" y="3074760"/>
                <a:ext cx="1619280" cy="424800"/>
              </a:xfrm>
              <a:prstGeom prst="cube">
                <a:avLst>
                  <a:gd name="adj" fmla="val 72611"/>
                </a:avLst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364080" y="3024720"/>
                <a:ext cx="374760" cy="264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6899760" y="3003480"/>
                <a:ext cx="172800" cy="285120"/>
                <a:chOff x="6899760" y="3003480"/>
                <a:chExt cx="172800" cy="285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927840" y="311688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899760" y="300348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5974200" y="2986200"/>
                <a:ext cx="172800" cy="285120"/>
                <a:chOff x="5974200" y="2986200"/>
                <a:chExt cx="172800" cy="285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002280" y="309960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974200" y="298620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20" name=""/>
          <p:cNvSpPr/>
          <p:nvPr/>
        </p:nvSpPr>
        <p:spPr>
          <a:xfrm>
            <a:off x="7267320" y="692280"/>
            <a:ext cx="70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en-US" sz="4400" spc="-1" strike="noStrike" baseline="-8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34040" y="2244600"/>
            <a:ext cx="70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en-US" sz="4400" spc="-1" strike="noStrike" baseline="-8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804000" y="3863880"/>
            <a:ext cx="1944720" cy="730440"/>
            <a:chOff x="6804000" y="3863880"/>
            <a:chExt cx="1944720" cy="730440"/>
          </a:xfrm>
        </p:grpSpPr>
        <p:sp>
          <p:nvSpPr>
            <p:cNvPr id="423" name=""/>
            <p:cNvSpPr/>
            <p:nvPr/>
          </p:nvSpPr>
          <p:spPr>
            <a:xfrm>
              <a:off x="6804000" y="4168080"/>
              <a:ext cx="1944720" cy="426240"/>
            </a:xfrm>
            <a:prstGeom prst="cube">
              <a:avLst>
                <a:gd name="adj" fmla="val 8843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6925680" y="3863880"/>
              <a:ext cx="608040" cy="606960"/>
              <a:chOff x="6925680" y="3863880"/>
              <a:chExt cx="608040" cy="606960"/>
            </a:xfrm>
          </p:grpSpPr>
          <p:sp>
            <p:nvSpPr>
              <p:cNvPr id="425" name=""/>
              <p:cNvSpPr/>
              <p:nvPr/>
            </p:nvSpPr>
            <p:spPr>
              <a:xfrm>
                <a:off x="6925680" y="4289040"/>
                <a:ext cx="608040" cy="181800"/>
              </a:xfrm>
              <a:prstGeom prst="parallelogram">
                <a:avLst>
                  <a:gd name="adj" fmla="val 107552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89640" y="3863880"/>
                <a:ext cx="122040" cy="42516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7047360" y="4132080"/>
                <a:ext cx="148320" cy="246600"/>
                <a:chOff x="7047360" y="4132080"/>
                <a:chExt cx="148320" cy="2466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071480" y="4230000"/>
                  <a:ext cx="97920" cy="1486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047360" y="4132080"/>
                  <a:ext cx="148320" cy="97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7898040" y="3863880"/>
              <a:ext cx="668160" cy="606960"/>
              <a:chOff x="7898040" y="3863880"/>
              <a:chExt cx="668160" cy="606960"/>
            </a:xfrm>
          </p:grpSpPr>
          <p:sp>
            <p:nvSpPr>
              <p:cNvPr id="431" name=""/>
              <p:cNvSpPr/>
              <p:nvPr/>
            </p:nvSpPr>
            <p:spPr>
              <a:xfrm>
                <a:off x="7898040" y="4289040"/>
                <a:ext cx="668160" cy="181800"/>
              </a:xfrm>
              <a:prstGeom prst="parallelogram">
                <a:avLst>
                  <a:gd name="adj" fmla="val 9868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40320" y="3863880"/>
                <a:ext cx="121680" cy="48636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8322480" y="4132080"/>
                <a:ext cx="147960" cy="246600"/>
                <a:chOff x="8322480" y="4132080"/>
                <a:chExt cx="147960" cy="2466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8346600" y="4230000"/>
                  <a:ext cx="97560" cy="1486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322480" y="4132080"/>
                  <a:ext cx="147960" cy="979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6" name=""/>
          <p:cNvGrpSpPr/>
          <p:nvPr/>
        </p:nvGrpSpPr>
        <p:grpSpPr>
          <a:xfrm>
            <a:off x="5718960" y="3170160"/>
            <a:ext cx="2990520" cy="1680840"/>
            <a:chOff x="5718960" y="3170160"/>
            <a:chExt cx="2990520" cy="1680840"/>
          </a:xfrm>
        </p:grpSpPr>
        <p:grpSp>
          <p:nvGrpSpPr>
            <p:cNvPr id="437" name=""/>
            <p:cNvGrpSpPr/>
            <p:nvPr/>
          </p:nvGrpSpPr>
          <p:grpSpPr>
            <a:xfrm>
              <a:off x="7176240" y="3170160"/>
              <a:ext cx="1533240" cy="929880"/>
              <a:chOff x="7176240" y="3170160"/>
              <a:chExt cx="1533240" cy="929880"/>
            </a:xfrm>
          </p:grpSpPr>
          <p:sp>
            <p:nvSpPr>
              <p:cNvPr id="438" name=""/>
              <p:cNvSpPr/>
              <p:nvPr/>
            </p:nvSpPr>
            <p:spPr>
              <a:xfrm rot="19921800">
                <a:off x="7129800" y="3687480"/>
                <a:ext cx="1274760" cy="1206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9921800">
                <a:off x="8309160" y="3241440"/>
                <a:ext cx="364320" cy="2444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718960" y="3920760"/>
              <a:ext cx="1533600" cy="930240"/>
              <a:chOff x="5718960" y="3920760"/>
              <a:chExt cx="1533600" cy="930240"/>
            </a:xfrm>
          </p:grpSpPr>
          <p:sp>
            <p:nvSpPr>
              <p:cNvPr id="441" name=""/>
              <p:cNvSpPr/>
              <p:nvPr/>
            </p:nvSpPr>
            <p:spPr>
              <a:xfrm rot="19921800">
                <a:off x="5672520" y="4438080"/>
                <a:ext cx="127512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9921800">
                <a:off x="6851880" y="3992040"/>
                <a:ext cx="364320" cy="2440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5076720" y="4835520"/>
            <a:ext cx="3313080" cy="1007640"/>
            <a:chOff x="5076720" y="4835520"/>
            <a:chExt cx="3313080" cy="1007640"/>
          </a:xfrm>
        </p:grpSpPr>
        <p:grpSp>
          <p:nvGrpSpPr>
            <p:cNvPr id="444" name=""/>
            <p:cNvGrpSpPr/>
            <p:nvPr/>
          </p:nvGrpSpPr>
          <p:grpSpPr>
            <a:xfrm>
              <a:off x="5076720" y="4835520"/>
              <a:ext cx="3313080" cy="1007640"/>
              <a:chOff x="5076720" y="4835520"/>
              <a:chExt cx="3313080" cy="1007640"/>
            </a:xfrm>
          </p:grpSpPr>
          <p:sp>
            <p:nvSpPr>
              <p:cNvPr id="445" name=""/>
              <p:cNvSpPr/>
              <p:nvPr/>
            </p:nvSpPr>
            <p:spPr>
              <a:xfrm>
                <a:off x="5076720" y="5316840"/>
                <a:ext cx="3313080" cy="526320"/>
              </a:xfrm>
              <a:prstGeom prst="cube">
                <a:avLst>
                  <a:gd name="adj" fmla="val 91486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169600" y="4835520"/>
                <a:ext cx="735120" cy="876960"/>
                <a:chOff x="5169600" y="4835520"/>
                <a:chExt cx="735120" cy="876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169600" y="5418720"/>
                  <a:ext cx="735120" cy="293400"/>
                </a:xfrm>
                <a:prstGeom prst="parallelogram">
                  <a:avLst>
                    <a:gd name="adj" fmla="val 9641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628960" y="4835520"/>
                  <a:ext cx="275400" cy="876960"/>
                </a:xfrm>
                <a:prstGeom prst="cube">
                  <a:avLst>
                    <a:gd name="adj" fmla="val 8958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5352840" y="5316840"/>
                  <a:ext cx="137520" cy="253800"/>
                  <a:chOff x="5352840" y="5316840"/>
                  <a:chExt cx="137520" cy="2538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5375160" y="5417640"/>
                    <a:ext cx="90720" cy="15300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5352840" y="5316840"/>
                    <a:ext cx="137520" cy="1008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5703120" y="5038200"/>
                <a:ext cx="983520" cy="558720"/>
                <a:chOff x="5703120" y="5038200"/>
                <a:chExt cx="983520" cy="55872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5703120" y="5038200"/>
                  <a:ext cx="983520" cy="558720"/>
                  <a:chOff x="5703120" y="5038200"/>
                  <a:chExt cx="983520" cy="558720"/>
                </a:xfrm>
              </p:grpSpPr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5703120" y="5038200"/>
                    <a:ext cx="914400" cy="557280"/>
                    <a:chOff x="5703120" y="5038200"/>
                    <a:chExt cx="914400" cy="55728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 rot="5400000">
                      <a:off x="5881680" y="4859640"/>
                      <a:ext cx="557280" cy="91440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 rot="5400000">
                      <a:off x="6198120" y="5176080"/>
                      <a:ext cx="557280" cy="28116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511320" y="5038200"/>
                    <a:ext cx="175320" cy="558720"/>
                    <a:chOff x="6511320" y="5038200"/>
                    <a:chExt cx="175320" cy="558720"/>
                  </a:xfrm>
                </p:grpSpPr>
                <p:grpSp>
                  <p:nvGrpSpPr>
                    <p:cNvPr id="458" name=""/>
                    <p:cNvGrpSpPr/>
                    <p:nvPr/>
                  </p:nvGrpSpPr>
                  <p:grpSpPr>
                    <a:xfrm>
                      <a:off x="6511320" y="5038200"/>
                      <a:ext cx="175320" cy="558720"/>
                      <a:chOff x="6511320" y="5038200"/>
                      <a:chExt cx="175320" cy="558720"/>
                    </a:xfrm>
                  </p:grpSpPr>
                  <p:grpSp>
                    <p:nvGrpSpPr>
                      <p:cNvPr id="459" name=""/>
                      <p:cNvGrpSpPr/>
                      <p:nvPr/>
                    </p:nvGrpSpPr>
                    <p:grpSpPr>
                      <a:xfrm>
                        <a:off x="6511320" y="5038200"/>
                        <a:ext cx="175320" cy="558720"/>
                        <a:chOff x="6511320" y="5038200"/>
                        <a:chExt cx="175320" cy="558720"/>
                      </a:xfrm>
                    </p:grpSpPr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 rot="5400000">
                          <a:off x="6319440" y="5229720"/>
                          <a:ext cx="558720" cy="1753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ffcc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"/>
                        <p:cNvSpPr/>
                        <p:nvPr/>
                      </p:nvSpPr>
                      <p:spPr>
                        <a:xfrm rot="5400000">
                          <a:off x="6384960" y="5263920"/>
                          <a:ext cx="428760" cy="10512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080" bIns="28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2" name=""/>
                      <p:cNvSpPr/>
                      <p:nvPr/>
                    </p:nvSpPr>
                    <p:spPr>
                      <a:xfrm rot="5400000">
                        <a:off x="6448680" y="5281560"/>
                        <a:ext cx="300240" cy="70200"/>
                      </a:xfrm>
                      <a:prstGeom prst="ellipse">
                        <a:avLst/>
                      </a:prstGeom>
                      <a:solidFill>
                        <a:srgbClr val="dddddd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" bIns="3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63" name=""/>
                    <p:cNvSpPr/>
                    <p:nvPr/>
                  </p:nvSpPr>
                  <p:spPr>
                    <a:xfrm rot="5400000">
                      <a:off x="6544080" y="5282640"/>
                      <a:ext cx="129960" cy="691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5774400" y="5252400"/>
                    <a:ext cx="667440" cy="257040"/>
                    <a:chOff x="5774400" y="5252400"/>
                    <a:chExt cx="667440" cy="257040"/>
                  </a:xfrm>
                </p:grpSpPr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5774400" y="5252400"/>
                      <a:ext cx="667440" cy="2570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5879520" y="5338080"/>
                      <a:ext cx="386280" cy="1285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67" name=""/>
                <p:cNvSpPr/>
                <p:nvPr/>
              </p:nvSpPr>
              <p:spPr>
                <a:xfrm>
                  <a:off x="6288120" y="5196600"/>
                  <a:ext cx="272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  <a:ea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704920" y="517788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  <a:ea typeface="宋体"/>
                    </a:rPr>
                    <a:t>—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553800" y="5038200"/>
                <a:ext cx="983520" cy="558720"/>
                <a:chOff x="6553800" y="5038200"/>
                <a:chExt cx="983520" cy="55872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6553800" y="5038200"/>
                  <a:ext cx="914400" cy="557280"/>
                  <a:chOff x="6553800" y="5038200"/>
                  <a:chExt cx="914400" cy="55728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5400000">
                    <a:off x="6732360" y="4859640"/>
                    <a:ext cx="557280" cy="9144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5400000">
                    <a:off x="7048800" y="5176080"/>
                    <a:ext cx="557280" cy="2811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7362000" y="5038200"/>
                  <a:ext cx="175320" cy="558720"/>
                  <a:chOff x="7362000" y="5038200"/>
                  <a:chExt cx="175320" cy="558720"/>
                </a:xfrm>
              </p:grpSpPr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7362000" y="5038200"/>
                    <a:ext cx="175320" cy="558720"/>
                    <a:chOff x="7362000" y="5038200"/>
                    <a:chExt cx="175320" cy="558720"/>
                  </a:xfrm>
                </p:grpSpPr>
                <p:grpSp>
                  <p:nvGrpSpPr>
                    <p:cNvPr id="475" name=""/>
                    <p:cNvGrpSpPr/>
                    <p:nvPr/>
                  </p:nvGrpSpPr>
                  <p:grpSpPr>
                    <a:xfrm>
                      <a:off x="7362000" y="5038200"/>
                      <a:ext cx="175320" cy="558720"/>
                      <a:chOff x="7362000" y="5038200"/>
                      <a:chExt cx="175320" cy="558720"/>
                    </a:xfrm>
                  </p:grpSpPr>
                  <p:sp>
                    <p:nvSpPr>
                      <p:cNvPr id="476" name=""/>
                      <p:cNvSpPr/>
                      <p:nvPr/>
                    </p:nvSpPr>
                    <p:spPr>
                      <a:xfrm rot="5400000">
                        <a:off x="7170120" y="5229720"/>
                        <a:ext cx="558720" cy="175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cc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"/>
                      <p:cNvSpPr/>
                      <p:nvPr/>
                    </p:nvSpPr>
                    <p:spPr>
                      <a:xfrm rot="5400000">
                        <a:off x="7235640" y="5263920"/>
                        <a:ext cx="428760" cy="1051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080" bIns="28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78" name=""/>
                    <p:cNvSpPr/>
                    <p:nvPr/>
                  </p:nvSpPr>
                  <p:spPr>
                    <a:xfrm rot="5400000">
                      <a:off x="7299360" y="5281560"/>
                      <a:ext cx="300240" cy="702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40" bIns="3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9" name=""/>
                  <p:cNvSpPr/>
                  <p:nvPr/>
                </p:nvSpPr>
                <p:spPr>
                  <a:xfrm rot="5400000">
                    <a:off x="7394760" y="5282640"/>
                    <a:ext cx="129960" cy="691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6625080" y="5252400"/>
                  <a:ext cx="667440" cy="257040"/>
                  <a:chOff x="6625080" y="5252400"/>
                  <a:chExt cx="667440" cy="25704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>
                    <a:off x="6625080" y="5252400"/>
                    <a:ext cx="667440" cy="2570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730200" y="5338080"/>
                    <a:ext cx="386280" cy="1285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55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3" name=""/>
              <p:cNvGrpSpPr/>
              <p:nvPr/>
            </p:nvGrpSpPr>
            <p:grpSpPr>
              <a:xfrm>
                <a:off x="7493400" y="4835520"/>
                <a:ext cx="735120" cy="876960"/>
                <a:chOff x="7493400" y="4835520"/>
                <a:chExt cx="735120" cy="8769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493400" y="5418720"/>
                  <a:ext cx="735120" cy="293400"/>
                </a:xfrm>
                <a:prstGeom prst="parallelogram">
                  <a:avLst>
                    <a:gd name="adj" fmla="val 9641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7861320" y="5368320"/>
                  <a:ext cx="137160" cy="253800"/>
                  <a:chOff x="7861320" y="5368320"/>
                  <a:chExt cx="137160" cy="25380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7883640" y="5469120"/>
                    <a:ext cx="90360" cy="15300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861320" y="5368320"/>
                    <a:ext cx="137160" cy="1008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>
                  <a:off x="7493400" y="4835520"/>
                  <a:ext cx="275400" cy="876960"/>
                </a:xfrm>
                <a:prstGeom prst="cube">
                  <a:avLst>
                    <a:gd name="adj" fmla="val 8958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9" name=""/>
            <p:cNvSpPr/>
            <p:nvPr/>
          </p:nvSpPr>
          <p:spPr>
            <a:xfrm>
              <a:off x="7148160" y="519048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580440" y="5190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宋体"/>
                </a:rPr>
                <a:t>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588000" y="947880"/>
            <a:ext cx="503280" cy="607680"/>
            <a:chOff x="6588000" y="947880"/>
            <a:chExt cx="503280" cy="607680"/>
          </a:xfrm>
        </p:grpSpPr>
        <p:sp>
          <p:nvSpPr>
            <p:cNvPr id="492" name=""/>
            <p:cNvSpPr/>
            <p:nvPr/>
          </p:nvSpPr>
          <p:spPr>
            <a:xfrm>
              <a:off x="6588000" y="947880"/>
              <a:ext cx="503280" cy="497160"/>
            </a:xfrm>
            <a:prstGeom prst="ellipse">
              <a:avLst/>
            </a:prstGeom>
            <a:gradFill rotWithShape="0">
              <a:gsLst>
                <a:gs pos="0">
                  <a:srgbClr val="ff6600">
                    <a:alpha val="81176"/>
                  </a:srgbClr>
                </a:gs>
                <a:gs pos="100000">
                  <a:srgbClr val="ffcc99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>
                  <a:alpha val="1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65400" y="1390320"/>
              <a:ext cx="347760" cy="165240"/>
            </a:xfrm>
            <a:prstGeom prst="rect">
              <a:avLst/>
            </a:prstGeom>
            <a:gradFill rotWithShape="0">
              <a:gsLst>
                <a:gs pos="0">
                  <a:srgbClr val="ff6600">
                    <a:alpha val="43137"/>
                  </a:srgbClr>
                </a:gs>
                <a:gs pos="100000">
                  <a:srgbClr val="000000">
                    <a:alpha val="43137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300720" y="2460600"/>
            <a:ext cx="503280" cy="607680"/>
            <a:chOff x="6300720" y="2460600"/>
            <a:chExt cx="503280" cy="607680"/>
          </a:xfrm>
        </p:grpSpPr>
        <p:sp>
          <p:nvSpPr>
            <p:cNvPr id="495" name=""/>
            <p:cNvSpPr/>
            <p:nvPr/>
          </p:nvSpPr>
          <p:spPr>
            <a:xfrm>
              <a:off x="6300720" y="2460600"/>
              <a:ext cx="503280" cy="497160"/>
            </a:xfrm>
            <a:prstGeom prst="ellipse">
              <a:avLst/>
            </a:prstGeom>
            <a:gradFill rotWithShape="0">
              <a:gsLst>
                <a:gs pos="0">
                  <a:srgbClr val="ff6600">
                    <a:alpha val="81176"/>
                  </a:srgbClr>
                </a:gs>
                <a:gs pos="100000">
                  <a:srgbClr val="ffcc99">
                    <a:alpha val="68235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>
                  <a:alpha val="1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78120" y="2903040"/>
              <a:ext cx="347760" cy="165240"/>
            </a:xfrm>
            <a:prstGeom prst="rect">
              <a:avLst/>
            </a:prstGeom>
            <a:gradFill rotWithShape="0">
              <a:gsLst>
                <a:gs pos="0">
                  <a:srgbClr val="ff6600">
                    <a:alpha val="43137"/>
                  </a:srgbClr>
                </a:gs>
                <a:gs pos="100000">
                  <a:srgbClr val="000000">
                    <a:alpha val="43137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236000" y="3900600"/>
            <a:ext cx="972720" cy="487080"/>
            <a:chOff x="7236000" y="3900600"/>
            <a:chExt cx="972720" cy="487080"/>
          </a:xfrm>
        </p:grpSpPr>
        <p:grpSp>
          <p:nvGrpSpPr>
            <p:cNvPr id="498" name=""/>
            <p:cNvGrpSpPr/>
            <p:nvPr/>
          </p:nvGrpSpPr>
          <p:grpSpPr>
            <a:xfrm>
              <a:off x="7236000" y="3900600"/>
              <a:ext cx="121680" cy="487080"/>
              <a:chOff x="7236000" y="3900600"/>
              <a:chExt cx="121680" cy="487080"/>
            </a:xfrm>
          </p:grpSpPr>
          <p:sp>
            <p:nvSpPr>
              <p:cNvPr id="499" name=""/>
              <p:cNvSpPr/>
              <p:nvPr/>
            </p:nvSpPr>
            <p:spPr>
              <a:xfrm>
                <a:off x="7236000" y="3900600"/>
                <a:ext cx="121680" cy="48708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236000" y="3960720"/>
                <a:ext cx="121680" cy="12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f5f5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8087040" y="3900600"/>
              <a:ext cx="121680" cy="4870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未知"/>
          <p:cNvSpPr/>
          <p:nvPr/>
        </p:nvSpPr>
        <p:spPr>
          <a:xfrm>
            <a:off x="7885080" y="4260960"/>
            <a:ext cx="863640" cy="129672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771"/>
                </a:moveTo>
                <a:cubicBezTo>
                  <a:pt x="147" y="793"/>
                  <a:pt x="320" y="817"/>
                  <a:pt x="408" y="725"/>
                </a:cubicBezTo>
                <a:cubicBezTo>
                  <a:pt x="496" y="633"/>
                  <a:pt x="544" y="339"/>
                  <a:pt x="529" y="218"/>
                </a:cubicBezTo>
                <a:cubicBezTo>
                  <a:pt x="514" y="97"/>
                  <a:pt x="361" y="46"/>
                  <a:pt x="31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未知"/>
          <p:cNvSpPr/>
          <p:nvPr/>
        </p:nvSpPr>
        <p:spPr>
          <a:xfrm>
            <a:off x="6743880" y="3179880"/>
            <a:ext cx="744480" cy="1081080"/>
          </a:xfrm>
          <a:custGeom>
            <a:avLst/>
            <a:gdLst/>
            <a:ahLst/>
            <a:rect l="l" t="t" r="r" b="b"/>
            <a:pathLst>
              <a:path w="469" h="681">
                <a:moveTo>
                  <a:pt x="220" y="681"/>
                </a:moveTo>
                <a:cubicBezTo>
                  <a:pt x="110" y="582"/>
                  <a:pt x="0" y="484"/>
                  <a:pt x="38" y="408"/>
                </a:cubicBezTo>
                <a:cubicBezTo>
                  <a:pt x="76" y="332"/>
                  <a:pt x="423" y="295"/>
                  <a:pt x="446" y="227"/>
                </a:cubicBezTo>
                <a:cubicBezTo>
                  <a:pt x="469" y="159"/>
                  <a:pt x="321" y="79"/>
                  <a:pt x="17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未知"/>
          <p:cNvSpPr/>
          <p:nvPr/>
        </p:nvSpPr>
        <p:spPr>
          <a:xfrm>
            <a:off x="6948360" y="1668600"/>
            <a:ext cx="1175040" cy="1439640"/>
          </a:xfrm>
          <a:custGeom>
            <a:avLst/>
            <a:gdLst/>
            <a:ahLst/>
            <a:rect l="l" t="t" r="r" b="b"/>
            <a:pathLst>
              <a:path w="740" h="907">
                <a:moveTo>
                  <a:pt x="0" y="907"/>
                </a:moveTo>
                <a:cubicBezTo>
                  <a:pt x="238" y="892"/>
                  <a:pt x="477" y="877"/>
                  <a:pt x="590" y="771"/>
                </a:cubicBezTo>
                <a:cubicBezTo>
                  <a:pt x="703" y="665"/>
                  <a:pt x="740" y="400"/>
                  <a:pt x="680" y="272"/>
                </a:cubicBezTo>
                <a:cubicBezTo>
                  <a:pt x="620" y="144"/>
                  <a:pt x="423" y="72"/>
                  <a:pt x="227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未知"/>
          <p:cNvSpPr/>
          <p:nvPr/>
        </p:nvSpPr>
        <p:spPr>
          <a:xfrm>
            <a:off x="5435640" y="1500120"/>
            <a:ext cx="865080" cy="1763640"/>
          </a:xfrm>
          <a:custGeom>
            <a:avLst/>
            <a:gdLst/>
            <a:ahLst/>
            <a:rect l="l" t="t" r="r" b="b"/>
            <a:pathLst>
              <a:path w="545" h="1111">
                <a:moveTo>
                  <a:pt x="545" y="60"/>
                </a:moveTo>
                <a:cubicBezTo>
                  <a:pt x="409" y="30"/>
                  <a:pt x="273" y="0"/>
                  <a:pt x="182" y="60"/>
                </a:cubicBezTo>
                <a:cubicBezTo>
                  <a:pt x="91" y="120"/>
                  <a:pt x="0" y="264"/>
                  <a:pt x="0" y="423"/>
                </a:cubicBezTo>
                <a:cubicBezTo>
                  <a:pt x="0" y="582"/>
                  <a:pt x="122" y="915"/>
                  <a:pt x="182" y="1013"/>
                </a:cubicBezTo>
                <a:cubicBezTo>
                  <a:pt x="242" y="1111"/>
                  <a:pt x="302" y="1062"/>
                  <a:pt x="363" y="101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未知"/>
          <p:cNvSpPr/>
          <p:nvPr/>
        </p:nvSpPr>
        <p:spPr>
          <a:xfrm>
            <a:off x="4968720" y="3060720"/>
            <a:ext cx="1043280" cy="2398680"/>
          </a:xfrm>
          <a:custGeom>
            <a:avLst/>
            <a:gdLst/>
            <a:ahLst/>
            <a:rect l="l" t="t" r="r" b="b"/>
            <a:pathLst>
              <a:path w="657" h="1511">
                <a:moveTo>
                  <a:pt x="657" y="30"/>
                </a:moveTo>
                <a:cubicBezTo>
                  <a:pt x="615" y="15"/>
                  <a:pt x="574" y="0"/>
                  <a:pt x="476" y="75"/>
                </a:cubicBezTo>
                <a:cubicBezTo>
                  <a:pt x="378" y="150"/>
                  <a:pt x="136" y="271"/>
                  <a:pt x="68" y="483"/>
                </a:cubicBezTo>
                <a:cubicBezTo>
                  <a:pt x="0" y="695"/>
                  <a:pt x="30" y="1179"/>
                  <a:pt x="68" y="1345"/>
                </a:cubicBezTo>
                <a:cubicBezTo>
                  <a:pt x="106" y="1511"/>
                  <a:pt x="200" y="1496"/>
                  <a:pt x="294" y="14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4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99940">
                                      <p:cBhvr>
                                        <p:cTn id="5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6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99940">
                                      <p:cBhvr>
                                        <p:cTn id="7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203640" y="1916280"/>
            <a:ext cx="5689440" cy="3960720"/>
          </a:xfrm>
          <a:prstGeom prst="rect">
            <a:avLst/>
          </a:prstGeom>
          <a:noFill/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765000"/>
            <a:ext cx="8748720" cy="1366920"/>
          </a:xfrm>
          <a:prstGeom prst="cloudCallout">
            <a:avLst>
              <a:gd name="adj1" fmla="val -34759"/>
              <a:gd name="adj2" fmla="val 131069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4292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个电源和两个灯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使两个灯泡同时发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几种接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95280" y="3068640"/>
            <a:ext cx="1942920" cy="2610360"/>
            <a:chOff x="395280" y="3068640"/>
            <a:chExt cx="1942920" cy="2610360"/>
          </a:xfrm>
        </p:grpSpPr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395280" y="3068640"/>
              <a:ext cx="1942920" cy="240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842040" y="5341680"/>
              <a:ext cx="12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想一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108000" y="5950080"/>
            <a:ext cx="1547640" cy="404640"/>
          </a:xfrm>
          <a:prstGeom prst="bevel">
            <a:avLst>
              <a:gd name="adj" fmla="val 12019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猜   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62280" y="5950080"/>
            <a:ext cx="1547640" cy="404640"/>
          </a:xfrm>
          <a:prstGeom prst="bevel">
            <a:avLst>
              <a:gd name="adj" fmla="val 12019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设计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616200" y="5950080"/>
            <a:ext cx="1548000" cy="404640"/>
          </a:xfrm>
          <a:prstGeom prst="bevel">
            <a:avLst>
              <a:gd name="adj" fmla="val 12019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进行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370480" y="5950080"/>
            <a:ext cx="1657440" cy="404640"/>
          </a:xfrm>
          <a:prstGeom prst="bevel">
            <a:avLst>
              <a:gd name="adj" fmla="val 12019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析与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236000" y="5950080"/>
            <a:ext cx="1657080" cy="404640"/>
          </a:xfrm>
          <a:prstGeom prst="bevel">
            <a:avLst>
              <a:gd name="adj" fmla="val 12019"/>
            </a:avLst>
          </a:prstGeom>
          <a:gradFill rotWithShape="0">
            <a:gsLst>
              <a:gs pos="0">
                <a:srgbClr val="ff99ff"/>
              </a:gs>
              <a:gs pos="5000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评估与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5940360" y="4653000"/>
            <a:ext cx="1619280" cy="1007280"/>
            <a:chOff x="5940360" y="4653000"/>
            <a:chExt cx="1619280" cy="1007280"/>
          </a:xfrm>
        </p:grpSpPr>
        <p:grpSp>
          <p:nvGrpSpPr>
            <p:cNvPr id="519" name=""/>
            <p:cNvGrpSpPr/>
            <p:nvPr/>
          </p:nvGrpSpPr>
          <p:grpSpPr>
            <a:xfrm>
              <a:off x="6519240" y="4653000"/>
              <a:ext cx="462960" cy="583560"/>
              <a:chOff x="6519240" y="4653000"/>
              <a:chExt cx="462960" cy="583560"/>
            </a:xfrm>
          </p:grpSpPr>
          <p:sp>
            <p:nvSpPr>
              <p:cNvPr id="520" name=""/>
              <p:cNvSpPr/>
              <p:nvPr/>
            </p:nvSpPr>
            <p:spPr>
              <a:xfrm>
                <a:off x="6519240" y="4653000"/>
                <a:ext cx="462960" cy="477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b2b2b2">
                      <a:alpha val="8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90520" y="5077800"/>
                <a:ext cx="320040" cy="158760"/>
              </a:xfrm>
              <a:prstGeom prst="rect">
                <a:avLst/>
              </a:prstGeom>
              <a:blipFill rotWithShape="0">
                <a:blip r:embed="rId2">
                  <a:alphaModFix amt="43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940360" y="5146920"/>
              <a:ext cx="1619280" cy="513360"/>
              <a:chOff x="5940360" y="5146920"/>
              <a:chExt cx="1619280" cy="513360"/>
            </a:xfrm>
          </p:grpSpPr>
          <p:sp>
            <p:nvSpPr>
              <p:cNvPr id="523" name=""/>
              <p:cNvSpPr/>
              <p:nvPr/>
            </p:nvSpPr>
            <p:spPr>
              <a:xfrm>
                <a:off x="5940360" y="5235480"/>
                <a:ext cx="1619280" cy="424800"/>
              </a:xfrm>
              <a:prstGeom prst="cube">
                <a:avLst>
                  <a:gd name="adj" fmla="val 72611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562440" y="5185440"/>
                <a:ext cx="374760" cy="264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7098120" y="5164200"/>
                <a:ext cx="172800" cy="285120"/>
                <a:chOff x="7098120" y="5164200"/>
                <a:chExt cx="172800" cy="2851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7126200" y="527760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098120" y="516420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172560" y="5146920"/>
                <a:ext cx="172800" cy="285120"/>
                <a:chOff x="6172560" y="5146920"/>
                <a:chExt cx="172800" cy="2851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200640" y="526032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172560" y="514692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1" name=""/>
          <p:cNvGrpSpPr/>
          <p:nvPr/>
        </p:nvGrpSpPr>
        <p:grpSpPr>
          <a:xfrm>
            <a:off x="6948360" y="3213000"/>
            <a:ext cx="1619280" cy="1007280"/>
            <a:chOff x="6948360" y="3213000"/>
            <a:chExt cx="1619280" cy="1007280"/>
          </a:xfrm>
        </p:grpSpPr>
        <p:grpSp>
          <p:nvGrpSpPr>
            <p:cNvPr id="532" name=""/>
            <p:cNvGrpSpPr/>
            <p:nvPr/>
          </p:nvGrpSpPr>
          <p:grpSpPr>
            <a:xfrm>
              <a:off x="7527240" y="3213000"/>
              <a:ext cx="462960" cy="583560"/>
              <a:chOff x="7527240" y="3213000"/>
              <a:chExt cx="462960" cy="583560"/>
            </a:xfrm>
          </p:grpSpPr>
          <p:sp>
            <p:nvSpPr>
              <p:cNvPr id="533" name=""/>
              <p:cNvSpPr/>
              <p:nvPr/>
            </p:nvSpPr>
            <p:spPr>
              <a:xfrm>
                <a:off x="7527240" y="3213000"/>
                <a:ext cx="462960" cy="477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b2b2b2">
                      <a:alpha val="81176"/>
                    </a:srgbClr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598520" y="3637800"/>
                <a:ext cx="320040" cy="158760"/>
              </a:xfrm>
              <a:prstGeom prst="rect">
                <a:avLst/>
              </a:prstGeom>
              <a:blipFill rotWithShape="0">
                <a:blip r:embed="rId6">
                  <a:alphaModFix amt="43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6948360" y="3706920"/>
              <a:ext cx="1619280" cy="513360"/>
              <a:chOff x="6948360" y="3706920"/>
              <a:chExt cx="1619280" cy="513360"/>
            </a:xfrm>
          </p:grpSpPr>
          <p:sp>
            <p:nvSpPr>
              <p:cNvPr id="536" name=""/>
              <p:cNvSpPr/>
              <p:nvPr/>
            </p:nvSpPr>
            <p:spPr>
              <a:xfrm>
                <a:off x="6948360" y="3795480"/>
                <a:ext cx="1619280" cy="424800"/>
              </a:xfrm>
              <a:prstGeom prst="cube">
                <a:avLst>
                  <a:gd name="adj" fmla="val 72611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570440" y="3745440"/>
                <a:ext cx="374760" cy="2642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8" name=""/>
              <p:cNvGrpSpPr/>
              <p:nvPr/>
            </p:nvGrpSpPr>
            <p:grpSpPr>
              <a:xfrm>
                <a:off x="8106120" y="3724200"/>
                <a:ext cx="172800" cy="285120"/>
                <a:chOff x="8106120" y="3724200"/>
                <a:chExt cx="172800" cy="285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8134200" y="383760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106120" y="372420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7180560" y="3706920"/>
                <a:ext cx="172800" cy="285120"/>
                <a:chOff x="7180560" y="3706920"/>
                <a:chExt cx="172800" cy="285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8640" y="3820320"/>
                  <a:ext cx="114120" cy="17172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180560" y="3706920"/>
                  <a:ext cx="172800" cy="1134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4" name=""/>
          <p:cNvSpPr/>
          <p:nvPr/>
        </p:nvSpPr>
        <p:spPr>
          <a:xfrm>
            <a:off x="7681680" y="4724280"/>
            <a:ext cx="70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en-US" sz="4400" spc="-1" strike="noStrike" baseline="-8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42040" y="2852640"/>
            <a:ext cx="70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en-US" sz="4400" spc="-1" strike="noStrike" baseline="-8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551680" y="3706560"/>
            <a:ext cx="3029760" cy="1680840"/>
            <a:chOff x="2551680" y="3706560"/>
            <a:chExt cx="3029760" cy="1680840"/>
          </a:xfrm>
        </p:grpSpPr>
        <p:grpSp>
          <p:nvGrpSpPr>
            <p:cNvPr id="547" name=""/>
            <p:cNvGrpSpPr/>
            <p:nvPr/>
          </p:nvGrpSpPr>
          <p:grpSpPr>
            <a:xfrm>
              <a:off x="3636360" y="4399920"/>
              <a:ext cx="1945080" cy="730440"/>
              <a:chOff x="3636360" y="4399920"/>
              <a:chExt cx="1945080" cy="730440"/>
            </a:xfrm>
          </p:grpSpPr>
          <p:sp>
            <p:nvSpPr>
              <p:cNvPr id="548" name=""/>
              <p:cNvSpPr/>
              <p:nvPr/>
            </p:nvSpPr>
            <p:spPr>
              <a:xfrm>
                <a:off x="3636360" y="4704120"/>
                <a:ext cx="1945080" cy="426240"/>
              </a:xfrm>
              <a:prstGeom prst="cube">
                <a:avLst>
                  <a:gd name="adj" fmla="val 88430"/>
                </a:avLst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3758040" y="4399920"/>
                <a:ext cx="608040" cy="606960"/>
                <a:chOff x="3758040" y="4399920"/>
                <a:chExt cx="608040" cy="60696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758040" y="4825080"/>
                  <a:ext cx="608040" cy="181800"/>
                </a:xfrm>
                <a:prstGeom prst="parallelogram">
                  <a:avLst>
                    <a:gd name="adj" fmla="val 107552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122000" y="4399920"/>
                  <a:ext cx="122040" cy="425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3879720" y="4668120"/>
                  <a:ext cx="148320" cy="246600"/>
                  <a:chOff x="3879720" y="4668120"/>
                  <a:chExt cx="148320" cy="24660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3903840" y="4766040"/>
                    <a:ext cx="97920" cy="14868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3879720" y="4668120"/>
                    <a:ext cx="148320" cy="9792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4730760" y="4399920"/>
                <a:ext cx="668160" cy="606960"/>
                <a:chOff x="4730760" y="4399920"/>
                <a:chExt cx="668160" cy="6069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4730760" y="4825080"/>
                  <a:ext cx="668160" cy="181800"/>
                </a:xfrm>
                <a:prstGeom prst="parallelogram">
                  <a:avLst>
                    <a:gd name="adj" fmla="val 9868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973040" y="4399920"/>
                  <a:ext cx="121680" cy="48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5155200" y="4668120"/>
                  <a:ext cx="147960" cy="246600"/>
                  <a:chOff x="5155200" y="4668120"/>
                  <a:chExt cx="147960" cy="24660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5179320" y="4766040"/>
                    <a:ext cx="97560" cy="14868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155200" y="4668120"/>
                    <a:ext cx="147960" cy="9792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61" name=""/>
            <p:cNvGrpSpPr/>
            <p:nvPr/>
          </p:nvGrpSpPr>
          <p:grpSpPr>
            <a:xfrm>
              <a:off x="2551680" y="3706560"/>
              <a:ext cx="2990880" cy="1680840"/>
              <a:chOff x="2551680" y="3706560"/>
              <a:chExt cx="2990880" cy="168084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4009320" y="3706560"/>
                <a:ext cx="1533240" cy="929880"/>
                <a:chOff x="4009320" y="3706560"/>
                <a:chExt cx="1533240" cy="929880"/>
              </a:xfrm>
            </p:grpSpPr>
            <p:sp>
              <p:nvSpPr>
                <p:cNvPr id="563" name=""/>
                <p:cNvSpPr/>
                <p:nvPr/>
              </p:nvSpPr>
              <p:spPr>
                <a:xfrm rot="19921800">
                  <a:off x="3962880" y="4223880"/>
                  <a:ext cx="127476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rot="19921800">
                  <a:off x="5142240" y="3777840"/>
                  <a:ext cx="364320" cy="244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2551680" y="4457160"/>
                <a:ext cx="1533600" cy="930240"/>
                <a:chOff x="2551680" y="4457160"/>
                <a:chExt cx="1533600" cy="930240"/>
              </a:xfrm>
            </p:grpSpPr>
            <p:sp>
              <p:nvSpPr>
                <p:cNvPr id="566" name=""/>
                <p:cNvSpPr/>
                <p:nvPr/>
              </p:nvSpPr>
              <p:spPr>
                <a:xfrm rot="19921800">
                  <a:off x="2505240" y="4974480"/>
                  <a:ext cx="127512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9921800">
                  <a:off x="3684600" y="4528440"/>
                  <a:ext cx="364320" cy="24408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4062600" y="4436640"/>
              <a:ext cx="972000" cy="487440"/>
              <a:chOff x="4062600" y="4436640"/>
              <a:chExt cx="972000" cy="4874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4062600" y="4436640"/>
                <a:ext cx="121680" cy="487440"/>
                <a:chOff x="4062600" y="4436640"/>
                <a:chExt cx="121680" cy="48744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4062600" y="4436640"/>
                  <a:ext cx="121680" cy="487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062600" y="4496760"/>
                  <a:ext cx="121680" cy="122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4912920" y="4436640"/>
                <a:ext cx="121680" cy="48744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3780000" y="2349360"/>
            <a:ext cx="3313080" cy="1008360"/>
            <a:chOff x="3780000" y="2349360"/>
            <a:chExt cx="3313080" cy="1008360"/>
          </a:xfrm>
        </p:grpSpPr>
        <p:grpSp>
          <p:nvGrpSpPr>
            <p:cNvPr id="574" name=""/>
            <p:cNvGrpSpPr/>
            <p:nvPr/>
          </p:nvGrpSpPr>
          <p:grpSpPr>
            <a:xfrm>
              <a:off x="3780000" y="2349360"/>
              <a:ext cx="3313080" cy="1008360"/>
              <a:chOff x="3780000" y="2349360"/>
              <a:chExt cx="3313080" cy="1008360"/>
            </a:xfrm>
          </p:grpSpPr>
          <p:sp>
            <p:nvSpPr>
              <p:cNvPr id="575" name=""/>
              <p:cNvSpPr/>
              <p:nvPr/>
            </p:nvSpPr>
            <p:spPr>
              <a:xfrm>
                <a:off x="3780000" y="2831040"/>
                <a:ext cx="3313080" cy="526680"/>
              </a:xfrm>
              <a:prstGeom prst="cube">
                <a:avLst>
                  <a:gd name="adj" fmla="val 91486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3872880" y="2349360"/>
                <a:ext cx="735120" cy="877320"/>
                <a:chOff x="3872880" y="2349360"/>
                <a:chExt cx="735120" cy="8773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872880" y="2932920"/>
                  <a:ext cx="735120" cy="293400"/>
                </a:xfrm>
                <a:prstGeom prst="parallelogram">
                  <a:avLst>
                    <a:gd name="adj" fmla="val 9641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332240" y="2349360"/>
                  <a:ext cx="275400" cy="877320"/>
                </a:xfrm>
                <a:prstGeom prst="cube">
                  <a:avLst>
                    <a:gd name="adj" fmla="val 8958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9" name=""/>
                <p:cNvGrpSpPr/>
                <p:nvPr/>
              </p:nvGrpSpPr>
              <p:grpSpPr>
                <a:xfrm>
                  <a:off x="4056120" y="2831040"/>
                  <a:ext cx="137520" cy="253800"/>
                  <a:chOff x="4056120" y="2831040"/>
                  <a:chExt cx="137520" cy="2538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4078440" y="2931840"/>
                    <a:ext cx="90720" cy="15300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4056120" y="2831040"/>
                    <a:ext cx="137520" cy="1008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2" name=""/>
              <p:cNvGrpSpPr/>
              <p:nvPr/>
            </p:nvGrpSpPr>
            <p:grpSpPr>
              <a:xfrm>
                <a:off x="4406400" y="2552040"/>
                <a:ext cx="983520" cy="559080"/>
                <a:chOff x="4406400" y="2552040"/>
                <a:chExt cx="983520" cy="55908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4406400" y="2552040"/>
                  <a:ext cx="983520" cy="559080"/>
                  <a:chOff x="4406400" y="2552040"/>
                  <a:chExt cx="983520" cy="559080"/>
                </a:xfrm>
              </p:grpSpPr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4406400" y="2552040"/>
                    <a:ext cx="914400" cy="557640"/>
                    <a:chOff x="4406400" y="2552040"/>
                    <a:chExt cx="914400" cy="55764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5400000">
                      <a:off x="4584600" y="2373480"/>
                      <a:ext cx="557640" cy="91440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5400000">
                      <a:off x="4901400" y="2690280"/>
                      <a:ext cx="557640" cy="28116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214600" y="2552040"/>
                    <a:ext cx="175320" cy="559080"/>
                    <a:chOff x="5214600" y="2552040"/>
                    <a:chExt cx="175320" cy="559080"/>
                  </a:xfrm>
                </p:grpSpPr>
                <p:grpSp>
                  <p:nvGrpSpPr>
                    <p:cNvPr id="588" name=""/>
                    <p:cNvGrpSpPr/>
                    <p:nvPr/>
                  </p:nvGrpSpPr>
                  <p:grpSpPr>
                    <a:xfrm>
                      <a:off x="5214600" y="2552040"/>
                      <a:ext cx="175320" cy="559080"/>
                      <a:chOff x="5214600" y="2552040"/>
                      <a:chExt cx="175320" cy="559080"/>
                    </a:xfrm>
                  </p:grpSpPr>
                  <p:grpSp>
                    <p:nvGrpSpPr>
                      <p:cNvPr id="589" name=""/>
                      <p:cNvGrpSpPr/>
                      <p:nvPr/>
                    </p:nvGrpSpPr>
                    <p:grpSpPr>
                      <a:xfrm>
                        <a:off x="5214600" y="2552040"/>
                        <a:ext cx="175320" cy="559080"/>
                        <a:chOff x="5214600" y="2552040"/>
                        <a:chExt cx="175320" cy="559080"/>
                      </a:xfrm>
                    </p:grpSpPr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 rot="5400000">
                          <a:off x="5022720" y="2743920"/>
                          <a:ext cx="559080" cy="1753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ffcc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 rot="5400000">
                          <a:off x="5088240" y="2778480"/>
                          <a:ext cx="429120" cy="10512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080" bIns="28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92" name=""/>
                      <p:cNvSpPr/>
                      <p:nvPr/>
                    </p:nvSpPr>
                    <p:spPr>
                      <a:xfrm rot="5400000">
                        <a:off x="5151960" y="2795760"/>
                        <a:ext cx="300240" cy="70200"/>
                      </a:xfrm>
                      <a:prstGeom prst="ellipse">
                        <a:avLst/>
                      </a:prstGeom>
                      <a:solidFill>
                        <a:srgbClr val="dddddd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240" bIns="3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3" name=""/>
                    <p:cNvSpPr/>
                    <p:nvPr/>
                  </p:nvSpPr>
                  <p:spPr>
                    <a:xfrm rot="5400000">
                      <a:off x="5247360" y="2796480"/>
                      <a:ext cx="129960" cy="691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00" bIns="-3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4477680" y="2766600"/>
                    <a:ext cx="667440" cy="257400"/>
                    <a:chOff x="4477680" y="2766600"/>
                    <a:chExt cx="667440" cy="25740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4477680" y="2766600"/>
                      <a:ext cx="667440" cy="25740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4582800" y="2852640"/>
                      <a:ext cx="386280" cy="1288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97" name=""/>
                <p:cNvSpPr/>
                <p:nvPr/>
              </p:nvSpPr>
              <p:spPr>
                <a:xfrm>
                  <a:off x="4991400" y="2710440"/>
                  <a:ext cx="272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  <a:ea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408200" y="269172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  <a:ea typeface="宋体"/>
                    </a:rPr>
                    <a:t>—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257080" y="2552040"/>
                <a:ext cx="983520" cy="559080"/>
                <a:chOff x="5257080" y="2552040"/>
                <a:chExt cx="983520" cy="55908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5257080" y="2552040"/>
                  <a:ext cx="914400" cy="557640"/>
                  <a:chOff x="5257080" y="2552040"/>
                  <a:chExt cx="914400" cy="55764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5400000">
                    <a:off x="5435280" y="2373480"/>
                    <a:ext cx="557640" cy="9144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cc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5400000">
                    <a:off x="5752080" y="2690280"/>
                    <a:ext cx="557640" cy="28116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6065280" y="2552040"/>
                  <a:ext cx="175320" cy="559080"/>
                  <a:chOff x="6065280" y="2552040"/>
                  <a:chExt cx="175320" cy="559080"/>
                </a:xfrm>
              </p:grpSpPr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6065280" y="2552040"/>
                    <a:ext cx="175320" cy="559080"/>
                    <a:chOff x="6065280" y="2552040"/>
                    <a:chExt cx="175320" cy="559080"/>
                  </a:xfrm>
                </p:grpSpPr>
                <p:grpSp>
                  <p:nvGrpSpPr>
                    <p:cNvPr id="605" name=""/>
                    <p:cNvGrpSpPr/>
                    <p:nvPr/>
                  </p:nvGrpSpPr>
                  <p:grpSpPr>
                    <a:xfrm>
                      <a:off x="6065280" y="2552040"/>
                      <a:ext cx="175320" cy="559080"/>
                      <a:chOff x="6065280" y="2552040"/>
                      <a:chExt cx="175320" cy="559080"/>
                    </a:xfrm>
                  </p:grpSpPr>
                  <p:sp>
                    <p:nvSpPr>
                      <p:cNvPr id="606" name=""/>
                      <p:cNvSpPr/>
                      <p:nvPr/>
                    </p:nvSpPr>
                    <p:spPr>
                      <a:xfrm rot="5400000">
                        <a:off x="5873400" y="2743920"/>
                        <a:ext cx="559080" cy="1753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ffcc00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7" name=""/>
                      <p:cNvSpPr/>
                      <p:nvPr/>
                    </p:nvSpPr>
                    <p:spPr>
                      <a:xfrm rot="5400000">
                        <a:off x="5938920" y="2778480"/>
                        <a:ext cx="429120" cy="105120"/>
                      </a:xfrm>
                      <a:prstGeom prst="ellipse">
                        <a:avLst/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080" bIns="28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8" name=""/>
                    <p:cNvSpPr/>
                    <p:nvPr/>
                  </p:nvSpPr>
                  <p:spPr>
                    <a:xfrm rot="5400000">
                      <a:off x="6002640" y="2795760"/>
                      <a:ext cx="300240" cy="70200"/>
                    </a:xfrm>
                    <a:prstGeom prst="ellipse">
                      <a:avLst/>
                    </a:prstGeom>
                    <a:solidFill>
                      <a:srgbClr val="dddddd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40" bIns="32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9" name=""/>
                  <p:cNvSpPr/>
                  <p:nvPr/>
                </p:nvSpPr>
                <p:spPr>
                  <a:xfrm rot="5400000">
                    <a:off x="6098040" y="2796480"/>
                    <a:ext cx="129960" cy="6912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5328360" y="2766600"/>
                  <a:ext cx="667440" cy="257400"/>
                  <a:chOff x="5328360" y="2766600"/>
                  <a:chExt cx="667440" cy="25740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>
                    <a:off x="5328360" y="2766600"/>
                    <a:ext cx="667440" cy="2574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433480" y="2852640"/>
                    <a:ext cx="386280" cy="1288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55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3" name=""/>
              <p:cNvGrpSpPr/>
              <p:nvPr/>
            </p:nvGrpSpPr>
            <p:grpSpPr>
              <a:xfrm>
                <a:off x="6196680" y="2349360"/>
                <a:ext cx="735120" cy="877320"/>
                <a:chOff x="6196680" y="2349360"/>
                <a:chExt cx="735120" cy="8773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6196680" y="2932920"/>
                  <a:ext cx="735120" cy="293400"/>
                </a:xfrm>
                <a:prstGeom prst="parallelogram">
                  <a:avLst>
                    <a:gd name="adj" fmla="val 9641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15" name=""/>
                <p:cNvGrpSpPr/>
                <p:nvPr/>
              </p:nvGrpSpPr>
              <p:grpSpPr>
                <a:xfrm>
                  <a:off x="6564600" y="2882520"/>
                  <a:ext cx="137160" cy="253800"/>
                  <a:chOff x="6564600" y="2882520"/>
                  <a:chExt cx="137160" cy="25380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>
                    <a:off x="6586920" y="2983320"/>
                    <a:ext cx="90360" cy="15300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6564600" y="2882520"/>
                    <a:ext cx="137160" cy="1008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8" name=""/>
                <p:cNvSpPr/>
                <p:nvPr/>
              </p:nvSpPr>
              <p:spPr>
                <a:xfrm>
                  <a:off x="6196680" y="2349360"/>
                  <a:ext cx="275400" cy="877320"/>
                </a:xfrm>
                <a:prstGeom prst="cube">
                  <a:avLst>
                    <a:gd name="adj" fmla="val 89587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9" name=""/>
            <p:cNvSpPr/>
            <p:nvPr/>
          </p:nvSpPr>
          <p:spPr>
            <a:xfrm>
              <a:off x="5851440" y="2704320"/>
              <a:ext cx="3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宋体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83720" y="27043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宋体"/>
                </a:rPr>
                <a:t>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24000" y="1052640"/>
            <a:ext cx="718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1800" spc="1" strike="noStrike">
              <a:ln w="442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76360" y="1052640"/>
            <a:ext cx="3456000" cy="86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幼圆"/>
              </a:rPr>
              <a:t>想想做做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611280" y="4869000"/>
            <a:ext cx="7848360" cy="1478880"/>
            <a:chOff x="611280" y="4869000"/>
            <a:chExt cx="7848360" cy="1478880"/>
          </a:xfrm>
        </p:grpSpPr>
        <p:sp>
          <p:nvSpPr>
            <p:cNvPr id="624" name=""/>
            <p:cNvSpPr/>
            <p:nvPr/>
          </p:nvSpPr>
          <p:spPr>
            <a:xfrm>
              <a:off x="898200" y="4869000"/>
              <a:ext cx="720072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器材：干电池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对）、灯泡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只）、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    开关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）、导线（若干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1280" y="4908240"/>
              <a:ext cx="7848360" cy="143964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11280" y="2276640"/>
            <a:ext cx="7848360" cy="2479680"/>
            <a:chOff x="611280" y="2276640"/>
            <a:chExt cx="7848360" cy="2479680"/>
          </a:xfrm>
        </p:grpSpPr>
        <p:sp>
          <p:nvSpPr>
            <p:cNvPr id="627" name=""/>
            <p:cNvSpPr/>
            <p:nvPr/>
          </p:nvSpPr>
          <p:spPr>
            <a:xfrm>
              <a:off x="1547640" y="2811600"/>
              <a:ext cx="489708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使两个灯泡同时发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47640" y="3522960"/>
              <a:ext cx="619236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使电流同时流入两个灯泡，</a:t>
              </a:r>
              <a:br>
                <a:rPr sz="3200"/>
              </a:b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流出灯泡后再汇合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1280" y="2421000"/>
              <a:ext cx="7848360" cy="230364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5280" y="2276640"/>
              <a:ext cx="3455640" cy="8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实验目的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"/>
          <p:cNvGrpSpPr/>
          <p:nvPr/>
        </p:nvGrpSpPr>
        <p:grpSpPr>
          <a:xfrm>
            <a:off x="179280" y="4681440"/>
            <a:ext cx="8893080" cy="1555920"/>
            <a:chOff x="179280" y="4681440"/>
            <a:chExt cx="8893080" cy="1555920"/>
          </a:xfrm>
        </p:grpSpPr>
        <p:sp>
          <p:nvSpPr>
            <p:cNvPr id="632" name=""/>
            <p:cNvSpPr/>
            <p:nvPr/>
          </p:nvSpPr>
          <p:spPr>
            <a:xfrm>
              <a:off x="179280" y="4724280"/>
              <a:ext cx="8893080" cy="1513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8080" y="4681440"/>
              <a:ext cx="829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个小灯泡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电器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两端分别连在一起，然后接到电路中，这两个灯泡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电器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连接方式叫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并联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66560" y="1647720"/>
            <a:ext cx="3457080" cy="2014560"/>
            <a:chOff x="466560" y="1647720"/>
            <a:chExt cx="3457080" cy="2014560"/>
          </a:xfrm>
        </p:grpSpPr>
        <p:sp>
          <p:nvSpPr>
            <p:cNvPr id="635" name=""/>
            <p:cNvSpPr/>
            <p:nvPr/>
          </p:nvSpPr>
          <p:spPr>
            <a:xfrm>
              <a:off x="2131560" y="1869840"/>
              <a:ext cx="70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836080" y="1815480"/>
              <a:ext cx="125280" cy="113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6560" y="1869840"/>
              <a:ext cx="153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03400" y="1647720"/>
              <a:ext cx="0" cy="44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26160" y="1701720"/>
              <a:ext cx="0" cy="335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19840" y="1872360"/>
              <a:ext cx="698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21480" y="1870920"/>
              <a:ext cx="0" cy="111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99760" y="3437280"/>
              <a:ext cx="88344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07280" y="3213000"/>
              <a:ext cx="492480" cy="44928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6560" y="2990520"/>
              <a:ext cx="63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58040" y="2428920"/>
              <a:ext cx="492480" cy="44928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042200" y="3437280"/>
              <a:ext cx="86220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6560" y="1870920"/>
              <a:ext cx="0" cy="111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899440" y="1662480"/>
              <a:ext cx="255600" cy="15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72320" y="224244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72320" y="308340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042200" y="2654640"/>
              <a:ext cx="0" cy="3358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42200" y="2990520"/>
              <a:ext cx="0" cy="447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79920" y="2936160"/>
              <a:ext cx="12672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451960" y="2652480"/>
              <a:ext cx="83124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42200" y="2652480"/>
              <a:ext cx="89604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280320" y="2990520"/>
              <a:ext cx="6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81760" y="2654640"/>
              <a:ext cx="0" cy="3358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81760" y="2990520"/>
              <a:ext cx="0" cy="447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219840" y="2936160"/>
              <a:ext cx="126720" cy="110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423080" y="3879720"/>
            <a:ext cx="1887480" cy="520560"/>
          </a:xfrm>
          <a:prstGeom prst="rect">
            <a:avLst/>
          </a:prstGeom>
          <a:noFill/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个小灯泡的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539640" y="765000"/>
            <a:ext cx="3733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并联的定义</a:t>
            </a:r>
            <a:endParaRPr b="1" lang="en-US" sz="1800" spc="-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3628440" y="692280"/>
            <a:ext cx="5442480" cy="3888720"/>
            <a:chOff x="3628440" y="692280"/>
            <a:chExt cx="5442480" cy="3888720"/>
          </a:xfrm>
        </p:grpSpPr>
        <p:sp>
          <p:nvSpPr>
            <p:cNvPr id="663" name=""/>
            <p:cNvSpPr/>
            <p:nvPr/>
          </p:nvSpPr>
          <p:spPr>
            <a:xfrm>
              <a:off x="4427640" y="836280"/>
              <a:ext cx="4643280" cy="3744720"/>
            </a:xfrm>
            <a:prstGeom prst="rect">
              <a:avLst/>
            </a:prstGeom>
            <a:noFill/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6588360" y="3644640"/>
              <a:ext cx="2232000" cy="647280"/>
              <a:chOff x="6588360" y="3644640"/>
              <a:chExt cx="2232000" cy="64728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6588360" y="3644640"/>
                <a:ext cx="2232000" cy="647280"/>
                <a:chOff x="6588360" y="3644640"/>
                <a:chExt cx="2232000" cy="6472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6588360" y="3953880"/>
                  <a:ext cx="2232000" cy="338040"/>
                </a:xfrm>
                <a:prstGeom prst="cube">
                  <a:avLst>
                    <a:gd name="adj" fmla="val 9148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7" name=""/>
                <p:cNvGrpSpPr/>
                <p:nvPr/>
              </p:nvGrpSpPr>
              <p:grpSpPr>
                <a:xfrm>
                  <a:off x="6650640" y="3644640"/>
                  <a:ext cx="495000" cy="563040"/>
                  <a:chOff x="6650640" y="3644640"/>
                  <a:chExt cx="495000" cy="56304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6650640" y="4019040"/>
                    <a:ext cx="495000" cy="188280"/>
                  </a:xfrm>
                  <a:prstGeom prst="parallelogram">
                    <a:avLst>
                      <a:gd name="adj" fmla="val 10117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6959880" y="3644640"/>
                    <a:ext cx="185400" cy="563040"/>
                  </a:xfrm>
                  <a:prstGeom prst="cube">
                    <a:avLst>
                      <a:gd name="adj" fmla="val 8958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6774120" y="3953880"/>
                    <a:ext cx="92880" cy="162720"/>
                    <a:chOff x="6774120" y="3953880"/>
                    <a:chExt cx="92880" cy="16272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6789240" y="4018680"/>
                      <a:ext cx="61200" cy="9792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0" bIns="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6774120" y="3953880"/>
                      <a:ext cx="92880" cy="6480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3" name=""/>
                <p:cNvGrpSpPr/>
                <p:nvPr/>
              </p:nvGrpSpPr>
              <p:grpSpPr>
                <a:xfrm>
                  <a:off x="7009920" y="3774600"/>
                  <a:ext cx="663120" cy="469800"/>
                  <a:chOff x="7009920" y="3774600"/>
                  <a:chExt cx="663120" cy="469800"/>
                </a:xfrm>
              </p:grpSpPr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7009920" y="3774600"/>
                    <a:ext cx="663120" cy="358560"/>
                    <a:chOff x="7009920" y="3774600"/>
                    <a:chExt cx="663120" cy="358560"/>
                  </a:xfrm>
                </p:grpSpPr>
                <p:grpSp>
                  <p:nvGrpSpPr>
                    <p:cNvPr id="675" name=""/>
                    <p:cNvGrpSpPr/>
                    <p:nvPr/>
                  </p:nvGrpSpPr>
                  <p:grpSpPr>
                    <a:xfrm>
                      <a:off x="7009920" y="3774600"/>
                      <a:ext cx="615960" cy="357840"/>
                      <a:chOff x="7009920" y="3774600"/>
                      <a:chExt cx="615960" cy="357840"/>
                    </a:xfrm>
                  </p:grpSpPr>
                  <p:sp>
                    <p:nvSpPr>
                      <p:cNvPr id="676" name=""/>
                      <p:cNvSpPr/>
                      <p:nvPr/>
                    </p:nvSpPr>
                    <p:spPr>
                      <a:xfrm rot="5400000">
                        <a:off x="7138800" y="3645360"/>
                        <a:ext cx="357840" cy="61596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 rot="5400000">
                        <a:off x="7352280" y="3858840"/>
                        <a:ext cx="357840" cy="18936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78" name=""/>
                    <p:cNvGrpSpPr/>
                    <p:nvPr/>
                  </p:nvGrpSpPr>
                  <p:grpSpPr>
                    <a:xfrm>
                      <a:off x="7554960" y="3774600"/>
                      <a:ext cx="118080" cy="358560"/>
                      <a:chOff x="7554960" y="3774600"/>
                      <a:chExt cx="118080" cy="358560"/>
                    </a:xfrm>
                  </p:grpSpPr>
                  <p:grpSp>
                    <p:nvGrpSpPr>
                      <p:cNvPr id="679" name=""/>
                      <p:cNvGrpSpPr/>
                      <p:nvPr/>
                    </p:nvGrpSpPr>
                    <p:grpSpPr>
                      <a:xfrm>
                        <a:off x="7554960" y="3774600"/>
                        <a:ext cx="118080" cy="358560"/>
                        <a:chOff x="7554960" y="3774600"/>
                        <a:chExt cx="118080" cy="358560"/>
                      </a:xfrm>
                    </p:grpSpPr>
                    <p:grpSp>
                      <p:nvGrpSpPr>
                        <p:cNvPr id="680" name=""/>
                        <p:cNvGrpSpPr/>
                        <p:nvPr/>
                      </p:nvGrpSpPr>
                      <p:grpSpPr>
                        <a:xfrm>
                          <a:off x="7554960" y="3774600"/>
                          <a:ext cx="118080" cy="358560"/>
                          <a:chOff x="7554960" y="3774600"/>
                          <a:chExt cx="118080" cy="358560"/>
                        </a:xfrm>
                      </p:grpSpPr>
                      <p:sp>
                        <p:nvSpPr>
                          <p:cNvPr id="681" name=""/>
                          <p:cNvSpPr/>
                          <p:nvPr/>
                        </p:nvSpPr>
                        <p:spPr>
                          <a:xfrm rot="5400000">
                            <a:off x="7434720" y="3894840"/>
                            <a:ext cx="358560" cy="1180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fffff"/>
                              </a:gs>
                              <a:gs pos="100000">
                                <a:srgbClr val="ffcc00"/>
                              </a:gs>
                            </a:gsLst>
                            <a:path path="rect">
                              <a:fillToRect l="50000" t="50000" r="50000" b="50000"/>
                            </a:path>
                          </a:gra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6720" bIns="367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82" name=""/>
                          <p:cNvSpPr/>
                          <p:nvPr/>
                        </p:nvSpPr>
                        <p:spPr>
                          <a:xfrm rot="5400000">
                            <a:off x="7476480" y="3917520"/>
                            <a:ext cx="275040" cy="7092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60" bIns="39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 rot="5400000">
                          <a:off x="7517880" y="3929760"/>
                          <a:ext cx="192600" cy="47160"/>
                        </a:xfrm>
                        <a:prstGeom prst="ellipse">
                          <a:avLst/>
                        </a:prstGeom>
                        <a:solidFill>
                          <a:srgbClr val="dddddd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3320" bIns="-133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84" name=""/>
                      <p:cNvSpPr/>
                      <p:nvPr/>
                    </p:nvSpPr>
                    <p:spPr>
                      <a:xfrm rot="5400000">
                        <a:off x="7579080" y="3930120"/>
                        <a:ext cx="83160" cy="4680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85" name=""/>
                    <p:cNvGrpSpPr/>
                    <p:nvPr/>
                  </p:nvGrpSpPr>
                  <p:grpSpPr>
                    <a:xfrm>
                      <a:off x="7058160" y="3912120"/>
                      <a:ext cx="449640" cy="164880"/>
                      <a:chOff x="7058160" y="3912120"/>
                      <a:chExt cx="449640" cy="164880"/>
                    </a:xfrm>
                  </p:grpSpPr>
                  <p:sp>
                    <p:nvSpPr>
                      <p:cNvPr id="686" name=""/>
                      <p:cNvSpPr/>
                      <p:nvPr/>
                    </p:nvSpPr>
                    <p:spPr>
                      <a:xfrm>
                        <a:off x="7058160" y="3912120"/>
                        <a:ext cx="449640" cy="16488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7129080" y="3967200"/>
                        <a:ext cx="260280" cy="82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640" bIns="356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5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688" name=""/>
                  <p:cNvSpPr/>
                  <p:nvPr/>
                </p:nvSpPr>
                <p:spPr>
                  <a:xfrm>
                    <a:off x="7405200" y="3876120"/>
                    <a:ext cx="18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  <a:ea typeface="宋体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7011360" y="3865320"/>
                    <a:ext cx="409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  <a:ea typeface="宋体"/>
                      </a:rPr>
                      <a:t>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"/>
                <p:cNvGrpSpPr/>
                <p:nvPr/>
              </p:nvGrpSpPr>
              <p:grpSpPr>
                <a:xfrm>
                  <a:off x="7583040" y="3774600"/>
                  <a:ext cx="663120" cy="358920"/>
                  <a:chOff x="7583040" y="3774600"/>
                  <a:chExt cx="663120" cy="358920"/>
                </a:xfrm>
              </p:grpSpPr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7583040" y="3774600"/>
                    <a:ext cx="615960" cy="358200"/>
                    <a:chOff x="7583040" y="3774600"/>
                    <a:chExt cx="615960" cy="35820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rot="5400000">
                      <a:off x="7711920" y="3645720"/>
                      <a:ext cx="358200" cy="61596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rot="5400000">
                      <a:off x="7925040" y="3858840"/>
                      <a:ext cx="358200" cy="18936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8128080" y="3774600"/>
                    <a:ext cx="118080" cy="358920"/>
                    <a:chOff x="8128080" y="3774600"/>
                    <a:chExt cx="118080" cy="358920"/>
                  </a:xfrm>
                </p:grpSpPr>
                <p:grpSp>
                  <p:nvGrpSpPr>
                    <p:cNvPr id="695" name=""/>
                    <p:cNvGrpSpPr/>
                    <p:nvPr/>
                  </p:nvGrpSpPr>
                  <p:grpSpPr>
                    <a:xfrm>
                      <a:off x="8128080" y="3774600"/>
                      <a:ext cx="118080" cy="358920"/>
                      <a:chOff x="8128080" y="3774600"/>
                      <a:chExt cx="118080" cy="358920"/>
                    </a:xfrm>
                  </p:grpSpPr>
                  <p:grpSp>
                    <p:nvGrpSpPr>
                      <p:cNvPr id="696" name=""/>
                      <p:cNvGrpSpPr/>
                      <p:nvPr/>
                    </p:nvGrpSpPr>
                    <p:grpSpPr>
                      <a:xfrm>
                        <a:off x="8128080" y="3774600"/>
                        <a:ext cx="118080" cy="358920"/>
                        <a:chOff x="8128080" y="3774600"/>
                        <a:chExt cx="118080" cy="358920"/>
                      </a:xfrm>
                    </p:grpSpPr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 rot="5400000">
                          <a:off x="8007480" y="3894840"/>
                          <a:ext cx="358920" cy="1180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ffcc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720" bIns="36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 rot="5400000">
                          <a:off x="8049600" y="3918240"/>
                          <a:ext cx="275400" cy="7092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60" bIns="3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99" name=""/>
                      <p:cNvSpPr/>
                      <p:nvPr/>
                    </p:nvSpPr>
                    <p:spPr>
                      <a:xfrm rot="5400000">
                        <a:off x="8091000" y="3930120"/>
                        <a:ext cx="192600" cy="47160"/>
                      </a:xfrm>
                      <a:prstGeom prst="ellipse">
                        <a:avLst/>
                      </a:prstGeom>
                      <a:solidFill>
                        <a:srgbClr val="dddddd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320" bIns="-133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00" name=""/>
                    <p:cNvSpPr/>
                    <p:nvPr/>
                  </p:nvSpPr>
                  <p:spPr>
                    <a:xfrm rot="5400000">
                      <a:off x="8152200" y="3930480"/>
                      <a:ext cx="83520" cy="4680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7631280" y="3912120"/>
                    <a:ext cx="449640" cy="165240"/>
                    <a:chOff x="7631280" y="3912120"/>
                    <a:chExt cx="449640" cy="165240"/>
                  </a:xfrm>
                </p:grpSpPr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7631280" y="3912120"/>
                      <a:ext cx="449640" cy="1652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7702200" y="3967200"/>
                      <a:ext cx="260280" cy="82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8216640" y="3644640"/>
                  <a:ext cx="495360" cy="563040"/>
                  <a:chOff x="8216640" y="3644640"/>
                  <a:chExt cx="495360" cy="56304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>
                    <a:off x="8216640" y="4019040"/>
                    <a:ext cx="495360" cy="188280"/>
                  </a:xfrm>
                  <a:prstGeom prst="parallelogram">
                    <a:avLst>
                      <a:gd name="adj" fmla="val 10124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8464680" y="3987000"/>
                    <a:ext cx="92520" cy="162720"/>
                    <a:chOff x="8464680" y="3987000"/>
                    <a:chExt cx="92520" cy="16272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8479800" y="4051800"/>
                      <a:ext cx="60840" cy="9792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0" bIns="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8464680" y="3987000"/>
                      <a:ext cx="92520" cy="6480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9" name=""/>
                  <p:cNvSpPr/>
                  <p:nvPr/>
                </p:nvSpPr>
                <p:spPr>
                  <a:xfrm>
                    <a:off x="8216640" y="3644640"/>
                    <a:ext cx="185760" cy="563040"/>
                  </a:xfrm>
                  <a:prstGeom prst="cube">
                    <a:avLst>
                      <a:gd name="adj" fmla="val 8958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0" name=""/>
              <p:cNvSpPr/>
              <p:nvPr/>
            </p:nvSpPr>
            <p:spPr>
              <a:xfrm>
                <a:off x="7983720" y="3873240"/>
                <a:ext cx="21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99960" y="3873240"/>
                <a:ext cx="27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4618080" y="3443040"/>
              <a:ext cx="1898640" cy="678600"/>
              <a:chOff x="4618080" y="3443040"/>
              <a:chExt cx="1898640" cy="678600"/>
            </a:xfrm>
          </p:grpSpPr>
          <p:sp>
            <p:nvSpPr>
              <p:cNvPr id="713" name=""/>
              <p:cNvSpPr/>
              <p:nvPr/>
            </p:nvSpPr>
            <p:spPr>
              <a:xfrm>
                <a:off x="4618080" y="3725640"/>
                <a:ext cx="1898640" cy="396000"/>
              </a:xfrm>
              <a:prstGeom prst="cube">
                <a:avLst>
                  <a:gd name="adj" fmla="val 8843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4736880" y="3443040"/>
                <a:ext cx="593640" cy="563760"/>
                <a:chOff x="4736880" y="3443040"/>
                <a:chExt cx="593640" cy="56376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4736880" y="3837960"/>
                  <a:ext cx="593640" cy="168840"/>
                </a:xfrm>
                <a:prstGeom prst="parallelogram">
                  <a:avLst>
                    <a:gd name="adj" fmla="val 113065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092200" y="3443040"/>
                  <a:ext cx="119160" cy="394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4855680" y="3692520"/>
                  <a:ext cx="144720" cy="228960"/>
                  <a:chOff x="4855680" y="3692520"/>
                  <a:chExt cx="144720" cy="22896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4879080" y="3783600"/>
                    <a:ext cx="95400" cy="13788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855680" y="3692520"/>
                    <a:ext cx="144720" cy="9108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0" name=""/>
              <p:cNvGrpSpPr/>
              <p:nvPr/>
            </p:nvGrpSpPr>
            <p:grpSpPr>
              <a:xfrm>
                <a:off x="5686200" y="3443040"/>
                <a:ext cx="652320" cy="563760"/>
                <a:chOff x="5686200" y="3443040"/>
                <a:chExt cx="652320" cy="5637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686200" y="3837960"/>
                  <a:ext cx="652320" cy="168840"/>
                </a:xfrm>
                <a:prstGeom prst="parallelogram">
                  <a:avLst>
                    <a:gd name="adj" fmla="val 103743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922720" y="3443040"/>
                  <a:ext cx="118800" cy="451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3" name=""/>
                <p:cNvGrpSpPr/>
                <p:nvPr/>
              </p:nvGrpSpPr>
              <p:grpSpPr>
                <a:xfrm>
                  <a:off x="6100560" y="3692520"/>
                  <a:ext cx="144360" cy="228960"/>
                  <a:chOff x="6100560" y="3692520"/>
                  <a:chExt cx="144360" cy="22896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6123960" y="3783600"/>
                    <a:ext cx="95400" cy="13788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100560" y="3692520"/>
                    <a:ext cx="144360" cy="9108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6" name=""/>
            <p:cNvGrpSpPr/>
            <p:nvPr/>
          </p:nvGrpSpPr>
          <p:grpSpPr>
            <a:xfrm>
              <a:off x="6300720" y="1844280"/>
              <a:ext cx="1224000" cy="719640"/>
              <a:chOff x="6300720" y="1844280"/>
              <a:chExt cx="1224000" cy="719640"/>
            </a:xfrm>
          </p:grpSpPr>
          <p:grpSp>
            <p:nvGrpSpPr>
              <p:cNvPr id="727" name=""/>
              <p:cNvGrpSpPr/>
              <p:nvPr/>
            </p:nvGrpSpPr>
            <p:grpSpPr>
              <a:xfrm>
                <a:off x="6738120" y="1844280"/>
                <a:ext cx="349920" cy="416880"/>
                <a:chOff x="6738120" y="1844280"/>
                <a:chExt cx="349920" cy="41688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6738120" y="1844280"/>
                  <a:ext cx="3499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83137"/>
                      </a:srgbClr>
                    </a:gs>
                    <a:gs pos="100000">
                      <a:srgbClr val="b2b2b2">
                        <a:alpha val="8117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792120" y="2147760"/>
                  <a:ext cx="241920" cy="113400"/>
                </a:xfrm>
                <a:prstGeom prst="rect">
                  <a:avLst/>
                </a:prstGeom>
                <a:blipFill rotWithShape="0">
                  <a:blip r:embed="rId7">
                    <a:alphaModFix amt="43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6300720" y="2197080"/>
                <a:ext cx="1224000" cy="366840"/>
                <a:chOff x="6300720" y="2197080"/>
                <a:chExt cx="1224000" cy="3668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6300720" y="2260440"/>
                  <a:ext cx="1224000" cy="303480"/>
                </a:xfrm>
                <a:prstGeom prst="cube">
                  <a:avLst>
                    <a:gd name="adj" fmla="val 72611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770880" y="2224440"/>
                  <a:ext cx="282960" cy="1886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3" name=""/>
                <p:cNvGrpSpPr/>
                <p:nvPr/>
              </p:nvGrpSpPr>
              <p:grpSpPr>
                <a:xfrm>
                  <a:off x="7175880" y="2209320"/>
                  <a:ext cx="130680" cy="203760"/>
                  <a:chOff x="7175880" y="2209320"/>
                  <a:chExt cx="130680" cy="20376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7197120" y="2290320"/>
                    <a:ext cx="86400" cy="1227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7175880" y="2209320"/>
                    <a:ext cx="130680" cy="81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" name=""/>
                <p:cNvGrpSpPr/>
                <p:nvPr/>
              </p:nvGrpSpPr>
              <p:grpSpPr>
                <a:xfrm>
                  <a:off x="6476040" y="2197080"/>
                  <a:ext cx="130320" cy="203760"/>
                  <a:chOff x="6476040" y="2197080"/>
                  <a:chExt cx="130320" cy="2037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6497280" y="2278080"/>
                    <a:ext cx="86040" cy="1227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476040" y="2197080"/>
                    <a:ext cx="130320" cy="81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39" name=""/>
            <p:cNvGrpSpPr/>
            <p:nvPr/>
          </p:nvGrpSpPr>
          <p:grpSpPr>
            <a:xfrm>
              <a:off x="6300720" y="836280"/>
              <a:ext cx="1224000" cy="719640"/>
              <a:chOff x="6300720" y="836280"/>
              <a:chExt cx="1224000" cy="719640"/>
            </a:xfrm>
          </p:grpSpPr>
          <p:grpSp>
            <p:nvGrpSpPr>
              <p:cNvPr id="740" name=""/>
              <p:cNvGrpSpPr/>
              <p:nvPr/>
            </p:nvGrpSpPr>
            <p:grpSpPr>
              <a:xfrm>
                <a:off x="6738120" y="836280"/>
                <a:ext cx="349920" cy="416880"/>
                <a:chOff x="6738120" y="836280"/>
                <a:chExt cx="349920" cy="4168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6738120" y="836280"/>
                  <a:ext cx="3499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83137"/>
                      </a:srgbClr>
                    </a:gs>
                    <a:gs pos="100000">
                      <a:srgbClr val="b2b2b2">
                        <a:alpha val="8117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792120" y="1139760"/>
                  <a:ext cx="241920" cy="113400"/>
                </a:xfrm>
                <a:prstGeom prst="rect">
                  <a:avLst/>
                </a:prstGeom>
                <a:blipFill rotWithShape="0">
                  <a:blip r:embed="rId11">
                    <a:alphaModFix amt="43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6300720" y="1189080"/>
                <a:ext cx="1224000" cy="366840"/>
                <a:chOff x="6300720" y="1189080"/>
                <a:chExt cx="1224000" cy="36684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6300720" y="1252440"/>
                  <a:ext cx="1224000" cy="303480"/>
                </a:xfrm>
                <a:prstGeom prst="cube">
                  <a:avLst>
                    <a:gd name="adj" fmla="val 72611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770880" y="1216440"/>
                  <a:ext cx="282960" cy="18864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6" name=""/>
                <p:cNvGrpSpPr/>
                <p:nvPr/>
              </p:nvGrpSpPr>
              <p:grpSpPr>
                <a:xfrm>
                  <a:off x="7175880" y="1201320"/>
                  <a:ext cx="130680" cy="203760"/>
                  <a:chOff x="7175880" y="1201320"/>
                  <a:chExt cx="130680" cy="203760"/>
                </a:xfrm>
              </p:grpSpPr>
              <p:sp>
                <p:nvSpPr>
                  <p:cNvPr id="747" name=""/>
                  <p:cNvSpPr/>
                  <p:nvPr/>
                </p:nvSpPr>
                <p:spPr>
                  <a:xfrm>
                    <a:off x="7197120" y="1282320"/>
                    <a:ext cx="86400" cy="1227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7175880" y="1201320"/>
                    <a:ext cx="130680" cy="81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" name=""/>
                <p:cNvGrpSpPr/>
                <p:nvPr/>
              </p:nvGrpSpPr>
              <p:grpSpPr>
                <a:xfrm>
                  <a:off x="6476040" y="1189080"/>
                  <a:ext cx="130320" cy="203760"/>
                  <a:chOff x="6476040" y="1189080"/>
                  <a:chExt cx="130320" cy="20376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>
                    <a:off x="6497280" y="1270080"/>
                    <a:ext cx="86040" cy="1227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6476040" y="1189080"/>
                    <a:ext cx="130320" cy="81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52" name="未知"/>
            <p:cNvSpPr/>
            <p:nvPr/>
          </p:nvSpPr>
          <p:spPr>
            <a:xfrm>
              <a:off x="5975280" y="1172880"/>
              <a:ext cx="684360" cy="1176120"/>
            </a:xfrm>
            <a:custGeom>
              <a:avLst/>
              <a:gdLst/>
              <a:ahLst/>
              <a:rect l="l" t="t" r="r" b="b"/>
              <a:pathLst>
                <a:path w="431" h="741">
                  <a:moveTo>
                    <a:pt x="341" y="60"/>
                  </a:moveTo>
                  <a:cubicBezTo>
                    <a:pt x="299" y="30"/>
                    <a:pt x="258" y="0"/>
                    <a:pt x="205" y="15"/>
                  </a:cubicBezTo>
                  <a:cubicBezTo>
                    <a:pt x="152" y="30"/>
                    <a:pt x="46" y="76"/>
                    <a:pt x="23" y="151"/>
                  </a:cubicBezTo>
                  <a:cubicBezTo>
                    <a:pt x="0" y="226"/>
                    <a:pt x="9" y="377"/>
                    <a:pt x="69" y="468"/>
                  </a:cubicBezTo>
                  <a:cubicBezTo>
                    <a:pt x="129" y="559"/>
                    <a:pt x="341" y="650"/>
                    <a:pt x="386" y="695"/>
                  </a:cubicBezTo>
                  <a:cubicBezTo>
                    <a:pt x="431" y="740"/>
                    <a:pt x="386" y="740"/>
                    <a:pt x="341" y="7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未知"/>
            <p:cNvSpPr/>
            <p:nvPr/>
          </p:nvSpPr>
          <p:spPr>
            <a:xfrm>
              <a:off x="4668840" y="2204640"/>
              <a:ext cx="1847880" cy="1750680"/>
            </a:xfrm>
            <a:custGeom>
              <a:avLst/>
              <a:gdLst/>
              <a:ahLst/>
              <a:rect l="l" t="t" r="r" b="b"/>
              <a:pathLst>
                <a:path w="1164" h="1103">
                  <a:moveTo>
                    <a:pt x="1164" y="45"/>
                  </a:moveTo>
                  <a:cubicBezTo>
                    <a:pt x="1160" y="45"/>
                    <a:pt x="1156" y="45"/>
                    <a:pt x="1073" y="45"/>
                  </a:cubicBezTo>
                  <a:cubicBezTo>
                    <a:pt x="990" y="45"/>
                    <a:pt x="809" y="0"/>
                    <a:pt x="665" y="45"/>
                  </a:cubicBezTo>
                  <a:cubicBezTo>
                    <a:pt x="521" y="90"/>
                    <a:pt x="317" y="219"/>
                    <a:pt x="211" y="317"/>
                  </a:cubicBezTo>
                  <a:cubicBezTo>
                    <a:pt x="105" y="415"/>
                    <a:pt x="60" y="514"/>
                    <a:pt x="30" y="635"/>
                  </a:cubicBezTo>
                  <a:cubicBezTo>
                    <a:pt x="0" y="756"/>
                    <a:pt x="7" y="983"/>
                    <a:pt x="30" y="1043"/>
                  </a:cubicBezTo>
                  <a:cubicBezTo>
                    <a:pt x="53" y="1103"/>
                    <a:pt x="151" y="1005"/>
                    <a:pt x="166" y="9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未知"/>
            <p:cNvSpPr/>
            <p:nvPr/>
          </p:nvSpPr>
          <p:spPr>
            <a:xfrm>
              <a:off x="6159600" y="3809880"/>
              <a:ext cx="685800" cy="306000"/>
            </a:xfrm>
            <a:custGeom>
              <a:avLst/>
              <a:gdLst/>
              <a:ahLst/>
              <a:rect l="l" t="t" r="r" b="b"/>
              <a:pathLst>
                <a:path w="432" h="193">
                  <a:moveTo>
                    <a:pt x="0" y="0"/>
                  </a:moveTo>
                  <a:cubicBezTo>
                    <a:pt x="30" y="27"/>
                    <a:pt x="107" y="143"/>
                    <a:pt x="179" y="168"/>
                  </a:cubicBezTo>
                  <a:cubicBezTo>
                    <a:pt x="251" y="193"/>
                    <a:pt x="379" y="155"/>
                    <a:pt x="432" y="15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未知"/>
            <p:cNvSpPr/>
            <p:nvPr/>
          </p:nvSpPr>
          <p:spPr>
            <a:xfrm>
              <a:off x="7239240" y="2244600"/>
              <a:ext cx="1665000" cy="1879200"/>
            </a:xfrm>
            <a:custGeom>
              <a:avLst/>
              <a:gdLst/>
              <a:ahLst/>
              <a:rect l="l" t="t" r="r" b="b"/>
              <a:pathLst>
                <a:path w="1049" h="1184">
                  <a:moveTo>
                    <a:pt x="815" y="1154"/>
                  </a:moveTo>
                  <a:cubicBezTo>
                    <a:pt x="845" y="1169"/>
                    <a:pt x="875" y="1184"/>
                    <a:pt x="905" y="1109"/>
                  </a:cubicBezTo>
                  <a:cubicBezTo>
                    <a:pt x="935" y="1034"/>
                    <a:pt x="1049" y="867"/>
                    <a:pt x="996" y="701"/>
                  </a:cubicBezTo>
                  <a:cubicBezTo>
                    <a:pt x="943" y="535"/>
                    <a:pt x="754" y="222"/>
                    <a:pt x="588" y="111"/>
                  </a:cubicBezTo>
                  <a:cubicBezTo>
                    <a:pt x="422" y="0"/>
                    <a:pt x="122" y="50"/>
                    <a:pt x="0" y="3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未知"/>
            <p:cNvSpPr/>
            <p:nvPr/>
          </p:nvSpPr>
          <p:spPr>
            <a:xfrm>
              <a:off x="7236000" y="1268280"/>
              <a:ext cx="687240" cy="1102680"/>
            </a:xfrm>
            <a:custGeom>
              <a:avLst/>
              <a:gdLst/>
              <a:ahLst/>
              <a:rect l="l" t="t" r="r" b="b"/>
              <a:pathLst>
                <a:path w="433" h="695">
                  <a:moveTo>
                    <a:pt x="0" y="635"/>
                  </a:moveTo>
                  <a:cubicBezTo>
                    <a:pt x="34" y="665"/>
                    <a:pt x="68" y="695"/>
                    <a:pt x="136" y="635"/>
                  </a:cubicBezTo>
                  <a:cubicBezTo>
                    <a:pt x="204" y="575"/>
                    <a:pt x="385" y="367"/>
                    <a:pt x="409" y="272"/>
                  </a:cubicBezTo>
                  <a:cubicBezTo>
                    <a:pt x="433" y="177"/>
                    <a:pt x="350" y="110"/>
                    <a:pt x="282" y="65"/>
                  </a:cubicBezTo>
                  <a:cubicBezTo>
                    <a:pt x="214" y="20"/>
                    <a:pt x="59" y="14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29720" y="162864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45360" y="69228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3628440" y="2796480"/>
              <a:ext cx="2775240" cy="1505160"/>
              <a:chOff x="3628440" y="2796480"/>
              <a:chExt cx="2775240" cy="1505160"/>
            </a:xfrm>
          </p:grpSpPr>
          <p:grpSp>
            <p:nvGrpSpPr>
              <p:cNvPr id="760" name=""/>
              <p:cNvGrpSpPr/>
              <p:nvPr/>
            </p:nvGrpSpPr>
            <p:grpSpPr>
              <a:xfrm>
                <a:off x="4983480" y="2796480"/>
                <a:ext cx="1420200" cy="854280"/>
                <a:chOff x="4983480" y="2796480"/>
                <a:chExt cx="1420200" cy="854280"/>
              </a:xfrm>
            </p:grpSpPr>
            <p:sp>
              <p:nvSpPr>
                <p:cNvPr id="761" name=""/>
                <p:cNvSpPr/>
                <p:nvPr/>
              </p:nvSpPr>
              <p:spPr>
                <a:xfrm rot="19921800">
                  <a:off x="4938480" y="3274200"/>
                  <a:ext cx="118512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19921800">
                  <a:off x="6035040" y="2863080"/>
                  <a:ext cx="338760" cy="212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3628440" y="3447720"/>
                <a:ext cx="1420560" cy="853920"/>
                <a:chOff x="3628440" y="3447720"/>
                <a:chExt cx="1420560" cy="853920"/>
              </a:xfrm>
            </p:grpSpPr>
            <p:sp>
              <p:nvSpPr>
                <p:cNvPr id="764" name=""/>
                <p:cNvSpPr/>
                <p:nvPr/>
              </p:nvSpPr>
              <p:spPr>
                <a:xfrm rot="19921800">
                  <a:off x="3583440" y="3925080"/>
                  <a:ext cx="1185480" cy="10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19921800">
                  <a:off x="4680000" y="3514320"/>
                  <a:ext cx="338760" cy="21168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"/>
            <p:cNvGrpSpPr/>
            <p:nvPr/>
          </p:nvGrpSpPr>
          <p:grpSpPr>
            <a:xfrm>
              <a:off x="5033880" y="3476520"/>
              <a:ext cx="948960" cy="453600"/>
              <a:chOff x="5033880" y="3476520"/>
              <a:chExt cx="948960" cy="45360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5033880" y="3476520"/>
                <a:ext cx="118800" cy="453600"/>
                <a:chOff x="5033880" y="3476520"/>
                <a:chExt cx="118800" cy="4536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5033880" y="3476520"/>
                  <a:ext cx="118800" cy="453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033880" y="3532320"/>
                  <a:ext cx="118800" cy="11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5f5f5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5864040" y="3476520"/>
                <a:ext cx="118800" cy="45360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50000">
                    <a:srgbClr val="ffffff"/>
                  </a:gs>
                  <a:gs pos="100000">
                    <a:srgbClr val="5f5f5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1" name=""/>
          <p:cNvSpPr/>
          <p:nvPr/>
        </p:nvSpPr>
        <p:spPr>
          <a:xfrm>
            <a:off x="6948360" y="5877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977040" y="2565360"/>
            <a:ext cx="1887480" cy="52056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个小灯泡的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611280" y="836280"/>
            <a:ext cx="2689200" cy="1600560"/>
            <a:chOff x="611280" y="836280"/>
            <a:chExt cx="2689200" cy="1600560"/>
          </a:xfrm>
        </p:grpSpPr>
        <p:sp>
          <p:nvSpPr>
            <p:cNvPr id="774" name=""/>
            <p:cNvSpPr/>
            <p:nvPr/>
          </p:nvSpPr>
          <p:spPr>
            <a:xfrm>
              <a:off x="611280" y="1039680"/>
              <a:ext cx="671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282680" y="995400"/>
              <a:ext cx="96840" cy="88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573200" y="1039680"/>
              <a:ext cx="669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43160" y="866880"/>
              <a:ext cx="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338560" y="909720"/>
              <a:ext cx="0" cy="260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38560" y="104148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300480" y="104148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627280" y="2262240"/>
              <a:ext cx="67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43160" y="2087640"/>
              <a:ext cx="384120" cy="34920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11280" y="22622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87640" y="2087640"/>
              <a:ext cx="382320" cy="34920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69960" y="2262240"/>
              <a:ext cx="67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11280" y="104148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1332000" y="836280"/>
              <a:ext cx="290520" cy="1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89000" y="1563840"/>
              <a:ext cx="6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54960" y="153360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211640" y="1844640"/>
            <a:ext cx="4464000" cy="4465800"/>
            <a:chOff x="4211640" y="1844640"/>
            <a:chExt cx="4464000" cy="4465800"/>
          </a:xfrm>
        </p:grpSpPr>
        <p:sp>
          <p:nvSpPr>
            <p:cNvPr id="791" name=""/>
            <p:cNvSpPr/>
            <p:nvPr/>
          </p:nvSpPr>
          <p:spPr>
            <a:xfrm>
              <a:off x="4211640" y="1844640"/>
              <a:ext cx="4464000" cy="4465800"/>
            </a:xfrm>
            <a:custGeom>
              <a:avLst/>
              <a:gdLst>
                <a:gd name="textAreaLeft" fmla="*/ 217800 w 4464000"/>
                <a:gd name="textAreaRight" fmla="*/ 4246200 w 4464000"/>
                <a:gd name="textAreaTop" fmla="*/ 217800 h 4465800"/>
                <a:gd name="textAreaBottom" fmla="*/ 4248000 h 4465800"/>
              </a:gdLst>
              <a:ahLst/>
              <a:rect l="textAreaLeft" t="textAreaTop" r="textAreaRight" b="textAreaBottom"/>
              <a:pathLst>
                <a:path w="21600" h="21609">
                  <a:moveTo>
                    <a:pt x="3600" y="0"/>
                  </a:moveTo>
                  <a:arcTo wR="3600" hR="3600" stAng="16200000" swAng="-5400000"/>
                  <a:lnTo>
                    <a:pt x="0" y="18009"/>
                  </a:lnTo>
                  <a:arcTo wR="3600" hR="3600" stAng="10800000" swAng="-5400000"/>
                  <a:lnTo>
                    <a:pt x="18000" y="21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356000" y="1844640"/>
              <a:ext cx="4267440" cy="35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个小灯泡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电器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首尾相连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然后接到电路中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这两个小灯泡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电器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连接方式叫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串联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 txBox="1"/>
          <p:nvPr/>
        </p:nvSpPr>
        <p:spPr>
          <a:xfrm>
            <a:off x="4788000" y="981000"/>
            <a:ext cx="337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串联的定义</a:t>
            </a:r>
            <a:endParaRPr b="1" lang="en-US" sz="1800" spc="-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-768960" y="3213000"/>
            <a:ext cx="4908960" cy="3095640"/>
            <a:chOff x="-768960" y="3213000"/>
            <a:chExt cx="4908960" cy="3095640"/>
          </a:xfrm>
        </p:grpSpPr>
        <p:sp>
          <p:nvSpPr>
            <p:cNvPr id="795" name=""/>
            <p:cNvSpPr/>
            <p:nvPr/>
          </p:nvSpPr>
          <p:spPr>
            <a:xfrm>
              <a:off x="36360" y="3213000"/>
              <a:ext cx="4103640" cy="3095640"/>
            </a:xfrm>
            <a:prstGeom prst="rect">
              <a:avLst/>
            </a:prstGeom>
            <a:noFill/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1836000" y="5373720"/>
              <a:ext cx="2231280" cy="647280"/>
              <a:chOff x="1836000" y="5373720"/>
              <a:chExt cx="2231280" cy="64728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1836000" y="5373720"/>
                <a:ext cx="2231280" cy="647280"/>
                <a:chOff x="1836000" y="5373720"/>
                <a:chExt cx="2231280" cy="64728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1836000" y="5682960"/>
                  <a:ext cx="2231280" cy="338040"/>
                </a:xfrm>
                <a:prstGeom prst="cube">
                  <a:avLst>
                    <a:gd name="adj" fmla="val 9148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9" name=""/>
                <p:cNvGrpSpPr/>
                <p:nvPr/>
              </p:nvGrpSpPr>
              <p:grpSpPr>
                <a:xfrm>
                  <a:off x="1898280" y="5373720"/>
                  <a:ext cx="495000" cy="563400"/>
                  <a:chOff x="1898280" y="5373720"/>
                  <a:chExt cx="495000" cy="56340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1898280" y="5748480"/>
                    <a:ext cx="495000" cy="188640"/>
                  </a:xfrm>
                  <a:prstGeom prst="parallelogram">
                    <a:avLst>
                      <a:gd name="adj" fmla="val 10097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207520" y="5373720"/>
                    <a:ext cx="185400" cy="563400"/>
                  </a:xfrm>
                  <a:prstGeom prst="cube">
                    <a:avLst>
                      <a:gd name="adj" fmla="val 8958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2021760" y="5682960"/>
                    <a:ext cx="92880" cy="162720"/>
                    <a:chOff x="2021760" y="5682960"/>
                    <a:chExt cx="92880" cy="16272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2036880" y="5747760"/>
                      <a:ext cx="61200" cy="9792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0" bIns="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2021760" y="5682960"/>
                      <a:ext cx="92880" cy="6480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2257560" y="5503680"/>
                  <a:ext cx="663120" cy="469800"/>
                  <a:chOff x="2257560" y="5503680"/>
                  <a:chExt cx="663120" cy="469800"/>
                </a:xfrm>
              </p:grpSpPr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2257560" y="5503680"/>
                    <a:ext cx="663120" cy="358560"/>
                    <a:chOff x="2257560" y="5503680"/>
                    <a:chExt cx="663120" cy="358560"/>
                  </a:xfrm>
                </p:grpSpPr>
                <p:grpSp>
                  <p:nvGrpSpPr>
                    <p:cNvPr id="807" name=""/>
                    <p:cNvGrpSpPr/>
                    <p:nvPr/>
                  </p:nvGrpSpPr>
                  <p:grpSpPr>
                    <a:xfrm>
                      <a:off x="2257560" y="5503680"/>
                      <a:ext cx="615960" cy="357840"/>
                      <a:chOff x="2257560" y="5503680"/>
                      <a:chExt cx="615960" cy="357840"/>
                    </a:xfrm>
                  </p:grpSpPr>
                  <p:sp>
                    <p:nvSpPr>
                      <p:cNvPr id="808" name=""/>
                      <p:cNvSpPr/>
                      <p:nvPr/>
                    </p:nvSpPr>
                    <p:spPr>
                      <a:xfrm rot="5400000">
                        <a:off x="2386440" y="5374440"/>
                        <a:ext cx="357840" cy="61596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cc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 rot="5400000">
                        <a:off x="2599920" y="5587920"/>
                        <a:ext cx="357840" cy="18936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2802600" y="5503680"/>
                      <a:ext cx="118080" cy="358560"/>
                      <a:chOff x="2802600" y="5503680"/>
                      <a:chExt cx="118080" cy="35856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2802600" y="5503680"/>
                        <a:ext cx="118080" cy="358560"/>
                        <a:chOff x="2802600" y="5503680"/>
                        <a:chExt cx="118080" cy="35856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2802600" y="5503680"/>
                          <a:ext cx="118080" cy="358560"/>
                          <a:chOff x="2802600" y="5503680"/>
                          <a:chExt cx="118080" cy="358560"/>
                        </a:xfrm>
                      </p:grpSpPr>
                      <p:sp>
                        <p:nvSpPr>
                          <p:cNvPr id="813" name=""/>
                          <p:cNvSpPr/>
                          <p:nvPr/>
                        </p:nvSpPr>
                        <p:spPr>
                          <a:xfrm rot="5400000">
                            <a:off x="2682360" y="5623920"/>
                            <a:ext cx="358560" cy="11808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ffffff"/>
                              </a:gs>
                              <a:gs pos="100000">
                                <a:srgbClr val="ffcc00"/>
                              </a:gs>
                            </a:gsLst>
                            <a:path path="rect">
                              <a:fillToRect l="50000" t="50000" r="50000" b="50000"/>
                            </a:path>
                          </a:gra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6720" bIns="367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14" name=""/>
                          <p:cNvSpPr/>
                          <p:nvPr/>
                        </p:nvSpPr>
                        <p:spPr>
                          <a:xfrm rot="5400000">
                            <a:off x="2724120" y="5646600"/>
                            <a:ext cx="275040" cy="70920"/>
                          </a:xfrm>
                          <a:prstGeom prst="ellipse">
                            <a:avLst/>
                          </a:prstGeom>
                          <a:solidFill>
                            <a:srgbClr val="cc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960" bIns="39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 rot="5400000">
                          <a:off x="2765520" y="5658840"/>
                          <a:ext cx="192600" cy="47160"/>
                        </a:xfrm>
                        <a:prstGeom prst="ellipse">
                          <a:avLst/>
                        </a:prstGeom>
                        <a:solidFill>
                          <a:srgbClr val="dddddd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3320" bIns="-133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16" name=""/>
                      <p:cNvSpPr/>
                      <p:nvPr/>
                    </p:nvSpPr>
                    <p:spPr>
                      <a:xfrm rot="5400000">
                        <a:off x="2826720" y="5659200"/>
                        <a:ext cx="83160" cy="46800"/>
                      </a:xfrm>
                      <a:prstGeom prst="can">
                        <a:avLst>
                          <a:gd name="adj" fmla="val 25000"/>
                        </a:avLst>
                      </a:prstGeom>
                      <a:solidFill>
                        <a:srgbClr val="ffcc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7" name=""/>
                    <p:cNvGrpSpPr/>
                    <p:nvPr/>
                  </p:nvGrpSpPr>
                  <p:grpSpPr>
                    <a:xfrm>
                      <a:off x="2305800" y="5641200"/>
                      <a:ext cx="449640" cy="164880"/>
                      <a:chOff x="2305800" y="5641200"/>
                      <a:chExt cx="449640" cy="164880"/>
                    </a:xfrm>
                  </p:grpSpPr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2305800" y="5641200"/>
                        <a:ext cx="449640" cy="164880"/>
                      </a:xfrm>
                      <a:prstGeom prst="roundRect">
                        <a:avLst>
                          <a:gd name="adj" fmla="val 16667"/>
                        </a:avLst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2376720" y="5696280"/>
                        <a:ext cx="260280" cy="824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5640" bIns="3564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Arial"/>
                            <a:ea typeface="宋体"/>
                          </a:rPr>
                          <a:t>555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820" name=""/>
                  <p:cNvSpPr/>
                  <p:nvPr/>
                </p:nvSpPr>
                <p:spPr>
                  <a:xfrm>
                    <a:off x="2652840" y="5605200"/>
                    <a:ext cx="182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  <a:ea typeface="宋体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259000" y="5594400"/>
                    <a:ext cx="409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00"/>
                        </a:solidFill>
                        <a:latin typeface="Arial"/>
                        <a:ea typeface="宋体"/>
                      </a:rPr>
                      <a:t>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2830680" y="5503680"/>
                  <a:ext cx="663120" cy="358920"/>
                  <a:chOff x="2830680" y="5503680"/>
                  <a:chExt cx="663120" cy="358920"/>
                </a:xfrm>
              </p:grpSpPr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2830680" y="5503680"/>
                    <a:ext cx="615960" cy="358200"/>
                    <a:chOff x="2830680" y="5503680"/>
                    <a:chExt cx="615960" cy="35820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400000">
                      <a:off x="2959560" y="5374800"/>
                      <a:ext cx="358200" cy="61596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cc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400000">
                      <a:off x="3172680" y="5587920"/>
                      <a:ext cx="358200" cy="18936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"/>
                  <p:cNvGrpSpPr/>
                  <p:nvPr/>
                </p:nvGrpSpPr>
                <p:grpSpPr>
                  <a:xfrm>
                    <a:off x="3375720" y="5503680"/>
                    <a:ext cx="118080" cy="358920"/>
                    <a:chOff x="3375720" y="5503680"/>
                    <a:chExt cx="118080" cy="358920"/>
                  </a:xfrm>
                </p:grpSpPr>
                <p:grpSp>
                  <p:nvGrpSpPr>
                    <p:cNvPr id="827" name=""/>
                    <p:cNvGrpSpPr/>
                    <p:nvPr/>
                  </p:nvGrpSpPr>
                  <p:grpSpPr>
                    <a:xfrm>
                      <a:off x="3375720" y="5503680"/>
                      <a:ext cx="118080" cy="358920"/>
                      <a:chOff x="3375720" y="5503680"/>
                      <a:chExt cx="118080" cy="358920"/>
                    </a:xfrm>
                  </p:grpSpPr>
                  <p:grpSp>
                    <p:nvGrpSpPr>
                      <p:cNvPr id="828" name=""/>
                      <p:cNvGrpSpPr/>
                      <p:nvPr/>
                    </p:nvGrpSpPr>
                    <p:grpSpPr>
                      <a:xfrm>
                        <a:off x="3375720" y="5503680"/>
                        <a:ext cx="118080" cy="358920"/>
                        <a:chOff x="3375720" y="5503680"/>
                        <a:chExt cx="118080" cy="358920"/>
                      </a:xfrm>
                    </p:grpSpPr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rot="5400000">
                          <a:off x="3255120" y="5623920"/>
                          <a:ext cx="358920" cy="11808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ffffff"/>
                            </a:gs>
                            <a:gs pos="100000">
                              <a:srgbClr val="ffcc00"/>
                            </a:gs>
                          </a:gsLst>
                          <a:path path="rect">
                            <a:fillToRect l="50000" t="50000" r="50000" b="50000"/>
                          </a:path>
                        </a:gra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720" bIns="3672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rot="5400000">
                          <a:off x="3297240" y="5647320"/>
                          <a:ext cx="275400" cy="70920"/>
                        </a:xfrm>
                        <a:prstGeom prst="ellipse">
                          <a:avLst/>
                        </a:prstGeom>
                        <a:solidFill>
                          <a:srgbClr val="cc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60" bIns="3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31" name=""/>
                      <p:cNvSpPr/>
                      <p:nvPr/>
                    </p:nvSpPr>
                    <p:spPr>
                      <a:xfrm rot="5400000">
                        <a:off x="3338640" y="5659200"/>
                        <a:ext cx="192600" cy="47160"/>
                      </a:xfrm>
                      <a:prstGeom prst="ellipse">
                        <a:avLst/>
                      </a:prstGeom>
                      <a:solidFill>
                        <a:srgbClr val="dddddd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320" bIns="-133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2" name=""/>
                    <p:cNvSpPr/>
                    <p:nvPr/>
                  </p:nvSpPr>
                  <p:spPr>
                    <a:xfrm rot="5400000">
                      <a:off x="3399840" y="5659560"/>
                      <a:ext cx="83520" cy="4680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2878920" y="5641200"/>
                    <a:ext cx="449640" cy="165240"/>
                    <a:chOff x="2878920" y="5641200"/>
                    <a:chExt cx="449640" cy="16524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2878920" y="5641200"/>
                      <a:ext cx="449640" cy="16524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2949840" y="5696280"/>
                      <a:ext cx="260280" cy="82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3463560" y="5373720"/>
                  <a:ext cx="495000" cy="563400"/>
                  <a:chOff x="3463560" y="5373720"/>
                  <a:chExt cx="495000" cy="56340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>
                    <a:off x="3463560" y="5748480"/>
                    <a:ext cx="495000" cy="188640"/>
                  </a:xfrm>
                  <a:prstGeom prst="parallelogram">
                    <a:avLst>
                      <a:gd name="adj" fmla="val 10097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3711240" y="5716080"/>
                    <a:ext cx="92520" cy="162720"/>
                    <a:chOff x="3711240" y="5716080"/>
                    <a:chExt cx="92520" cy="162720"/>
                  </a:xfrm>
                </p:grpSpPr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3726360" y="5780880"/>
                      <a:ext cx="60840" cy="9792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400" bIns="14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3711240" y="5716080"/>
                      <a:ext cx="92520" cy="6480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120" bIns="-6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1" name=""/>
                  <p:cNvSpPr/>
                  <p:nvPr/>
                </p:nvSpPr>
                <p:spPr>
                  <a:xfrm>
                    <a:off x="3463560" y="5373720"/>
                    <a:ext cx="185400" cy="563400"/>
                  </a:xfrm>
                  <a:prstGeom prst="cube">
                    <a:avLst>
                      <a:gd name="adj" fmla="val 89587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2" name=""/>
              <p:cNvSpPr/>
              <p:nvPr/>
            </p:nvSpPr>
            <p:spPr>
              <a:xfrm>
                <a:off x="3231000" y="5602320"/>
                <a:ext cx="21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847240" y="5602320"/>
                <a:ext cx="278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宋体"/>
                  </a:rPr>
                  <a:t>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2485080" y="3500280"/>
              <a:ext cx="1223640" cy="720360"/>
              <a:chOff x="2485080" y="3500280"/>
              <a:chExt cx="1223640" cy="72036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2922480" y="3500280"/>
                <a:ext cx="349560" cy="417240"/>
                <a:chOff x="2922480" y="3500280"/>
                <a:chExt cx="349560" cy="41724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2922480" y="3500280"/>
                  <a:ext cx="34956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83137"/>
                      </a:srgbClr>
                    </a:gs>
                    <a:gs pos="100000">
                      <a:srgbClr val="b2b2b2">
                        <a:alpha val="8117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976120" y="3804120"/>
                  <a:ext cx="241560" cy="113400"/>
                </a:xfrm>
                <a:prstGeom prst="rect">
                  <a:avLst/>
                </a:prstGeom>
                <a:blipFill rotWithShape="0">
                  <a:blip r:embed="rId4">
                    <a:alphaModFix amt="43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2485080" y="3853440"/>
                <a:ext cx="1223640" cy="367200"/>
                <a:chOff x="2485080" y="3853440"/>
                <a:chExt cx="1223640" cy="36720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2485080" y="3916800"/>
                  <a:ext cx="1223640" cy="303840"/>
                </a:xfrm>
                <a:prstGeom prst="cube">
                  <a:avLst>
                    <a:gd name="adj" fmla="val 7261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955240" y="3881160"/>
                  <a:ext cx="282960" cy="1890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1" name=""/>
                <p:cNvGrpSpPr/>
                <p:nvPr/>
              </p:nvGrpSpPr>
              <p:grpSpPr>
                <a:xfrm>
                  <a:off x="3359880" y="3865680"/>
                  <a:ext cx="130680" cy="203760"/>
                  <a:chOff x="3359880" y="3865680"/>
                  <a:chExt cx="130680" cy="20376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>
                    <a:off x="3381120" y="3946680"/>
                    <a:ext cx="86400" cy="1227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3359880" y="3865680"/>
                    <a:ext cx="130680" cy="81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2660400" y="3853440"/>
                  <a:ext cx="130320" cy="203760"/>
                  <a:chOff x="2660400" y="3853440"/>
                  <a:chExt cx="130320" cy="20376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2681640" y="3934440"/>
                    <a:ext cx="86040" cy="1227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2660400" y="3853440"/>
                    <a:ext cx="130320" cy="81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7" name=""/>
            <p:cNvGrpSpPr/>
            <p:nvPr/>
          </p:nvGrpSpPr>
          <p:grpSpPr>
            <a:xfrm>
              <a:off x="540720" y="3500280"/>
              <a:ext cx="1223640" cy="720360"/>
              <a:chOff x="540720" y="3500280"/>
              <a:chExt cx="1223640" cy="720360"/>
            </a:xfrm>
          </p:grpSpPr>
          <p:grpSp>
            <p:nvGrpSpPr>
              <p:cNvPr id="858" name=""/>
              <p:cNvGrpSpPr/>
              <p:nvPr/>
            </p:nvGrpSpPr>
            <p:grpSpPr>
              <a:xfrm>
                <a:off x="978120" y="3500280"/>
                <a:ext cx="349560" cy="417240"/>
                <a:chOff x="978120" y="3500280"/>
                <a:chExt cx="349560" cy="4172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978120" y="3500280"/>
                  <a:ext cx="34956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83137"/>
                      </a:srgbClr>
                    </a:gs>
                    <a:gs pos="100000">
                      <a:srgbClr val="b2b2b2">
                        <a:alpha val="8117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031760" y="3804120"/>
                  <a:ext cx="241560" cy="113400"/>
                </a:xfrm>
                <a:prstGeom prst="rect">
                  <a:avLst/>
                </a:prstGeom>
                <a:blipFill rotWithShape="0">
                  <a:blip r:embed="rId8">
                    <a:alphaModFix amt="43000"/>
                  </a:blip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540720" y="3853440"/>
                <a:ext cx="1223640" cy="367200"/>
                <a:chOff x="540720" y="3853440"/>
                <a:chExt cx="1223640" cy="367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540720" y="3916800"/>
                  <a:ext cx="1223640" cy="303840"/>
                </a:xfrm>
                <a:prstGeom prst="cube">
                  <a:avLst>
                    <a:gd name="adj" fmla="val 72611"/>
                  </a:avLst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010880" y="3881160"/>
                  <a:ext cx="282960" cy="1890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"/>
                <p:cNvGrpSpPr/>
                <p:nvPr/>
              </p:nvGrpSpPr>
              <p:grpSpPr>
                <a:xfrm>
                  <a:off x="1415520" y="3865680"/>
                  <a:ext cx="130680" cy="203760"/>
                  <a:chOff x="1415520" y="3865680"/>
                  <a:chExt cx="130680" cy="20376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1436760" y="3946680"/>
                    <a:ext cx="86400" cy="1227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1415520" y="3865680"/>
                    <a:ext cx="130680" cy="81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716040" y="3853440"/>
                  <a:ext cx="130320" cy="203760"/>
                  <a:chOff x="716040" y="3853440"/>
                  <a:chExt cx="130320" cy="20376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>
                    <a:off x="737280" y="3934440"/>
                    <a:ext cx="86040" cy="122760"/>
                  </a:xfrm>
                  <a:prstGeom prst="can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000000"/>
                      </a:gs>
                      <a:gs pos="5000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716040" y="3853440"/>
                    <a:ext cx="130320" cy="81000"/>
                  </a:xfrm>
                  <a:prstGeom prst="can">
                    <a:avLst>
                      <a:gd name="adj" fmla="val 25000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70" name=""/>
            <p:cNvSpPr/>
            <p:nvPr/>
          </p:nvSpPr>
          <p:spPr>
            <a:xfrm>
              <a:off x="3357720" y="328428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342440" y="3284280"/>
              <a:ext cx="56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32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-768960" y="4783680"/>
              <a:ext cx="2532960" cy="1248120"/>
              <a:chOff x="-768960" y="4783680"/>
              <a:chExt cx="2532960" cy="12481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112320" y="5370480"/>
                <a:ext cx="1651680" cy="537840"/>
                <a:chOff x="112320" y="5370480"/>
                <a:chExt cx="1651680" cy="5378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112320" y="5594400"/>
                  <a:ext cx="1651680" cy="313920"/>
                </a:xfrm>
                <a:prstGeom prst="cube">
                  <a:avLst>
                    <a:gd name="adj" fmla="val 88430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215640" y="5370480"/>
                  <a:ext cx="516240" cy="447120"/>
                  <a:chOff x="215640" y="5370480"/>
                  <a:chExt cx="516240" cy="44712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215640" y="5683680"/>
                    <a:ext cx="516240" cy="133920"/>
                  </a:xfrm>
                  <a:prstGeom prst="parallelogram">
                    <a:avLst>
                      <a:gd name="adj" fmla="val 123961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524520" y="5370480"/>
                    <a:ext cx="103680" cy="313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5000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318960" y="5568120"/>
                    <a:ext cx="126000" cy="181440"/>
                    <a:chOff x="318960" y="5568120"/>
                    <a:chExt cx="126000" cy="18144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339480" y="5640120"/>
                      <a:ext cx="83160" cy="10944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0" bIns="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318960" y="5568120"/>
                      <a:ext cx="126000" cy="7200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1" name=""/>
                <p:cNvGrpSpPr/>
                <p:nvPr/>
              </p:nvGrpSpPr>
              <p:grpSpPr>
                <a:xfrm>
                  <a:off x="1041480" y="5370480"/>
                  <a:ext cx="567360" cy="447120"/>
                  <a:chOff x="1041480" y="5370480"/>
                  <a:chExt cx="567360" cy="44712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1041480" y="5683680"/>
                    <a:ext cx="567360" cy="133920"/>
                  </a:xfrm>
                  <a:prstGeom prst="parallelogram">
                    <a:avLst>
                      <a:gd name="adj" fmla="val 113759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1247040" y="5370480"/>
                    <a:ext cx="103320" cy="358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5000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1401840" y="5568120"/>
                    <a:ext cx="125640" cy="181440"/>
                    <a:chOff x="1401840" y="5568120"/>
                    <a:chExt cx="125640" cy="181440"/>
                  </a:xfrm>
                </p:grpSpPr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1422360" y="5640120"/>
                      <a:ext cx="82800" cy="109440"/>
                    </a:xfrm>
                    <a:prstGeom prst="can">
                      <a:avLst>
                        <a:gd name="adj" fmla="val 25000"/>
                      </a:avLst>
                    </a:prstGeom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808080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0" bIns="216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1401840" y="5568120"/>
                      <a:ext cx="125640" cy="72000"/>
                    </a:xfrm>
                    <a:prstGeom prst="can">
                      <a:avLst>
                        <a:gd name="adj" fmla="val 25000"/>
                      </a:avLst>
                    </a:pr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00" bIns="-1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87" name=""/>
              <p:cNvGrpSpPr/>
              <p:nvPr/>
            </p:nvGrpSpPr>
            <p:grpSpPr>
              <a:xfrm>
                <a:off x="-768960" y="4783680"/>
                <a:ext cx="2407320" cy="1248120"/>
                <a:chOff x="-768960" y="4783680"/>
                <a:chExt cx="2407320" cy="1248120"/>
              </a:xfrm>
            </p:grpSpPr>
            <p:grpSp>
              <p:nvGrpSpPr>
                <p:cNvPr id="888" name=""/>
                <p:cNvGrpSpPr/>
                <p:nvPr/>
              </p:nvGrpSpPr>
              <p:grpSpPr>
                <a:xfrm>
                  <a:off x="409320" y="4783680"/>
                  <a:ext cx="1229040" cy="732600"/>
                  <a:chOff x="409320" y="4783680"/>
                  <a:chExt cx="1229040" cy="73260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 rot="19921800">
                    <a:off x="368280" y="5196240"/>
                    <a:ext cx="1030680" cy="8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ffffff"/>
                      </a:gs>
                      <a:gs pos="100000">
                        <a:srgbClr val="80808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360" bIns="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 rot="19921800">
                    <a:off x="1321560" y="4842720"/>
                    <a:ext cx="294480" cy="1681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" name=""/>
                <p:cNvGrpSpPr/>
                <p:nvPr/>
              </p:nvGrpSpPr>
              <p:grpSpPr>
                <a:xfrm>
                  <a:off x="-768960" y="5299920"/>
                  <a:ext cx="1229400" cy="731880"/>
                  <a:chOff x="-768960" y="5299920"/>
                  <a:chExt cx="1229400" cy="73188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 rot="19921800">
                    <a:off x="-809640" y="5711760"/>
                    <a:ext cx="1031040" cy="8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rot="19921800">
                    <a:off x="143640" y="5358960"/>
                    <a:ext cx="294480" cy="167760"/>
                  </a:xfrm>
                  <a:prstGeom prst="roundRect">
                    <a:avLst>
                      <a:gd name="adj" fmla="val 16667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477360" y="5370480"/>
                <a:ext cx="825120" cy="358560"/>
                <a:chOff x="477360" y="5370480"/>
                <a:chExt cx="825120" cy="358560"/>
              </a:xfrm>
            </p:grpSpPr>
            <p:grpSp>
              <p:nvGrpSpPr>
                <p:cNvPr id="895" name=""/>
                <p:cNvGrpSpPr/>
                <p:nvPr/>
              </p:nvGrpSpPr>
              <p:grpSpPr>
                <a:xfrm>
                  <a:off x="477360" y="5370480"/>
                  <a:ext cx="103320" cy="358560"/>
                  <a:chOff x="477360" y="5370480"/>
                  <a:chExt cx="103320" cy="35856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477360" y="5370480"/>
                    <a:ext cx="103320" cy="3585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f5f5f"/>
                      </a:gs>
                      <a:gs pos="50000">
                        <a:srgbClr val="ffffff"/>
                      </a:gs>
                      <a:gs pos="100000">
                        <a:srgbClr val="5f5f5f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77360" y="5414760"/>
                    <a:ext cx="103320" cy="90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f5f5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8" name=""/>
                <p:cNvSpPr/>
                <p:nvPr/>
              </p:nvSpPr>
              <p:spPr>
                <a:xfrm>
                  <a:off x="1199160" y="5370480"/>
                  <a:ext cx="103320" cy="358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5f5f5f"/>
                    </a:gs>
                    <a:gs pos="50000">
                      <a:srgbClr val="ffffff"/>
                    </a:gs>
                    <a:gs pos="100000">
                      <a:srgbClr val="5f5f5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9" name="未知"/>
            <p:cNvSpPr/>
            <p:nvPr/>
          </p:nvSpPr>
          <p:spPr>
            <a:xfrm>
              <a:off x="1449000" y="5664240"/>
              <a:ext cx="602640" cy="137880"/>
            </a:xfrm>
            <a:custGeom>
              <a:avLst/>
              <a:gdLst/>
              <a:ahLst/>
              <a:rect l="l" t="t" r="r" b="b"/>
              <a:pathLst>
                <a:path w="380" h="87">
                  <a:moveTo>
                    <a:pt x="380" y="44"/>
                  </a:moveTo>
                  <a:cubicBezTo>
                    <a:pt x="343" y="50"/>
                    <a:pt x="223" y="87"/>
                    <a:pt x="160" y="80"/>
                  </a:cubicBezTo>
                  <a:cubicBezTo>
                    <a:pt x="97" y="73"/>
                    <a:pt x="33" y="17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未知"/>
            <p:cNvSpPr/>
            <p:nvPr/>
          </p:nvSpPr>
          <p:spPr>
            <a:xfrm>
              <a:off x="112680" y="3933720"/>
              <a:ext cx="644040" cy="1727280"/>
            </a:xfrm>
            <a:custGeom>
              <a:avLst/>
              <a:gdLst/>
              <a:ahLst/>
              <a:rect l="l" t="t" r="r" b="b"/>
              <a:pathLst>
                <a:path w="406" h="1088">
                  <a:moveTo>
                    <a:pt x="179" y="1088"/>
                  </a:moveTo>
                  <a:cubicBezTo>
                    <a:pt x="122" y="1080"/>
                    <a:pt x="71" y="1075"/>
                    <a:pt x="43" y="997"/>
                  </a:cubicBezTo>
                  <a:cubicBezTo>
                    <a:pt x="15" y="919"/>
                    <a:pt x="0" y="761"/>
                    <a:pt x="10" y="618"/>
                  </a:cubicBezTo>
                  <a:cubicBezTo>
                    <a:pt x="20" y="475"/>
                    <a:pt x="40" y="241"/>
                    <a:pt x="106" y="138"/>
                  </a:cubicBezTo>
                  <a:cubicBezTo>
                    <a:pt x="172" y="35"/>
                    <a:pt x="344" y="29"/>
                    <a:pt x="40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未知"/>
            <p:cNvSpPr/>
            <p:nvPr/>
          </p:nvSpPr>
          <p:spPr>
            <a:xfrm>
              <a:off x="1449000" y="3949560"/>
              <a:ext cx="1269000" cy="243000"/>
            </a:xfrm>
            <a:custGeom>
              <a:avLst/>
              <a:gdLst/>
              <a:ahLst/>
              <a:rect l="l" t="t" r="r" b="b"/>
              <a:pathLst>
                <a:path w="800" h="153">
                  <a:moveTo>
                    <a:pt x="0" y="8"/>
                  </a:moveTo>
                  <a:cubicBezTo>
                    <a:pt x="51" y="32"/>
                    <a:pt x="163" y="153"/>
                    <a:pt x="296" y="152"/>
                  </a:cubicBezTo>
                  <a:cubicBezTo>
                    <a:pt x="429" y="151"/>
                    <a:pt x="695" y="32"/>
                    <a:pt x="80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未知"/>
            <p:cNvSpPr/>
            <p:nvPr/>
          </p:nvSpPr>
          <p:spPr>
            <a:xfrm>
              <a:off x="3429360" y="3962160"/>
              <a:ext cx="605880" cy="1841760"/>
            </a:xfrm>
            <a:custGeom>
              <a:avLst/>
              <a:gdLst/>
              <a:ahLst/>
              <a:rect l="l" t="t" r="r" b="b"/>
              <a:pathLst>
                <a:path w="382" h="1160">
                  <a:moveTo>
                    <a:pt x="0" y="0"/>
                  </a:moveTo>
                  <a:cubicBezTo>
                    <a:pt x="48" y="27"/>
                    <a:pt x="227" y="73"/>
                    <a:pt x="288" y="160"/>
                  </a:cubicBezTo>
                  <a:cubicBezTo>
                    <a:pt x="349" y="247"/>
                    <a:pt x="357" y="391"/>
                    <a:pt x="368" y="520"/>
                  </a:cubicBezTo>
                  <a:cubicBezTo>
                    <a:pt x="379" y="649"/>
                    <a:pt x="382" y="827"/>
                    <a:pt x="357" y="934"/>
                  </a:cubicBezTo>
                  <a:cubicBezTo>
                    <a:pt x="332" y="1041"/>
                    <a:pt x="245" y="1113"/>
                    <a:pt x="216" y="11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5267160" y="3429000"/>
            <a:ext cx="2689200" cy="1859040"/>
            <a:chOff x="5267160" y="3429000"/>
            <a:chExt cx="2689200" cy="1859040"/>
          </a:xfrm>
        </p:grpSpPr>
        <p:sp>
          <p:nvSpPr>
            <p:cNvPr id="904" name=""/>
            <p:cNvSpPr/>
            <p:nvPr/>
          </p:nvSpPr>
          <p:spPr>
            <a:xfrm>
              <a:off x="6994440" y="387684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956360" y="389268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83160" y="5113440"/>
              <a:ext cx="67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67160" y="51134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25840" y="5113440"/>
              <a:ext cx="67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267160" y="38322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5267160" y="3832200"/>
              <a:ext cx="1631880" cy="88920"/>
              <a:chOff x="5267160" y="3832200"/>
              <a:chExt cx="1631880" cy="88920"/>
            </a:xfrm>
          </p:grpSpPr>
          <p:sp>
            <p:nvSpPr>
              <p:cNvPr id="911" name=""/>
              <p:cNvSpPr/>
              <p:nvPr/>
            </p:nvSpPr>
            <p:spPr>
              <a:xfrm>
                <a:off x="5267160" y="3876480"/>
                <a:ext cx="67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938560" y="3832200"/>
                <a:ext cx="96840" cy="8892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229080" y="387648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987880" y="3848040"/>
                <a:ext cx="360360" cy="4140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5817960" y="4524480"/>
              <a:ext cx="530280" cy="763560"/>
              <a:chOff x="5817960" y="4524480"/>
              <a:chExt cx="530280" cy="763560"/>
            </a:xfrm>
          </p:grpSpPr>
          <p:sp>
            <p:nvSpPr>
              <p:cNvPr id="916" name=""/>
              <p:cNvSpPr/>
              <p:nvPr/>
            </p:nvSpPr>
            <p:spPr>
              <a:xfrm>
                <a:off x="5843520" y="4938840"/>
                <a:ext cx="382320" cy="349200"/>
              </a:xfrm>
              <a:prstGeom prst="flowChartSummingJunction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17960" y="4524480"/>
                <a:ext cx="53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6882120" y="4525920"/>
              <a:ext cx="465480" cy="762120"/>
              <a:chOff x="6882120" y="4525920"/>
              <a:chExt cx="465480" cy="762120"/>
            </a:xfrm>
          </p:grpSpPr>
          <p:sp>
            <p:nvSpPr>
              <p:cNvPr id="919" name=""/>
              <p:cNvSpPr/>
              <p:nvPr/>
            </p:nvSpPr>
            <p:spPr>
              <a:xfrm>
                <a:off x="6899040" y="4938840"/>
                <a:ext cx="383760" cy="349200"/>
              </a:xfrm>
              <a:prstGeom prst="flowChartSummingJunction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882120" y="4525920"/>
                <a:ext cx="46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6608160" y="3429000"/>
              <a:ext cx="708120" cy="619200"/>
              <a:chOff x="6608160" y="3429000"/>
              <a:chExt cx="708120" cy="619200"/>
            </a:xfrm>
          </p:grpSpPr>
          <p:sp>
            <p:nvSpPr>
              <p:cNvPr id="922" name=""/>
              <p:cNvSpPr/>
              <p:nvPr/>
            </p:nvSpPr>
            <p:spPr>
              <a:xfrm>
                <a:off x="6899040" y="3700440"/>
                <a:ext cx="0" cy="34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994440" y="3743280"/>
                <a:ext cx="0" cy="260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608160" y="35193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906960" y="34290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﹣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6" name=""/>
          <p:cNvSpPr/>
          <p:nvPr/>
        </p:nvSpPr>
        <p:spPr>
          <a:xfrm flipH="1">
            <a:off x="5290920" y="386064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292720" y="386064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291280" y="5084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956720" y="3860280"/>
            <a:ext cx="0" cy="122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7020000" y="386064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755640" y="3644640"/>
            <a:ext cx="2689200" cy="2594880"/>
            <a:chOff x="755640" y="3644640"/>
            <a:chExt cx="2689200" cy="2594880"/>
          </a:xfrm>
        </p:grpSpPr>
        <p:grpSp>
          <p:nvGrpSpPr>
            <p:cNvPr id="932" name=""/>
            <p:cNvGrpSpPr/>
            <p:nvPr/>
          </p:nvGrpSpPr>
          <p:grpSpPr>
            <a:xfrm>
              <a:off x="755640" y="3644640"/>
              <a:ext cx="2689200" cy="1600560"/>
              <a:chOff x="755640" y="3644640"/>
              <a:chExt cx="2689200" cy="1600560"/>
            </a:xfrm>
          </p:grpSpPr>
          <p:sp>
            <p:nvSpPr>
              <p:cNvPr id="933" name=""/>
              <p:cNvSpPr/>
              <p:nvPr/>
            </p:nvSpPr>
            <p:spPr>
              <a:xfrm>
                <a:off x="755640" y="3848040"/>
                <a:ext cx="67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427040" y="3803760"/>
                <a:ext cx="96840" cy="88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717560" y="3848040"/>
                <a:ext cx="669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387520" y="3675240"/>
                <a:ext cx="0" cy="34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482920" y="3718080"/>
                <a:ext cx="0" cy="260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482920" y="38498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444840" y="3849840"/>
                <a:ext cx="0" cy="122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771640" y="5070600"/>
                <a:ext cx="67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87520" y="4896000"/>
                <a:ext cx="384120" cy="34920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5640" y="5070600"/>
                <a:ext cx="57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332000" y="4896000"/>
                <a:ext cx="382320" cy="34920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14320" y="5070600"/>
                <a:ext cx="67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5640" y="3849840"/>
                <a:ext cx="0" cy="122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1476360" y="3644640"/>
                <a:ext cx="290520" cy="17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33360" y="4372200"/>
                <a:ext cx="6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99320" y="4341960"/>
                <a:ext cx="46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"/>
            <p:cNvSpPr/>
            <p:nvPr/>
          </p:nvSpPr>
          <p:spPr>
            <a:xfrm>
              <a:off x="911160" y="5658120"/>
              <a:ext cx="23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图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.3—1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0" y="738360"/>
            <a:ext cx="9144000" cy="25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179280" y="765000"/>
            <a:ext cx="108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1800" spc="1" strike="noStrike">
              <a:ln w="442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476360" y="809640"/>
            <a:ext cx="3456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幼圆"/>
              </a:rPr>
              <a:t>想想议议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953" name=""/>
          <p:cNvSpPr/>
          <p:nvPr/>
        </p:nvSpPr>
        <p:spPr>
          <a:xfrm>
            <a:off x="900000" y="1457280"/>
            <a:ext cx="806472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串联电路和并联电路中，电流是如何流动的？你能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图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5.3—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图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5.3—2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画出电路闭合时电流的方向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08000" y="3114720"/>
            <a:ext cx="9144000" cy="0"/>
          </a:xfrm>
          <a:prstGeom prst="line">
            <a:avLst/>
          </a:prstGeom>
          <a:ln cap="rnd" w="1144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4643280" y="2634840"/>
            <a:ext cx="3889080" cy="2953080"/>
            <a:chOff x="4643280" y="2634840"/>
            <a:chExt cx="3889080" cy="2953080"/>
          </a:xfrm>
        </p:grpSpPr>
        <p:sp>
          <p:nvSpPr>
            <p:cNvPr id="956" name=""/>
            <p:cNvSpPr/>
            <p:nvPr/>
          </p:nvSpPr>
          <p:spPr>
            <a:xfrm>
              <a:off x="5724360" y="292428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65440" y="2832120"/>
              <a:ext cx="14148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643280" y="292428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38840" y="2635200"/>
              <a:ext cx="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876720" y="270504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76720" y="2924280"/>
              <a:ext cx="164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529480" y="2922480"/>
              <a:ext cx="0" cy="180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18040" y="5299200"/>
              <a:ext cx="99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64000" y="5010120"/>
              <a:ext cx="554040" cy="57780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43280" y="4724280"/>
              <a:ext cx="71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21240" y="3933720"/>
              <a:ext cx="554040" cy="577800"/>
            </a:xfrm>
            <a:prstGeom prst="flowChartSummingJunct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290920" y="5299200"/>
              <a:ext cx="97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43280" y="2922480"/>
              <a:ext cx="0" cy="180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5437080" y="2634840"/>
              <a:ext cx="287280" cy="19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59920" y="376236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9920" y="4843440"/>
              <a:ext cx="4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</a:t>
              </a:r>
              <a:r>
                <a:rPr b="1" lang="en-US" sz="2400" spc="-1" strike="noStrike" baseline="-8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290920" y="4222800"/>
              <a:ext cx="0" cy="50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90920" y="4724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21080" y="46544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76720" y="4221000"/>
              <a:ext cx="9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290920" y="422100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808400" y="4724280"/>
              <a:ext cx="723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10200" y="4222800"/>
              <a:ext cx="0" cy="50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810200" y="4724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7739640" y="4654440"/>
              <a:ext cx="142920" cy="142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0" y="692280"/>
            <a:ext cx="9144000" cy="1800000"/>
          </a:xfrm>
          <a:prstGeom prst="rect">
            <a:avLst/>
          </a:prstGeom>
          <a:solidFill>
            <a:srgbClr val="ffff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179280" y="836640"/>
            <a:ext cx="757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宋体"/>
              </a:rPr>
              <a:t>?</a:t>
            </a:r>
            <a:endParaRPr b="1" lang="en-US" sz="1800" spc="1" strike="noStrike">
              <a:ln w="442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83" name=""/>
          <p:cNvSpPr/>
          <p:nvPr/>
        </p:nvSpPr>
        <p:spPr>
          <a:xfrm>
            <a:off x="900000" y="692280"/>
            <a:ext cx="806472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串联电路和并联电路中，电流是如何流动的？你能在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图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5.3—1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图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/>
              </a:rPr>
              <a:t>5.3—2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/>
              </a:rPr>
              <a:t>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画出电路闭合时电流的方向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cap="rnd" w="114480">
            <a:solidFill>
              <a:srgbClr val="66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250920" y="2561760"/>
            <a:ext cx="3889080" cy="3747240"/>
            <a:chOff x="250920" y="2561760"/>
            <a:chExt cx="3889080" cy="3747240"/>
          </a:xfrm>
        </p:grpSpPr>
        <p:sp>
          <p:nvSpPr>
            <p:cNvPr id="986" name=""/>
            <p:cNvSpPr/>
            <p:nvPr/>
          </p:nvSpPr>
          <p:spPr>
            <a:xfrm>
              <a:off x="952560" y="5727600"/>
              <a:ext cx="24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图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.3—2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250920" y="2561760"/>
              <a:ext cx="3889080" cy="2953080"/>
              <a:chOff x="250920" y="2561760"/>
              <a:chExt cx="3889080" cy="2953080"/>
            </a:xfrm>
          </p:grpSpPr>
          <p:sp>
            <p:nvSpPr>
              <p:cNvPr id="988" name=""/>
              <p:cNvSpPr/>
              <p:nvPr/>
            </p:nvSpPr>
            <p:spPr>
              <a:xfrm>
                <a:off x="1332000" y="285120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973080" y="2759040"/>
                <a:ext cx="141480" cy="146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50920" y="285120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346480" y="2562120"/>
                <a:ext cx="0" cy="57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484360" y="2631960"/>
                <a:ext cx="0" cy="431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484360" y="2851200"/>
                <a:ext cx="1649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137120" y="2849400"/>
                <a:ext cx="0" cy="180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425680" y="5226120"/>
                <a:ext cx="99396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871640" y="4937040"/>
                <a:ext cx="554040" cy="57780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50920" y="4651200"/>
                <a:ext cx="71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928880" y="3860640"/>
                <a:ext cx="554040" cy="577800"/>
              </a:xfrm>
              <a:prstGeom prst="flowChartSummingJunct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98560" y="5226120"/>
                <a:ext cx="97020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50920" y="2849400"/>
                <a:ext cx="0" cy="180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1044720" y="2561760"/>
                <a:ext cx="287280" cy="19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267560" y="3689280"/>
                <a:ext cx="46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267560" y="4770360"/>
                <a:ext cx="46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L</a:t>
                </a:r>
                <a:r>
                  <a:rPr b="1" lang="en-US" sz="2400" spc="-1" strike="noStrike" baseline="-8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98560" y="4149720"/>
                <a:ext cx="0" cy="50148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98560" y="4651200"/>
                <a:ext cx="0" cy="57636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28720" y="4581360"/>
                <a:ext cx="142920" cy="1429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484360" y="4147920"/>
                <a:ext cx="93528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98560" y="4147920"/>
                <a:ext cx="1008000" cy="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16040" y="4651200"/>
                <a:ext cx="72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417840" y="4149720"/>
                <a:ext cx="0" cy="50148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417840" y="4651200"/>
                <a:ext cx="0" cy="57636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3347280" y="4581360"/>
                <a:ext cx="142920" cy="1429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6877080" y="2922480"/>
            <a:ext cx="1649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529480" y="2922480"/>
            <a:ext cx="0" cy="18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643280" y="4724280"/>
            <a:ext cx="71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643280" y="2922480"/>
            <a:ext cx="0" cy="18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4643280" y="2832120"/>
            <a:ext cx="2089080" cy="146160"/>
            <a:chOff x="4643280" y="2832120"/>
            <a:chExt cx="2089080" cy="146160"/>
          </a:xfrm>
        </p:grpSpPr>
        <p:sp>
          <p:nvSpPr>
            <p:cNvPr id="1018" name=""/>
            <p:cNvSpPr/>
            <p:nvPr/>
          </p:nvSpPr>
          <p:spPr>
            <a:xfrm>
              <a:off x="5724360" y="292428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65440" y="2832120"/>
              <a:ext cx="141480" cy="146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643280" y="292428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37080" y="2833560"/>
              <a:ext cx="430200" cy="8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6818400" y="5299200"/>
            <a:ext cx="99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291280" y="4222800"/>
            <a:ext cx="0" cy="50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291280" y="472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221440" y="4654440"/>
            <a:ext cx="14256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77080" y="4221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291280" y="42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7808400" y="472428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810560" y="4222800"/>
            <a:ext cx="0" cy="50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810560" y="472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7740000" y="4654440"/>
            <a:ext cx="142920" cy="142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5940000" y="2922480"/>
            <a:ext cx="792360" cy="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643280" y="2922480"/>
            <a:ext cx="0" cy="136836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643280" y="4722840"/>
            <a:ext cx="576360" cy="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5292720" y="4219200"/>
            <a:ext cx="0" cy="4316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5292720" y="4795920"/>
            <a:ext cx="0" cy="5032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292720" y="4219560"/>
            <a:ext cx="79200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291280" y="52992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292720" y="5297400"/>
            <a:ext cx="79200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77080" y="4219560"/>
            <a:ext cx="93492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04000" y="5299200"/>
            <a:ext cx="100800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7812000" y="4867200"/>
            <a:ext cx="0" cy="432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812000" y="4219560"/>
            <a:ext cx="0" cy="35892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7885080" y="47228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8532720" y="3211560"/>
            <a:ext cx="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7308720" y="292248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6445080" y="2421000"/>
            <a:ext cx="807840" cy="790560"/>
            <a:chOff x="6445080" y="2421000"/>
            <a:chExt cx="807840" cy="790560"/>
          </a:xfrm>
        </p:grpSpPr>
        <p:sp>
          <p:nvSpPr>
            <p:cNvPr id="1048" name=""/>
            <p:cNvSpPr/>
            <p:nvPr/>
          </p:nvSpPr>
          <p:spPr>
            <a:xfrm>
              <a:off x="6732720" y="2637000"/>
              <a:ext cx="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870600" y="270684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45080" y="2468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843600" y="2421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5292720" y="5589720"/>
            <a:ext cx="2827440" cy="869040"/>
            <a:chOff x="5292720" y="5589720"/>
            <a:chExt cx="2827440" cy="869040"/>
          </a:xfrm>
        </p:grpSpPr>
        <p:sp>
          <p:nvSpPr>
            <p:cNvPr id="1053" name=""/>
            <p:cNvSpPr/>
            <p:nvPr/>
          </p:nvSpPr>
          <p:spPr>
            <a:xfrm>
              <a:off x="5292720" y="5589720"/>
              <a:ext cx="282744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红色代表干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蓝色代表支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435640" y="5808600"/>
              <a:ext cx="50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91080" y="6240240"/>
              <a:ext cx="447840" cy="1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5:19:44Z</dcterms:created>
  <dc:creator>正版用户</dc:creator>
  <dc:description/>
  <dc:language>en-US</dc:language>
  <cp:lastModifiedBy>正版用户</cp:lastModifiedBy>
  <dcterms:modified xsi:type="dcterms:W3CDTF">2014-05-28T14:01:00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