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8A15-BEDA-4997-9A97-89FE650A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52E7-419D-46CA-9E79-B2635036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603E-B283-400D-A881-770FE5841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A2D3-9441-41FE-BA18-3BB49F00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B802-BC6A-4F58-A952-BA0EFD48D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1015-C203-4BE4-BF04-FE7F81DF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7378-9131-4D4E-BA25-A2B8A018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B06C-9BA0-4175-B937-D0455EB8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23AB-A407-49D0-80E7-9608A9D0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F426-7AD2-4E24-A502-494E0703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53F3-9E28-4DD5-815D-9865461D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8A67-C9BE-43FF-8301-AE1D71EF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0C58-02E7-4CB9-90FB-6EFBEA1F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4EDF-9508-434D-AA7E-28D9B220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B9AC-D1C6-404B-BA57-4749C6AC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DDE4-8612-4D5A-A265-0C19FCD0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40CE-98F4-4BA0-B654-A359566E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8666-D5DC-46C5-B774-F96C90E0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D4C8-E340-42B3-84A5-B438FA63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9888-6CAC-4362-8B4F-7BEDE876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9C33-97D2-40D3-96B4-0AFE9167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222E-236E-4F95-BDC4-61FEB653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E715-3AFD-42B3-BE13-47FC45E5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1A0B-D145-4EE2-92AF-98BE20F1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C075-BF4C-460C-A075-91D27909734D}" type="slidenum"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16000" y="2335320"/>
            <a:ext cx="44276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AC13-B4B6-4288-9CCF-C3FB59C8786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rcRect l="22034" t="20338" r="0" b="0"/>
          <a:stretch/>
        </p:blipFill>
        <p:spPr>
          <a:xfrm>
            <a:off x="0" y="0"/>
            <a:ext cx="3984480" cy="4071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4357800" y="2643120"/>
            <a:ext cx="4354560" cy="857160"/>
          </a:xfrm>
          <a:prstGeom prst="rect">
            <a:avLst/>
          </a:prstGeom>
          <a:ln w="0">
            <a:noFill/>
          </a:ln>
        </p:spPr>
      </p:pic>
      <p:sp>
        <p:nvSpPr>
          <p:cNvPr id="84" name="TextBox 1"/>
          <p:cNvSpPr/>
          <p:nvPr/>
        </p:nvSpPr>
        <p:spPr>
          <a:xfrm>
            <a:off x="5897520" y="2000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HG創英角ｺﾞｼｯｸUB"/>
              </a:rPr>
              <a:t>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579280" y="3500280"/>
            <a:ext cx="191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Medium"/>
              </a:rPr>
              <a:t>2011</a:t>
            </a:r>
            <a:r>
              <a:rPr b="1" lang="zh-CN" sz="1800" spc="-1" strike="noStrike">
                <a:solidFill>
                  <a:srgbClr val="000000"/>
                </a:solidFill>
                <a:latin typeface="HG創英角ｺﾞｼｯｸUB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Franklin Gothic Medium"/>
              </a:rPr>
              <a:t>12</a:t>
            </a:r>
            <a:r>
              <a:rPr b="1" lang="zh-CN" sz="1800" spc="-1" strike="noStrike">
                <a:solidFill>
                  <a:srgbClr val="000000"/>
                </a:solidFill>
                <a:latin typeface="HG創英角ｺﾞｼｯｸUB"/>
              </a:rPr>
              <a:t>月</a:t>
            </a:r>
            <a:r>
              <a:rPr b="1" lang="en-US" sz="1800" spc="-1" strike="noStrike">
                <a:solidFill>
                  <a:srgbClr val="000000"/>
                </a:solidFill>
                <a:latin typeface="Franklin Gothic Medium"/>
              </a:rPr>
              <a:t>28</a:t>
            </a:r>
            <a:r>
              <a:rPr b="1" lang="zh-CN" sz="1800" spc="-1" strike="noStrike">
                <a:solidFill>
                  <a:srgbClr val="000000"/>
                </a:solidFill>
                <a:latin typeface="HG創英角ｺﾞｼｯｸUB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HG創英角ｺﾞｼｯｸUB"/>
              </a:rPr>
              <a:t>版本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4160" y="47322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8001000" y="14292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3"/>
          <a:stretch/>
        </p:blipFill>
        <p:spPr>
          <a:xfrm>
            <a:off x="142920" y="400068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2071800" y="0"/>
            <a:ext cx="5008320" cy="5000760"/>
          </a:xfrm>
          <a:prstGeom prst="rect">
            <a:avLst/>
          </a:prstGeom>
          <a:ln w="0">
            <a:noFill/>
          </a:ln>
        </p:spPr>
      </p:pic>
      <p:sp>
        <p:nvSpPr>
          <p:cNvPr id="90" name="矩形 4"/>
          <p:cNvSpPr/>
          <p:nvPr/>
        </p:nvSpPr>
        <p:spPr>
          <a:xfrm>
            <a:off x="1071720" y="2000160"/>
            <a:ext cx="6929280" cy="785880"/>
          </a:xfrm>
          <a:prstGeom prst="rect">
            <a:avLst/>
          </a:prstGeom>
          <a:solidFill>
            <a:srgbClr val="ffffff">
              <a:alpha val="69000"/>
            </a:srgbClr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"/>
          <p:cNvSpPr/>
          <p:nvPr/>
        </p:nvSpPr>
        <p:spPr>
          <a:xfrm>
            <a:off x="4019400" y="2143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HG創英角ｺﾞｼｯｸUB"/>
              </a:rPr>
              <a:t>输入结束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0160" y="4587840"/>
            <a:ext cx="442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0"/>
            <a:ext cx="8466120" cy="5143680"/>
            <a:chOff x="0" y="0"/>
            <a:chExt cx="8466120" cy="5143680"/>
          </a:xfrm>
        </p:grpSpPr>
        <p:sp>
          <p:nvSpPr>
            <p:cNvPr id="9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285920"/>
              <a:ext cx="846612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7"/>
            <p:cNvSpPr/>
            <p:nvPr/>
          </p:nvSpPr>
          <p:spPr>
            <a:xfrm rot="20926800">
              <a:off x="1946880" y="26762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5:40:00Z</dcterms:created>
  <dc:creator>Administrator</dc:creator>
  <dc:description/>
  <dc:language>en-US</dc:language>
  <cp:lastModifiedBy>king</cp:lastModifiedBy>
  <cp:lastPrinted>1899-12-30T00:00:00Z</cp:lastPrinted>
  <dcterms:modified xsi:type="dcterms:W3CDTF">2014-05-24T09:18:04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_LCID">
    <vt:r8>2052</vt:r8>
  </property>
  <property fmtid="{D5CDD505-2E9C-101B-9397-08002B2CF9AE}" pid="4" name="_Version">
    <vt:lpwstr>12.0.4518</vt:lpwstr>
  </property>
</Properties>
</file>