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3B1-81BF-4CD4-B872-AFA252B5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5DF-6C79-409F-8310-B4D3F09C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D0C-99C3-4964-B38F-573F4422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9CE-9F9C-44D4-9E1E-974B7341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409E-71F1-4546-A400-A6E73485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53BD-26D8-41F7-8AA2-4DB553B8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A479-9834-4B3A-8A27-784CFF29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9459-7E17-4079-BE9F-A8C2AFFA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ED63-ECE7-422F-A3FA-E261A20F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DDFE-1647-4131-A6C1-76EC1771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77A5-0E65-4446-9963-BE42032F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0BD-420D-4A44-B01D-BDB59BFC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4213-F274-40C3-924B-5ACEE107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D146-5888-4F5B-B427-4164022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9516-F303-4183-8524-99C75709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E067-56E6-4F09-A003-8D31CB70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7AC5-F3C0-40B7-BCAF-85760022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799-2F7F-4EDD-AC6B-DB84DBB2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D8C-840C-4736-9FEB-5A7BC4CC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CBF-FBDC-4281-AE82-5B872777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88B-04B5-4507-9ADA-B56FD4DC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A5A-F26D-4C7D-86EB-205F05A9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02E-874D-4D11-B58D-C0B2078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916-7803-4C44-9DDB-D4947F91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2687-B4D7-4C83-AD5B-978A55494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B9E5-EC0D-407F-8D52-E764B5A69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5244" r="0" b="0"/>
          <a:stretch/>
        </p:blipFill>
        <p:spPr>
          <a:xfrm>
            <a:off x="0" y="4622760"/>
            <a:ext cx="9144000" cy="223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5920" y="35812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4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06:19:06Z</dcterms:created>
  <dc:creator/>
  <dc:description/>
  <dc:language>en-US</dc:language>
  <cp:lastModifiedBy>MC SYSTEM</cp:lastModifiedBy>
  <dcterms:modified xsi:type="dcterms:W3CDTF">2014-05-29T06:41:1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