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084-DE14-40DB-B227-716CEB97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0E0-B22E-45E9-A37D-157E6E64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DCE-254A-4DE7-8B11-7CE28AE2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F1E-A08A-4431-AC5B-4A1D1545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33CD-5452-4BC4-AD18-A0601D51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7171-38D0-4DAA-8F28-407CEF7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E22F-D44A-4631-B7A2-B7719DF6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403C-D358-4250-B09F-E08A3C7E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B8D3-ED5C-4178-92F9-87E532EB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ABEE-8D88-4B09-A93A-152AC4EF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DB8F-FF4F-4252-B7C3-6AA4EA9A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FF3-E194-4C15-A2AD-EF74AFB2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1252-4402-4A53-AC67-DEA43D9B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56EF-E740-438C-BD64-72061D94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4885-7266-45AD-9B24-BD1B5827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5FD3-E700-4A8F-81A1-CE410258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648B-3A87-4AC8-A713-0E0AADE2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B25-90E2-4FA8-BDDD-838A65D8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A99-E3D2-4DC5-BCED-F3B059CA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684-E0C6-4630-987F-F281672D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064-DE27-44B9-8FCC-C6D64F7E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B63-8576-45BB-B6D4-9DF0A1F7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87D-9B5E-4E84-B94C-1CCB4726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B63-3562-4616-A219-2DF63232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91A1-274D-4920-BE35-2E583D8F8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50DB-E395-4996-AE5B-4045A842F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68240"/>
            <a:ext cx="6400800" cy="11034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09960" y="550548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22960" y="54673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119280"/>
            <a:chOff x="0" y="0"/>
            <a:chExt cx="8466120" cy="611928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29640"/>
              <a:ext cx="846612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32120" y="31863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001400" y="28764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厨具模板（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7:28:30Z</dcterms:created>
  <dc:creator>Administrator</dc:creator>
  <dc:description/>
  <dc:language>en-US</dc:language>
  <cp:lastModifiedBy/>
  <cp:lastPrinted>1899-12-30T00:00:00Z</cp:lastPrinted>
  <dcterms:modified xsi:type="dcterms:W3CDTF">2014-06-06T08:02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