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51A-43ED-40E6-AFAB-4596193A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10148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4B1-992A-4ACF-B38E-AC1DE51B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2440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1AF-61F8-421E-9E33-36FC771B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1828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92216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41828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92216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10C-7AA3-4B93-A57A-050E4A55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4F72-4905-4552-8075-D008DE0F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CCF8-76D1-4CAF-B20A-48BE598F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A6B4-7D60-4893-AAFC-76E13538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8580-A0FD-4F70-AA78-6269781C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3526-3CA2-4364-9F3D-F9300431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365040"/>
            <a:ext cx="10363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95A2-8B43-45EA-9408-B6077037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B1E0-4BA0-4364-9638-165ADB5A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57B-7F37-48D8-A220-CF7F008F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2440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125E-054A-40F6-90F3-0DBBEAF3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D612-F9C4-4B66-AFAD-863B6754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0148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1FC6-2B89-4A19-BC10-D18BA1FE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2440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C5EC-8D23-4EF9-8B28-66CF0621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1828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92216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41828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92216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2D02-E11C-4243-BD30-8E856C04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8A530-7260-4643-9041-93C5405A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70F8-8E02-45A0-AFB0-CDF614E8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8070-68B4-4462-B91A-B3092C57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DA4CF-7B51-4C34-B37D-9E77DEFC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28EAE-CEA9-4A76-A3A9-6FFA72CF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31F-1364-4908-A826-3F23ECCC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040" y="365040"/>
            <a:ext cx="10363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7CCD-6B7C-4C4C-AFCE-B90F253A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CA3C-33B3-4B4E-A3E0-B9041EEA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440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AA69-D484-452D-B1F3-CA805A47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CD96F-90DC-472D-9C15-27B6C2E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040" y="410148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67ED-50DD-4C58-96A1-9BE7374F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440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CBF4-0A23-45B6-A3B9-EEB3CEEF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828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22160" y="182844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04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41828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22160" y="4101480"/>
            <a:ext cx="33368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33976-3F81-42ED-9A88-47D1C582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695-00F9-40A5-87FC-ECDF433B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481-1172-47F6-86B0-F1E73FF1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365040"/>
            <a:ext cx="10363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6F7-56DF-4CC0-9D02-80081DDC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AE4-C786-4BB3-8A82-5DC31CB4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24400" y="410148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51F-ECC9-4A84-A65E-AF39439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1828440"/>
            <a:ext cx="50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01480"/>
            <a:ext cx="10363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498-9387-4BCE-8A9F-80688269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Rectangle 8"/>
          <p:cNvSpPr/>
          <p:nvPr/>
        </p:nvSpPr>
        <p:spPr>
          <a:xfrm>
            <a:off x="0" y="836640"/>
            <a:ext cx="1219212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836640"/>
            <a:ext cx="12192120" cy="5586480"/>
          </a:xfrm>
          <a:prstGeom prst="rect">
            <a:avLst/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6527880"/>
            <a:ext cx="12192120" cy="156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0" y="6527880"/>
            <a:ext cx="12192120" cy="156960"/>
          </a:xfrm>
          <a:prstGeom prst="rect">
            <a:avLst/>
          </a:prstGeom>
          <a:blipFill rotWithShape="0">
            <a:blip r:embed="rId4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0" y="6453360"/>
            <a:ext cx="12192120" cy="44280"/>
          </a:xfrm>
          <a:prstGeom prst="rect">
            <a:avLst/>
          </a:prstGeom>
          <a:solidFill>
            <a:srgbClr val="c2e0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008000"/>
            <a:ext cx="1051560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99cb38"/>
              </a:buClr>
              <a:buSzPct val="9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3B55-D8EA-42DE-9B68-533453730C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365040"/>
            <a:ext cx="10363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040" y="1828440"/>
            <a:ext cx="10363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9144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04172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53452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B7C4-12AF-465E-889F-0D7EA41462CF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28520" y="0"/>
            <a:ext cx="12063600" cy="6858000"/>
            <a:chOff x="128520" y="0"/>
            <a:chExt cx="12063600" cy="6858000"/>
          </a:xfrm>
        </p:grpSpPr>
        <p:pic>
          <p:nvPicPr>
            <p:cNvPr id="91" name="Flowchart: Manual Input 8" descr=""/>
            <p:cNvPicPr/>
            <p:nvPr/>
          </p:nvPicPr>
          <p:blipFill>
            <a:blip r:embed="rId3"/>
            <a:stretch/>
          </p:blipFill>
          <p:spPr>
            <a:xfrm>
              <a:off x="129600" y="0"/>
              <a:ext cx="12062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rot="16200000">
              <a:off x="2731320" y="-2602440"/>
              <a:ext cx="6858000" cy="120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0" y="0"/>
            <a:ext cx="6808680" cy="6858000"/>
            <a:chOff x="0" y="0"/>
            <a:chExt cx="6808680" cy="6858000"/>
          </a:xfrm>
        </p:grpSpPr>
        <p:pic>
          <p:nvPicPr>
            <p:cNvPr id="94" name="Diagonal Stripe 9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08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rot="10800000">
              <a:off x="0" y="234720"/>
              <a:ext cx="6578640" cy="66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008000"/>
            <a:ext cx="1051560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99cb38"/>
              </a:buClr>
              <a:buSzPct val="9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9002-340F-4C05-B30F-D4A4C23E8C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2"/>
          <a:stretch/>
        </p:blipFill>
        <p:spPr>
          <a:xfrm>
            <a:off x="1523880" y="1042920"/>
            <a:ext cx="9468000" cy="2754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057960" y="6202440"/>
            <a:ext cx="268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652320" y="0"/>
            <a:ext cx="10704600" cy="969840"/>
            <a:chOff x="652320" y="0"/>
            <a:chExt cx="10704600" cy="969840"/>
          </a:xfrm>
        </p:grpSpPr>
        <p:pic>
          <p:nvPicPr>
            <p:cNvPr id="140" name="Title 1" descr=""/>
            <p:cNvPicPr/>
            <p:nvPr/>
          </p:nvPicPr>
          <p:blipFill>
            <a:blip r:embed="rId1"/>
            <a:stretch/>
          </p:blipFill>
          <p:spPr>
            <a:xfrm>
              <a:off x="652320" y="0"/>
              <a:ext cx="107046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652320" y="0"/>
              <a:ext cx="10704600" cy="9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 txBox="1"/>
          <p:nvPr/>
        </p:nvSpPr>
        <p:spPr>
          <a:xfrm>
            <a:off x="838080" y="1008000"/>
            <a:ext cx="1051560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99cb38"/>
              </a:buClr>
              <a:buSzPct val="9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99cb38"/>
              </a:buClr>
              <a:buSzPct val="90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3432240"/>
            <a:ext cx="12192120" cy="3425760"/>
            <a:chOff x="0" y="3432240"/>
            <a:chExt cx="12192120" cy="3425760"/>
          </a:xfrm>
        </p:grpSpPr>
        <p:pic>
          <p:nvPicPr>
            <p:cNvPr id="144" name="Rectangle 4" descr=""/>
            <p:cNvPicPr/>
            <p:nvPr/>
          </p:nvPicPr>
          <p:blipFill>
            <a:blip r:embed="rId1"/>
            <a:stretch/>
          </p:blipFill>
          <p:spPr>
            <a:xfrm>
              <a:off x="0" y="3435120"/>
              <a:ext cx="12192120" cy="34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3432240"/>
              <a:ext cx="12192120" cy="34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Rectangle 3"/>
          <p:cNvSpPr/>
          <p:nvPr/>
        </p:nvSpPr>
        <p:spPr>
          <a:xfrm>
            <a:off x="0" y="0"/>
            <a:ext cx="12192120" cy="4616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2017800" y="785880"/>
            <a:ext cx="6218280" cy="23907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7" descr=""/>
          <p:cNvPicPr/>
          <p:nvPr/>
        </p:nvPicPr>
        <p:blipFill>
          <a:blip r:embed="rId3"/>
          <a:stretch/>
        </p:blipFill>
        <p:spPr>
          <a:xfrm>
            <a:off x="2000160" y="2517840"/>
            <a:ext cx="6253200" cy="463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03800" y="40035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b8803"/>
                </a:solidFill>
                <a:uFillTx/>
                <a:latin typeface="华文新魏"/>
                <a:ea typeface="华文新魏"/>
                <a:hlinkClick r:id="rId4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151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2:14:28Z</dcterms:created>
  <dc:creator>邹恩栋</dc:creator>
  <dc:description/>
  <cp:keywords>XS-宽屏 16：9;SC-淡绿色;BG-浅色;DH-静态</cp:keywords>
  <dc:language>en-US</dc:language>
  <cp:lastModifiedBy>D13001</cp:lastModifiedBy>
  <dcterms:modified xsi:type="dcterms:W3CDTF">2014-06-08T05:20:53Z</dcterms:modified>
  <cp:revision>4</cp:revision>
  <dc:subject>TP-通用纹理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