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2A5-C48E-42E3-B1CC-5DA5A7D6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410-FAC2-4F0C-A855-CE81B6B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8A9-616A-4AE6-9848-2F919226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D29-9460-4B6B-9143-E91FBB7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E85-41F3-42BD-8423-F58A9E8D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5FE-D8CA-47DE-8073-F12CB35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FF2-73F7-43A6-A013-5AB80785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52C-C549-4E43-846D-F467D5ED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FEF-1852-4E9B-A03A-01B7B0D0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C42-9EA7-49D6-BFE3-A50BCCF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F2C-80F7-49B1-9A94-570C250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713-503A-47A5-BD00-C43E77F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FA93-2B7F-46D0-B995-BF384855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828800"/>
            <a:ext cx="449568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>
                    <a:alpha val="76000"/>
                  </a:srgbClr>
                </a:solidFill>
                <a:latin typeface="隶书"/>
              </a:rPr>
              <a:t>春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>
                  <a:alpha val="76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97920" y="62485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-454320" y="457200"/>
            <a:ext cx="2511720" cy="5257800"/>
            <a:chOff x="-454320" y="457200"/>
            <a:chExt cx="2511720" cy="5257800"/>
          </a:xfrm>
        </p:grpSpPr>
        <p:sp>
          <p:nvSpPr>
            <p:cNvPr id="80" name=""/>
            <p:cNvSpPr/>
            <p:nvPr/>
          </p:nvSpPr>
          <p:spPr>
            <a:xfrm>
              <a:off x="-45432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依然十里杏花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0672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是一年芳草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305920" y="6019920"/>
            <a:ext cx="6858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31680" y="457200"/>
            <a:ext cx="2511720" cy="5257800"/>
            <a:chOff x="1831680" y="457200"/>
            <a:chExt cx="2511720" cy="5257800"/>
          </a:xfrm>
        </p:grpSpPr>
        <p:sp>
          <p:nvSpPr>
            <p:cNvPr id="84" name=""/>
            <p:cNvSpPr/>
            <p:nvPr/>
          </p:nvSpPr>
          <p:spPr>
            <a:xfrm>
              <a:off x="183168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日照神州百业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2240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春回大地千山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194000" y="457200"/>
            <a:ext cx="2511720" cy="5257800"/>
            <a:chOff x="4194000" y="457200"/>
            <a:chExt cx="2511720" cy="5257800"/>
          </a:xfrm>
        </p:grpSpPr>
        <p:sp>
          <p:nvSpPr>
            <p:cNvPr id="87" name=""/>
            <p:cNvSpPr/>
            <p:nvPr/>
          </p:nvSpPr>
          <p:spPr>
            <a:xfrm>
              <a:off x="419400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和睦人家幸福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4720" y="457200"/>
              <a:ext cx="152100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勤劳门第春光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074000" y="457200"/>
            <a:ext cx="1841400" cy="5257800"/>
            <a:chOff x="7074000" y="457200"/>
            <a:chExt cx="1841400" cy="5257800"/>
          </a:xfrm>
        </p:grpSpPr>
        <p:sp>
          <p:nvSpPr>
            <p:cNvPr id="90" name=""/>
            <p:cNvSpPr/>
            <p:nvPr/>
          </p:nvSpPr>
          <p:spPr>
            <a:xfrm>
              <a:off x="707400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竹  报  岁  平  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720" y="457200"/>
              <a:ext cx="850680" cy="5257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梅  开  春  烂  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7360" y="68580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依然十里杏花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3960" y="685800"/>
            <a:ext cx="100332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又是一年芳草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14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日照神州百业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50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春回大地千山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60" y="62485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864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和睦人家幸福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5920" y="762120"/>
            <a:ext cx="182628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勤劳门第春光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29600" y="5943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66360" y="1295280"/>
            <a:ext cx="182628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竹报岁平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7440" y="1295280"/>
            <a:ext cx="182628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梅开春烂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14479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下功夫背诵一批名联，就能帮助我们感受到其中的声律美，领略祖国语言的无穷奥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14080" y="685800"/>
            <a:ext cx="1826280" cy="541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红桃开口贺新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200" y="685800"/>
            <a:ext cx="1826280" cy="541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绿柳舒眉辞旧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60020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风送福                           礼貌服务顾客盈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家和睦一家福                 喜气临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明经商财源茂盛              勤勤恳恳做园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兢兢业业育桃李                  四季平安四季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1981080"/>
            <a:ext cx="312444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57600" y="1981080"/>
            <a:ext cx="15238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819520"/>
            <a:ext cx="31240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0280" y="304920"/>
            <a:ext cx="1642680" cy="4495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学海无涯苦作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39000" y="304920"/>
            <a:ext cx="1642680" cy="4495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书山有路勤为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648320"/>
            <a:ext cx="8458200" cy="220968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每一位同学在学习之路上，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刻苦勤奋，都能通过自己的努力，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得更多的学习成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1523880"/>
            <a:ext cx="2057400" cy="19051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24200" y="162864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144792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背诵课文中引用的五副春联，并能简单地说说它们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搜集两三副课外的春联，并在小组内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星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当一次小作家，自己试着写一副春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7621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ff"/>
                </a:solidFill>
                <a:latin typeface="隶书"/>
              </a:rPr>
              <a:t>课后拓展：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  <p:sp>
        <p:nvSpPr>
          <p:cNvPr id="129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9528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增添    浏览    歌颂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和睦    声律    奥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气氛   揣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0384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11480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增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浏览    歌颂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和睦    声律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奥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气氛   揣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03848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 ē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144684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紫千红   欣欣向荣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抑扬顿挫    开卷有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2438280" y="1447920"/>
            <a:ext cx="51588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600200" y="266688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48120" y="1066680"/>
            <a:ext cx="15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12552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9720" y="1066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卷起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114800" y="41148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开卷有益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029200"/>
            <a:ext cx="3124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16765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们常说“开卷有益”，其实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读读春联也是一种很好的学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90600" y="254160"/>
            <a:ext cx="4762800" cy="63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81080" y="0"/>
            <a:ext cx="51818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60020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4792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397160" y="0"/>
            <a:ext cx="6349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14300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304920" y="0"/>
            <a:ext cx="830556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浏览着各种各样的春联，就像是漫游在万紫千红的百花园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浏览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各种各样的春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就像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漫游在万紫千红的百花园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58:30Z</dcterms:created>
  <dc:creator/>
  <dc:description/>
  <dc:language>en-US</dc:language>
  <cp:lastModifiedBy>user</cp:lastModifiedBy>
  <dcterms:modified xsi:type="dcterms:W3CDTF">2014-06-05T08:16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