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5E4-9A24-4924-8160-E460942C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EC6-3E49-4FBF-98BB-FA1B0AB0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7B3-36FB-485C-B820-9799DDF7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678-70D4-45E3-901F-CA34A6D9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0A19-5952-4675-87AD-0A2A29E0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099D-FB39-4FDA-9258-254B6EB0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3C7D-5AED-43A9-8F0B-D643C5DF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B810-D434-409A-9A05-892B330F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0E2F-29F2-44B3-817E-6650BD67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3073-C79A-4C74-AA89-C1D73F07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539F-04D2-4C71-811C-E2A8D5D9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89A-939A-4F6B-9E5C-22AD9623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0152-6EC8-4A8B-8B96-46E866A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CAD4-0C39-47C4-93C6-A7453DE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DF43-1EBC-48C7-8052-5488328B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9D5F-BD4B-4552-866E-61D3CB5E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6278-A60F-4C70-A7BF-229D1D33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F8E-85D1-4329-BB16-5D2CE5DB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D8A-D322-4ED9-AE45-A3F7D70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B3E-50F4-4FD3-A575-BE115A19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585-9D05-4721-943B-0A8A65EA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EF2-8489-4450-BB5E-4FDA8D4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321-6A02-463E-8B27-EE825B71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CAA-17FF-4D05-9159-66F21C49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cccc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ccccff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A645-EED0-43AB-B876-E368EFAD6A1F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E282-1173-49B1-821D-94BA6147D9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ccccff"/>
              </a:solidFill>
              <a:latin typeface="微软雅黑"/>
            </a:endParaRPr>
          </a:p>
          <a:p>
            <a:pPr lvl="2" marL="914400" algn="ctr">
              <a:spcBef>
                <a:spcPts val="451"/>
              </a:spcBef>
              <a:buClr>
                <a:srgbClr val="ccccff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ccccff"/>
              </a:solidFill>
              <a:latin typeface="微软雅黑"/>
            </a:endParaRPr>
          </a:p>
          <a:p>
            <a:pPr lvl="3" marL="1371600" algn="ctr">
              <a:spcBef>
                <a:spcPts val="400"/>
              </a:spcBef>
              <a:buClr>
                <a:srgbClr val="ccccff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微软雅黑"/>
              </a:rPr>
              <a:t>Fourth Outline Level</a:t>
            </a:r>
            <a:endParaRPr b="0" lang="en-US" sz="1600" spc="-1" strike="noStrike">
              <a:solidFill>
                <a:srgbClr val="ccccff"/>
              </a:solidFill>
              <a:latin typeface="微软雅黑"/>
            </a:endParaRPr>
          </a:p>
          <a:p>
            <a:pPr lvl="4" marL="1828800" algn="ctr">
              <a:spcBef>
                <a:spcPts val="400"/>
              </a:spcBef>
              <a:buClr>
                <a:srgbClr val="ccccff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微软雅黑"/>
              </a:rPr>
              <a:t>Fifth Outline Level</a:t>
            </a:r>
            <a:endParaRPr b="0" lang="en-US" sz="1600" spc="-1" strike="noStrike">
              <a:solidFill>
                <a:srgbClr val="ccccff"/>
              </a:solidFill>
              <a:latin typeface="微软雅黑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微软雅黑"/>
              </a:rPr>
              <a:t>Sixth Outline Level</a:t>
            </a:r>
            <a:endParaRPr b="0" lang="en-US" sz="1600" spc="-1" strike="noStrike">
              <a:solidFill>
                <a:srgbClr val="ccccff"/>
              </a:solidFill>
              <a:latin typeface="微软雅黑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ff"/>
                </a:solidFill>
                <a:latin typeface="微软雅黑"/>
              </a:rPr>
              <a:t>Seventh Outline Level</a:t>
            </a:r>
            <a:endParaRPr b="0" lang="en-US" sz="1600" spc="-1" strike="noStrike">
              <a:solidFill>
                <a:srgbClr val="cccc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4360" y="4869000"/>
            <a:ext cx="77752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"/>
          <p:cNvSpPr/>
          <p:nvPr/>
        </p:nvSpPr>
        <p:spPr>
          <a:xfrm>
            <a:off x="6878880" y="60213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微软雅黑"/>
            </a:endParaRPr>
          </a:p>
        </p:txBody>
      </p:sp>
      <p:sp>
        <p:nvSpPr>
          <p:cNvPr id="87" name=""/>
          <p:cNvSpPr/>
          <p:nvPr/>
        </p:nvSpPr>
        <p:spPr>
          <a:xfrm>
            <a:off x="1213920" y="623736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07:12:06Z</dcterms:created>
  <dc:creator>keke</dc:creator>
  <dc:description/>
  <dc:language>en-US</dc:language>
  <cp:lastModifiedBy>king</cp:lastModifiedBy>
  <cp:lastPrinted>1899-12-30T00:00:00Z</cp:lastPrinted>
  <dcterms:modified xsi:type="dcterms:W3CDTF">2014-05-24T09:16:0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