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4DA5-8941-4CF7-82C1-6D2955D1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8B07-C2E2-4B94-B209-20F72A6B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E65C-4882-4FBD-9791-4A0DE923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5C74-7B4F-4871-9909-F593FC9A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3384-F4DF-4775-A265-8B0BC805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E875-CDA1-49AD-A7A0-0B83E22A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1758-C6E9-4D95-BE34-39E6FBB2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9E579-7F72-4BF1-A864-6B484910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5D98-A1D0-4C9A-9EC4-1B6E5472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96A48-A990-4814-8A5C-22F6E8AD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E940-07D7-4A87-8B7C-9FEA7C25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0F14-B03D-409F-8710-7A0EAA0E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64000" y="2493720"/>
            <a:ext cx="525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CA70-C9FF-432A-825A-0ADE42B22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4000" y="2493720"/>
            <a:ext cx="525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656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在【格式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幻灯片设计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配色方案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修改在【视图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幻灯片母版】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4000" y="2493720"/>
            <a:ext cx="525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感谢您的关注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作者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7824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80808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80808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cp:lastPrinted>1899-12-30T00:00:00Z</cp:lastPrinted>
  <dcterms:modified xsi:type="dcterms:W3CDTF">2014-05-30T07:27:59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