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276-926D-437D-9A6D-676312BA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B2B-7E75-4B6E-91F9-DDAF4561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4CF-59CA-43B9-AAB0-3A39F53D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A87-06B6-4463-B3DD-C5FF2D1C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AF18-ECC0-47B1-9CA3-851DF854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2813-C47E-46E5-AD3F-AD0063A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72C-C9E2-44D1-86F2-6A39273D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0187-7314-43FD-B01F-4EC652A2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4D51-B15A-4FDC-997F-7A8D5D3E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FB5-9429-41E4-BA2E-E06BC934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DE2-05FE-4D14-9182-72204E5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87C-BB3F-45C0-B189-453BFF9E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C1D-59DD-4527-A55A-73FE99C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D0A-8579-4545-BB03-2C5AA67D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FAE-D17E-4347-8559-CAE27044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FFB8-FE5F-42D8-B0BE-B3623455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D03D-DCB0-4CD0-864D-52159CD2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63B-F659-478A-8687-F30BED0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290-409C-4958-996F-AE51D39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563-3C40-471A-ABFF-228694A1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C2E-381D-4998-84B6-E5FE1763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2D8-3074-467C-8B84-F06622B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B38-C458-44EA-9313-260B05DA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15C-AFBA-42C6-95BE-3B87692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1D6-1400-43B9-8350-0CDBA475326E}" type="slidenum">
              <a: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B19-BB91-47D7-BED6-9C1D0F25919C}" type="slidenum">
              <a: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4b350d"/>
              </a:solidFill>
              <a:latin typeface="宋体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b350d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6310440"/>
            <a:ext cx="67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8Z</dcterms:created>
  <dc:creator/>
  <dc:description/>
  <dc:language>en-US</dc:language>
  <cp:lastModifiedBy/>
  <dcterms:modified xsi:type="dcterms:W3CDTF">2014-11-05T01:16:1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  <property fmtid="{D5CDD505-2E9C-101B-9397-08002B2CF9AE}" pid="3" name="_TemplateID">
    <vt:lpwstr>TC103626582052</vt:lpwstr>
  </property>
</Properties>
</file>