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6A7-058C-4DD5-9BA0-3DA48D2D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61D-71CD-40D8-950C-FFCE350D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8C29-D350-4DEA-8541-DEBB2B35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485-243C-4CEB-A6E4-A3BAC92A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ED8D-DC9B-44D5-93FE-98B3C3F2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06BA-30D2-4962-B166-9826800E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7CE5-6532-4511-9C25-5BE8CFCE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AF74-D964-47C8-9CFA-D843993C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F51D-C136-42DE-B3EF-B5DA7C45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A716-E5BB-4C46-A326-9520E8AA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CDAD-5761-4F49-90A8-D6877F95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4A11-E3B6-44EC-90D9-A851E45C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AE79-E3B6-4C8B-8D7C-71F6C8C2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3E30-EBD3-4E18-9354-34805F6C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96AE-8FB4-4584-B1DF-C3301AE1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0823-7DE1-4AD3-8323-30B1EA2F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41F4-BEE6-4127-8A6D-CB53E726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1A08B-5BC5-4DFF-81C9-BE312451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99759-7721-4104-BCE5-78B97DB4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0B965-8C21-4963-BE70-5489EE9D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4019C-4C64-4F65-BA15-B3D1B52C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76337-8D53-4E1A-842D-C3B4C642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A3A-58AB-404B-A9DE-46CBB92B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412AC-67AA-482A-9C9C-7D624588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E1274-BB26-4AF0-AF3B-41718610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6B1AF-C96A-4EDD-85B5-535F91FA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3A102-7FA5-4ACD-9F13-1E94919B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F0455-D23C-4E09-A6A8-5BF45ABC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EFF1F-0CF2-4176-910A-A2F892FC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82C57-F6F7-4355-9790-B20FF152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D93-0D2A-4E63-9FD7-D57571AA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C47B-5BE1-46CF-8883-1667C2C3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39E-65CB-4CAF-BE52-3672B580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6807-9E44-45D0-A0AB-E67D1946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ADD-5D91-46F8-86CE-07FA38CB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F6C-7BDE-447E-A730-B21B76DD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1A8D-1723-4670-AA64-57FC336F13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F673-788D-4A2F-8579-93544F57E5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cc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F7C9-E7F7-40B2-8B15-CB2051AED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48360" y="6237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97280" y="566100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1:16:30Z</dcterms:created>
  <dc:creator/>
  <dc:description/>
  <dc:language>en-US</dc:language>
  <cp:lastModifiedBy>imagedemo</cp:lastModifiedBy>
  <dcterms:modified xsi:type="dcterms:W3CDTF">2014-11-06T04:54:3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